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3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1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62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0.png" ContentType="image/png"/>
  <Override PartName="/ppt/media/image37.jpeg" ContentType="image/jpeg"/>
  <Override PartName="/ppt/media/image3.jpeg" ContentType="image/jpeg"/>
  <Override PartName="/ppt/media/image50.jpeg" ContentType="image/jpeg"/>
  <Override PartName="/ppt/media/image59.png" ContentType="image/png"/>
  <Override PartName="/ppt/media/image24.jpeg" ContentType="image/jpeg"/>
  <Override PartName="/ppt/media/image22.png" ContentType="image/png"/>
  <Override PartName="/ppt/media/image51.jpeg" ContentType="image/jpeg"/>
  <Override PartName="/ppt/media/image60.png" ContentType="image/png"/>
  <Override PartName="/ppt/media/image63.jpeg" ContentType="image/jpeg"/>
  <Override PartName="/ppt/media/image2.png" ContentType="image/png"/>
  <Override PartName="/ppt/media/image26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1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40.jpeg" ContentType="image/jpeg"/>
  <Override PartName="/ppt/media/image44.png" ContentType="image/pn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CE91-74F6-4ECE-9E1D-F063D746A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elescopes Changed our Understanding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elescopes Changed our Understanding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ground of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ground of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the stars 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drich Wilhelm Be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önigsberg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the stars 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drich Wilhelm Be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önigsberg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3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tar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3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tar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unho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unho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un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rchh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un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rchh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rmed: The Sun is a St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other Su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rmed: The Sun is a St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other Su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4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Sun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4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Sun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ley observes dense star cluster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 M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 Wilson 60-inch Reflector Telescope (completed in 19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low Sha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etta Leavi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ley observes dense star cluster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 M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 Wilson 60-inch Reflector Telescope (completed in 19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low Sha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etta Leavi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and planets were at the center, globular clusters would be evenly distributed around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Shapley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and planets were at the center, globular clusters would be evenly distributed around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Shapley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 establish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s are distributed to one side of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 is nearer the edge of the Galax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 establish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s are distributed to one side of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 is nearer the edge of the Galax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only had our eye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variety of measuring instru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only had our eye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variety of measuring instru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5: One Galaxy or Man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5: One Galaxy or Man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“nebulae” determi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 Wilson 100-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ubble’s photographs of the Andromeda “Nebula” with Cepheid variable mar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“nebulae” determi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 Wilson 100-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ubble’s photographs of the Andromeda “Nebula” with Cepheid variable mar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ing a universe full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ing a universe full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6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the universe have a 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’s data showed that the more distant galaxies are moving away faster than the closer galax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6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the universe have a 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’s data showed that the more distant galaxies are moving away faster than the closer galax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Big Bang detec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Big Bang detec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the Universe calcul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the Universe calcul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schel’s telescope -- used to discover Uranus in 17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own solar system, telescopes found plan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eyes could not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7: Are there other plan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schel’s telescope -- used to discover Uranus in 17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own solar system, telescopes found plan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eyes could not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7: Are there other plan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ff Mar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orlds discov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’s through Tod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ff Mar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orlds discov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’s through Tod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have changed our understanding of the universe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have changed our understanding of the universe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had many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had many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u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7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wa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u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7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wa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our understanding of our place in the univer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center of the univer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very small planet in an immense expanding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our understanding of our place in the univer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center of the univer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very small planet in an immense expanding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ore we learn, the more questions emerg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Plu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bor lif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ore we learn, the more questions emerg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Plu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bor lif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will continue to expand our understanding of our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will continue to expand our understanding of our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ernicus said “S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said “Ear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1: Is  Earth or Sun at the cen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ernicus said “S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said “Ear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1: Is  Earth or Sun at the cen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observe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lay Optional Mov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observe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lay Optional Mov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2: How far away are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2: How far away are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marking Earth’s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marking Earth’s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E1C-01B8-4EDE-838B-D0E3A3BA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35E-88A7-4893-AD60-263E1B5C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EF8EF-467D-4B2E-8B72-0C0D833F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B6726-F7C8-4C9B-91F2-817F17AE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AADCE-E28C-4599-B115-F009340C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BBAB4-8D9F-4CE3-84E4-D5398686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922B6-9438-49EF-905D-E88C9A1B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C1A21-76FC-448B-8C8D-13ECFB59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4AD8F-0ECB-4832-86A8-09259397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CD3EC-9F83-4B0E-91A7-486E4FA5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318F1-1717-4419-93AF-37D67793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BD435-2EE1-410C-8517-0CDC814A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65B-B23E-4AEA-9EB3-6800F50B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F4EB2-E2A1-4D1B-9812-A3B982EC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E0876-8A1B-4542-A308-C37FF383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139D8-C642-46FB-A1E5-88B9FAA0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A0C44-1618-408F-8F03-6196D424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6713F-9660-436D-8AC8-C511FA1F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17F4C-9F7C-4B61-A43C-D13CDE70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129D9-5FA9-4795-8FC9-9A661DCA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FEEDB-5125-4F7B-B86F-EA7A2EDB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ED219-4674-4BAD-8372-46946F04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5DDB2-5E6B-4F50-AEE7-C656FA9C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75E-50DC-4930-AFF9-C8F058E2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A6AF4-070D-4CD7-BC97-E2088DEF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30071-203E-45D9-BF31-D8FB038E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71B41-C97A-4237-B0F5-631907D4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E8BB1-1AD2-443F-9CF5-AACE9214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8A5A9-2CC9-472E-885C-C8055155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1F4F8-F6EA-4251-ABDF-F6C4F32A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0CBE4-FCEF-45B0-B7A6-CF7C74FE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AB75E-8366-4A53-8201-7EB29F33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8B978-41A5-425B-97A7-433A50C6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919CF-F88A-4894-B9D1-631BE81C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1FB4-5FD7-4729-BBE6-14EDCD21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97602-34F9-4746-9B28-5A519001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DCD1B-84FA-4A29-AEAE-3821C992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1DC7D-3741-4C9C-B899-B44933AD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ECA08-6D08-4374-86CC-8D8629DB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857F1-1BD1-408A-B6E8-3C7353B2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60D55-2440-4FC0-8DC3-EFBF2CE6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CABAE-A910-4444-B177-693E6D4A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6B715-FB7A-4D3A-9B12-397336C5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FE312-1561-476F-9C5A-548CBB31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DDB94-48F2-48F0-9B96-3E096C67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C1BF-B11E-4640-BC4B-065F5C33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73039-DF4E-41AD-BA4D-7448756D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49546-966D-4303-A522-08442CA2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09A66-0BF5-4175-8FFC-5EDCE789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531DB-E1E7-471F-9ECE-93E21EEF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D8514-2771-4F0A-9820-15CF9F9D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FE94-5760-4D6C-85B2-369D4DC5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5702-DF74-4389-8150-EDA081E5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3E99-F03A-4D14-B847-A1C46056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B00B-A17C-419F-B640-7BB3A330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0677-2422-42E8-B92E-21FFB2AC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AAE-DAFC-460D-A2B5-B43EEC8F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8E2E-032A-4191-AF0F-E810C35C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0992-11D2-4397-A1C0-68B8EAC1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7839-4527-4A7D-82CA-55923AE0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1648-92AB-43EA-8F72-8717F490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381C-8D11-4399-9917-410E18D5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1772C-DD25-4B2B-9B97-240BE54F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B778D-119A-422E-BAC8-F8CE3B27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712A1-1132-4D69-81D0-A3FAC1B7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FB8A1-2013-4859-9B10-8BE9D4FF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F19B5-D72E-446A-84E4-7A0AB6B9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549-B0EC-490D-93B6-32FC5262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1168C-38EC-400E-AC33-D20BC3CA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A24ED-2CC6-4C1A-B751-2002A2E9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BD7F8-00DB-465C-A633-5560C755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E7C92-090D-45C4-A302-546F5557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0AECD-B1FB-4FF6-BCE8-772B31E3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3C477-1BD5-4FAA-A85E-A8CA93BB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166EC-5372-4A99-84DD-CFDB2CD1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1E100-1D42-49A7-B0FA-30DD9D98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C70D1-0B1F-4507-AEAE-D5A50851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A9814-5FEA-4E12-8AF3-B1E5AEA0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B61-665E-4669-9CAB-DC34057D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75D93-BED5-4D86-9430-921D7D76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755EB-E2C1-4659-994E-D21E8616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A9A5D-B9AE-4C57-A1CC-9C85798B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3E225-8356-40B1-B2CF-D167A49F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C0A47-041D-4609-A1AC-45D0D761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70ED-CB0C-4F5D-B272-8ADCC262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5377A-2AE4-4DC2-8EED-BD649323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92DC4-1502-4C8F-965C-4FC73084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A16C4-FB06-4718-9EEF-321ADD1A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AB0D2-9083-4665-B4B1-21DFC887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4E4-2A27-4D2C-AED9-A0363636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6B7E0-0DCC-4F54-9D5D-A243EF26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37B2B-5BCF-4255-BC76-49F0BABD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3DEF4-145F-42D3-B16F-E696B8F2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9E861-66A4-4E46-8D08-11FC2172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20D0C-1AD9-458A-BAE3-475044AA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091EA-EF52-4222-A404-1AD88355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18743-9666-4224-9A8B-6C6AC772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F7765-F626-47C0-AD02-2F172F7C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A8CEF-C35C-410A-B8C3-B47BF4BB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FE13B-10E2-486D-91D1-82CDF2B5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8A1D-BEEF-482F-B0A4-CA01859F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61E2D-13E8-47E8-B671-63FFDEEB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3D165-46B3-464B-BE7E-B9B50084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7405F-4091-4A68-8B5C-8EBF3C4A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F459F-0194-4476-B4CB-FD3DA1BA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1C71C-B3E3-41B1-9B66-43DB5DBB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1586E-9C38-40D5-9A51-DAADD31D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C9686-52AE-439C-B02E-E5271315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3EDAD-2BE7-4B29-82C6-0D4CBC20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1E249-CD33-4780-BF92-8154FB49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1960E-953B-4E74-BA71-881BC414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862-0C13-4235-BA51-E3C4CB39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236BC-3959-4758-A647-D4ACBACA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5ED7E-1BAA-4726-B098-6E5EA6CB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33226-20CB-46D7-AA3B-F68716BA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E7150-EE9E-4399-9851-CD206007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A00BD-AD7B-4484-B711-C18B525A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6355C-2D72-4CC1-85A2-4E7762F4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7B2AF-BE42-4327-9A80-409658A3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07EF6-A2D3-4EBE-A298-DA3C1477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157D3-7DF3-45D4-B297-FE34F5D9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25A70-30EB-4DB6-B330-B47EB0EC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D77-6428-4F25-8E2B-778FCA86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D8A46-B7AC-4095-9F2B-B9C8298F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09EF4-9AA3-45FF-B17C-98528273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4C545-1878-4DB6-8E77-91FD9D92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7AF3A-7779-4564-B60A-28433826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78727-E44A-4E4D-9934-5F5AD59E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71A14-DF25-4D61-89DB-B9CA22DF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320A4-06DB-4D02-8565-133E9BBE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AD438-F4C4-4926-B042-9EB992C7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1E842-E233-428C-895E-C95F752D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86B69-669C-40E4-8E55-6968EB5F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89C-8D5D-42B0-847D-B2C010E8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A83DA-8C18-4266-B4AB-971F5B07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0E063-BC10-499C-B55E-F4C62FB1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B6BAA-8EF7-46C7-A085-AA2564CA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DACD5-0FCD-4250-BA50-08D7B555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B8D73-12AE-45CA-93D4-5129F29E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E7062-6427-40BE-963A-1A1AB2AB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877C3-FC64-491E-AEBD-77903C75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F68B7-7C2E-474C-BEDC-A363CF55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AD85D-00B9-45AD-AAF1-015203D7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31800-A638-46A4-8722-7AEEB0DD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5018-5710-4B1C-BBA3-89F7F5ECC7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5C4C-7576-4CF7-B27D-24A3C40B5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1BAD-FDD6-423A-9BED-25F17304E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6F56-BAD8-4C3B-8A4A-A5870DDF8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EA3A-B999-4EA7-847B-8328C3F261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E548-9A55-415B-A492-207DC38DA2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C5F0-5E1C-4F68-ADDF-93FCD7B9BE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E4A5-B290-4D4B-855D-21165E21C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296A-8B7C-4299-A0C6-82C98CC57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3EF1-3B46-44DE-A267-DDA01DC93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B69A-3868-4A67-AAD8-68E67768E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0428-C59D-4749-9A5E-154B973C01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32.jpeg"/><Relationship Id="rId5" Type="http://schemas.openxmlformats.org/officeDocument/2006/relationships/image" Target="../media/image52.jpeg"/><Relationship Id="rId6" Type="http://schemas.openxmlformats.org/officeDocument/2006/relationships/image" Target="../media/image58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How Telescopes Changed our Understanding of the Univer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0" name="Picture 5" descr=""/>
          <p:cNvPicPr/>
          <p:nvPr/>
        </p:nvPicPr>
        <p:blipFill>
          <a:blip r:embed="rId1"/>
          <a:srcRect l="0" t="0" r="13819" b="0"/>
          <a:stretch/>
        </p:blipFill>
        <p:spPr>
          <a:xfrm>
            <a:off x="4724280" y="2743200"/>
            <a:ext cx="4025880" cy="30751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6"/>
          <p:cNvSpPr/>
          <p:nvPr/>
        </p:nvSpPr>
        <p:spPr>
          <a:xfrm>
            <a:off x="4876920" y="586728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50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Background of sta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767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Distance to the stars reveal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8" name="Picture 6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3459240" cy="19112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7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403440" cy="4140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8"/>
          <p:cNvSpPr/>
          <p:nvPr/>
        </p:nvSpPr>
        <p:spPr>
          <a:xfrm>
            <a:off x="5486400" y="56386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riedrich Wilhelm Bes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1143000" y="3429000"/>
            <a:ext cx="28954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Königsberg Observ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18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23"/>
          <p:cNvGrpSpPr/>
          <p:nvPr/>
        </p:nvGrpSpPr>
        <p:grpSpPr>
          <a:xfrm>
            <a:off x="228600" y="4495680"/>
            <a:ext cx="4673520" cy="1678320"/>
            <a:chOff x="228600" y="4495680"/>
            <a:chExt cx="4673520" cy="1678320"/>
          </a:xfrm>
        </p:grpSpPr>
        <p:pic>
          <p:nvPicPr>
            <p:cNvPr id="584" name="Picture 12" descr=""/>
            <p:cNvPicPr/>
            <p:nvPr/>
          </p:nvPicPr>
          <p:blipFill>
            <a:blip r:embed="rId3"/>
            <a:stretch/>
          </p:blipFill>
          <p:spPr>
            <a:xfrm>
              <a:off x="228600" y="4495680"/>
              <a:ext cx="46735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Line 13"/>
            <p:cNvSpPr/>
            <p:nvPr/>
          </p:nvSpPr>
          <p:spPr>
            <a:xfrm>
              <a:off x="685800" y="5049720"/>
              <a:ext cx="3733920" cy="554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4"/>
            <p:cNvSpPr/>
            <p:nvPr/>
          </p:nvSpPr>
          <p:spPr>
            <a:xfrm flipV="1">
              <a:off x="762120" y="5049360"/>
              <a:ext cx="3733560" cy="554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5"/>
            <p:cNvSpPr/>
            <p:nvPr/>
          </p:nvSpPr>
          <p:spPr>
            <a:xfrm>
              <a:off x="2133720" y="5524560"/>
              <a:ext cx="838080" cy="31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19"/>
            <p:cNvSpPr/>
            <p:nvPr/>
          </p:nvSpPr>
          <p:spPr>
            <a:xfrm>
              <a:off x="380880" y="4724280"/>
              <a:ext cx="685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N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20"/>
            <p:cNvSpPr/>
            <p:nvPr/>
          </p:nvSpPr>
          <p:spPr>
            <a:xfrm>
              <a:off x="304920" y="5715000"/>
              <a:ext cx="12189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6 Months L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AutoShape 18"/>
            <p:cNvSpPr/>
            <p:nvPr/>
          </p:nvSpPr>
          <p:spPr>
            <a:xfrm>
              <a:off x="2438280" y="5181480"/>
              <a:ext cx="228600" cy="228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44" y="6181"/>
                  </a:lnTo>
                  <a:lnTo>
                    <a:pt x="8056" y="10000"/>
                  </a:lnTo>
                  <a:lnTo>
                    <a:pt x="5000" y="7639"/>
                  </a:lnTo>
                  <a:lnTo>
                    <a:pt x="1944" y="10000"/>
                  </a:lnTo>
                  <a:lnTo>
                    <a:pt x="3056" y="6181"/>
                  </a:lnTo>
                  <a:lnTo>
                    <a:pt x="0" y="381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387520" cy="24768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Big Question 3: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are the stars made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371600" y="1600200"/>
            <a:ext cx="1523880" cy="1676520"/>
          </a:xfrm>
          <a:prstGeom prst="wedgeRoundRectCallout">
            <a:avLst>
              <a:gd name="adj1" fmla="val 15314"/>
              <a:gd name="adj2" fmla="val 11183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5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4495680" cy="3098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9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1666800" cy="1981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599" name="Picture 6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1392120" cy="19386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600" name="Text Box 7"/>
          <p:cNvSpPr/>
          <p:nvPr/>
        </p:nvSpPr>
        <p:spPr>
          <a:xfrm>
            <a:off x="457200" y="3200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09480" y="55627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Studying the Rainb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3" name="Group 12"/>
          <p:cNvGrpSpPr/>
          <p:nvPr/>
        </p:nvGrpSpPr>
        <p:grpSpPr>
          <a:xfrm>
            <a:off x="2133720" y="4800600"/>
            <a:ext cx="5638680" cy="1145520"/>
            <a:chOff x="2133720" y="4800600"/>
            <a:chExt cx="5638680" cy="1145520"/>
          </a:xfrm>
        </p:grpSpPr>
        <p:pic>
          <p:nvPicPr>
            <p:cNvPr id="604" name="Picture 9" descr="refspecABSORP"/>
            <p:cNvPicPr/>
            <p:nvPr/>
          </p:nvPicPr>
          <p:blipFill>
            <a:blip r:embed="rId4"/>
            <a:srcRect l="14715" t="2671" r="613" b="85469"/>
            <a:stretch/>
          </p:blipFill>
          <p:spPr>
            <a:xfrm>
              <a:off x="2133720" y="4800600"/>
              <a:ext cx="563364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 Box 10"/>
            <p:cNvSpPr/>
            <p:nvPr/>
          </p:nvSpPr>
          <p:spPr>
            <a:xfrm>
              <a:off x="2133720" y="5486400"/>
              <a:ext cx="5638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rebuchet MS"/>
                </a:rPr>
                <a:t>Simulated Spectrum of the S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Text Box 13"/>
          <p:cNvSpPr/>
          <p:nvPr/>
        </p:nvSpPr>
        <p:spPr>
          <a:xfrm>
            <a:off x="6553080" y="35812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15" descr=""/>
          <p:cNvPicPr/>
          <p:nvPr/>
        </p:nvPicPr>
        <p:blipFill>
          <a:blip r:embed="rId5"/>
          <a:stretch/>
        </p:blipFill>
        <p:spPr>
          <a:xfrm>
            <a:off x="2590920" y="1143000"/>
            <a:ext cx="3733560" cy="2468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grpSp>
        <p:nvGrpSpPr>
          <p:cNvPr id="608" name="Group 20"/>
          <p:cNvGrpSpPr/>
          <p:nvPr/>
        </p:nvGrpSpPr>
        <p:grpSpPr>
          <a:xfrm>
            <a:off x="2209320" y="2057400"/>
            <a:ext cx="5486760" cy="2666880"/>
            <a:chOff x="2209320" y="2057400"/>
            <a:chExt cx="5486760" cy="2666880"/>
          </a:xfrm>
        </p:grpSpPr>
        <p:sp>
          <p:nvSpPr>
            <p:cNvPr id="609" name="Rectangle 17"/>
            <p:cNvSpPr/>
            <p:nvPr/>
          </p:nvSpPr>
          <p:spPr>
            <a:xfrm>
              <a:off x="4343400" y="2057400"/>
              <a:ext cx="533520" cy="1522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8"/>
            <p:cNvSpPr/>
            <p:nvPr/>
          </p:nvSpPr>
          <p:spPr>
            <a:xfrm flipH="1">
              <a:off x="2209320" y="2209680"/>
              <a:ext cx="213372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9"/>
            <p:cNvSpPr/>
            <p:nvPr/>
          </p:nvSpPr>
          <p:spPr>
            <a:xfrm>
              <a:off x="4876920" y="2209680"/>
              <a:ext cx="281916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Text Box 21"/>
          <p:cNvSpPr/>
          <p:nvPr/>
        </p:nvSpPr>
        <p:spPr>
          <a:xfrm>
            <a:off x="3733920" y="59436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is the Sun made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3" descr="refspecABSORP"/>
          <p:cNvPicPr/>
          <p:nvPr/>
        </p:nvPicPr>
        <p:blipFill>
          <a:blip r:embed="rId1"/>
          <a:srcRect l="0" t="0" r="0" b="4006"/>
          <a:stretch/>
        </p:blipFill>
        <p:spPr>
          <a:xfrm>
            <a:off x="1295280" y="985680"/>
            <a:ext cx="6654960" cy="5872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178840" y="457200"/>
            <a:ext cx="965160" cy="123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" descr=""/>
          <p:cNvPicPr/>
          <p:nvPr/>
        </p:nvPicPr>
        <p:blipFill>
          <a:blip r:embed="rId3"/>
          <a:stretch/>
        </p:blipFill>
        <p:spPr>
          <a:xfrm>
            <a:off x="0" y="380880"/>
            <a:ext cx="961920" cy="121932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6"/>
          <p:cNvSpPr/>
          <p:nvPr/>
        </p:nvSpPr>
        <p:spPr>
          <a:xfrm>
            <a:off x="0" y="1676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irchh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8077320" y="1676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n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1295280" y="14479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2286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0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1"/>
          <p:cNvSpPr/>
          <p:nvPr/>
        </p:nvSpPr>
        <p:spPr>
          <a:xfrm flipV="1">
            <a:off x="624852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2"/>
          <p:cNvSpPr/>
          <p:nvPr/>
        </p:nvSpPr>
        <p:spPr>
          <a:xfrm flipV="1">
            <a:off x="716292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onfirmed: The Sun is a Sta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8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9"/>
          <p:cNvSpPr/>
          <p:nvPr/>
        </p:nvSpPr>
        <p:spPr>
          <a:xfrm>
            <a:off x="3809880" y="24382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990720" y="49528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The stars are other Sun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4267080" y="6019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12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3809880" cy="2625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33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2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5816520" cy="18237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Big Question 4: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ere is the Sun in our Galax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AutoShape 6"/>
          <p:cNvSpPr/>
          <p:nvPr/>
        </p:nvSpPr>
        <p:spPr>
          <a:xfrm>
            <a:off x="685800" y="1752480"/>
            <a:ext cx="1447920" cy="1676520"/>
          </a:xfrm>
          <a:prstGeom prst="wedgeRoundRectCallout">
            <a:avLst>
              <a:gd name="adj1" fmla="val 33444"/>
              <a:gd name="adj2" fmla="val 10284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5486400" y="1752480"/>
            <a:ext cx="609480" cy="109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8"/>
          <p:cNvSpPr/>
          <p:nvPr/>
        </p:nvSpPr>
        <p:spPr>
          <a:xfrm>
            <a:off x="5791320" y="2743200"/>
            <a:ext cx="0" cy="99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7"/>
          <p:cNvSpPr/>
          <p:nvPr/>
        </p:nvSpPr>
        <p:spPr>
          <a:xfrm>
            <a:off x="2819520" y="4876920"/>
            <a:ext cx="60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Shapley observes dense star clusters . .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3" name="Picture 4" descr=""/>
          <p:cNvPicPr/>
          <p:nvPr/>
        </p:nvPicPr>
        <p:blipFill>
          <a:blip r:embed="rId1"/>
          <a:stretch/>
        </p:blipFill>
        <p:spPr>
          <a:xfrm>
            <a:off x="1387440" y="1432080"/>
            <a:ext cx="995400" cy="1226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"/>
          <p:cNvPicPr/>
          <p:nvPr/>
        </p:nvPicPr>
        <p:blipFill>
          <a:blip r:embed="rId2"/>
          <a:stretch/>
        </p:blipFill>
        <p:spPr>
          <a:xfrm>
            <a:off x="2971800" y="1432080"/>
            <a:ext cx="2016000" cy="3733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"/>
          <p:cNvPicPr/>
          <p:nvPr/>
        </p:nvPicPr>
        <p:blipFill>
          <a:blip r:embed="rId3"/>
          <a:stretch/>
        </p:blipFill>
        <p:spPr>
          <a:xfrm>
            <a:off x="5562720" y="2057400"/>
            <a:ext cx="2438280" cy="162072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7"/>
          <p:cNvSpPr/>
          <p:nvPr/>
        </p:nvSpPr>
        <p:spPr>
          <a:xfrm>
            <a:off x="5562720" y="3733920"/>
            <a:ext cx="243828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Globular Cluster M13</a:t>
            </a:r>
            <a:r>
              <a:rPr b="0" i="1" lang="en-US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8"/>
          <p:cNvSpPr/>
          <p:nvPr/>
        </p:nvSpPr>
        <p:spPr>
          <a:xfrm>
            <a:off x="2438280" y="5257800"/>
            <a:ext cx="29718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ount Wilson 60-inch Reflector Telescope (completed in 19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1371600" y="2666880"/>
            <a:ext cx="108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Harlow Shap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11" descr=""/>
          <p:cNvPicPr/>
          <p:nvPr/>
        </p:nvPicPr>
        <p:blipFill>
          <a:blip r:embed="rId4"/>
          <a:stretch/>
        </p:blipFill>
        <p:spPr>
          <a:xfrm>
            <a:off x="1066680" y="3657600"/>
            <a:ext cx="1386000" cy="134460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12"/>
          <p:cNvSpPr/>
          <p:nvPr/>
        </p:nvSpPr>
        <p:spPr>
          <a:xfrm>
            <a:off x="1066680" y="5029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Henrietta Leavi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Location of the Sun in the Galax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914400" y="3962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914400" y="4800600"/>
            <a:ext cx="7391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If the Sun and planets were at the center, globular clusters would be evenly distributed around u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What did Shapley disc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11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2389320"/>
          </a:xfrm>
          <a:prstGeom prst="rect">
            <a:avLst/>
          </a:prstGeom>
          <a:ln w="0">
            <a:noFill/>
          </a:ln>
        </p:spPr>
      </p:pic>
      <p:sp>
        <p:nvSpPr>
          <p:cNvPr id="6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Location of the Sun in the Galaxy establish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838080" y="4757760"/>
            <a:ext cx="746784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Globular clusters are distributed to one side of u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The Solar System is nearer the edge of the Galax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914400" y="3962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13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45320" cy="2397240"/>
          </a:xfrm>
          <a:prstGeom prst="rect">
            <a:avLst/>
          </a:prstGeom>
          <a:ln w="0">
            <a:noFill/>
          </a:ln>
        </p:spPr>
      </p:pic>
      <p:sp>
        <p:nvSpPr>
          <p:cNvPr id="66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Before Telesco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847800" y="4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7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430360" cy="3771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2"/>
          <a:stretch/>
        </p:blipFill>
        <p:spPr>
          <a:xfrm>
            <a:off x="6095880" y="3886200"/>
            <a:ext cx="2300400" cy="20080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9" descr=""/>
          <p:cNvPicPr/>
          <p:nvPr/>
        </p:nvPicPr>
        <p:blipFill>
          <a:blip r:embed="rId3"/>
          <a:stretch/>
        </p:blipFill>
        <p:spPr>
          <a:xfrm>
            <a:off x="533520" y="1371600"/>
            <a:ext cx="2546280" cy="32767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"/>
          <p:cNvSpPr/>
          <p:nvPr/>
        </p:nvSpPr>
        <p:spPr>
          <a:xfrm>
            <a:off x="1297080" y="58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380880" y="54864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We only had our eye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and a variety of measuring instr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3" descr=""/>
          <p:cNvPicPr/>
          <p:nvPr/>
        </p:nvPicPr>
        <p:blipFill>
          <a:blip r:embed="rId1"/>
          <a:stretch/>
        </p:blipFill>
        <p:spPr>
          <a:xfrm>
            <a:off x="1981080" y="41148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5: One Galaxy or Man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4" name="Group 24"/>
          <p:cNvGrpSpPr/>
          <p:nvPr/>
        </p:nvGrpSpPr>
        <p:grpSpPr>
          <a:xfrm>
            <a:off x="5257800" y="304920"/>
            <a:ext cx="3124080" cy="2562480"/>
            <a:chOff x="5257800" y="304920"/>
            <a:chExt cx="3124080" cy="2562480"/>
          </a:xfrm>
        </p:grpSpPr>
        <p:pic>
          <p:nvPicPr>
            <p:cNvPr id="665" name="Picture 6" descr=""/>
            <p:cNvPicPr/>
            <p:nvPr/>
          </p:nvPicPr>
          <p:blipFill>
            <a:blip r:embed="rId2"/>
            <a:stretch/>
          </p:blipFill>
          <p:spPr>
            <a:xfrm>
              <a:off x="5479920" y="304920"/>
              <a:ext cx="2637000" cy="22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Text Box 7"/>
            <p:cNvSpPr/>
            <p:nvPr/>
          </p:nvSpPr>
          <p:spPr>
            <a:xfrm>
              <a:off x="5257800" y="2590920"/>
              <a:ext cx="31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31 - Andromeda  courtesy of G. Spielgelm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18"/>
          <p:cNvGrpSpPr/>
          <p:nvPr/>
        </p:nvGrpSpPr>
        <p:grpSpPr>
          <a:xfrm>
            <a:off x="5029200" y="3733920"/>
            <a:ext cx="2514600" cy="2181240"/>
            <a:chOff x="5029200" y="3733920"/>
            <a:chExt cx="2514600" cy="2181240"/>
          </a:xfrm>
        </p:grpSpPr>
        <p:sp>
          <p:nvSpPr>
            <p:cNvPr id="668" name="Text Box 12"/>
            <p:cNvSpPr/>
            <p:nvPr/>
          </p:nvSpPr>
          <p:spPr>
            <a:xfrm>
              <a:off x="5029200" y="5638680"/>
              <a:ext cx="243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NGC 1232 courtesy of M. Ha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9" name="Picture 17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5105520" y="3733920"/>
              <a:ext cx="2438280" cy="190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0" name="Group 20"/>
          <p:cNvGrpSpPr/>
          <p:nvPr/>
        </p:nvGrpSpPr>
        <p:grpSpPr>
          <a:xfrm>
            <a:off x="1143000" y="457200"/>
            <a:ext cx="2514240" cy="2264040"/>
            <a:chOff x="1143000" y="457200"/>
            <a:chExt cx="2514240" cy="2264040"/>
          </a:xfrm>
        </p:grpSpPr>
        <p:sp>
          <p:nvSpPr>
            <p:cNvPr id="671" name="Text Box 11"/>
            <p:cNvSpPr/>
            <p:nvPr/>
          </p:nvSpPr>
          <p:spPr>
            <a:xfrm>
              <a:off x="1299960" y="2444760"/>
              <a:ext cx="20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51 courtesy of M. Ha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2" name="Picture 19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1143000" y="457200"/>
              <a:ext cx="2514240" cy="204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AutoShape 22"/>
          <p:cNvSpPr/>
          <p:nvPr/>
        </p:nvSpPr>
        <p:spPr>
          <a:xfrm>
            <a:off x="228600" y="3657600"/>
            <a:ext cx="1447920" cy="1676520"/>
          </a:xfrm>
          <a:prstGeom prst="wedgeRoundRectCallout">
            <a:avLst>
              <a:gd name="adj1" fmla="val 101754"/>
              <a:gd name="adj2" fmla="val 5587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Distance to “nebulae” determin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2133720" y="6095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Edwin Hub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066680" y="3200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Mt Wilson 100-i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6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4038480" cy="33544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680" name="Picture 2183569" descr="S21Picture 2183569"/>
          <p:cNvPicPr/>
          <p:nvPr/>
        </p:nvPicPr>
        <p:blipFill>
          <a:blip r:embed="rId2"/>
          <a:stretch/>
        </p:blipFill>
        <p:spPr>
          <a:xfrm>
            <a:off x="2057400" y="3733920"/>
            <a:ext cx="1739880" cy="22860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681" name="Picture 6571662" descr="S21Picture 6571662"/>
          <p:cNvPicPr/>
          <p:nvPr/>
        </p:nvPicPr>
        <p:blipFill>
          <a:blip r:embed="rId3"/>
          <a:stretch/>
        </p:blipFill>
        <p:spPr>
          <a:xfrm>
            <a:off x="1295280" y="1066680"/>
            <a:ext cx="2514600" cy="21592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682" name="Text Box 9"/>
          <p:cNvSpPr/>
          <p:nvPr/>
        </p:nvSpPr>
        <p:spPr>
          <a:xfrm>
            <a:off x="4495680" y="4621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One of Hubble’s photographs of the Andromeda “Nebula” with Cepheid variable mar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0"/>
          <p:cNvSpPr/>
          <p:nvPr/>
        </p:nvSpPr>
        <p:spPr>
          <a:xfrm flipV="1">
            <a:off x="6400800" y="3097080"/>
            <a:ext cx="0" cy="1524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54864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Revealing a universe full of 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2143080" y="6248520"/>
            <a:ext cx="49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4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700520" cy="4826160"/>
          </a:xfrm>
          <a:prstGeom prst="rect">
            <a:avLst/>
          </a:prstGeom>
          <a:ln w="0">
            <a:noFill/>
          </a:ln>
        </p:spPr>
      </p:pic>
      <p:sp>
        <p:nvSpPr>
          <p:cNvPr id="68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6: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id the universe have a begin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1" name="Picture 7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692" name="AutoShape 8"/>
          <p:cNvSpPr/>
          <p:nvPr/>
        </p:nvSpPr>
        <p:spPr>
          <a:xfrm>
            <a:off x="1143000" y="1295280"/>
            <a:ext cx="1447920" cy="1676520"/>
          </a:xfrm>
          <a:prstGeom prst="wedgeRoundRectCallout">
            <a:avLst>
              <a:gd name="adj1" fmla="val 21050"/>
              <a:gd name="adj2" fmla="val 14015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3657600" y="56386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dwin Hubble’s data showed that the more distant galaxies are moving away faster than the closer galax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14"/>
          <p:cNvGrpSpPr/>
          <p:nvPr/>
        </p:nvGrpSpPr>
        <p:grpSpPr>
          <a:xfrm>
            <a:off x="3048120" y="1219320"/>
            <a:ext cx="5715000" cy="4248000"/>
            <a:chOff x="3048120" y="1219320"/>
            <a:chExt cx="5715000" cy="4248000"/>
          </a:xfrm>
        </p:grpSpPr>
        <p:pic>
          <p:nvPicPr>
            <p:cNvPr id="695" name="Picture 12" descr=""/>
            <p:cNvPicPr/>
            <p:nvPr/>
          </p:nvPicPr>
          <p:blipFill>
            <a:blip r:embed="rId2"/>
            <a:srcRect l="0" t="0" r="13819" b="0"/>
            <a:stretch/>
          </p:blipFill>
          <p:spPr>
            <a:xfrm>
              <a:off x="3048120" y="1219320"/>
              <a:ext cx="5562360" cy="42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Text Box 13"/>
            <p:cNvSpPr/>
            <p:nvPr/>
          </p:nvSpPr>
          <p:spPr>
            <a:xfrm>
              <a:off x="7086600" y="518148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rebuchet MS"/>
                </a:rPr>
                <a:t>Image Credit: STS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Evidence of Big Bang detect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8"/>
          <p:cNvSpPr/>
          <p:nvPr/>
        </p:nvSpPr>
        <p:spPr>
          <a:xfrm>
            <a:off x="6019920" y="1828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11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2767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701" name="Group 14"/>
          <p:cNvGrpSpPr/>
          <p:nvPr/>
        </p:nvGrpSpPr>
        <p:grpSpPr>
          <a:xfrm>
            <a:off x="609480" y="1371600"/>
            <a:ext cx="5334120" cy="4818240"/>
            <a:chOff x="609480" y="1371600"/>
            <a:chExt cx="5334120" cy="4818240"/>
          </a:xfrm>
        </p:grpSpPr>
        <p:pic>
          <p:nvPicPr>
            <p:cNvPr id="702" name="Picture 12" descr=""/>
            <p:cNvPicPr/>
            <p:nvPr/>
          </p:nvPicPr>
          <p:blipFill>
            <a:blip r:embed="rId2"/>
            <a:stretch/>
          </p:blipFill>
          <p:spPr>
            <a:xfrm>
              <a:off x="609480" y="1371600"/>
              <a:ext cx="533412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Text Box 13"/>
            <p:cNvSpPr/>
            <p:nvPr/>
          </p:nvSpPr>
          <p:spPr>
            <a:xfrm>
              <a:off x="609480" y="5943600"/>
              <a:ext cx="457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Image courtesy of WMAP:  map.gsfc.nasa.g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Age of the Universe calculat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8153280" y="37339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8"/>
          <p:cNvGrpSpPr/>
          <p:nvPr/>
        </p:nvGrpSpPr>
        <p:grpSpPr>
          <a:xfrm>
            <a:off x="1371600" y="1901880"/>
            <a:ext cx="6630840" cy="4956120"/>
            <a:chOff x="1371600" y="1901880"/>
            <a:chExt cx="6630840" cy="4956120"/>
          </a:xfrm>
        </p:grpSpPr>
        <p:pic>
          <p:nvPicPr>
            <p:cNvPr id="708" name="Picture 3" descr=""/>
            <p:cNvPicPr/>
            <p:nvPr/>
          </p:nvPicPr>
          <p:blipFill>
            <a:blip r:embed="rId1"/>
            <a:stretch/>
          </p:blipFill>
          <p:spPr>
            <a:xfrm>
              <a:off x="1371600" y="1901880"/>
              <a:ext cx="663084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Rectangle 7"/>
            <p:cNvSpPr/>
            <p:nvPr/>
          </p:nvSpPr>
          <p:spPr>
            <a:xfrm>
              <a:off x="4724280" y="411156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0" name="Picture 9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10"/>
          <p:cNvSpPr/>
          <p:nvPr/>
        </p:nvSpPr>
        <p:spPr>
          <a:xfrm>
            <a:off x="228600" y="5334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13" descr="hubble"/>
          <p:cNvPicPr/>
          <p:nvPr/>
        </p:nvPicPr>
        <p:blipFill>
          <a:blip r:embed="rId3"/>
          <a:stretch/>
        </p:blipFill>
        <p:spPr>
          <a:xfrm>
            <a:off x="6324480" y="1828800"/>
            <a:ext cx="2286000" cy="183024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11"/>
          <p:cNvSpPr/>
          <p:nvPr/>
        </p:nvSpPr>
        <p:spPr>
          <a:xfrm>
            <a:off x="7467480" y="1676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b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Telescope-Herschel"/>
          <p:cNvPicPr/>
          <p:nvPr/>
        </p:nvPicPr>
        <p:blipFill>
          <a:blip r:embed="rId1"/>
          <a:stretch/>
        </p:blipFill>
        <p:spPr>
          <a:xfrm>
            <a:off x="2819520" y="2362320"/>
            <a:ext cx="2819160" cy="2076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6" name="Text Box 3"/>
          <p:cNvSpPr/>
          <p:nvPr/>
        </p:nvSpPr>
        <p:spPr>
          <a:xfrm>
            <a:off x="2971800" y="472428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Herschel’s telescope -- used to discover Uranus in 17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5" descr="herschel"/>
          <p:cNvPicPr/>
          <p:nvPr/>
        </p:nvPicPr>
        <p:blipFill>
          <a:blip r:embed="rId2"/>
          <a:stretch/>
        </p:blipFill>
        <p:spPr>
          <a:xfrm>
            <a:off x="6019920" y="2286000"/>
            <a:ext cx="1828800" cy="1998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8" name="Text Box 6"/>
          <p:cNvSpPr/>
          <p:nvPr/>
        </p:nvSpPr>
        <p:spPr>
          <a:xfrm>
            <a:off x="6019920" y="42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William Hersch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228600" y="12952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In our own solar system, telescopes found planets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our eyes could not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8" descr=""/>
          <p:cNvPicPr/>
          <p:nvPr/>
        </p:nvPicPr>
        <p:blipFill>
          <a:blip r:embed="rId3"/>
          <a:stretch/>
        </p:blipFill>
        <p:spPr>
          <a:xfrm>
            <a:off x="6172200" y="4648320"/>
            <a:ext cx="1657440" cy="2209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1" name="Picture 9" descr=""/>
          <p:cNvPicPr/>
          <p:nvPr/>
        </p:nvPicPr>
        <p:blipFill>
          <a:blip r:embed="rId4"/>
          <a:stretch/>
        </p:blipFill>
        <p:spPr>
          <a:xfrm>
            <a:off x="457200" y="396252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22" name="AutoShape 10"/>
          <p:cNvSpPr/>
          <p:nvPr/>
        </p:nvSpPr>
        <p:spPr>
          <a:xfrm>
            <a:off x="914400" y="2133720"/>
            <a:ext cx="1600200" cy="1676160"/>
          </a:xfrm>
          <a:prstGeom prst="wedgeRoundRectCallout">
            <a:avLst>
              <a:gd name="adj1" fmla="val -9625"/>
              <a:gd name="adj2" fmla="val 86648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7: Are there other plane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3"/>
          <p:cNvSpPr/>
          <p:nvPr/>
        </p:nvSpPr>
        <p:spPr>
          <a:xfrm>
            <a:off x="5105520" y="3581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  <a:ea typeface="ヒラギノ角ゴ Pro W3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Picture 4" descr="kecks_overview_sm"/>
          <p:cNvPicPr/>
          <p:nvPr/>
        </p:nvPicPr>
        <p:blipFill>
          <a:blip r:embed="rId1"/>
          <a:srcRect l="0" t="0" r="3573" b="9115"/>
          <a:stretch/>
        </p:blipFill>
        <p:spPr>
          <a:xfrm>
            <a:off x="5410080" y="1523880"/>
            <a:ext cx="2710080" cy="1997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7" name="Picture 6" descr=""/>
          <p:cNvPicPr/>
          <p:nvPr/>
        </p:nvPicPr>
        <p:blipFill>
          <a:blip r:embed="rId2"/>
          <a:stretch/>
        </p:blipFill>
        <p:spPr>
          <a:xfrm>
            <a:off x="5486400" y="4038480"/>
            <a:ext cx="1587600" cy="2311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28" name="Text Box 7"/>
          <p:cNvSpPr/>
          <p:nvPr/>
        </p:nvSpPr>
        <p:spPr>
          <a:xfrm>
            <a:off x="5486400" y="6324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Geoff M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Other worlds discover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4191120" cy="2719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31" name="Text Box 11"/>
          <p:cNvSpPr/>
          <p:nvPr/>
        </p:nvSpPr>
        <p:spPr>
          <a:xfrm>
            <a:off x="609480" y="5029200"/>
            <a:ext cx="4267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1143000" y="6019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90’s through Tod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057400" cy="116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7010280" y="533520"/>
            <a:ext cx="1603440" cy="190476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737" name="Picture 8" descr=""/>
          <p:cNvPicPr/>
          <p:nvPr/>
        </p:nvPicPr>
        <p:blipFill>
          <a:blip r:embed="rId4"/>
          <a:stretch/>
        </p:blipFill>
        <p:spPr>
          <a:xfrm>
            <a:off x="762120" y="3124080"/>
            <a:ext cx="1439640" cy="2667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8" name="Picture 9" descr="kecks_overview_sm"/>
          <p:cNvPicPr/>
          <p:nvPr/>
        </p:nvPicPr>
        <p:blipFill>
          <a:blip r:embed="rId5"/>
          <a:srcRect l="0" t="0" r="3573" b="4545"/>
          <a:stretch/>
        </p:blipFill>
        <p:spPr>
          <a:xfrm>
            <a:off x="6172200" y="4952880"/>
            <a:ext cx="1447920" cy="1150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9" name="Picture 10" descr=""/>
          <p:cNvPicPr/>
          <p:nvPr/>
        </p:nvPicPr>
        <p:blipFill>
          <a:blip r:embed="rId6"/>
          <a:stretch/>
        </p:blipFill>
        <p:spPr>
          <a:xfrm>
            <a:off x="7010280" y="2819520"/>
            <a:ext cx="1752840" cy="15080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Telescopes have changed our understanding of the universe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1" name="Picture 13" descr="hubble"/>
          <p:cNvPicPr/>
          <p:nvPr/>
        </p:nvPicPr>
        <p:blipFill>
          <a:blip r:embed="rId7"/>
          <a:stretch/>
        </p:blipFill>
        <p:spPr>
          <a:xfrm>
            <a:off x="2743200" y="5029200"/>
            <a:ext cx="1905120" cy="1525680"/>
          </a:xfrm>
          <a:prstGeom prst="rect">
            <a:avLst/>
          </a:prstGeom>
          <a:ln w="0">
            <a:noFill/>
          </a:ln>
        </p:spPr>
      </p:pic>
      <p:sp>
        <p:nvSpPr>
          <p:cNvPr id="742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0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21"/>
          <p:cNvSpPr/>
          <p:nvPr/>
        </p:nvSpPr>
        <p:spPr>
          <a:xfrm>
            <a:off x="762120" y="2286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22"/>
          <p:cNvSpPr/>
          <p:nvPr/>
        </p:nvSpPr>
        <p:spPr>
          <a:xfrm>
            <a:off x="685800" y="1371600"/>
            <a:ext cx="1523880" cy="1676520"/>
          </a:xfrm>
          <a:prstGeom prst="wedgeRoundRectCallout">
            <a:avLst>
              <a:gd name="adj1" fmla="val 72500"/>
              <a:gd name="adj2" fmla="val 112879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23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far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are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24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25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26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27"/>
          <p:cNvSpPr/>
          <p:nvPr/>
        </p:nvSpPr>
        <p:spPr>
          <a:xfrm>
            <a:off x="4952880" y="990720"/>
            <a:ext cx="1676520" cy="1904760"/>
          </a:xfrm>
          <a:prstGeom prst="wedgeRoundRectCallout">
            <a:avLst>
              <a:gd name="adj1" fmla="val -181060"/>
              <a:gd name="adj2" fmla="val 11558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 S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swering some of the big question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2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3"/>
          <p:cNvSpPr/>
          <p:nvPr/>
        </p:nvSpPr>
        <p:spPr>
          <a:xfrm>
            <a:off x="685800" y="1371600"/>
            <a:ext cx="1523880" cy="1676520"/>
          </a:xfrm>
          <a:prstGeom prst="wedgeRoundRectCallout">
            <a:avLst>
              <a:gd name="adj1" fmla="val 72500"/>
              <a:gd name="adj2" fmla="val 112879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far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are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5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6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7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3"/>
          <p:cNvSpPr/>
          <p:nvPr/>
        </p:nvSpPr>
        <p:spPr>
          <a:xfrm>
            <a:off x="4952880" y="1219320"/>
            <a:ext cx="1524240" cy="1676160"/>
          </a:xfrm>
          <a:prstGeom prst="wedgeRoundRectCallout">
            <a:avLst>
              <a:gd name="adj1" fmla="val -194166"/>
              <a:gd name="adj2" fmla="val 12452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And we had many question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3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4"/>
          <p:cNvSpPr/>
          <p:nvPr/>
        </p:nvSpPr>
        <p:spPr>
          <a:xfrm>
            <a:off x="685800" y="1447920"/>
            <a:ext cx="1523880" cy="1600200"/>
          </a:xfrm>
          <a:prstGeom prst="wedgeRoundRectCallout">
            <a:avLst>
              <a:gd name="adj1" fmla="val 72500"/>
              <a:gd name="adj2" fmla="val 115875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un is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5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Su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V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ar awa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6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re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illion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i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7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kn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3.7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years 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8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re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ny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9"/>
          <p:cNvSpPr/>
          <p:nvPr/>
        </p:nvSpPr>
        <p:spPr>
          <a:xfrm>
            <a:off x="4952880" y="1066680"/>
            <a:ext cx="1676520" cy="1828800"/>
          </a:xfrm>
          <a:prstGeom prst="wedgeRoundRectCallout">
            <a:avLst>
              <a:gd name="adj1" fmla="val -181060"/>
              <a:gd name="adj2" fmla="val 118314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ab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lfway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rom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Gala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10"/>
          <p:cNvSpPr/>
          <p:nvPr/>
        </p:nvSpPr>
        <p:spPr>
          <a:xfrm>
            <a:off x="162000" y="284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swering some of the big question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hanging our understanding of our place in the univers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2635200" y="335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304920" y="2133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From the center of the univer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Picture 6" descr=""/>
          <p:cNvPicPr/>
          <p:nvPr/>
        </p:nvPicPr>
        <p:blipFill>
          <a:blip r:embed="rId1"/>
          <a:srcRect l="0" t="0" r="13819" b="0"/>
          <a:stretch/>
        </p:blipFill>
        <p:spPr>
          <a:xfrm>
            <a:off x="4724280" y="2514600"/>
            <a:ext cx="4025880" cy="307512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7"/>
          <p:cNvSpPr/>
          <p:nvPr/>
        </p:nvSpPr>
        <p:spPr>
          <a:xfrm>
            <a:off x="4648320" y="56386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to a very small planet in an immense expanding 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8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769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And the more we learn, the more questions emerg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2558880" y="358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Picture 8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9"/>
          <p:cNvSpPr/>
          <p:nvPr/>
        </p:nvSpPr>
        <p:spPr>
          <a:xfrm>
            <a:off x="685800" y="4572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0"/>
          <p:cNvSpPr/>
          <p:nvPr/>
        </p:nvSpPr>
        <p:spPr>
          <a:xfrm>
            <a:off x="609480" y="1600200"/>
            <a:ext cx="1524240" cy="1676520"/>
          </a:xfrm>
          <a:prstGeom prst="wedgeRoundRectCallout">
            <a:avLst>
              <a:gd name="adj1" fmla="val 87500"/>
              <a:gd name="adj2" fmla="val 8106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yond Plu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 ou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2514600" y="1523880"/>
            <a:ext cx="1600200" cy="1676520"/>
          </a:xfrm>
          <a:prstGeom prst="wedgeRoundRectCallout">
            <a:avLst>
              <a:gd name="adj1" fmla="val -29166"/>
              <a:gd name="adj2" fmla="val 88634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tar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 f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2"/>
          <p:cNvSpPr/>
          <p:nvPr/>
        </p:nvSpPr>
        <p:spPr>
          <a:xfrm>
            <a:off x="6934320" y="1905120"/>
            <a:ext cx="1600200" cy="1676160"/>
          </a:xfrm>
          <a:prstGeom prst="wedgeRoundRectCallout">
            <a:avLst>
              <a:gd name="adj1" fmla="val -300990"/>
              <a:gd name="adj2" fmla="val 6846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d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3"/>
          <p:cNvSpPr/>
          <p:nvPr/>
        </p:nvSpPr>
        <p:spPr>
          <a:xfrm>
            <a:off x="6553080" y="3886200"/>
            <a:ext cx="1447920" cy="1676520"/>
          </a:xfrm>
          <a:prstGeom prst="wedgeRoundRectCallout">
            <a:avLst>
              <a:gd name="adj1" fmla="val -305263"/>
              <a:gd name="adj2" fmla="val -4621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y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p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expand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14"/>
          <p:cNvSpPr/>
          <p:nvPr/>
        </p:nvSpPr>
        <p:spPr>
          <a:xfrm>
            <a:off x="4648320" y="4876920"/>
            <a:ext cx="1447560" cy="1676160"/>
          </a:xfrm>
          <a:prstGeom prst="wedgeRoundRectCallout">
            <a:avLst>
              <a:gd name="adj1" fmla="val -173685"/>
              <a:gd name="adj2" fmla="val -10530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rbor lif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15"/>
          <p:cNvSpPr/>
          <p:nvPr/>
        </p:nvSpPr>
        <p:spPr>
          <a:xfrm>
            <a:off x="4800600" y="1447920"/>
            <a:ext cx="1600200" cy="1676160"/>
          </a:xfrm>
          <a:prstGeom prst="wedgeRoundRectCallout">
            <a:avLst>
              <a:gd name="adj1" fmla="val -168254"/>
              <a:gd name="adj2" fmla="val 92708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y are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 the 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 galax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19"/>
          <p:cNvGrpSpPr/>
          <p:nvPr/>
        </p:nvGrpSpPr>
        <p:grpSpPr>
          <a:xfrm>
            <a:off x="533520" y="1981080"/>
            <a:ext cx="2666880" cy="2357640"/>
            <a:chOff x="533520" y="1981080"/>
            <a:chExt cx="2666880" cy="2357640"/>
          </a:xfrm>
        </p:grpSpPr>
        <p:pic>
          <p:nvPicPr>
            <p:cNvPr id="782" name="Picture 12" descr=""/>
            <p:cNvPicPr/>
            <p:nvPr/>
          </p:nvPicPr>
          <p:blipFill>
            <a:blip r:embed="rId1"/>
            <a:stretch/>
          </p:blipFill>
          <p:spPr>
            <a:xfrm>
              <a:off x="533520" y="1981080"/>
              <a:ext cx="2666880" cy="203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Rectangle 13"/>
            <p:cNvSpPr/>
            <p:nvPr/>
          </p:nvSpPr>
          <p:spPr>
            <a:xfrm>
              <a:off x="809640" y="4092480"/>
              <a:ext cx="199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Chandra Illustration: CXC/NG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20"/>
          <p:cNvGrpSpPr/>
          <p:nvPr/>
        </p:nvGrpSpPr>
        <p:grpSpPr>
          <a:xfrm>
            <a:off x="3581280" y="1981080"/>
            <a:ext cx="2178000" cy="1993320"/>
            <a:chOff x="3581280" y="1981080"/>
            <a:chExt cx="2178000" cy="1993320"/>
          </a:xfrm>
        </p:grpSpPr>
        <p:pic>
          <p:nvPicPr>
            <p:cNvPr id="785" name="Picture 14" descr=""/>
            <p:cNvPicPr/>
            <p:nvPr/>
          </p:nvPicPr>
          <p:blipFill>
            <a:blip r:embed="rId2"/>
            <a:stretch/>
          </p:blipFill>
          <p:spPr>
            <a:xfrm>
              <a:off x="3581280" y="1981080"/>
              <a:ext cx="2107800" cy="166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Rectangle 15"/>
            <p:cNvSpPr/>
            <p:nvPr/>
          </p:nvSpPr>
          <p:spPr>
            <a:xfrm>
              <a:off x="3641400" y="3728160"/>
              <a:ext cx="211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Spitzer Credit: NASA/JPL-Caltec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Group 27"/>
          <p:cNvGrpSpPr/>
          <p:nvPr/>
        </p:nvGrpSpPr>
        <p:grpSpPr>
          <a:xfrm>
            <a:off x="5488560" y="3962520"/>
            <a:ext cx="2831040" cy="2440080"/>
            <a:chOff x="5488560" y="3962520"/>
            <a:chExt cx="2831040" cy="2440080"/>
          </a:xfrm>
        </p:grpSpPr>
        <p:pic>
          <p:nvPicPr>
            <p:cNvPr id="788" name="Picture 16" descr=""/>
            <p:cNvPicPr/>
            <p:nvPr/>
          </p:nvPicPr>
          <p:blipFill>
            <a:blip r:embed="rId3"/>
            <a:stretch/>
          </p:blipFill>
          <p:spPr>
            <a:xfrm>
              <a:off x="6100920" y="3962520"/>
              <a:ext cx="15667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Rectangle 17"/>
            <p:cNvSpPr/>
            <p:nvPr/>
          </p:nvSpPr>
          <p:spPr>
            <a:xfrm>
              <a:off x="5488560" y="6156360"/>
              <a:ext cx="28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GLAST Credit: General Dynamics C4 System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Group 24"/>
          <p:cNvGrpSpPr/>
          <p:nvPr/>
        </p:nvGrpSpPr>
        <p:grpSpPr>
          <a:xfrm>
            <a:off x="6324480" y="1600200"/>
            <a:ext cx="2590920" cy="2151000"/>
            <a:chOff x="6324480" y="1600200"/>
            <a:chExt cx="2590920" cy="2151000"/>
          </a:xfrm>
        </p:grpSpPr>
        <p:pic>
          <p:nvPicPr>
            <p:cNvPr id="791" name="Picture 22" descr="arecibo"/>
            <p:cNvPicPr/>
            <p:nvPr/>
          </p:nvPicPr>
          <p:blipFill>
            <a:blip r:embed="rId4"/>
            <a:stretch/>
          </p:blipFill>
          <p:spPr>
            <a:xfrm>
              <a:off x="6324480" y="1600200"/>
              <a:ext cx="25909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Text Box 23"/>
            <p:cNvSpPr/>
            <p:nvPr/>
          </p:nvSpPr>
          <p:spPr>
            <a:xfrm>
              <a:off x="6629400" y="3504960"/>
              <a:ext cx="228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Arecibo Image Courtesy of the NA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Telescopes will continue to expand our understanding of our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4" name="Group 33"/>
          <p:cNvGrpSpPr/>
          <p:nvPr/>
        </p:nvGrpSpPr>
        <p:grpSpPr>
          <a:xfrm>
            <a:off x="685800" y="4419720"/>
            <a:ext cx="3048120" cy="2227320"/>
            <a:chOff x="685800" y="4419720"/>
            <a:chExt cx="3048120" cy="2227320"/>
          </a:xfrm>
        </p:grpSpPr>
        <p:pic>
          <p:nvPicPr>
            <p:cNvPr id="795" name="Picture 31" descr=""/>
            <p:cNvPicPr/>
            <p:nvPr/>
          </p:nvPicPr>
          <p:blipFill>
            <a:blip r:embed="rId5"/>
            <a:stretch/>
          </p:blipFill>
          <p:spPr>
            <a:xfrm>
              <a:off x="685800" y="4419720"/>
              <a:ext cx="304812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32"/>
            <p:cNvSpPr/>
            <p:nvPr/>
          </p:nvSpPr>
          <p:spPr>
            <a:xfrm>
              <a:off x="762120" y="6400800"/>
              <a:ext cx="297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Keck Image courtesy of NASA/JPL/Calte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9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2387520" cy="2476800"/>
          </a:xfrm>
          <a:prstGeom prst="rect">
            <a:avLst/>
          </a:prstGeom>
          <a:ln w="0">
            <a:noFill/>
          </a:ln>
        </p:spPr>
      </p:pic>
      <p:sp>
        <p:nvSpPr>
          <p:cNvPr id="522" name="AutoShape 3"/>
          <p:cNvSpPr/>
          <p:nvPr/>
        </p:nvSpPr>
        <p:spPr>
          <a:xfrm>
            <a:off x="762120" y="1371600"/>
            <a:ext cx="1600200" cy="1676520"/>
          </a:xfrm>
          <a:prstGeom prst="wedgeRoundRectCallout">
            <a:avLst>
              <a:gd name="adj1" fmla="val 5754"/>
              <a:gd name="adj2" fmla="val 12102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444844" descr="S7Picture 444844"/>
          <p:cNvPicPr/>
          <p:nvPr/>
        </p:nvPicPr>
        <p:blipFill>
          <a:blip r:embed="rId2"/>
          <a:stretch/>
        </p:blipFill>
        <p:spPr>
          <a:xfrm>
            <a:off x="5638680" y="91440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718501" descr="S7Picture 5718501"/>
          <p:cNvPicPr/>
          <p:nvPr/>
        </p:nvPicPr>
        <p:blipFill>
          <a:blip r:embed="rId3"/>
          <a:stretch/>
        </p:blipFill>
        <p:spPr>
          <a:xfrm>
            <a:off x="5638680" y="4089240"/>
            <a:ext cx="2895840" cy="26830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6"/>
          <p:cNvSpPr/>
          <p:nvPr/>
        </p:nvSpPr>
        <p:spPr>
          <a:xfrm>
            <a:off x="2819520" y="4876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Copernicus said “Su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2895480" y="2286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Aristotle said “Earth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Big Question 1: Is  Earth or Sun at the cen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Galileo observes Ve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7010280" y="1981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Earth-center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7086600" y="47563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Sun-center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23"/>
          <p:cNvGrpSpPr/>
          <p:nvPr/>
        </p:nvGrpSpPr>
        <p:grpSpPr>
          <a:xfrm>
            <a:off x="304920" y="4648320"/>
            <a:ext cx="2057400" cy="1371600"/>
            <a:chOff x="304920" y="4648320"/>
            <a:chExt cx="2057400" cy="1371600"/>
          </a:xfrm>
        </p:grpSpPr>
        <p:sp>
          <p:nvSpPr>
            <p:cNvPr id="533" name="Text Box 6"/>
            <p:cNvSpPr/>
            <p:nvPr/>
          </p:nvSpPr>
          <p:spPr>
            <a:xfrm>
              <a:off x="304920" y="472428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rebuchet MS"/>
                </a:rPr>
                <a:t>What Galileo ob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7"/>
            <p:cNvSpPr/>
            <p:nvPr/>
          </p:nvSpPr>
          <p:spPr>
            <a:xfrm>
              <a:off x="1828800" y="5257800"/>
              <a:ext cx="5335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8"/>
            <p:cNvSpPr/>
            <p:nvPr/>
          </p:nvSpPr>
          <p:spPr>
            <a:xfrm>
              <a:off x="457200" y="4648320"/>
              <a:ext cx="1371600" cy="1371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6" name="Picture 938792" descr="S8Picture 938792"/>
          <p:cNvPicPr/>
          <p:nvPr/>
        </p:nvPicPr>
        <p:blipFill>
          <a:blip r:embed="rId1"/>
          <a:stretch/>
        </p:blipFill>
        <p:spPr>
          <a:xfrm>
            <a:off x="7391520" y="512640"/>
            <a:ext cx="1752480" cy="9939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0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38280" cy="19526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1"/>
          <p:cNvSpPr/>
          <p:nvPr/>
        </p:nvSpPr>
        <p:spPr>
          <a:xfrm>
            <a:off x="3019680" y="6600960"/>
            <a:ext cx="361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2"/>
          <p:cNvSpPr/>
          <p:nvPr/>
        </p:nvSpPr>
        <p:spPr>
          <a:xfrm>
            <a:off x="0" y="2362320"/>
            <a:ext cx="2133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Ven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pha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reveal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13" descr=""/>
          <p:cNvPicPr/>
          <p:nvPr/>
        </p:nvPicPr>
        <p:blipFill>
          <a:blip r:embed="rId3"/>
          <a:stretch/>
        </p:blipFill>
        <p:spPr>
          <a:xfrm>
            <a:off x="2362320" y="3886200"/>
            <a:ext cx="4800600" cy="2598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4" descr=""/>
          <p:cNvPicPr/>
          <p:nvPr/>
        </p:nvPicPr>
        <p:blipFill>
          <a:blip r:embed="rId4"/>
          <a:stretch/>
        </p:blipFill>
        <p:spPr>
          <a:xfrm>
            <a:off x="2362320" y="1066680"/>
            <a:ext cx="4724280" cy="2662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5" descr=""/>
          <p:cNvPicPr/>
          <p:nvPr/>
        </p:nvPicPr>
        <p:blipFill>
          <a:blip r:embed="rId5"/>
          <a:stretch/>
        </p:blipFill>
        <p:spPr>
          <a:xfrm>
            <a:off x="2362320" y="1600200"/>
            <a:ext cx="685800" cy="6523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6"/>
          <p:cNvSpPr/>
          <p:nvPr/>
        </p:nvSpPr>
        <p:spPr>
          <a:xfrm>
            <a:off x="0" y="65214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Play Optional Mov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17"/>
          <p:cNvSpPr/>
          <p:nvPr/>
        </p:nvSpPr>
        <p:spPr>
          <a:xfrm>
            <a:off x="5867280" y="5334120"/>
            <a:ext cx="762120" cy="761760"/>
          </a:xfrm>
          <a:prstGeom prst="ellipse">
            <a:avLst/>
          </a:prstGeom>
          <a:noFill/>
          <a:ln w="9360">
            <a:solidFill>
              <a:srgbClr val="ff99cc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18"/>
          <p:cNvSpPr/>
          <p:nvPr/>
        </p:nvSpPr>
        <p:spPr>
          <a:xfrm>
            <a:off x="5638680" y="5105520"/>
            <a:ext cx="1219320" cy="1218960"/>
          </a:xfrm>
          <a:prstGeom prst="ellipse">
            <a:avLst/>
          </a:prstGeom>
          <a:noFill/>
          <a:ln w="9360">
            <a:solidFill>
              <a:srgbClr val="3366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9"/>
          <p:cNvSpPr/>
          <p:nvPr/>
        </p:nvSpPr>
        <p:spPr>
          <a:xfrm>
            <a:off x="4648320" y="91440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20"/>
          <p:cNvSpPr/>
          <p:nvPr/>
        </p:nvSpPr>
        <p:spPr>
          <a:xfrm flipV="1">
            <a:off x="4724280" y="48006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1"/>
          <p:cNvSpPr/>
          <p:nvPr/>
        </p:nvSpPr>
        <p:spPr>
          <a:xfrm>
            <a:off x="5410080" y="2057400"/>
            <a:ext cx="167652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5486400" y="4800600"/>
            <a:ext cx="1676520" cy="1676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14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Big Question 2: How far away are the sta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13"/>
          <p:cNvSpPr/>
          <p:nvPr/>
        </p:nvSpPr>
        <p:spPr>
          <a:xfrm>
            <a:off x="1371600" y="1447920"/>
            <a:ext cx="1523880" cy="1676160"/>
          </a:xfrm>
          <a:prstGeom prst="wedgeRoundRectCallout">
            <a:avLst>
              <a:gd name="adj1" fmla="val 15314"/>
              <a:gd name="adj2" fmla="val 11183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w f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w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17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4876560" cy="3243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55" name="Rectangle 18"/>
          <p:cNvSpPr/>
          <p:nvPr/>
        </p:nvSpPr>
        <p:spPr>
          <a:xfrm>
            <a:off x="4807080" y="5257800"/>
            <a:ext cx="28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Parallax if stars were ~5000 times clo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76760"/>
          </a:xfrm>
          <a:prstGeom prst="rect">
            <a:avLst/>
          </a:prstGeom>
          <a:ln w="0">
            <a:noFill/>
          </a:ln>
        </p:spPr>
      </p:pic>
      <p:sp>
        <p:nvSpPr>
          <p:cNvPr id="559" name="Line 6"/>
          <p:cNvSpPr/>
          <p:nvPr/>
        </p:nvSpPr>
        <p:spPr>
          <a:xfrm>
            <a:off x="6781680" y="3657600"/>
            <a:ext cx="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Parallax if stars were ~5000 times clo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64160"/>
          </a:xfrm>
          <a:prstGeom prst="rect">
            <a:avLst/>
          </a:prstGeom>
          <a:ln w="0">
            <a:noFill/>
          </a:ln>
        </p:spPr>
      </p:pic>
      <p:sp>
        <p:nvSpPr>
          <p:cNvPr id="564" name="Line 6"/>
          <p:cNvSpPr/>
          <p:nvPr/>
        </p:nvSpPr>
        <p:spPr>
          <a:xfrm>
            <a:off x="5715000" y="3657600"/>
            <a:ext cx="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Your eyes marking Earth’s Orb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264200" cy="4343400"/>
          </a:xfrm>
          <a:prstGeom prst="rect">
            <a:avLst/>
          </a:prstGeom>
          <a:ln w="0">
            <a:noFill/>
          </a:ln>
        </p:spPr>
      </p:pic>
      <p:grpSp>
        <p:nvGrpSpPr>
          <p:cNvPr id="569" name="Group 11"/>
          <p:cNvGrpSpPr/>
          <p:nvPr/>
        </p:nvGrpSpPr>
        <p:grpSpPr>
          <a:xfrm>
            <a:off x="4038480" y="2819520"/>
            <a:ext cx="1524240" cy="1523880"/>
            <a:chOff x="4038480" y="2819520"/>
            <a:chExt cx="1524240" cy="1523880"/>
          </a:xfrm>
        </p:grpSpPr>
        <p:sp>
          <p:nvSpPr>
            <p:cNvPr id="570" name="Oval 7"/>
            <p:cNvSpPr/>
            <p:nvPr/>
          </p:nvSpPr>
          <p:spPr>
            <a:xfrm>
              <a:off x="4038480" y="2819520"/>
              <a:ext cx="1524240" cy="15238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10"/>
            <p:cNvSpPr/>
            <p:nvPr/>
          </p:nvSpPr>
          <p:spPr>
            <a:xfrm>
              <a:off x="4724280" y="2819520"/>
              <a:ext cx="152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27:06Z</dcterms:created>
  <dc:creator>Marni Berendsen</dc:creator>
  <dc:description/>
  <dc:language>en-US</dc:language>
  <cp:lastModifiedBy>LEGION</cp:lastModifiedBy>
  <cp:lastPrinted>2005-11-08T18:18:53Z</cp:lastPrinted>
  <dcterms:modified xsi:type="dcterms:W3CDTF">2018-03-22T09:27:52Z</dcterms:modified>
  <cp:revision>139</cp:revision>
  <dc:subject/>
  <dc:title>How Telescopes Changed our Universe</dc:title>
</cp:coreProperties>
</file>