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5BD462-11EC-4C98-951D-8ACA76D1F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DA3419-5E1C-4795-A8EF-148794246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 knowledge of the basic structure of the atom: protons,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316F01-6093-43BB-BB39-5AFE1AE44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F7E8A7-1B42-4556-A421-8E5C1D7E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C8B2B0-FE16-40F0-A2DF-9043633D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9D60FA-C330-4D22-ACD7-2B50C731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D19DC9-03E6-4A47-81AA-76516266E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97C44B-6163-41BC-8A86-40EE3E36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operties of waves:  frequency,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BF75F4-D70B-4BE7-8127-7CF6AE73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1733DA-9B91-473D-9299-3827DE40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BDC6DD-DFD3-4B8D-A034-02D12575D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2201BE-0D8F-40C2-AA3A-4546245CD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A19C3C-8A65-41DA-8685-4D34A992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EA3C9A-F115-4D7A-8C42-4055C04CC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D17EE2-74E3-461B-9224-6E32AF286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5CF-6048-4FCE-9A6D-00D9DF1A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2FF-2B75-450E-A68E-16C2F1C5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A7B-BE9C-4186-A6CB-1B34CABD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273-86EF-431D-8BC7-C407AB34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FC364-D04B-4022-A98B-03058C4C3B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8E8C8-2CA5-45FF-B453-498FD9D07B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A2891-42B0-442F-9BD7-0344DA16D5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B6596-859B-4004-A2E9-8B6668E341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2ED0E-EC82-4994-8332-4D237409E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B93AB-2DEC-43DD-94F8-32C024B057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2589B-DFC0-4FB5-B503-73D646787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F93-E142-4237-887E-C99B5ACB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7F01E-31C2-4532-B73D-A8B71EE54B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A0778-CBD3-4FDA-B15E-EC20F6F26A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22F42-552A-47D6-9DC1-5A14FCC53C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02FAB-9C62-454A-80B5-B8B02ABD52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36F51-E642-4B16-8A56-FFF6A5D479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A6FDD-E78A-4C1D-AD64-D02BB20F2D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B767BC-392B-43AF-9285-A02994B501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FF976-7574-465D-A2B6-B55D26C1F8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3A0BE-E213-4657-8A45-39EAEDFE59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0D8A02-BD65-4683-85E4-73D3B3749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251-A1FF-44DD-815F-244BA2B5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5A94D-CB4B-406C-9AAC-4DA747625F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20123-A898-4B95-B8F4-E9912C374A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1B217-A477-4B05-B821-83A9622FE7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CB4DF-61A5-4300-81AB-F632A6F813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B122AB-8575-43D1-BDF8-A52EE742B7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7C645-3A6F-4511-957B-CDEFBB81E0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4014B-9398-4B4B-9316-13FBAAC98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1AB-57D8-4A3E-96D7-7886D0C4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287-75BE-4E50-9243-9969B725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80D-4BEA-45C6-9877-AC0F0EE6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1B4-DA25-4476-B3E8-E9748937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6C1-2B54-4808-B7DF-7C85D37D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E9A-7D81-4D36-B546-4F08EAC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FB4B-43DD-48D5-B5CD-FCE344BEDFEB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839A-4337-4572-A4C0-2ACBF0229F2E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7265-C407-4072-937C-BE344BA398C9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7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ses of the 21-c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ky Way has over 3 billion solar masses of hydrogen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ough hydrogen atoms so that the 21-cm line is easily detected by radio telesc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, it is the best way to map the structure of the galax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9"/>
          <p:cNvSpPr/>
          <p:nvPr/>
        </p:nvSpPr>
        <p:spPr>
          <a:xfrm>
            <a:off x="2057400" y="624852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10"/>
          <p:cNvSpPr/>
          <p:nvPr/>
        </p:nvSpPr>
        <p:spPr>
          <a:xfrm>
            <a:off x="1828800" y="637524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Asus</cp:lastModifiedBy>
  <dcterms:modified xsi:type="dcterms:W3CDTF">2018-03-13T05:28:54Z</dcterms:modified>
  <cp:revision>32</cp:revision>
  <dc:subject/>
  <dc:title>Hydrogen in the Milky Way</dc:title>
</cp:coreProperties>
</file>