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594DAA-B5AD-4D7F-AE97-4394C2756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A56E29-921C-4579-A6DF-4D3A7B182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 knowledge of the basic structure of the atom: protons,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4EB4C5-0E33-4415-88E8-C1C693692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24ABED-6364-4B13-A6BE-1C3602097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9768C0-CE37-4BA1-8046-F5D1D4F4B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0E107F-F993-4D79-8A05-8CF9F7A5E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3C97A5-DDAD-4F66-A621-21B6BF3A7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75AD44-54D1-4D30-8DA9-1C0B73E8C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operties of waves:  frequency,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4DB0AE-C8CA-4BFE-B229-B671FC536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908FDE-3091-4AB4-A018-22BB77160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C23455-A6A3-4497-966B-46550689F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29BED8-FC7D-405D-85BA-83A89E42C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39D944-DEA8-4340-85AC-854FFECC5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E0A775-B970-4FEC-A41C-1ACA3D42D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7E2D6A-D444-4338-9829-18B92076D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2B8-1212-4F97-AA40-5DE2A038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821-3A67-4E00-98E3-64D3E21A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CF6-866C-48F6-97C7-1C1FA9C7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F13-CEE0-4264-89F9-616E45AA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6F101-9781-4A85-87C6-74C596459E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60B07-ADEB-4190-B2C4-EED96E1112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FA9B3-C015-4E4A-98EF-2356D3364D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BE03B-C8B2-4403-973B-0BCB719E7E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74B75-0862-4A5B-9354-63AD63F270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A80FC-7CB3-4984-81D7-250CF4729B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58134-65D4-4E3F-9AA3-6E97107D93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3A6-1A46-4808-A7EB-5DA6C5E7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2C788-E885-4816-A0CC-8782A8441D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50DDE-EB3E-41F0-83BD-D2E27A8CD4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7EB0B-662B-4641-95C1-E8F2115F9F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442F1-9747-4400-815A-3B5FAB7A62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55311-30FE-404A-9472-41F34CAA78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5B2A97-DB6C-4763-A85F-7E7A521F08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3767DA-FAED-457F-8BE3-431FD4338D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0C6206-0EAA-4B38-8220-57780BD565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CD3FEC-2FC2-469C-89CF-D0CFDCB4A8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CD1044-926C-41D0-AC5D-2C6D1FD6C3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EC2-233F-46C9-AA3B-B9C61702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7A7EB8-B94C-4FDA-BC6A-606331122B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C64DDA-AC5D-45C6-9731-2F81CC6D39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CC7C09-D3D8-4BD6-9F35-0BAA6EC8E9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5D9C31-F98A-45EE-BF66-8B9ACBEEFF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1F3E26-8DEF-4DF8-9C1C-927A6F38E4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F78776-3C04-4D26-965E-9FCD72F255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4000DC-23AD-4F89-A49E-271817AE4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DE4-6E43-4BA6-A7BD-02566B3F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ABC-288C-417D-8AB2-8684BE55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24B-882E-4C0D-A0BA-8C720A99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217-0CED-4C4D-AE6C-E87B3802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C57-667F-4967-8AB8-CAD70A91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766-52AF-433B-BF93-5342FBCF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9F3C-231E-4DE9-A6F2-ED47BD89C836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A13F-1141-4625-A6AB-B5D5B2423D2A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960F-85EA-4B32-BA89-30ED6D133D57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7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6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Uses of the 21-c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ilky Way has over 3 billion solar masses of hydrogen g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ough hydrogen atoms so that the 21-cm line is easily detected by radio telesco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fore, it is the best way to map the structure of the galax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9"/>
          <p:cNvSpPr/>
          <p:nvPr/>
        </p:nvSpPr>
        <p:spPr>
          <a:xfrm>
            <a:off x="2057400" y="624852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7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10"/>
          <p:cNvSpPr/>
          <p:nvPr/>
        </p:nvSpPr>
        <p:spPr>
          <a:xfrm>
            <a:off x="1828800" y="637524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Asus</cp:lastModifiedBy>
  <dcterms:modified xsi:type="dcterms:W3CDTF">2018-03-13T05:28:54Z</dcterms:modified>
  <cp:revision>32</cp:revision>
  <dc:subject/>
  <dc:title>Hydrogen in the Milky Way</dc:title>
</cp:coreProperties>
</file>