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41FD-9045-46FF-8B2B-EDB444D6A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2A2C-0A8F-4F5E-83C1-7FAE2081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746-5F5B-4BFF-B625-E5316D87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DE2-6FEB-48E0-94FF-2E0CFAF2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668-1185-4DE6-8A45-8C22E95F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B54-4DB6-41B5-9B38-0663119C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3B57-3681-48F6-90F9-B323FF0D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6F2-822D-4B51-92C1-BFA6F255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4D9-ACA2-46FF-9D92-10ECD450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143-55EB-411A-96EE-2C4347CD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5D9-A396-4F9D-94CC-35B93B25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6DA-FD43-4044-A178-D5E4CD55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20E-E8C6-4B76-A514-57A28A9A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5CC8-0A03-41AD-A4AA-6E470E4DF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30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3.xml"/><Relationship Id="rId34" Type="http://schemas.openxmlformats.org/officeDocument/2006/relationships/slide" Target="slide34.xml"/><Relationship Id="rId35" Type="http://schemas.openxmlformats.org/officeDocument/2006/relationships/slide" Target="slide35.xml"/><Relationship Id="rId36" Type="http://schemas.openxmlformats.org/officeDocument/2006/relationships/slide" Target="slide36.xml"/><Relationship Id="rId37" Type="http://schemas.openxmlformats.org/officeDocument/2006/relationships/slide" Target="slide37.xml"/><Relationship Id="rId38" Type="http://schemas.openxmlformats.org/officeDocument/2006/relationships/slide" Target="slide38.xml"/><Relationship Id="rId39" Type="http://schemas.openxmlformats.org/officeDocument/2006/relationships/slide" Target="slide39.xml"/><Relationship Id="rId40" Type="http://schemas.openxmlformats.org/officeDocument/2006/relationships/slide" Target="slide40.xml"/><Relationship Id="rId41" Type="http://schemas.openxmlformats.org/officeDocument/2006/relationships/slide" Target="slide41.xml"/><Relationship Id="rId42" Type="http://schemas.openxmlformats.org/officeDocument/2006/relationships/slide" Target="slide42.xml"/><Relationship Id="rId43" Type="http://schemas.openxmlformats.org/officeDocument/2006/relationships/slide" Target="slide43.xml"/><Relationship Id="rId44" Type="http://schemas.openxmlformats.org/officeDocument/2006/relationships/slide" Target="slide44.xml"/><Relationship Id="rId45" Type="http://schemas.openxmlformats.org/officeDocument/2006/relationships/slide" Target="slide45.xml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381880" cy="4408560"/>
        </p:xfrm>
        <a:graphic>
          <a:graphicData uri="http://schemas.openxmlformats.org/drawingml/2006/table">
            <a:tbl>
              <a:tblPr/>
              <a:tblGrid>
                <a:gridCol w="1676520"/>
                <a:gridCol w="1466640"/>
                <a:gridCol w="1746360"/>
                <a:gridCol w="1455840"/>
                <a:gridCol w="2036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Noble gases iner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45:39Z</dcterms:created>
  <dc:creator>Risa Weiss</dc:creator>
  <dc:description/>
  <dc:language>en-US</dc:language>
  <cp:lastModifiedBy>RomaK</cp:lastModifiedBy>
  <dcterms:modified xsi:type="dcterms:W3CDTF">2015-09-02T05:59:48Z</dcterms:modified>
  <cp:revision>26</cp:revision>
  <dc:subject/>
  <dc:title>Periodic Table Jeopardy</dc:title>
</cp:coreProperties>
</file>