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wmf" ContentType="image/x-wmf"/>
  <Override PartName="/ppt/media/image20.jpeg" ContentType="image/jpeg"/>
  <Override PartName="/ppt/media/image19.png" ContentType="image/png"/>
  <Override PartName="/ppt/media/image21.jpeg" ContentType="image/jpeg"/>
  <Override PartName="/ppt/media/image29.png" ContentType="image/png"/>
  <Override PartName="/ppt/media/image17.jpeg" ContentType="image/jpeg"/>
  <Override PartName="/ppt/media/image16.jpeg" ContentType="image/jpeg"/>
  <Override PartName="/ppt/media/image13.jpeg" ContentType="image/jpeg"/>
  <Override PartName="/ppt/media/image40.jpeg" ContentType="image/jpeg"/>
  <Override PartName="/ppt/media/image1.jpeg" ContentType="image/jpeg"/>
  <Override PartName="/ppt/media/image35.jpeg" ContentType="image/jpeg"/>
  <Override PartName="/ppt/media/image25.wmf" ContentType="image/x-wmf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14.jpeg" ContentType="image/jpeg"/>
  <Override PartName="/ppt/media/WHOOSH.WAV" ContentType="audio/x-wav"/>
  <Override PartName="/ppt/media/image30.jpeg" ContentType="image/jpeg"/>
  <Override PartName="/ppt/media/image15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8.png" ContentType="image/pn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1.jpeg" ContentType="image/jpeg"/>
  <Override PartName="/ppt/media/image4.jpeg" ContentType="image/jpeg"/>
  <Override PartName="/ppt/media/image41.png" ContentType="image/png"/>
  <Override PartName="/ppt/media/image42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9.jpeg" ContentType="image/jpeg"/>
  <Override PartName="/ppt/media/image11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3ABE1-F411-4AA6-90F1-B412E2FFF5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ght and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and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ll EM radiation can penetrate Earth’s atm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ll EM radiation can penetrate Earth’s atm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Light and Why Would Astronomers Want to Study the Properties of Ligh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s we say light is made of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 we say light is made of particles called ph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es very fast, at 186 000 miles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0,000 km 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a prism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Light and Why Would Astronomers Want to Study the Properties of Ligh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s we say light is made of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 we say light is made of particles called ph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es very fast, at 186 000 miles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0,000 km 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a prism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pass white light through a prism, it separates into its component col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.O.Y. G. B.I.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pass white light through a prism, it separates into its component col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.O.Y. G. B.I.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ing The Propertie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but one part of the entire electromagnetic (EM)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 Spectrum includes all kind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 waves     (all light moves at the same speed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 waves                                       light spe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tra violet light             (some light photons ha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rays                                  shorter waveleng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rays                   and more energy than oth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ing The Propertie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but one part of the entire electromagnetic (EM)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 Spectrum includes all kind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 waves     (all light moves at the same speed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 waves                                       light spe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tra violet light             (some light photons ha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rays                                  shorter waveleng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rays                   and more energy than oth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ly one type of electromagnetic radiation emitted by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type of EM radiation travels at exactly the same speed - the speed of l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ly one type of electromagnetic radiation emitted by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type of EM radiation travels at exactly the same speed - the speed of l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ll EM radiation can penetrate Earth’s atm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ll EM radiation can penetrate Earth’s atm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ers use different instruments to look at light of different wavelengths - sometimes, we even have to go above Earth’s atm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ers use different instruments to look at light of different wavelengths - sometimes, we even have to go above Earth’s atm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FIA - the Stratospheric Observatory for Infrared Astrono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FIA - the Stratospheric Observatory for Infrared Astrono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s at other wavelengths are revealing previously invisible sigh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inary vi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 of Orion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s at other wavelengths are revealing previously invisible sigh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inary vi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 of Orion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Orion in Different Wavelengths of L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Orion in Different Wavelengths of L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you thin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ain purpose of a telescop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stars twink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you thin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ain purpose of a telescop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stars twink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ttp://www.cnn.com/2001/LAW/02/20/scotus.heatdetector.01.ap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cnn.com/2001/LAW/02/20/scotus.heatdetector.01.ap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bble Space Telescope Views of Orion Nebula showing stars hidden in clou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oposite.stsci.edu/pubinfo/pr/97/13/A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bble Space Telescope Views of Orion Nebula showing stars hidden in clou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oposite.stsci.edu/pubinfo/pr/97/13/A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Sun as seen in visible light from Earth and from space in X-rays by satell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solar.physics.montana.edu/tslater/real-tim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Sun as seen in visible light from Earth and from space in X-rays by satell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solar.physics.montana.edu/tslater/real-tim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s at wavelengths other than visible light are revealing previously invisible sigh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 wavelength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s at wavelengths other than visible light are revealing previously invisible sigh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 wavelength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igh Energy Gamma Rays - Compton Gamma Ray Observatory (GRO) Satell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Energy Gamma Rays - Compton Gamma Ray Observatory (GRO) Satell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ky’s emission of Gamma 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ky’s emission of Gamma 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we receive GRBs from every direction 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act that GRBs come from every direction imply that GRBs don’t come from our galaxy, but from other galaxies spread in every directio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we receive GRBs from every direction 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act that GRBs come from every direction imply that GRBs don’t come from our galaxy, but from other galaxies spread in every directio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 wavelength observations are possible from Earth’s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 wavelength observations are possible from Earth’s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ery Large Array (VLA) in New Mex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ery Large Array (VLA) in New Mex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types of EM radiation require different types of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racting telescope uses a lens to concentrate incoming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lecting telescope uses mirrors to concentrate incoming star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types of EM radiation require different types of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racting telescope uses a lens to concentrate incoming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lecting telescope uses mirrors to concentrate incoming star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pass white light through a prism, it separates into its component col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.O.Y. G. B.I.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pass white light through a prism, it separates into its component col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.O.Y. G. B.I.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ing Spectra:                   The Propertie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e part of the electromagnetic (EM)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 radiation is described as a wave with wavelengths in the range  1x10-15 m to 100 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ly a tiny small part of the entire electromagnetic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ttle bits of light are called phot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ing Spectra:                   The Propertie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e part of the electromagnetic (EM)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 radiation is described as a wave with wavelengths in the range  1x10-15 m to 100 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ly a tiny small part of the entire electromagnetic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ttle bits of light are called phot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ing Light Into a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ers separate out light into its individual components using a diffraction grating or using a prism - then they analyze each part independentl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ing Light Into a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ers separate out light into its individual components using a diffraction grating or using a prism - then they analyze each part independentl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ang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1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ang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1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ang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1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ectrum is continuo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ang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1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ectrum is continuo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light sources contain energy in lots of different wavelengt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measure the brightness in various wavelength bands--the result is called the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ectrum (total character of light emitted) can tell us a lot about a sour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light sources contain energy in lots of different wavelengt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measure the brightness in various wavelength bands--the result is called the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ectrum (total character of light emitted) can tell us a lot about a sour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 refracting telescope uses a lens to concentrate incoming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racting telescope uses a lens to concentrate incoming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white light contains all colors, how fast does it mo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6,000 miles 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0,000 kilometers 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x 108 m/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successfully determined by Danish astronomer Ole Roemer in 16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white light contains all colors, how fast does it mo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6,000 miles 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0,000 kilometers 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x 108 m/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successfully determined by Danish astronomer Ole Roemer in 16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r objective lens provides a brighter (not bigger)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r objective lens provides a brighter (not bigger)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enses reverse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ses reverse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main functions of a telescop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gh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alled light gathering pow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fine de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alled resolu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least impor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f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fication = (objective lens focal length  / eyepiece lens focal leng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main functions of a telescop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gh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alled light gathering pow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fine de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alled resolu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least impor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f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fication = (objective lens focal length  / eyepiece lens focal leng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 of a Tele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gather 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nt a large obj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nge of few inches to 10 meter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resolve fine deta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ed by size and atmospheric “seeing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magnif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st impor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50x per inch of aperture (rule of thum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Functions of a Telescop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To gather light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want a large objectiv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ange of few inches to 10 meters!!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To resolve fine detail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limited by size and atmospheric “seeing”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To magnif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least importa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bout 50x per inch of aperture (rule of thumb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racting telescopes have drawba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herical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atic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racting telescopes have drawba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herical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atic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fracting telescopes have drawba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pherical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romatic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agging due to gravity distorting the 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nwanted refr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paque to certain wavelength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Yerkes Observatory - 40-inch Refracting Telescope: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Largest Refracting Telescope in the Worl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racting telescopes have drawba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herical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atic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gging due to gravity distorting the 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wanted refr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aque to certain wavelength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rkes Observatory - 40-inch Refracting Telescope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rgest Refracting Telescope in the Worl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cting telescopes use mirrors to concentrate incoming star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cting telescopes use mirrors to concentrate incoming star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what is ligh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17th Century, Isaac Newton argued that light was composed of little particles while Christian Huygens suggested that light travels in the form of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19th Century, Thomas Young demonstrated that light bends slightly around corners and acts like interfering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what is ligh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17th Century, Isaac Newton argued that light was composed of little particles while Christian Huygens suggested that light travels in the form of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19th Century, Thomas Young demonstrated that light bends slightly around corners and acts like interfering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er’s face two major obstacles in observing the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Pollution from C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Twinkling from Earth’s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er’s face two major obstacles in observing the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Pollution from C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Twinkling from Earth’s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cson, Arizona in 1959 and 19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cson, Arizona in 1959 and 19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’s atmosphere hinders astronomical re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’s atmosphere hinders astronomical re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pid changes in the density of Earth’s atmosphere cause passing starlight to quickly change direction, making stars appear to twinkle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pid changes in the density of Earth’s atmosphere cause passing starlight to quickly change direction, making stars appear to twinkle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anced technology is spawning a new generation of equipment to view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CDs (charge-coupled devic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telescopes on remote mountain t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una Kea in Hawa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rro Pachon in C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aptive Optics to counteract the blurring of Earth’s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biting space observa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anced technology is spawning a new generation of equipment to view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CDs (charge-coupled devic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telescopes on remote mountain t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una Kea in Hawa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rro Pachon in C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aptive Optics to counteract the blurring of Earth’s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biting space observa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 Charge-Coupled Device (CC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arge-Coupled Device (CC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rdinary Photographs vs. CC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lm (negative)           CCD (negative)             CCD (positiv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ame integration (I.e. exposure) tim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ifferent quantum efficiency: Film 1% CCD 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inary Photographs vs. CC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m (negative)           CCD (negative)             CCD (positiv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e integration (I.e. exposure) tim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quantum efficiency: Film 1% CCD 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ching 10-m, multiple mirror Keck Telescopes in Hawaii with adaptive op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ching 10-m, multiple mirror Keck Telescopes in Hawaii with adaptive op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above Earth’s atmosphere, the Hubble Space Telescope provides stunning details about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above Earth’s atmosphere, the Hubble Space Telescope provides stunning details about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id you thin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ain purpose of a telescop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elescope is designed to collect as much light as possible.  It also improves resolution and magnifies im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stars twinkle?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pid changes in the density of Earth’s atmosphere cause passing starlight to change direction, making stars appear to twink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id you thin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ain purpose of a telescop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elescope is designed to collect as much light as possible.  It also improves resolution and magnifies im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stars twinkle?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pid changes in the density of Earth’s atmosphere cause passing starlight to change direction, making stars appear to twink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mas Young’s interference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mas Young’s interference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ottish physicist James Clerk Maxwell showed mathematically in the 1860s that light must be a combination of electric and magnetic fiel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ottish physicist James Clerk Maxwell showed mathematically in the 1860s that light must be a combination of electric and magnetic fiel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wasn’t until 1905 that our current understanding of the nature of light emerged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nstein showed that light sometimes behaves as particles and sometimes as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n energy = Plank’s constant x speed of light  / 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wasn’t until 1905 that our current understanding of the nature of light emerged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nstein showed that light sometimes behaves as particles and sometimes as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n energy = Plank’s constant x speed of light  / 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ly one type of electromagnetic radiation emitted by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type of EM radiation travels at exactly the same speed - the speed of l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ly one type of electromagnetic radiation emitted by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type of EM radiation travels at exactly the same speed - the speed of l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6088-6E7F-4172-AF41-143E549BC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154F-B956-4A97-AAE6-AC571E22C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956D-259F-47DF-B02B-0EEBA90E6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3347-208C-43E9-9810-6A64F3E46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E3C2-4510-4223-B2E0-38E55FAF1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09C8-F2E4-4D42-9348-B038A76B2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FF1A-8002-4030-B6B8-E3CD997C3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2841-09F7-4E5D-B629-873EEF439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08BF-A5B8-4FCF-B2B6-E8E05219B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7CC7-1CE9-4DD2-AD5E-A2C9E7470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56CE-54BC-46F0-A4BE-10028B6E6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5F85-A877-4591-901F-5DF0594C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9223A-E144-45CF-AD3F-9100BDB8E7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hyperlink" Target="http://www.bartleby.com/61/38/A0013800.html" TargetMode="External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F03-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ight and Telescope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F03-06"/>
          <p:cNvPicPr/>
          <p:nvPr/>
        </p:nvPicPr>
        <p:blipFill>
          <a:blip r:embed="rId1"/>
          <a:stretch/>
        </p:blipFill>
        <p:spPr>
          <a:xfrm>
            <a:off x="0" y="1069920"/>
            <a:ext cx="9144000" cy="57880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"/>
          <p:cNvSpPr/>
          <p:nvPr/>
        </p:nvSpPr>
        <p:spPr>
          <a:xfrm>
            <a:off x="-380880" y="106200"/>
            <a:ext cx="990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all EM radiation can penetrate Earth’s atmosphe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hat is Light and Why Would Astronomers Want to Study the Properties of Light?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304812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ometimes we say light is made o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wa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ometime we say light is made of particles called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hot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ve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very fas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at 186 000 miles           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er sec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00,000 km per sec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sider a prism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f you pass white light through a prism, it separates into its component colors.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90" name="Picture 3" descr="F03-01A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23590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4"/>
          <p:cNvSpPr/>
          <p:nvPr/>
        </p:nvSpPr>
        <p:spPr>
          <a:xfrm>
            <a:off x="1295280" y="547056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.O.Y. G. B.I.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1371600" y="623268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spectru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Group 6"/>
          <p:cNvGrpSpPr/>
          <p:nvPr/>
        </p:nvGrpSpPr>
        <p:grpSpPr>
          <a:xfrm>
            <a:off x="762120" y="5181480"/>
            <a:ext cx="7848000" cy="398880"/>
            <a:chOff x="762120" y="5181480"/>
            <a:chExt cx="7848000" cy="398880"/>
          </a:xfrm>
        </p:grpSpPr>
        <p:sp>
          <p:nvSpPr>
            <p:cNvPr id="94" name="Text Box 7"/>
            <p:cNvSpPr/>
            <p:nvPr/>
          </p:nvSpPr>
          <p:spPr>
            <a:xfrm>
              <a:off x="762120" y="5181480"/>
              <a:ext cx="253404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long wavelength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Text Box 8"/>
            <p:cNvSpPr/>
            <p:nvPr/>
          </p:nvSpPr>
          <p:spPr>
            <a:xfrm>
              <a:off x="6075720" y="5181480"/>
              <a:ext cx="253440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short wavelength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Line 9"/>
            <p:cNvSpPr/>
            <p:nvPr/>
          </p:nvSpPr>
          <p:spPr>
            <a:xfrm>
              <a:off x="2969280" y="5410080"/>
              <a:ext cx="30243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Analyzing The Properties of Light</a:t>
            </a:r>
            <a:endParaRPr b="0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sible Light is but one part of the entire electromagnetic (EM) spectru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 Spectrum includes all kinds of l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adio waves    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(all light moves at the same speed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icro waves                                      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light spe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nfrared 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visible 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ultra violet light            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(some light photons hav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x rays                                 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horter waveleng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gamma rays                  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nd more energy than oth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F03-05"/>
          <p:cNvPicPr/>
          <p:nvPr/>
        </p:nvPicPr>
        <p:blipFill>
          <a:blip r:embed="rId1"/>
          <a:stretch/>
        </p:blipFill>
        <p:spPr>
          <a:xfrm>
            <a:off x="0" y="0"/>
            <a:ext cx="554976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38480" y="0"/>
            <a:ext cx="510552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imes New Roman"/>
              </a:rPr>
              <a:t>Visible light is only one type of electromagnetic radiation emitted by stars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4343400" y="4419720"/>
            <a:ext cx="4572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Times New Roman"/>
              </a:rPr>
              <a:t>Each type of EM radiation travels at exactly the same speed - the speed of ligh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F03-06"/>
          <p:cNvPicPr/>
          <p:nvPr/>
        </p:nvPicPr>
        <p:blipFill>
          <a:blip r:embed="rId1"/>
          <a:stretch/>
        </p:blipFill>
        <p:spPr>
          <a:xfrm>
            <a:off x="0" y="1069920"/>
            <a:ext cx="9144000" cy="57880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"/>
          <p:cNvSpPr/>
          <p:nvPr/>
        </p:nvSpPr>
        <p:spPr>
          <a:xfrm>
            <a:off x="-380880" y="228600"/>
            <a:ext cx="990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ot all EM radiation can penetrate Earth’s atmosphe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em_spectrum_observatories"/>
          <p:cNvPicPr/>
          <p:nvPr/>
        </p:nvPicPr>
        <p:blipFill>
          <a:blip r:embed="rId1"/>
          <a:stretch/>
        </p:blipFill>
        <p:spPr>
          <a:xfrm>
            <a:off x="0" y="990720"/>
            <a:ext cx="9448920" cy="398124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3"/>
          <p:cNvSpPr/>
          <p:nvPr/>
        </p:nvSpPr>
        <p:spPr>
          <a:xfrm>
            <a:off x="380880" y="533412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stronomers use different instruments to look at light of different wavelengths - sometimes, we even have to go above Earth’s atmosphe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38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OFIA - the Stratospheric Observatory for Infrared Astronomy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12" name="Picture 3" descr="sofia"/>
          <p:cNvPicPr/>
          <p:nvPr/>
        </p:nvPicPr>
        <p:blipFill>
          <a:blip r:embed="rId1"/>
          <a:stretch/>
        </p:blipFill>
        <p:spPr>
          <a:xfrm>
            <a:off x="0" y="777960"/>
            <a:ext cx="9372600" cy="5622840"/>
          </a:xfrm>
          <a:prstGeom prst="rect">
            <a:avLst/>
          </a:prstGeom>
          <a:ln w="0">
            <a:noFill/>
          </a:ln>
        </p:spPr>
      </p:pic>
      <p:sp>
        <p:nvSpPr>
          <p:cNvPr id="11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bservations at other wavelengths are revealing previously invisible sights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15" name="Picture 3" descr="F03-34"/>
          <p:cNvPicPr/>
          <p:nvPr/>
        </p:nvPicPr>
        <p:blipFill>
          <a:blip r:embed="rId1"/>
          <a:stretch/>
        </p:blipFill>
        <p:spPr>
          <a:xfrm>
            <a:off x="1981080" y="1219320"/>
            <a:ext cx="5639040" cy="56386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4"/>
          <p:cNvSpPr/>
          <p:nvPr/>
        </p:nvSpPr>
        <p:spPr>
          <a:xfrm>
            <a:off x="838080" y="22860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533520" y="495288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dinary vi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7696080" y="22860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7772400" y="4800600"/>
            <a:ext cx="1066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ap of Orion reg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3" descr="orion_IR"/>
          <p:cNvPicPr/>
          <p:nvPr/>
        </p:nvPicPr>
        <p:blipFill>
          <a:blip r:embed="rId1"/>
          <a:stretch/>
        </p:blipFill>
        <p:spPr>
          <a:xfrm>
            <a:off x="0" y="-304920"/>
            <a:ext cx="9144000" cy="73090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2"/>
          <p:cNvSpPr/>
          <p:nvPr/>
        </p:nvSpPr>
        <p:spPr>
          <a:xfrm>
            <a:off x="228600" y="0"/>
            <a:ext cx="8763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ider Orion in Different Wavelengths of Ligh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do you think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the main purpose of a telescop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do stars twinkl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609480" y="601992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www.cnn.com/2001/LAW/02/20/scotus.heatdetector.01.ap/index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3" descr="Vtherm_IR_scan"/>
          <p:cNvPicPr/>
          <p:nvPr/>
        </p:nvPicPr>
        <p:blipFill>
          <a:blip r:embed="rId1"/>
          <a:stretch/>
        </p:blipFill>
        <p:spPr>
          <a:xfrm>
            <a:off x="838080" y="533520"/>
            <a:ext cx="7315200" cy="5386320"/>
          </a:xfrm>
          <a:prstGeom prst="rect">
            <a:avLst/>
          </a:prstGeom>
          <a:ln w="0">
            <a:noFill/>
          </a:ln>
        </p:spPr>
      </p:pic>
      <p:sp>
        <p:nvSpPr>
          <p:cNvPr id="12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orionnebula_hst"/>
          <p:cNvPicPr/>
          <p:nvPr/>
        </p:nvPicPr>
        <p:blipFill>
          <a:blip r:embed="rId1"/>
          <a:stretch/>
        </p:blipFill>
        <p:spPr>
          <a:xfrm>
            <a:off x="457200" y="685800"/>
            <a:ext cx="8153280" cy="49719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457200" y="5638680"/>
            <a:ext cx="830592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ubble Space Telescope Views of Orion Nebula showing stars hidden in clou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http://oposite.stsci.edu/pubinfo/pr/97/13/A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latest_visible_sun"/>
          <p:cNvPicPr/>
          <p:nvPr/>
        </p:nvPicPr>
        <p:blipFill>
          <a:blip r:embed="rId1"/>
          <a:stretch/>
        </p:blipFill>
        <p:spPr>
          <a:xfrm>
            <a:off x="4700520" y="1523880"/>
            <a:ext cx="4519800" cy="46324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3"/>
          <p:cNvSpPr/>
          <p:nvPr/>
        </p:nvSpPr>
        <p:spPr>
          <a:xfrm>
            <a:off x="228600" y="22860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ODAY’S Sun as seen in visible light from Earth and from space in X-rays by satelli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4" descr="latest_sxt"/>
          <p:cNvPicPr/>
          <p:nvPr/>
        </p:nvPicPr>
        <p:blipFill>
          <a:blip r:embed="rId2"/>
          <a:stretch/>
        </p:blipFill>
        <p:spPr>
          <a:xfrm>
            <a:off x="0" y="2057400"/>
            <a:ext cx="4800600" cy="48006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0" y="6400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solar.physics.montana.edu/tslater/real-time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bservations at wavelengths other than visible light are revealing previously invisible sight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36" name="Picture 3" descr="F03-32"/>
          <p:cNvPicPr/>
          <p:nvPr/>
        </p:nvPicPr>
        <p:blipFill>
          <a:blip r:embed="rId1"/>
          <a:stretch/>
        </p:blipFill>
        <p:spPr>
          <a:xfrm>
            <a:off x="557280" y="1650960"/>
            <a:ext cx="8028000" cy="355608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4"/>
          <p:cNvSpPr/>
          <p:nvPr/>
        </p:nvSpPr>
        <p:spPr>
          <a:xfrm>
            <a:off x="1219320" y="54100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sible light 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5029200" y="54100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dio wavelength 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457200" y="45720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igh Energy Gamma Rays - Compton Gamma Ray Observatory (GRO) Satell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3" descr="gro_spectrum_em"/>
          <p:cNvPicPr/>
          <p:nvPr/>
        </p:nvPicPr>
        <p:blipFill>
          <a:blip r:embed="rId1"/>
          <a:stretch/>
        </p:blipFill>
        <p:spPr>
          <a:xfrm>
            <a:off x="685800" y="838080"/>
            <a:ext cx="7696080" cy="5540400"/>
          </a:xfrm>
          <a:prstGeom prst="rect">
            <a:avLst/>
          </a:prstGeom>
          <a:ln w="0">
            <a:noFill/>
          </a:ln>
        </p:spPr>
      </p:pic>
      <p:sp>
        <p:nvSpPr>
          <p:cNvPr id="142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212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Sky’s emission of Gamma Rays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44" name="Picture 3" descr="gro_sky"/>
          <p:cNvPicPr/>
          <p:nvPr/>
        </p:nvPicPr>
        <p:blipFill>
          <a:blip r:embed="rId1"/>
          <a:stretch/>
        </p:blipFill>
        <p:spPr>
          <a:xfrm>
            <a:off x="457200" y="684360"/>
            <a:ext cx="8305920" cy="5716440"/>
          </a:xfrm>
          <a:prstGeom prst="rect">
            <a:avLst/>
          </a:prstGeom>
          <a:ln w="0">
            <a:noFill/>
          </a:ln>
        </p:spPr>
      </p:pic>
      <p:sp>
        <p:nvSpPr>
          <p:cNvPr id="145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-381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ut, we receive GRBs from every direction !!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47" name="Picture 3" descr="gammaraybursts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480996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4"/>
          <p:cNvSpPr/>
          <p:nvPr/>
        </p:nvSpPr>
        <p:spPr>
          <a:xfrm>
            <a:off x="1066680" y="5334120"/>
            <a:ext cx="701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he fact that GRBs come from every direction imply that GRBs don’t come from our galaxy, but from other galaxies spread in every direction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F03-30"/>
          <p:cNvPicPr/>
          <p:nvPr/>
        </p:nvPicPr>
        <p:blipFill>
          <a:blip r:embed="rId1"/>
          <a:stretch/>
        </p:blipFill>
        <p:spPr>
          <a:xfrm>
            <a:off x="0" y="0"/>
            <a:ext cx="9144000" cy="734364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adio wavelength observations are possible from Earth’s surfac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F03-31"/>
          <p:cNvPicPr/>
          <p:nvPr/>
        </p:nvPicPr>
        <p:blipFill>
          <a:blip r:embed="rId1"/>
          <a:stretch/>
        </p:blipFill>
        <p:spPr>
          <a:xfrm>
            <a:off x="0" y="0"/>
            <a:ext cx="9144000" cy="72198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Very Large Array (VLA) in New Mexico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Different types of EM radiation require different types of telescope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efracting telescope uses a lens to concentrate incoming l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eflecting telescope uses mirrors to concentrate incoming starl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f you pass white light through a prism, it separates into its component colors.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55" name="Picture 3" descr="F03-01A"/>
          <p:cNvPicPr/>
          <p:nvPr/>
        </p:nvPicPr>
        <p:blipFill>
          <a:blip r:embed="rId1"/>
          <a:stretch/>
        </p:blipFill>
        <p:spPr>
          <a:xfrm>
            <a:off x="0" y="2666880"/>
            <a:ext cx="9144000" cy="23590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4"/>
          <p:cNvSpPr/>
          <p:nvPr/>
        </p:nvSpPr>
        <p:spPr>
          <a:xfrm>
            <a:off x="1295280" y="510552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.O.Y. G. B.I.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1371600" y="586728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spectru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Group 9"/>
          <p:cNvGrpSpPr/>
          <p:nvPr/>
        </p:nvGrpSpPr>
        <p:grpSpPr>
          <a:xfrm>
            <a:off x="1219320" y="4800600"/>
            <a:ext cx="7315200" cy="398880"/>
            <a:chOff x="1219320" y="4800600"/>
            <a:chExt cx="7315200" cy="398880"/>
          </a:xfrm>
        </p:grpSpPr>
        <p:sp>
          <p:nvSpPr>
            <p:cNvPr id="59" name="Text Box 6"/>
            <p:cNvSpPr/>
            <p:nvPr/>
          </p:nvSpPr>
          <p:spPr>
            <a:xfrm>
              <a:off x="1219320" y="4800600"/>
              <a:ext cx="236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long wavelength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Text Box 7"/>
            <p:cNvSpPr/>
            <p:nvPr/>
          </p:nvSpPr>
          <p:spPr>
            <a:xfrm>
              <a:off x="6172200" y="4800600"/>
              <a:ext cx="236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short wavelength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8"/>
            <p:cNvSpPr/>
            <p:nvPr/>
          </p:nvSpPr>
          <p:spPr>
            <a:xfrm>
              <a:off x="3276720" y="5029200"/>
              <a:ext cx="28191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Analyzing Spectra:                   The Properties of Light</a:t>
            </a:r>
            <a:endParaRPr b="0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sible Light is one part of the electromagnetic (EM) spectru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 radiation is described as a wave with wavelengths in the range  1x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-15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 to 100 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sible light is only a tiny small part of the entire electromagnetic spectru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ttle bits of light are called phot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viding Light Into a Spectrum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1295280" y="2666880"/>
            <a:ext cx="7010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stronomers separate out light into its individual components using a diffraction grating or using a prism - then they analyze each part independently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Object 2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4724280" cy="3017880"/>
          </a:xfrm>
          <a:prstGeom prst="rect">
            <a:avLst/>
          </a:prstGeom>
          <a:ln w="0">
            <a:noFill/>
          </a:ln>
        </p:spPr>
      </p:pic>
      <p:sp>
        <p:nvSpPr>
          <p:cNvPr id="166" name="AutoShape 3"/>
          <p:cNvSpPr/>
          <p:nvPr/>
        </p:nvSpPr>
        <p:spPr>
          <a:xfrm>
            <a:off x="304920" y="243828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Group 4"/>
          <p:cNvGrpSpPr/>
          <p:nvPr/>
        </p:nvGrpSpPr>
        <p:grpSpPr>
          <a:xfrm>
            <a:off x="4599000" y="1143000"/>
            <a:ext cx="2639880" cy="3844800"/>
            <a:chOff x="4599000" y="1143000"/>
            <a:chExt cx="2639880" cy="3844800"/>
          </a:xfrm>
        </p:grpSpPr>
        <p:sp>
          <p:nvSpPr>
            <p:cNvPr id="168" name="Line 5"/>
            <p:cNvSpPr/>
            <p:nvPr/>
          </p:nvSpPr>
          <p:spPr>
            <a:xfrm flipV="1">
              <a:off x="4599000" y="2784600"/>
              <a:ext cx="1927440" cy="2203200"/>
            </a:xfrm>
            <a:prstGeom prst="line">
              <a:avLst/>
            </a:prstGeom>
            <a:ln w="254160">
              <a:solidFill>
                <a:srgbClr val="3366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9" name="Group 6"/>
            <p:cNvGrpSpPr/>
            <p:nvPr/>
          </p:nvGrpSpPr>
          <p:grpSpPr>
            <a:xfrm>
              <a:off x="5638680" y="1143000"/>
              <a:ext cx="1600200" cy="1600200"/>
              <a:chOff x="5638680" y="1143000"/>
              <a:chExt cx="1600200" cy="1600200"/>
            </a:xfrm>
          </p:grpSpPr>
          <p:sp>
            <p:nvSpPr>
              <p:cNvPr id="170" name="Line 7"/>
              <p:cNvSpPr/>
              <p:nvPr/>
            </p:nvSpPr>
            <p:spPr>
              <a:xfrm>
                <a:off x="6324480" y="1600200"/>
                <a:ext cx="0" cy="114300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Text Box 8"/>
              <p:cNvSpPr/>
              <p:nvPr/>
            </p:nvSpPr>
            <p:spPr>
              <a:xfrm>
                <a:off x="5638680" y="1143000"/>
                <a:ext cx="160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808080"/>
                    </a:solidFill>
                    <a:latin typeface="Times New Roman"/>
                  </a:rPr>
                  <a:t>Filt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2" name="Line 9"/>
          <p:cNvSpPr/>
          <p:nvPr/>
        </p:nvSpPr>
        <p:spPr>
          <a:xfrm>
            <a:off x="5562720" y="3886200"/>
            <a:ext cx="1600200" cy="609480"/>
          </a:xfrm>
          <a:prstGeom prst="line">
            <a:avLst/>
          </a:prstGeom>
          <a:ln w="127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Group 10"/>
          <p:cNvGrpSpPr/>
          <p:nvPr/>
        </p:nvGrpSpPr>
        <p:grpSpPr>
          <a:xfrm>
            <a:off x="7137000" y="2971800"/>
            <a:ext cx="1778400" cy="2195640"/>
            <a:chOff x="7137000" y="2971800"/>
            <a:chExt cx="1778400" cy="2195640"/>
          </a:xfrm>
        </p:grpSpPr>
        <p:grpSp>
          <p:nvGrpSpPr>
            <p:cNvPr id="174" name="Group 11"/>
            <p:cNvGrpSpPr/>
            <p:nvPr/>
          </p:nvGrpSpPr>
          <p:grpSpPr>
            <a:xfrm>
              <a:off x="7137000" y="4357080"/>
              <a:ext cx="1346760" cy="810360"/>
              <a:chOff x="7137000" y="4357080"/>
              <a:chExt cx="1346760" cy="810360"/>
            </a:xfrm>
          </p:grpSpPr>
          <p:sp>
            <p:nvSpPr>
              <p:cNvPr id="175" name="Rectangle 12"/>
              <p:cNvSpPr/>
              <p:nvPr/>
            </p:nvSpPr>
            <p:spPr>
              <a:xfrm rot="1230600">
                <a:off x="7236720" y="4584960"/>
                <a:ext cx="1218960" cy="380880"/>
              </a:xfrm>
              <a:prstGeom prst="rect">
                <a:avLst/>
              </a:prstGeom>
              <a:noFill/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Oval 13"/>
              <p:cNvSpPr/>
              <p:nvPr/>
            </p:nvSpPr>
            <p:spPr>
              <a:xfrm rot="1230600">
                <a:off x="7198920" y="4371480"/>
                <a:ext cx="152280" cy="3808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" name="Group 14"/>
            <p:cNvGrpSpPr/>
            <p:nvPr/>
          </p:nvGrpSpPr>
          <p:grpSpPr>
            <a:xfrm>
              <a:off x="7315200" y="2971800"/>
              <a:ext cx="1600200" cy="1600200"/>
              <a:chOff x="7315200" y="2971800"/>
              <a:chExt cx="1600200" cy="1600200"/>
            </a:xfrm>
          </p:grpSpPr>
          <p:sp>
            <p:nvSpPr>
              <p:cNvPr id="178" name="Line 15"/>
              <p:cNvSpPr/>
              <p:nvPr/>
            </p:nvSpPr>
            <p:spPr>
              <a:xfrm>
                <a:off x="8001000" y="3429000"/>
                <a:ext cx="0" cy="114300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Text Box 16"/>
              <p:cNvSpPr/>
              <p:nvPr/>
            </p:nvSpPr>
            <p:spPr>
              <a:xfrm>
                <a:off x="7315200" y="2971800"/>
                <a:ext cx="160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808080"/>
                    </a:solidFill>
                    <a:latin typeface="Times New Roman"/>
                  </a:rPr>
                  <a:t>Dete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0" name="Text Box 17"/>
          <p:cNvSpPr/>
          <p:nvPr/>
        </p:nvSpPr>
        <p:spPr>
          <a:xfrm rot="1140600">
            <a:off x="7390800" y="457164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8"/>
          <p:cNvSpPr/>
          <p:nvPr/>
        </p:nvSpPr>
        <p:spPr>
          <a:xfrm>
            <a:off x="76320" y="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blue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46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Нижний колонтитул 1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Object 2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4724280" cy="3017880"/>
          </a:xfrm>
          <a:prstGeom prst="rect">
            <a:avLst/>
          </a:prstGeom>
          <a:ln w="0">
            <a:noFill/>
          </a:ln>
        </p:spPr>
      </p:pic>
      <p:sp>
        <p:nvSpPr>
          <p:cNvPr id="184" name="AutoShape 3"/>
          <p:cNvSpPr/>
          <p:nvPr/>
        </p:nvSpPr>
        <p:spPr>
          <a:xfrm>
            <a:off x="304920" y="243828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4"/>
          <p:cNvSpPr/>
          <p:nvPr/>
        </p:nvSpPr>
        <p:spPr>
          <a:xfrm flipV="1">
            <a:off x="4599000" y="2784600"/>
            <a:ext cx="1927440" cy="2203200"/>
          </a:xfrm>
          <a:prstGeom prst="line">
            <a:avLst/>
          </a:prstGeom>
          <a:ln w="254160">
            <a:solidFill>
              <a:srgbClr val="00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Group 5"/>
          <p:cNvGrpSpPr/>
          <p:nvPr/>
        </p:nvGrpSpPr>
        <p:grpSpPr>
          <a:xfrm>
            <a:off x="5638680" y="1143000"/>
            <a:ext cx="1600200" cy="1600200"/>
            <a:chOff x="5638680" y="1143000"/>
            <a:chExt cx="1600200" cy="1600200"/>
          </a:xfrm>
        </p:grpSpPr>
        <p:sp>
          <p:nvSpPr>
            <p:cNvPr id="187" name="Line 6"/>
            <p:cNvSpPr/>
            <p:nvPr/>
          </p:nvSpPr>
          <p:spPr>
            <a:xfrm>
              <a:off x="6324480" y="1600200"/>
              <a:ext cx="0" cy="1143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Text Box 7"/>
            <p:cNvSpPr/>
            <p:nvPr/>
          </p:nvSpPr>
          <p:spPr>
            <a:xfrm>
              <a:off x="5638680" y="11430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Fil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Line 8"/>
          <p:cNvSpPr/>
          <p:nvPr/>
        </p:nvSpPr>
        <p:spPr>
          <a:xfrm>
            <a:off x="5638680" y="3809880"/>
            <a:ext cx="1600200" cy="609840"/>
          </a:xfrm>
          <a:prstGeom prst="line">
            <a:avLst/>
          </a:prstGeom>
          <a:ln w="127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Group 9"/>
          <p:cNvGrpSpPr/>
          <p:nvPr/>
        </p:nvGrpSpPr>
        <p:grpSpPr>
          <a:xfrm>
            <a:off x="7137000" y="2819520"/>
            <a:ext cx="1778400" cy="2245680"/>
            <a:chOff x="7137000" y="2819520"/>
            <a:chExt cx="1778400" cy="2245680"/>
          </a:xfrm>
        </p:grpSpPr>
        <p:grpSp>
          <p:nvGrpSpPr>
            <p:cNvPr id="191" name="Group 10"/>
            <p:cNvGrpSpPr/>
            <p:nvPr/>
          </p:nvGrpSpPr>
          <p:grpSpPr>
            <a:xfrm>
              <a:off x="7137000" y="2819520"/>
              <a:ext cx="1778400" cy="2195640"/>
              <a:chOff x="7137000" y="2819520"/>
              <a:chExt cx="1778400" cy="2195640"/>
            </a:xfrm>
          </p:grpSpPr>
          <p:grpSp>
            <p:nvGrpSpPr>
              <p:cNvPr id="192" name="Group 11"/>
              <p:cNvGrpSpPr/>
              <p:nvPr/>
            </p:nvGrpSpPr>
            <p:grpSpPr>
              <a:xfrm>
                <a:off x="7137000" y="4204800"/>
                <a:ext cx="1346760" cy="810360"/>
                <a:chOff x="7137000" y="4204800"/>
                <a:chExt cx="1346760" cy="810360"/>
              </a:xfrm>
            </p:grpSpPr>
            <p:sp>
              <p:nvSpPr>
                <p:cNvPr id="193" name="Rectangle 12"/>
                <p:cNvSpPr/>
                <p:nvPr/>
              </p:nvSpPr>
              <p:spPr>
                <a:xfrm rot="1230600">
                  <a:off x="7236720" y="4432680"/>
                  <a:ext cx="1218960" cy="380880"/>
                </a:xfrm>
                <a:prstGeom prst="rect">
                  <a:avLst/>
                </a:prstGeom>
                <a:noFill/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Oval 13"/>
                <p:cNvSpPr/>
                <p:nvPr/>
              </p:nvSpPr>
              <p:spPr>
                <a:xfrm rot="1230600">
                  <a:off x="7198920" y="4219200"/>
                  <a:ext cx="152280" cy="3808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Group 14"/>
              <p:cNvGrpSpPr/>
              <p:nvPr/>
            </p:nvGrpSpPr>
            <p:grpSpPr>
              <a:xfrm>
                <a:off x="7315200" y="2819520"/>
                <a:ext cx="1600200" cy="1600200"/>
                <a:chOff x="7315200" y="2819520"/>
                <a:chExt cx="1600200" cy="1600200"/>
              </a:xfrm>
            </p:grpSpPr>
            <p:sp>
              <p:nvSpPr>
                <p:cNvPr id="196" name="Line 15"/>
                <p:cNvSpPr/>
                <p:nvPr/>
              </p:nvSpPr>
              <p:spPr>
                <a:xfrm>
                  <a:off x="8001000" y="3276720"/>
                  <a:ext cx="0" cy="114300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Text Box 16"/>
                <p:cNvSpPr/>
                <p:nvPr/>
              </p:nvSpPr>
              <p:spPr>
                <a:xfrm>
                  <a:off x="7315200" y="2819520"/>
                  <a:ext cx="160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808080"/>
                      </a:solidFill>
                      <a:latin typeface="Times New Roman"/>
                    </a:rPr>
                    <a:t>Detecto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8" name="Text Box 17"/>
            <p:cNvSpPr/>
            <p:nvPr/>
          </p:nvSpPr>
          <p:spPr>
            <a:xfrm rot="1140600">
              <a:off x="7390800" y="441936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8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Text Box 18"/>
          <p:cNvSpPr/>
          <p:nvPr/>
        </p:nvSpPr>
        <p:spPr>
          <a:xfrm>
            <a:off x="76320" y="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blue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46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9"/>
          <p:cNvSpPr/>
          <p:nvPr/>
        </p:nvSpPr>
        <p:spPr>
          <a:xfrm>
            <a:off x="76320" y="3808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green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53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Нижний колонтитул 1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Object 2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4724280" cy="3017880"/>
          </a:xfrm>
          <a:prstGeom prst="rect">
            <a:avLst/>
          </a:prstGeom>
          <a:ln w="0">
            <a:noFill/>
          </a:ln>
        </p:spPr>
      </p:pic>
      <p:sp>
        <p:nvSpPr>
          <p:cNvPr id="203" name="AutoShape 3"/>
          <p:cNvSpPr/>
          <p:nvPr/>
        </p:nvSpPr>
        <p:spPr>
          <a:xfrm>
            <a:off x="304920" y="243828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4"/>
          <p:cNvSpPr/>
          <p:nvPr/>
        </p:nvSpPr>
        <p:spPr>
          <a:xfrm flipV="1">
            <a:off x="4599000" y="2784600"/>
            <a:ext cx="1927440" cy="2203200"/>
          </a:xfrm>
          <a:prstGeom prst="line">
            <a:avLst/>
          </a:prstGeom>
          <a:ln w="254160">
            <a:solidFill>
              <a:srgbClr val="ff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Group 5"/>
          <p:cNvGrpSpPr/>
          <p:nvPr/>
        </p:nvGrpSpPr>
        <p:grpSpPr>
          <a:xfrm>
            <a:off x="5638680" y="1143000"/>
            <a:ext cx="1600200" cy="1600200"/>
            <a:chOff x="5638680" y="1143000"/>
            <a:chExt cx="1600200" cy="1600200"/>
          </a:xfrm>
        </p:grpSpPr>
        <p:sp>
          <p:nvSpPr>
            <p:cNvPr id="206" name="Line 6"/>
            <p:cNvSpPr/>
            <p:nvPr/>
          </p:nvSpPr>
          <p:spPr>
            <a:xfrm>
              <a:off x="6324480" y="1600200"/>
              <a:ext cx="0" cy="1143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Text Box 7"/>
            <p:cNvSpPr/>
            <p:nvPr/>
          </p:nvSpPr>
          <p:spPr>
            <a:xfrm>
              <a:off x="5638680" y="11430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Fil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Line 8"/>
          <p:cNvSpPr/>
          <p:nvPr/>
        </p:nvSpPr>
        <p:spPr>
          <a:xfrm>
            <a:off x="5715000" y="3657600"/>
            <a:ext cx="1600200" cy="609480"/>
          </a:xfrm>
          <a:prstGeom prst="line">
            <a:avLst/>
          </a:prstGeom>
          <a:ln w="127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Group 9"/>
          <p:cNvGrpSpPr/>
          <p:nvPr/>
        </p:nvGrpSpPr>
        <p:grpSpPr>
          <a:xfrm>
            <a:off x="7137000" y="2666880"/>
            <a:ext cx="1778400" cy="2245680"/>
            <a:chOff x="7137000" y="2666880"/>
            <a:chExt cx="1778400" cy="2245680"/>
          </a:xfrm>
        </p:grpSpPr>
        <p:grpSp>
          <p:nvGrpSpPr>
            <p:cNvPr id="210" name="Group 10"/>
            <p:cNvGrpSpPr/>
            <p:nvPr/>
          </p:nvGrpSpPr>
          <p:grpSpPr>
            <a:xfrm>
              <a:off x="7137000" y="2666880"/>
              <a:ext cx="1778400" cy="2195640"/>
              <a:chOff x="7137000" y="2666880"/>
              <a:chExt cx="1778400" cy="2195640"/>
            </a:xfrm>
          </p:grpSpPr>
          <p:grpSp>
            <p:nvGrpSpPr>
              <p:cNvPr id="211" name="Group 11"/>
              <p:cNvGrpSpPr/>
              <p:nvPr/>
            </p:nvGrpSpPr>
            <p:grpSpPr>
              <a:xfrm>
                <a:off x="7137000" y="4052160"/>
                <a:ext cx="1346760" cy="810360"/>
                <a:chOff x="7137000" y="4052160"/>
                <a:chExt cx="1346760" cy="810360"/>
              </a:xfrm>
            </p:grpSpPr>
            <p:sp>
              <p:nvSpPr>
                <p:cNvPr id="212" name="Rectangle 12"/>
                <p:cNvSpPr/>
                <p:nvPr/>
              </p:nvSpPr>
              <p:spPr>
                <a:xfrm rot="1230600">
                  <a:off x="7236720" y="4280040"/>
                  <a:ext cx="1218960" cy="380880"/>
                </a:xfrm>
                <a:prstGeom prst="rect">
                  <a:avLst/>
                </a:prstGeom>
                <a:noFill/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Oval 13"/>
                <p:cNvSpPr/>
                <p:nvPr/>
              </p:nvSpPr>
              <p:spPr>
                <a:xfrm rot="1230600">
                  <a:off x="7198920" y="4066560"/>
                  <a:ext cx="152280" cy="3808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Group 14"/>
              <p:cNvGrpSpPr/>
              <p:nvPr/>
            </p:nvGrpSpPr>
            <p:grpSpPr>
              <a:xfrm>
                <a:off x="7315200" y="2666880"/>
                <a:ext cx="1600200" cy="1600200"/>
                <a:chOff x="7315200" y="2666880"/>
                <a:chExt cx="1600200" cy="1600200"/>
              </a:xfrm>
            </p:grpSpPr>
            <p:sp>
              <p:nvSpPr>
                <p:cNvPr id="215" name="Line 15"/>
                <p:cNvSpPr/>
                <p:nvPr/>
              </p:nvSpPr>
              <p:spPr>
                <a:xfrm>
                  <a:off x="8001000" y="3124080"/>
                  <a:ext cx="0" cy="114300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Text Box 16"/>
                <p:cNvSpPr/>
                <p:nvPr/>
              </p:nvSpPr>
              <p:spPr>
                <a:xfrm>
                  <a:off x="7315200" y="2666880"/>
                  <a:ext cx="160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808080"/>
                      </a:solidFill>
                      <a:latin typeface="Times New Roman"/>
                    </a:rPr>
                    <a:t>Detecto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7" name="Text Box 17"/>
            <p:cNvSpPr/>
            <p:nvPr/>
          </p:nvSpPr>
          <p:spPr>
            <a:xfrm rot="1140600">
              <a:off x="7390800" y="42667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8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Text Box 18"/>
          <p:cNvSpPr/>
          <p:nvPr/>
        </p:nvSpPr>
        <p:spPr>
          <a:xfrm>
            <a:off x="76320" y="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blue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46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76320" y="3808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green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53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76320" y="7621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yellow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58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Нижний колонтитул 2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Object 2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4724280" cy="3017880"/>
          </a:xfrm>
          <a:prstGeom prst="rect">
            <a:avLst/>
          </a:prstGeom>
          <a:ln w="0">
            <a:noFill/>
          </a:ln>
        </p:spPr>
      </p:pic>
      <p:sp>
        <p:nvSpPr>
          <p:cNvPr id="223" name="AutoShape 3"/>
          <p:cNvSpPr/>
          <p:nvPr/>
        </p:nvSpPr>
        <p:spPr>
          <a:xfrm>
            <a:off x="304920" y="243828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4"/>
          <p:cNvSpPr/>
          <p:nvPr/>
        </p:nvSpPr>
        <p:spPr>
          <a:xfrm flipV="1">
            <a:off x="4599000" y="2784600"/>
            <a:ext cx="1927440" cy="2203200"/>
          </a:xfrm>
          <a:prstGeom prst="line">
            <a:avLst/>
          </a:prstGeom>
          <a:ln w="254160">
            <a:solidFill>
              <a:srgbClr val="ff9933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Group 5"/>
          <p:cNvGrpSpPr/>
          <p:nvPr/>
        </p:nvGrpSpPr>
        <p:grpSpPr>
          <a:xfrm>
            <a:off x="5638680" y="1143000"/>
            <a:ext cx="1600200" cy="1600200"/>
            <a:chOff x="5638680" y="1143000"/>
            <a:chExt cx="1600200" cy="1600200"/>
          </a:xfrm>
        </p:grpSpPr>
        <p:sp>
          <p:nvSpPr>
            <p:cNvPr id="226" name="Line 6"/>
            <p:cNvSpPr/>
            <p:nvPr/>
          </p:nvSpPr>
          <p:spPr>
            <a:xfrm>
              <a:off x="6324480" y="1600200"/>
              <a:ext cx="0" cy="1143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Text Box 7"/>
            <p:cNvSpPr/>
            <p:nvPr/>
          </p:nvSpPr>
          <p:spPr>
            <a:xfrm>
              <a:off x="5638680" y="11430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Fil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Line 8"/>
          <p:cNvSpPr/>
          <p:nvPr/>
        </p:nvSpPr>
        <p:spPr>
          <a:xfrm>
            <a:off x="5791320" y="3581280"/>
            <a:ext cx="1600200" cy="609840"/>
          </a:xfrm>
          <a:prstGeom prst="line">
            <a:avLst/>
          </a:prstGeom>
          <a:ln w="127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Group 9"/>
          <p:cNvGrpSpPr/>
          <p:nvPr/>
        </p:nvGrpSpPr>
        <p:grpSpPr>
          <a:xfrm>
            <a:off x="7212960" y="2590920"/>
            <a:ext cx="1778400" cy="2245680"/>
            <a:chOff x="7212960" y="2590920"/>
            <a:chExt cx="1778400" cy="2245680"/>
          </a:xfrm>
        </p:grpSpPr>
        <p:grpSp>
          <p:nvGrpSpPr>
            <p:cNvPr id="230" name="Group 10"/>
            <p:cNvGrpSpPr/>
            <p:nvPr/>
          </p:nvGrpSpPr>
          <p:grpSpPr>
            <a:xfrm>
              <a:off x="7212960" y="2590920"/>
              <a:ext cx="1778400" cy="2195640"/>
              <a:chOff x="7212960" y="2590920"/>
              <a:chExt cx="1778400" cy="2195640"/>
            </a:xfrm>
          </p:grpSpPr>
          <p:grpSp>
            <p:nvGrpSpPr>
              <p:cNvPr id="231" name="Group 11"/>
              <p:cNvGrpSpPr/>
              <p:nvPr/>
            </p:nvGrpSpPr>
            <p:grpSpPr>
              <a:xfrm>
                <a:off x="7212960" y="3976200"/>
                <a:ext cx="1346760" cy="810360"/>
                <a:chOff x="7212960" y="3976200"/>
                <a:chExt cx="1346760" cy="810360"/>
              </a:xfrm>
            </p:grpSpPr>
            <p:sp>
              <p:nvSpPr>
                <p:cNvPr id="232" name="Rectangle 12"/>
                <p:cNvSpPr/>
                <p:nvPr/>
              </p:nvSpPr>
              <p:spPr>
                <a:xfrm rot="1230600">
                  <a:off x="7312680" y="4204080"/>
                  <a:ext cx="1218960" cy="380880"/>
                </a:xfrm>
                <a:prstGeom prst="rect">
                  <a:avLst/>
                </a:prstGeom>
                <a:noFill/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Oval 13"/>
                <p:cNvSpPr/>
                <p:nvPr/>
              </p:nvSpPr>
              <p:spPr>
                <a:xfrm rot="1230600">
                  <a:off x="7274880" y="3990600"/>
                  <a:ext cx="152280" cy="3808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Group 14"/>
              <p:cNvGrpSpPr/>
              <p:nvPr/>
            </p:nvGrpSpPr>
            <p:grpSpPr>
              <a:xfrm>
                <a:off x="7391160" y="2590920"/>
                <a:ext cx="1600200" cy="1600200"/>
                <a:chOff x="7391160" y="2590920"/>
                <a:chExt cx="1600200" cy="1600200"/>
              </a:xfrm>
            </p:grpSpPr>
            <p:sp>
              <p:nvSpPr>
                <p:cNvPr id="235" name="Line 15"/>
                <p:cNvSpPr/>
                <p:nvPr/>
              </p:nvSpPr>
              <p:spPr>
                <a:xfrm>
                  <a:off x="8076960" y="3048120"/>
                  <a:ext cx="0" cy="114300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Text Box 16"/>
                <p:cNvSpPr/>
                <p:nvPr/>
              </p:nvSpPr>
              <p:spPr>
                <a:xfrm>
                  <a:off x="7391160" y="2590920"/>
                  <a:ext cx="160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808080"/>
                      </a:solidFill>
                      <a:latin typeface="Times New Roman"/>
                    </a:rPr>
                    <a:t>Detecto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7" name="Text Box 17"/>
            <p:cNvSpPr/>
            <p:nvPr/>
          </p:nvSpPr>
          <p:spPr>
            <a:xfrm rot="1140600">
              <a:off x="7466760" y="419076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7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Text Box 18"/>
          <p:cNvSpPr/>
          <p:nvPr/>
        </p:nvSpPr>
        <p:spPr>
          <a:xfrm>
            <a:off x="76320" y="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blue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46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19"/>
          <p:cNvSpPr/>
          <p:nvPr/>
        </p:nvSpPr>
        <p:spPr>
          <a:xfrm>
            <a:off x="76320" y="3808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green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53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20"/>
          <p:cNvSpPr/>
          <p:nvPr/>
        </p:nvSpPr>
        <p:spPr>
          <a:xfrm>
            <a:off x="76320" y="7621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yellow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58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21"/>
          <p:cNvSpPr/>
          <p:nvPr/>
        </p:nvSpPr>
        <p:spPr>
          <a:xfrm>
            <a:off x="76320" y="11430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orange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61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Нижний колонтитул 2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Object 2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4724280" cy="3017880"/>
          </a:xfrm>
          <a:prstGeom prst="rect">
            <a:avLst/>
          </a:prstGeom>
          <a:ln w="0">
            <a:noFill/>
          </a:ln>
        </p:spPr>
      </p:pic>
      <p:sp>
        <p:nvSpPr>
          <p:cNvPr id="244" name="AutoShape 3"/>
          <p:cNvSpPr/>
          <p:nvPr/>
        </p:nvSpPr>
        <p:spPr>
          <a:xfrm>
            <a:off x="304920" y="243828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4"/>
          <p:cNvSpPr/>
          <p:nvPr/>
        </p:nvSpPr>
        <p:spPr>
          <a:xfrm flipV="1">
            <a:off x="4599000" y="2784600"/>
            <a:ext cx="1927440" cy="2203200"/>
          </a:xfrm>
          <a:prstGeom prst="line">
            <a:avLst/>
          </a:prstGeom>
          <a:ln w="254160">
            <a:solidFill>
              <a:srgbClr val="ff3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Group 5"/>
          <p:cNvGrpSpPr/>
          <p:nvPr/>
        </p:nvGrpSpPr>
        <p:grpSpPr>
          <a:xfrm>
            <a:off x="5638680" y="1143000"/>
            <a:ext cx="1600200" cy="1600200"/>
            <a:chOff x="5638680" y="1143000"/>
            <a:chExt cx="1600200" cy="1600200"/>
          </a:xfrm>
        </p:grpSpPr>
        <p:sp>
          <p:nvSpPr>
            <p:cNvPr id="247" name="Line 6"/>
            <p:cNvSpPr/>
            <p:nvPr/>
          </p:nvSpPr>
          <p:spPr>
            <a:xfrm>
              <a:off x="6324480" y="1600200"/>
              <a:ext cx="0" cy="1143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Text Box 7"/>
            <p:cNvSpPr/>
            <p:nvPr/>
          </p:nvSpPr>
          <p:spPr>
            <a:xfrm>
              <a:off x="5638680" y="11430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Fil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" name="Line 8"/>
          <p:cNvSpPr/>
          <p:nvPr/>
        </p:nvSpPr>
        <p:spPr>
          <a:xfrm>
            <a:off x="5867280" y="3429000"/>
            <a:ext cx="1600200" cy="609480"/>
          </a:xfrm>
          <a:prstGeom prst="line">
            <a:avLst/>
          </a:prstGeom>
          <a:ln w="127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Group 9"/>
          <p:cNvGrpSpPr/>
          <p:nvPr/>
        </p:nvGrpSpPr>
        <p:grpSpPr>
          <a:xfrm>
            <a:off x="7365600" y="2438280"/>
            <a:ext cx="1778400" cy="2245680"/>
            <a:chOff x="7365600" y="2438280"/>
            <a:chExt cx="1778400" cy="2245680"/>
          </a:xfrm>
        </p:grpSpPr>
        <p:grpSp>
          <p:nvGrpSpPr>
            <p:cNvPr id="251" name="Group 10"/>
            <p:cNvGrpSpPr/>
            <p:nvPr/>
          </p:nvGrpSpPr>
          <p:grpSpPr>
            <a:xfrm>
              <a:off x="7365600" y="2438280"/>
              <a:ext cx="1778400" cy="2195640"/>
              <a:chOff x="7365600" y="2438280"/>
              <a:chExt cx="1778400" cy="2195640"/>
            </a:xfrm>
          </p:grpSpPr>
          <p:grpSp>
            <p:nvGrpSpPr>
              <p:cNvPr id="252" name="Group 11"/>
              <p:cNvGrpSpPr/>
              <p:nvPr/>
            </p:nvGrpSpPr>
            <p:grpSpPr>
              <a:xfrm>
                <a:off x="7365600" y="3823560"/>
                <a:ext cx="1346760" cy="810360"/>
                <a:chOff x="7365600" y="3823560"/>
                <a:chExt cx="1346760" cy="810360"/>
              </a:xfrm>
            </p:grpSpPr>
            <p:sp>
              <p:nvSpPr>
                <p:cNvPr id="253" name="Rectangle 12"/>
                <p:cNvSpPr/>
                <p:nvPr/>
              </p:nvSpPr>
              <p:spPr>
                <a:xfrm rot="1230600">
                  <a:off x="7465320" y="4051440"/>
                  <a:ext cx="1218960" cy="380880"/>
                </a:xfrm>
                <a:prstGeom prst="rect">
                  <a:avLst/>
                </a:prstGeom>
                <a:noFill/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Oval 13"/>
                <p:cNvSpPr/>
                <p:nvPr/>
              </p:nvSpPr>
              <p:spPr>
                <a:xfrm rot="1230600">
                  <a:off x="7427520" y="3837960"/>
                  <a:ext cx="152280" cy="3808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Group 14"/>
              <p:cNvGrpSpPr/>
              <p:nvPr/>
            </p:nvGrpSpPr>
            <p:grpSpPr>
              <a:xfrm>
                <a:off x="7543800" y="2438280"/>
                <a:ext cx="1600200" cy="1600200"/>
                <a:chOff x="7543800" y="2438280"/>
                <a:chExt cx="1600200" cy="1600200"/>
              </a:xfrm>
            </p:grpSpPr>
            <p:sp>
              <p:nvSpPr>
                <p:cNvPr id="256" name="Line 15"/>
                <p:cNvSpPr/>
                <p:nvPr/>
              </p:nvSpPr>
              <p:spPr>
                <a:xfrm>
                  <a:off x="8229600" y="2895480"/>
                  <a:ext cx="0" cy="114300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Text Box 16"/>
                <p:cNvSpPr/>
                <p:nvPr/>
              </p:nvSpPr>
              <p:spPr>
                <a:xfrm>
                  <a:off x="7543800" y="2438280"/>
                  <a:ext cx="160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808080"/>
                      </a:solidFill>
                      <a:latin typeface="Times New Roman"/>
                    </a:rPr>
                    <a:t>Detecto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8" name="Text Box 17"/>
            <p:cNvSpPr/>
            <p:nvPr/>
          </p:nvSpPr>
          <p:spPr>
            <a:xfrm rot="1140600">
              <a:off x="7619400" y="4038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7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Text Box 18"/>
          <p:cNvSpPr/>
          <p:nvPr/>
        </p:nvSpPr>
        <p:spPr>
          <a:xfrm>
            <a:off x="76320" y="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blue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46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19"/>
          <p:cNvSpPr/>
          <p:nvPr/>
        </p:nvSpPr>
        <p:spPr>
          <a:xfrm>
            <a:off x="76320" y="3808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green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53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20"/>
          <p:cNvSpPr/>
          <p:nvPr/>
        </p:nvSpPr>
        <p:spPr>
          <a:xfrm>
            <a:off x="76320" y="7621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yellow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58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21"/>
          <p:cNvSpPr/>
          <p:nvPr/>
        </p:nvSpPr>
        <p:spPr>
          <a:xfrm>
            <a:off x="76320" y="11430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orange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61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22"/>
          <p:cNvSpPr/>
          <p:nvPr/>
        </p:nvSpPr>
        <p:spPr>
          <a:xfrm>
            <a:off x="76320" y="15238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red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66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23"/>
          <p:cNvSpPr/>
          <p:nvPr/>
        </p:nvSpPr>
        <p:spPr>
          <a:xfrm>
            <a:off x="4648320" y="22860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8080"/>
                </a:solidFill>
                <a:latin typeface="Times New Roman"/>
              </a:rPr>
              <a:t>The spectrum is continu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Group 24"/>
          <p:cNvGrpSpPr/>
          <p:nvPr/>
        </p:nvGrpSpPr>
        <p:grpSpPr>
          <a:xfrm>
            <a:off x="1295280" y="6400800"/>
            <a:ext cx="762120" cy="304920"/>
            <a:chOff x="1295280" y="6400800"/>
            <a:chExt cx="762120" cy="304920"/>
          </a:xfrm>
        </p:grpSpPr>
        <p:sp>
          <p:nvSpPr>
            <p:cNvPr id="266" name="Rectangle 25"/>
            <p:cNvSpPr/>
            <p:nvPr/>
          </p:nvSpPr>
          <p:spPr>
            <a:xfrm>
              <a:off x="1600200" y="6400800"/>
              <a:ext cx="152280" cy="304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Rectangle 26"/>
            <p:cNvSpPr/>
            <p:nvPr/>
          </p:nvSpPr>
          <p:spPr>
            <a:xfrm>
              <a:off x="1752480" y="6400800"/>
              <a:ext cx="152640" cy="30492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Rectangle 27"/>
            <p:cNvSpPr/>
            <p:nvPr/>
          </p:nvSpPr>
          <p:spPr>
            <a:xfrm>
              <a:off x="1905120" y="6400800"/>
              <a:ext cx="152280" cy="30492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Rectangle 28"/>
            <p:cNvSpPr/>
            <p:nvPr/>
          </p:nvSpPr>
          <p:spPr>
            <a:xfrm>
              <a:off x="1447920" y="6400800"/>
              <a:ext cx="152280" cy="3049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Rectangle 29"/>
            <p:cNvSpPr/>
            <p:nvPr/>
          </p:nvSpPr>
          <p:spPr>
            <a:xfrm>
              <a:off x="1295280" y="6400800"/>
              <a:ext cx="152640" cy="30492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Group 30"/>
          <p:cNvGrpSpPr/>
          <p:nvPr/>
        </p:nvGrpSpPr>
        <p:grpSpPr>
          <a:xfrm>
            <a:off x="228240" y="4229280"/>
            <a:ext cx="3048480" cy="2476080"/>
            <a:chOff x="228240" y="4229280"/>
            <a:chExt cx="3048480" cy="2476080"/>
          </a:xfrm>
        </p:grpSpPr>
        <p:sp>
          <p:nvSpPr>
            <p:cNvPr id="272" name="Line 31"/>
            <p:cNvSpPr/>
            <p:nvPr/>
          </p:nvSpPr>
          <p:spPr>
            <a:xfrm>
              <a:off x="228600" y="4229280"/>
              <a:ext cx="0" cy="247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32"/>
            <p:cNvSpPr/>
            <p:nvPr/>
          </p:nvSpPr>
          <p:spPr>
            <a:xfrm>
              <a:off x="228600" y="6703200"/>
              <a:ext cx="304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4" name="Group 33"/>
            <p:cNvGrpSpPr/>
            <p:nvPr/>
          </p:nvGrpSpPr>
          <p:grpSpPr>
            <a:xfrm>
              <a:off x="576720" y="6592320"/>
              <a:ext cx="2665440" cy="113040"/>
              <a:chOff x="576720" y="6592320"/>
              <a:chExt cx="2665440" cy="113040"/>
            </a:xfrm>
          </p:grpSpPr>
          <p:sp>
            <p:nvSpPr>
              <p:cNvPr id="275" name="Line 34"/>
              <p:cNvSpPr/>
              <p:nvPr/>
            </p:nvSpPr>
            <p:spPr>
              <a:xfrm>
                <a:off x="57672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Line 35"/>
              <p:cNvSpPr/>
              <p:nvPr/>
            </p:nvSpPr>
            <p:spPr>
              <a:xfrm>
                <a:off x="124344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Line 36"/>
              <p:cNvSpPr/>
              <p:nvPr/>
            </p:nvSpPr>
            <p:spPr>
              <a:xfrm>
                <a:off x="224280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Line 37"/>
              <p:cNvSpPr/>
              <p:nvPr/>
            </p:nvSpPr>
            <p:spPr>
              <a:xfrm>
                <a:off x="90972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Line 38"/>
              <p:cNvSpPr/>
              <p:nvPr/>
            </p:nvSpPr>
            <p:spPr>
              <a:xfrm>
                <a:off x="190908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Line 39"/>
              <p:cNvSpPr/>
              <p:nvPr/>
            </p:nvSpPr>
            <p:spPr>
              <a:xfrm>
                <a:off x="290844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Line 40"/>
              <p:cNvSpPr/>
              <p:nvPr/>
            </p:nvSpPr>
            <p:spPr>
              <a:xfrm>
                <a:off x="257544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Line 41"/>
              <p:cNvSpPr/>
              <p:nvPr/>
            </p:nvSpPr>
            <p:spPr>
              <a:xfrm>
                <a:off x="324216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Line 42"/>
              <p:cNvSpPr/>
              <p:nvPr/>
            </p:nvSpPr>
            <p:spPr>
              <a:xfrm>
                <a:off x="157608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4" name="Line 43"/>
            <p:cNvSpPr/>
            <p:nvPr/>
          </p:nvSpPr>
          <p:spPr>
            <a:xfrm flipH="1">
              <a:off x="228240" y="461988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44"/>
            <p:cNvSpPr/>
            <p:nvPr/>
          </p:nvSpPr>
          <p:spPr>
            <a:xfrm flipH="1">
              <a:off x="228240" y="591552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45"/>
            <p:cNvSpPr/>
            <p:nvPr/>
          </p:nvSpPr>
          <p:spPr>
            <a:xfrm flipH="1">
              <a:off x="228240" y="435924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46"/>
            <p:cNvSpPr/>
            <p:nvPr/>
          </p:nvSpPr>
          <p:spPr>
            <a:xfrm flipH="1">
              <a:off x="228240" y="565740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47"/>
            <p:cNvSpPr/>
            <p:nvPr/>
          </p:nvSpPr>
          <p:spPr>
            <a:xfrm flipH="1">
              <a:off x="228240" y="643536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Line 48"/>
            <p:cNvSpPr/>
            <p:nvPr/>
          </p:nvSpPr>
          <p:spPr>
            <a:xfrm flipH="1">
              <a:off x="228240" y="617472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Line 49"/>
            <p:cNvSpPr/>
            <p:nvPr/>
          </p:nvSpPr>
          <p:spPr>
            <a:xfrm flipH="1">
              <a:off x="228240" y="513756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Line 50"/>
            <p:cNvSpPr/>
            <p:nvPr/>
          </p:nvSpPr>
          <p:spPr>
            <a:xfrm flipH="1">
              <a:off x="228240" y="487692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Line 51"/>
            <p:cNvSpPr/>
            <p:nvPr/>
          </p:nvSpPr>
          <p:spPr>
            <a:xfrm flipH="1">
              <a:off x="228600" y="5424840"/>
              <a:ext cx="10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Freeform 52"/>
            <p:cNvSpPr/>
            <p:nvPr/>
          </p:nvSpPr>
          <p:spPr>
            <a:xfrm>
              <a:off x="740880" y="4474080"/>
              <a:ext cx="2126160" cy="1784520"/>
            </a:xfrm>
            <a:custGeom>
              <a:avLst/>
              <a:gdLst>
                <a:gd name="textAreaLeft" fmla="*/ 0 w 2126160"/>
                <a:gd name="textAreaRight" fmla="*/ 2126520 w 2126160"/>
                <a:gd name="textAreaTop" fmla="*/ 0 h 1784520"/>
                <a:gd name="textAreaBottom" fmla="*/ 1784880 h 1784520"/>
              </a:gdLst>
              <a:ahLst/>
              <a:rect l="textAreaLeft" t="textAreaTop" r="textAreaRight" b="textAreaBottom"/>
              <a:pathLst>
                <a:path w="2454" h="2061">
                  <a:moveTo>
                    <a:pt x="0" y="2061"/>
                  </a:moveTo>
                  <a:cubicBezTo>
                    <a:pt x="112" y="1777"/>
                    <a:pt x="224" y="1493"/>
                    <a:pt x="345" y="1186"/>
                  </a:cubicBezTo>
                  <a:cubicBezTo>
                    <a:pt x="466" y="879"/>
                    <a:pt x="595" y="414"/>
                    <a:pt x="726" y="218"/>
                  </a:cubicBezTo>
                  <a:cubicBezTo>
                    <a:pt x="857" y="22"/>
                    <a:pt x="1020" y="22"/>
                    <a:pt x="1129" y="11"/>
                  </a:cubicBezTo>
                  <a:cubicBezTo>
                    <a:pt x="1238" y="0"/>
                    <a:pt x="1303" y="95"/>
                    <a:pt x="1382" y="149"/>
                  </a:cubicBezTo>
                  <a:cubicBezTo>
                    <a:pt x="1461" y="203"/>
                    <a:pt x="1497" y="247"/>
                    <a:pt x="1601" y="333"/>
                  </a:cubicBezTo>
                  <a:cubicBezTo>
                    <a:pt x="1705" y="419"/>
                    <a:pt x="1862" y="539"/>
                    <a:pt x="2004" y="668"/>
                  </a:cubicBezTo>
                  <a:cubicBezTo>
                    <a:pt x="2146" y="797"/>
                    <a:pt x="2371" y="1025"/>
                    <a:pt x="2454" y="1105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Group 53"/>
          <p:cNvGrpSpPr/>
          <p:nvPr/>
        </p:nvGrpSpPr>
        <p:grpSpPr>
          <a:xfrm>
            <a:off x="533520" y="6172200"/>
            <a:ext cx="2743200" cy="459720"/>
            <a:chOff x="533520" y="6172200"/>
            <a:chExt cx="2743200" cy="459720"/>
          </a:xfrm>
        </p:grpSpPr>
        <p:sp>
          <p:nvSpPr>
            <p:cNvPr id="295" name="Text Box 54"/>
            <p:cNvSpPr/>
            <p:nvPr/>
          </p:nvSpPr>
          <p:spPr>
            <a:xfrm>
              <a:off x="533520" y="61722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U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Text Box 55"/>
            <p:cNvSpPr/>
            <p:nvPr/>
          </p:nvSpPr>
          <p:spPr>
            <a:xfrm>
              <a:off x="2362320" y="61722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I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Нижний колонтитул 5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967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Spectra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ost light sources contain energy in lots of different wavelength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 can measure the brightness in various wavelength bands--the result is called the spectru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spectrum (total character of light emitted) can tell us a lot about a sourc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2" descr="polar_colours"/>
          <p:cNvPicPr/>
          <p:nvPr/>
        </p:nvPicPr>
        <p:blipFill>
          <a:blip r:embed="rId1"/>
          <a:stretch/>
        </p:blipFill>
        <p:spPr>
          <a:xfrm>
            <a:off x="1523880" y="0"/>
            <a:ext cx="588024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327672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refracting telescope uses a lens to concentrate incoming ligh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304" name="Picture 4" descr="F03-08"/>
          <p:cNvPicPr/>
          <p:nvPr/>
        </p:nvPicPr>
        <p:blipFill>
          <a:blip r:embed="rId1"/>
          <a:stretch/>
        </p:blipFill>
        <p:spPr>
          <a:xfrm>
            <a:off x="4246560" y="0"/>
            <a:ext cx="48974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05" name="Group 8"/>
          <p:cNvGrpSpPr/>
          <p:nvPr/>
        </p:nvGrpSpPr>
        <p:grpSpPr>
          <a:xfrm>
            <a:off x="0" y="4572000"/>
            <a:ext cx="4038480" cy="2286000"/>
            <a:chOff x="0" y="4572000"/>
            <a:chExt cx="4038480" cy="2286000"/>
          </a:xfrm>
        </p:grpSpPr>
        <p:pic>
          <p:nvPicPr>
            <p:cNvPr id="306" name="Object 6" descr=""/>
            <p:cNvPicPr/>
            <p:nvPr/>
          </p:nvPicPr>
          <p:blipFill>
            <a:blip r:embed="rId2"/>
            <a:stretch/>
          </p:blipFill>
          <p:spPr>
            <a:xfrm>
              <a:off x="0" y="4572000"/>
              <a:ext cx="166212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Text Box 7"/>
            <p:cNvSpPr/>
            <p:nvPr/>
          </p:nvSpPr>
          <p:spPr>
            <a:xfrm>
              <a:off x="1752480" y="5181480"/>
              <a:ext cx="2286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imilar to a magnifying gla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If white light contains all colors, how fast does it move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64" name="Picture 4" descr="F03-02"/>
          <p:cNvPicPr/>
          <p:nvPr/>
        </p:nvPicPr>
        <p:blipFill>
          <a:blip r:embed="rId1"/>
          <a:stretch/>
        </p:blipFill>
        <p:spPr>
          <a:xfrm>
            <a:off x="3581280" y="1752480"/>
            <a:ext cx="5562720" cy="38941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828800"/>
            <a:ext cx="5181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86,00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les per sec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00,00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ilometers per sec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successfully determined by Danish astronomer Ole Roemer in 167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2" descr="F03-10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4686480"/>
          </a:xfrm>
          <a:prstGeom prst="rect">
            <a:avLst/>
          </a:prstGeom>
          <a:ln w="0">
            <a:noFill/>
          </a:ln>
        </p:spPr>
      </p:pic>
      <p:sp>
        <p:nvSpPr>
          <p:cNvPr id="310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2" descr="F03-11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3"/>
          <p:cNvSpPr/>
          <p:nvPr/>
        </p:nvSpPr>
        <p:spPr>
          <a:xfrm>
            <a:off x="3048120" y="3871800"/>
            <a:ext cx="2971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 larger objective lens provides a brighter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ot bigger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) im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409720" y="533520"/>
            <a:ext cx="3048120" cy="533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enses reverse image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315" name="Picture 3" descr="F03-09"/>
          <p:cNvPicPr/>
          <p:nvPr/>
        </p:nvPicPr>
        <p:blipFill>
          <a:blip r:embed="rId1"/>
          <a:stretch/>
        </p:blipFill>
        <p:spPr>
          <a:xfrm>
            <a:off x="0" y="0"/>
            <a:ext cx="4962600" cy="6858000"/>
          </a:xfrm>
          <a:prstGeom prst="rect">
            <a:avLst/>
          </a:prstGeom>
          <a:ln w="0">
            <a:noFill/>
          </a:ln>
        </p:spPr>
      </p:pic>
      <p:sp>
        <p:nvSpPr>
          <p:cNvPr id="31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Three main functions of a telescope</a:t>
            </a:r>
            <a:br>
              <a:rPr sz="4400"/>
            </a:b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igh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called light gathering pow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 fine det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called resolu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nd least important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gnif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gnification = (objective lens focal length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yepiece lens focal lengt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Functions of a Telescop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gather l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nt a large obj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ge of few inches to 10 meter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resolve fine detai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ited by size and atmospheric “seeing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agnif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st impor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out 50x per inch of apertur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ule of thum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3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3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3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3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3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3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3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3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300" fill="hold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300" fill="hold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300" fill="hold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300" fill="hold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300" fill="hold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300" fill="hold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300" fill="hold"/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300" fill="hold"/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efracting telescopes have drawback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herical aber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romatic aber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Picture 5" descr="spherical-aberration"/>
          <p:cNvPicPr/>
          <p:nvPr/>
        </p:nvPicPr>
        <p:blipFill>
          <a:blip r:embed="rId1"/>
          <a:stretch/>
        </p:blipFill>
        <p:spPr>
          <a:xfrm>
            <a:off x="1371600" y="3124080"/>
            <a:ext cx="1870200" cy="32767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8" descr="A4aberr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57800" y="1981080"/>
            <a:ext cx="3044880" cy="4496040"/>
          </a:xfrm>
          <a:prstGeom prst="rect">
            <a:avLst/>
          </a:prstGeom>
          <a:ln w="0">
            <a:noFill/>
          </a:ln>
        </p:spPr>
      </p:pic>
      <p:sp>
        <p:nvSpPr>
          <p:cNvPr id="327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2" descr="F03-13"/>
          <p:cNvPicPr/>
          <p:nvPr/>
        </p:nvPicPr>
        <p:blipFill>
          <a:blip r:embed="rId1"/>
          <a:stretch/>
        </p:blipFill>
        <p:spPr>
          <a:xfrm>
            <a:off x="0" y="2284560"/>
            <a:ext cx="4443480" cy="4573440"/>
          </a:xfrm>
          <a:prstGeom prst="rect">
            <a:avLst/>
          </a:prstGeom>
          <a:ln w="0">
            <a:noFill/>
          </a:ln>
        </p:spPr>
      </p:pic>
      <p:grpSp>
        <p:nvGrpSpPr>
          <p:cNvPr id="329" name="Group 5"/>
          <p:cNvGrpSpPr/>
          <p:nvPr/>
        </p:nvGrpSpPr>
        <p:grpSpPr>
          <a:xfrm>
            <a:off x="0" y="561960"/>
            <a:ext cx="9144000" cy="6296040"/>
            <a:chOff x="0" y="561960"/>
            <a:chExt cx="9144000" cy="6296040"/>
          </a:xfrm>
        </p:grpSpPr>
        <p:pic>
          <p:nvPicPr>
            <p:cNvPr id="330" name="Picture 3" descr="F03-14"/>
            <p:cNvPicPr/>
            <p:nvPr/>
          </p:nvPicPr>
          <p:blipFill>
            <a:blip r:embed="rId2"/>
            <a:stretch/>
          </p:blipFill>
          <p:spPr>
            <a:xfrm>
              <a:off x="4702320" y="2286000"/>
              <a:ext cx="444168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Text Box 4"/>
            <p:cNvSpPr/>
            <p:nvPr/>
          </p:nvSpPr>
          <p:spPr>
            <a:xfrm>
              <a:off x="0" y="561960"/>
              <a:ext cx="9144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Special achromatic compound lenses and lens coatings can often fix this aberratio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2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efracting telescopes have drawback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herical aber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romatic aber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gging due to gravity distorting the l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wanted refr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aque to certain wavelengths of l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6" name="Picture 5" descr="F03-16"/>
          <p:cNvPicPr/>
          <p:nvPr/>
        </p:nvPicPr>
        <p:blipFill>
          <a:blip r:embed="rId1"/>
          <a:stretch/>
        </p:blipFill>
        <p:spPr>
          <a:xfrm>
            <a:off x="4927680" y="1522440"/>
            <a:ext cx="4216320" cy="5335560"/>
          </a:xfrm>
          <a:prstGeom prst="rect">
            <a:avLst/>
          </a:prstGeom>
          <a:ln w="0">
            <a:noFill/>
          </a:ln>
        </p:spPr>
      </p:pic>
      <p:sp>
        <p:nvSpPr>
          <p:cNvPr id="337" name="Rectangle 6"/>
          <p:cNvSpPr/>
          <p:nvPr/>
        </p:nvSpPr>
        <p:spPr>
          <a:xfrm>
            <a:off x="990720" y="5865840"/>
            <a:ext cx="76071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erkes Observat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40-inch Refracting Telescope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argest Refracting Telescope in the Worl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5" descr="F03-19"/>
          <p:cNvPicPr/>
          <p:nvPr/>
        </p:nvPicPr>
        <p:blipFill>
          <a:blip r:embed="rId1"/>
          <a:stretch/>
        </p:blipFill>
        <p:spPr>
          <a:xfrm>
            <a:off x="457200" y="0"/>
            <a:ext cx="8458200" cy="683244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895480" y="-360"/>
            <a:ext cx="60199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flecting telescopes use mirrors to concentrate incoming starlight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41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3" descr="F03-19"/>
          <p:cNvPicPr/>
          <p:nvPr/>
        </p:nvPicPr>
        <p:blipFill>
          <a:blip r:embed="rId1"/>
          <a:stretch/>
        </p:blipFill>
        <p:spPr>
          <a:xfrm>
            <a:off x="1295280" y="0"/>
            <a:ext cx="6629400" cy="5354640"/>
          </a:xfrm>
          <a:prstGeom prst="rect">
            <a:avLst/>
          </a:prstGeom>
          <a:ln w="0">
            <a:noFill/>
          </a:ln>
        </p:spPr>
      </p:pic>
      <p:grpSp>
        <p:nvGrpSpPr>
          <p:cNvPr id="343" name="Group 14"/>
          <p:cNvGrpSpPr/>
          <p:nvPr/>
        </p:nvGrpSpPr>
        <p:grpSpPr>
          <a:xfrm>
            <a:off x="152280" y="5028840"/>
            <a:ext cx="2895840" cy="1298160"/>
            <a:chOff x="152280" y="5028840"/>
            <a:chExt cx="2895840" cy="1298160"/>
          </a:xfrm>
        </p:grpSpPr>
        <p:sp>
          <p:nvSpPr>
            <p:cNvPr id="344" name="Text Box 4"/>
            <p:cNvSpPr/>
            <p:nvPr/>
          </p:nvSpPr>
          <p:spPr>
            <a:xfrm>
              <a:off x="152280" y="5867280"/>
              <a:ext cx="289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Newtonian Foc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5"/>
            <p:cNvSpPr/>
            <p:nvPr/>
          </p:nvSpPr>
          <p:spPr>
            <a:xfrm flipV="1">
              <a:off x="1371600" y="5028840"/>
              <a:ext cx="380880" cy="7621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" name="Group 15"/>
          <p:cNvGrpSpPr/>
          <p:nvPr/>
        </p:nvGrpSpPr>
        <p:grpSpPr>
          <a:xfrm>
            <a:off x="2209680" y="5029200"/>
            <a:ext cx="2362320" cy="1755000"/>
            <a:chOff x="2209680" y="5029200"/>
            <a:chExt cx="2362320" cy="1755000"/>
          </a:xfrm>
        </p:grpSpPr>
        <p:sp>
          <p:nvSpPr>
            <p:cNvPr id="347" name="Line 7"/>
            <p:cNvSpPr/>
            <p:nvPr/>
          </p:nvSpPr>
          <p:spPr>
            <a:xfrm flipV="1">
              <a:off x="3124080" y="5029200"/>
              <a:ext cx="457200" cy="12952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Text Box 11"/>
            <p:cNvSpPr/>
            <p:nvPr/>
          </p:nvSpPr>
          <p:spPr>
            <a:xfrm>
              <a:off x="2209680" y="6324480"/>
              <a:ext cx="236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rime Foc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9" name="Group 16"/>
          <p:cNvGrpSpPr/>
          <p:nvPr/>
        </p:nvGrpSpPr>
        <p:grpSpPr>
          <a:xfrm>
            <a:off x="4267080" y="5105160"/>
            <a:ext cx="2895840" cy="1145880"/>
            <a:chOff x="4267080" y="5105160"/>
            <a:chExt cx="2895840" cy="1145880"/>
          </a:xfrm>
        </p:grpSpPr>
        <p:sp>
          <p:nvSpPr>
            <p:cNvPr id="350" name="Line 8"/>
            <p:cNvSpPr/>
            <p:nvPr/>
          </p:nvSpPr>
          <p:spPr>
            <a:xfrm flipV="1">
              <a:off x="5334120" y="5105160"/>
              <a:ext cx="0" cy="609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Text Box 12"/>
            <p:cNvSpPr/>
            <p:nvPr/>
          </p:nvSpPr>
          <p:spPr>
            <a:xfrm>
              <a:off x="4267080" y="5791320"/>
              <a:ext cx="289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assegrain foc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Group 17"/>
          <p:cNvGrpSpPr/>
          <p:nvPr/>
        </p:nvGrpSpPr>
        <p:grpSpPr>
          <a:xfrm>
            <a:off x="6781680" y="5028840"/>
            <a:ext cx="2133720" cy="1603080"/>
            <a:chOff x="6781680" y="5028840"/>
            <a:chExt cx="2133720" cy="1603080"/>
          </a:xfrm>
        </p:grpSpPr>
        <p:sp>
          <p:nvSpPr>
            <p:cNvPr id="353" name="Line 9"/>
            <p:cNvSpPr/>
            <p:nvPr/>
          </p:nvSpPr>
          <p:spPr>
            <a:xfrm flipH="1" flipV="1">
              <a:off x="6857640" y="5028840"/>
              <a:ext cx="762120" cy="11430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Text Box 13"/>
            <p:cNvSpPr/>
            <p:nvPr/>
          </p:nvSpPr>
          <p:spPr>
            <a:xfrm>
              <a:off x="6781680" y="617220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oude’ foc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5" name="Нижний колонтитул 1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But, what is light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17th Century, Isaac Newton argued that light was composed of little particles while Christian Huygens suggested that light travels in the form of wav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19th Century, Thomas Young demonstrated that light bends slightly around corners and acts like interfering wav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stronomer’s face two major obstacles in observing the star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440" y="24382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ght Pollution from C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fects of Twinkling from Earth’s atmosp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ucson, Arizona in 1959 and 1980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360" name="Picture 6" descr="F03-23B"/>
          <p:cNvPicPr/>
          <p:nvPr/>
        </p:nvPicPr>
        <p:blipFill>
          <a:blip r:embed="rId1"/>
          <a:stretch/>
        </p:blipFill>
        <p:spPr>
          <a:xfrm>
            <a:off x="4648320" y="2590920"/>
            <a:ext cx="4495680" cy="33717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361" name="Picture 8" descr="F03-23A"/>
          <p:cNvPicPr/>
          <p:nvPr/>
        </p:nvPicPr>
        <p:blipFill>
          <a:blip r:embed="rId2"/>
          <a:stretch/>
        </p:blipFill>
        <p:spPr>
          <a:xfrm>
            <a:off x="152280" y="1523880"/>
            <a:ext cx="4343400" cy="33782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36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Earth’s atmosphere hinders astronomical research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364" name="Group 8"/>
          <p:cNvGrpSpPr/>
          <p:nvPr/>
        </p:nvGrpSpPr>
        <p:grpSpPr>
          <a:xfrm>
            <a:off x="0" y="990720"/>
            <a:ext cx="4114800" cy="5867280"/>
            <a:chOff x="0" y="990720"/>
            <a:chExt cx="4114800" cy="5867280"/>
          </a:xfrm>
        </p:grpSpPr>
        <p:pic>
          <p:nvPicPr>
            <p:cNvPr id="365" name="Picture 4" descr="F03-22a"/>
            <p:cNvPicPr/>
            <p:nvPr/>
          </p:nvPicPr>
          <p:blipFill>
            <a:blip r:embed="rId1"/>
            <a:stretch/>
          </p:blipFill>
          <p:spPr>
            <a:xfrm>
              <a:off x="0" y="2743200"/>
              <a:ext cx="4114800" cy="41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Text Box 6"/>
            <p:cNvSpPr/>
            <p:nvPr/>
          </p:nvSpPr>
          <p:spPr>
            <a:xfrm>
              <a:off x="533520" y="990720"/>
              <a:ext cx="297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mage of stars taken with a telescope on the Earth’s surf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Group 9"/>
          <p:cNvGrpSpPr/>
          <p:nvPr/>
        </p:nvGrpSpPr>
        <p:grpSpPr>
          <a:xfrm>
            <a:off x="4267080" y="990720"/>
            <a:ext cx="4876920" cy="5867280"/>
            <a:chOff x="4267080" y="990720"/>
            <a:chExt cx="4876920" cy="5867280"/>
          </a:xfrm>
        </p:grpSpPr>
        <p:pic>
          <p:nvPicPr>
            <p:cNvPr id="368" name="Picture 5" descr="F03-22b"/>
            <p:cNvPicPr/>
            <p:nvPr/>
          </p:nvPicPr>
          <p:blipFill>
            <a:blip r:embed="rId2"/>
            <a:stretch/>
          </p:blipFill>
          <p:spPr>
            <a:xfrm>
              <a:off x="4267080" y="2762280"/>
              <a:ext cx="4876920" cy="409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Text Box 7"/>
            <p:cNvSpPr/>
            <p:nvPr/>
          </p:nvSpPr>
          <p:spPr>
            <a:xfrm>
              <a:off x="5105520" y="990720"/>
              <a:ext cx="36576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ame picture taken with Hubble Space Telescope high above Earth’s blurring atmosp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Нижний колонтитул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6212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apid changes in the density of Earth’s atmosphere cause passing starlight to quickly change direction, making stars appear to twinkle.</a:t>
            </a:r>
            <a:br>
              <a:rPr sz="4400"/>
            </a:b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dvanced technology is spawning a new generation of equipment to view the univers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CDs (charge-coupled devic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 telescopes on remote mountain to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una Kea in Hawa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rro Pachon in Ch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aptive Optics to counteract the blurring of Earth’s atmosp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biting space observat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2856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 Charge-Coupled Device (CCD)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377" name="Picture 3" descr="ccd"/>
          <p:cNvPicPr/>
          <p:nvPr/>
        </p:nvPicPr>
        <p:blipFill>
          <a:blip r:embed="rId1"/>
          <a:stretch/>
        </p:blipFill>
        <p:spPr>
          <a:xfrm>
            <a:off x="304920" y="99072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9" descr="Dscn6264s1024x768d"/>
          <p:cNvPicPr/>
          <p:nvPr/>
        </p:nvPicPr>
        <p:blipFill>
          <a:blip r:embed="rId2"/>
          <a:stretch/>
        </p:blipFill>
        <p:spPr>
          <a:xfrm>
            <a:off x="1600200" y="2647800"/>
            <a:ext cx="5410080" cy="40579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6" descr="ccd"/>
          <p:cNvPicPr/>
          <p:nvPr/>
        </p:nvPicPr>
        <p:blipFill>
          <a:blip r:embed="rId3"/>
          <a:stretch/>
        </p:blipFill>
        <p:spPr>
          <a:xfrm>
            <a:off x="6477120" y="4038480"/>
            <a:ext cx="2382840" cy="1981440"/>
          </a:xfrm>
          <a:prstGeom prst="rect">
            <a:avLst/>
          </a:prstGeom>
          <a:ln w="0">
            <a:noFill/>
          </a:ln>
        </p:spPr>
      </p:pic>
      <p:sp>
        <p:nvSpPr>
          <p:cNvPr id="380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dinary Photographs vs. CCD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382" name="Picture 4" descr="F03-29"/>
          <p:cNvPicPr/>
          <p:nvPr/>
        </p:nvPicPr>
        <p:blipFill>
          <a:blip r:embed="rId1"/>
          <a:stretch/>
        </p:blipFill>
        <p:spPr>
          <a:xfrm>
            <a:off x="533520" y="1752480"/>
            <a:ext cx="8028000" cy="350532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2"/>
          <p:cNvSpPr/>
          <p:nvPr/>
        </p:nvSpPr>
        <p:spPr>
          <a:xfrm>
            <a:off x="685800" y="53341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lm (negative)           CCD (negative)             CCD (positiv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609480" y="586728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me integration (I.e. exposure) tim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fferent quantum efficiency: Film 1% CCD 7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3" descr="F03-27"/>
          <p:cNvPicPr/>
          <p:nvPr/>
        </p:nvPicPr>
        <p:blipFill>
          <a:blip r:embed="rId1"/>
          <a:stretch/>
        </p:blipFill>
        <p:spPr>
          <a:xfrm>
            <a:off x="0" y="-6480"/>
            <a:ext cx="7391520" cy="686448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590560" y="-360"/>
            <a:ext cx="6553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tching 10-m, multiple mirror Keck Telescopes in Hawaii with adaptive optics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4" descr="F03-24"/>
          <p:cNvPicPr/>
          <p:nvPr/>
        </p:nvPicPr>
        <p:blipFill>
          <a:blip r:embed="rId1"/>
          <a:stretch/>
        </p:blipFill>
        <p:spPr>
          <a:xfrm>
            <a:off x="0" y="74520"/>
            <a:ext cx="6783480" cy="678348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400440" y="-360"/>
            <a:ext cx="25909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igh above Earth’s atmosphere, the Hubble Space Telescope provides stunning details about the universe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1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What did you think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at is the main purpose of a telescope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elescope is designed to collect as much light as possible.  It also improves resolution and magnifies imag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y do stars twinkle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pid changes in the density of Earth’s atmosphere cause passing starlight to change direction, making stars appear to twink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F03-03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45133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3"/>
          <p:cNvSpPr/>
          <p:nvPr/>
        </p:nvSpPr>
        <p:spPr>
          <a:xfrm>
            <a:off x="838080" y="60948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homas Young’s interference experi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6854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cottish physicist James Clerk Maxwell showed mathematically in the 1860s that light must be a combination of electric and magnetic fields.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74" name="Picture 3" descr="F03-04"/>
          <p:cNvPicPr/>
          <p:nvPr/>
        </p:nvPicPr>
        <p:blipFill>
          <a:blip r:embed="rId1"/>
          <a:stretch/>
        </p:blipFill>
        <p:spPr>
          <a:xfrm>
            <a:off x="533520" y="2514600"/>
            <a:ext cx="8028000" cy="2895480"/>
          </a:xfrm>
          <a:prstGeom prst="rect">
            <a:avLst/>
          </a:prstGeom>
          <a:ln w="0">
            <a:noFill/>
          </a:ln>
        </p:spPr>
      </p:pic>
      <p:sp>
        <p:nvSpPr>
          <p:cNvPr id="7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It wasn’t until 1905 that our current understanding of the nature of light emerged.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Einstein showed that light sometimes behaves as particles and sometimes as waves.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33520" y="46483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ton energy = Plank’s constant x speed of light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ave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F03-05"/>
          <p:cNvPicPr/>
          <p:nvPr/>
        </p:nvPicPr>
        <p:blipFill>
          <a:blip r:embed="rId1"/>
          <a:stretch/>
        </p:blipFill>
        <p:spPr>
          <a:xfrm>
            <a:off x="0" y="0"/>
            <a:ext cx="554976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038480" y="-304920"/>
            <a:ext cx="510552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Visible light is only one type of electromagnetic radiation emitted by stars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4343400" y="441972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type of EM radiation travels at exactly the same speed - the speed of ligh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0T22:37:34Z</dcterms:created>
  <dc:creator>Kelle Slater</dc:creator>
  <dc:description/>
  <dc:language>en-US</dc:language>
  <cp:lastModifiedBy>LEGION</cp:lastModifiedBy>
  <dcterms:modified xsi:type="dcterms:W3CDTF">2018-03-22T09:36:21Z</dcterms:modified>
  <cp:revision>53</cp:revision>
  <dc:subject/>
  <dc:title>Foundation 1 - Discovering Astronomy</dc:title>
</cp:coreProperties>
</file>