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6CBF-F95F-49CE-A65B-8354EB8D4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unar Pha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d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Created by the Lunar and Planetary Institut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For Educational Use Onl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LPI is not responsible for the ways in which this powerpoint may be used or altered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unar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nd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ttp://solarsystem.nasa.gov/multimedia/gallery/Earth_Moon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reated by the Lunar and Planetary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or Education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PI is not responsible for the ways in which this powerpoint may be used or alt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reclipse.com/LEphoto/LEgallery1/LEgallery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e Moon red during an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atmosphere filters some sunlight and allows it to reach the Moon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ue light is removed—scattered down to make a blue sky over those in da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ing light is red or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 appearance depends on dust and clouds in the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y is the Moon red during an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Earth’s atmosphere filters some sunlight and allows it to reach the Moon’s surfa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blue light is removed—scattered down to make a blue sky over those in daytim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Remaining light is red or orang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me of this remaining light is bent or refracted so that a small fraction of it reaches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xact appearance depends on dust and clouds in the Earth’s atmospher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ol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’s shadow covers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happens at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: Annular, Partial, and Tota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’s shadow covers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happens at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 Annular, Partial, and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ose in “penumbra” see a partial eclipse—not safe to look directly at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Only lasts a few minut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th of Totality about 10,000 miles long, only 100 miles wid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rs in the “umbra” shadow see a total eclipse (safe to view the Sun); can see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in “penumbra” see a partial eclipse—not safe to look directly at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asts a few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 of Totality about 10,000 miles long, only 100 miles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 of a Total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of a Total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08.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nular So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Moon is too far to completely cover the Sun—the umbra doesn’t reach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un appears as a donut arou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Moon is too far to completely cover the Sun—the umbra doesn’t reach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appears as a donut arou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otos of an Annul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of an Annul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unearthday.nasa.gov/2006/multimedia/gal_010.php; photos taken by Fred Espen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’s gravity tugs on the Earth.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’s gravity does the same thing, but to a lesser exten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’s gravity tugs on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most on the part of Earth closest, which raises the atmosphere, the oceans, and even the rocks (a litt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ulls the least on the part of Earth that’s farthest, which allows the oceans and atmosphere to be further from the Moon (and high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gravity does the same thing, but to a lesser ex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des and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ides and the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reliminary Topic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fore students can understand the reason for phases, they need to understand: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s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orbit at an angle with respect         to the Earth’s orbit around the Su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Moon doesn’t shine on its own; it reflects sunlight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cale of the Moon and Earth’s sizes and distanc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tic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liminary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tudents can understand the reason for phases, they need to understa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 at an angle with respect         to the Earth’s orbit around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doesn’t shine on its own; it reflects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ale of the Moon and Earth’s sizes and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go through Earth and Moon statistics before trying to cover the reason for phases or eclip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tic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’s orbital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Ne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 Observing and Identifyin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(couple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x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ull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Gibbous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Quart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ing Crescent (several days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Observing and Ident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pi.usra.edu/education/skytellers/moon_phases/about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hases--Cau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shines on the Moon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the Moon’s far side, we call it a New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sunlight reflects off on the Moon’s near side, we call it a Full Mo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Between New and Full, we see parts of the daytime side of the Moon.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Golfball and Blacklight Activity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--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shines on the Mo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the Moon’s far side, we call it a New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unlight reflects off on the Moon’s near side, we call it a Full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New and Full, we see parts of the daytime side of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fball and Blacklight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do NOT use this to teach phas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 test for compreh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tarchild.gsfc.nasa.gov/docs/StarChild/questions/question3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ild.gsfc.nasa.gov/docs/StarChild/questions/phase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 Sun and Moon occasionally line up so that we have an eclipse.  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ese eclipses happen every year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 see a solar eclipse, you need to be on a particular part of the Earth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nd Moon occasionally line up so that we have an eclip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clipses happen every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a solar eclipse, you need to be on a particular part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en the Earth’s shadow covers the Moon, we have a lunar eclips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arth’s shadow covers the Moon, we have a luna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Lunar Ecli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umbral lunar eclipse—the Moon only passes through the pen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lunar eclipse—part of th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lunar eclipse—the entire Moon passes through the umbra of Earth’s sha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on Earth will be able to see a lun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hree types of Lunar Eclipses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enumbral lunar eclipse—the Moon only passes through the pen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Partial lunar eclipse—part of th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Total lunar eclipse—the entire Moon passes through the umbra of Earth’s shadow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ho on Earth will be able to see a lunar eclipse?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Anyone who can see the Moon (anyone who is on the nighttime side of the Earth during the eclipse)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imes New Roman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EA0-6ABF-4A59-8776-50073E7B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1A7-342D-445F-81CE-4080D7E7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BAA-08F9-4BDD-B073-6C060F0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210-21F8-4B62-BD0E-910C0432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A7C-2F15-4C26-A1C0-7CE1D7F1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4B0-E712-49FC-B226-5FE53A3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970-C662-4B7B-A155-D3C80360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12E-EB95-4650-BF27-07E1CA6F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AB8-B2CC-4BA7-8D59-1C9B5F60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E9C9-6804-448E-B307-FC7980B6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E5A-181E-4019-AAF2-B88F9C0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C5E-2DE5-4468-AA79-588DD52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6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823C-F581-4D23-9FC9-44CAAE647FDB}" type="slidenum">
              <a:rPr b="0" lang="en-US" sz="1200" spc="-1" strike="noStrike">
                <a:solidFill>
                  <a:srgbClr val="ffff66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olarsystem.nasa.gov/multimedia/gallery/Earth_Moo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The Earth-Moon System (click to enlarge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457200"/>
            <a:ext cx="3930480" cy="3819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152280" y="1752480"/>
            <a:ext cx="4114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unar Pha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and Eclipses</a:t>
            </a:r>
            <a:endParaRPr b="1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4543560" y="6583320"/>
            <a:ext cx="47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http://solarsystem.nasa.gov/multimedia/gallery/Earth_Moon.jpg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304920" y="4952880"/>
            <a:ext cx="792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ed by the Lunar and Planetary Institute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For Educational Use Only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Comic Sans MS"/>
              </a:rPr>
              <a:t>LPI is not responsible for the ways in which this powerpoint may be used or altered.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TLE1982-205+6w"/>
          <p:cNvPicPr/>
          <p:nvPr/>
        </p:nvPicPr>
        <p:blipFill>
          <a:blip r:embed="rId1"/>
          <a:stretch/>
        </p:blipFill>
        <p:spPr>
          <a:xfrm>
            <a:off x="1066680" y="914400"/>
            <a:ext cx="6934320" cy="4952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52280" y="6095880"/>
            <a:ext cx="556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Images from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mreclipse.com/LEphoto/LEgallery1/LEgallery1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Why is the Moon red during an eclipse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Earth’s atmosphere filters some sunlight and allows it to reach the Moon’s surfac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blue light is removed—scattered down to make a blue sky over those in daytim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Remaining light is red or oran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Some of this remaining light is bent or refracted so that a small fraction of it reaches the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xact appearance depends on dust and clouds in the Earth’s atmospher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ol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Moon’s shadow covers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Only happens at 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ree types: Annular, Partial, and Total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5" name="Picture 4" descr="SEDiagram1c"/>
          <p:cNvPicPr/>
          <p:nvPr/>
        </p:nvPicPr>
        <p:blipFill>
          <a:blip r:embed="rId1"/>
          <a:stretch/>
        </p:blipFill>
        <p:spPr>
          <a:xfrm>
            <a:off x="1066680" y="1981080"/>
            <a:ext cx="7315200" cy="488628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otal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bservers in the “umbra” shadow see a total eclipse (safe to view the Sun); can see the corona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ose in “penumbra” see a partial eclipse—not safe to look directly at Sun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Only lasts a few minutes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Path of Totality about 10,000 miles long, only 100 miles wide</a:t>
            </a:r>
            <a:endParaRPr b="0" lang="en-US" sz="18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Picture 4" descr="SEDiagram3c"/>
          <p:cNvPicPr/>
          <p:nvPr/>
        </p:nvPicPr>
        <p:blipFill>
          <a:blip r:embed="rId1"/>
          <a:stretch/>
        </p:blipFill>
        <p:spPr>
          <a:xfrm>
            <a:off x="1219320" y="2290680"/>
            <a:ext cx="6858000" cy="4567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 of a Total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3" descr="totality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70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4887000" y="6583320"/>
            <a:ext cx="44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08.php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Annular So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When the Moon is too far to completely cover the Sun—the umbra doesn’t reach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Sun appears as a donut around the Moo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07" name="Picture 4" descr="SEDiagram4c"/>
          <p:cNvPicPr/>
          <p:nvPr/>
        </p:nvPicPr>
        <p:blipFill>
          <a:blip r:embed="rId1"/>
          <a:stretch/>
        </p:blipFill>
        <p:spPr>
          <a:xfrm>
            <a:off x="914400" y="1905120"/>
            <a:ext cx="7086600" cy="471780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otos of an Annular Eclips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annular eclipse"/>
          <p:cNvPicPr/>
          <p:nvPr/>
        </p:nvPicPr>
        <p:blipFill>
          <a:blip r:embed="rId1"/>
          <a:stretch/>
        </p:blipFill>
        <p:spPr>
          <a:xfrm>
            <a:off x="685800" y="1224000"/>
            <a:ext cx="8077320" cy="563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-64080" y="6400800"/>
            <a:ext cx="66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unearthday.nasa.gov/2006/multimedia/gal_010.php; photos taken by Fred Espenak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Moon’s gravity tugs on the Earth.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most on the part of Earth closest, which raises the atmosphere, the oceans, and even the rocks (a little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It pulls the least on the part of Earth that’s farthest, which allows the oceans and atmosphere to be further from the Moon (and higher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’s gravity does the same thing, but to a lesser extent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ides and the Mo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tides"/>
          <p:cNvPicPr/>
          <p:nvPr/>
        </p:nvPicPr>
        <p:blipFill>
          <a:blip r:embed="rId1"/>
          <a:stretch/>
        </p:blipFill>
        <p:spPr>
          <a:xfrm>
            <a:off x="2286000" y="1981080"/>
            <a:ext cx="5000760" cy="4043520"/>
          </a:xfrm>
          <a:prstGeom prst="rect">
            <a:avLst/>
          </a:prstGeom>
          <a:ln w="0">
            <a:noFill/>
          </a:ln>
        </p:spPr>
      </p:pic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052" descr="Mon orbit"/>
          <p:cNvPicPr/>
          <p:nvPr/>
        </p:nvPicPr>
        <p:blipFill>
          <a:blip r:embed="rId1"/>
          <a:stretch/>
        </p:blipFill>
        <p:spPr>
          <a:xfrm>
            <a:off x="5684760" y="2438280"/>
            <a:ext cx="3459240" cy="129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eliminary Topic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Before students can understand the reason for phases, they need to understand: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s the Earth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orbit at an angle with respect         to the Earth’s orbit around the Sun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Moon doesn’t shine on its own; it reflects sunlight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Aft>
                <a:spcPts val="2401"/>
              </a:spcAft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ahoma"/>
              </a:rPr>
              <a:t>The scale of the Moon and Earth’s sizes and distance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go through Earth and Moon statistics before trying to cover the reason for phases or eclipses.</a:t>
            </a:r>
            <a:endParaRPr b="0" lang="en-US" sz="2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Rectangle 2053"/>
          <p:cNvSpPr/>
          <p:nvPr/>
        </p:nvSpPr>
        <p:spPr>
          <a:xfrm>
            <a:off x="5943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Ecliptic plane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Rectangle 2054"/>
          <p:cNvSpPr/>
          <p:nvPr/>
        </p:nvSpPr>
        <p:spPr>
          <a:xfrm>
            <a:off x="7543800" y="27432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Moon’s orbital plane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 (couple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x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Full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Gibbous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en-US" sz="1800" spc="-1" strike="noStrike" baseline="30000">
                <a:solidFill>
                  <a:srgbClr val="ffff66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Quarte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Waning Crescent (several day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33520" y="380880"/>
            <a:ext cx="556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: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ing and Identifying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-69840" y="6583320"/>
            <a:ext cx="535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www.lpi.usra.edu/education/skytellers/moon_phases/about.s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Picture 12" descr="aboutmoon1"/>
          <p:cNvPicPr/>
          <p:nvPr/>
        </p:nvPicPr>
        <p:blipFill>
          <a:blip r:embed="rId1"/>
          <a:stretch/>
        </p:blipFill>
        <p:spPr>
          <a:xfrm>
            <a:off x="5943600" y="274680"/>
            <a:ext cx="2243160" cy="658332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hases--Cau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shines on the Moon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the Moon’s f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en the sunlight reflects off on the Moon’s near side, we call it 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 Moon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Between New and Full, we see parts of the daytime side of the Moon.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920" y="5105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Golfball and Blacklight Activity</a:t>
            </a:r>
            <a:endParaRPr b="1" lang="en-US" sz="3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352680" y="304920"/>
            <a:ext cx="56390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lease do NOT use this to teach phases;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use to test for comprehension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Picture 5" descr="Moon Cycle &#10;Diagram looking down on Moon as it orbits Earth with Sun to right"/>
          <p:cNvPicPr/>
          <p:nvPr/>
        </p:nvPicPr>
        <p:blipFill>
          <a:blip r:embed="rId1"/>
          <a:stretch/>
        </p:blipFill>
        <p:spPr>
          <a:xfrm>
            <a:off x="380880" y="1066680"/>
            <a:ext cx="4267440" cy="282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artoon of Moon-Earth Orbit, illustrating the phases of the moon. The &#10;cartoon is labeled Moon-Earth-Sun as viewed from above our solar system.  The &#10;Earth sits in the center of eight images of the moon at different places in &#10;the lunar cycle.  To the right the Sun shines on the Moon Earth system."/>
          <p:cNvPicPr/>
          <p:nvPr/>
        </p:nvPicPr>
        <p:blipFill>
          <a:blip r:embed="rId2"/>
          <a:stretch/>
        </p:blipFill>
        <p:spPr>
          <a:xfrm>
            <a:off x="3733920" y="3124080"/>
            <a:ext cx="5257800" cy="349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228600" y="658332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Unicode MS"/>
              </a:rPr>
              <a:t>http://starchild.gsfc.nasa.gov/docs/StarChild/questions/question3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9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4" name="Picture 5" descr="This diagram shows how the Moon always has a lit side (facing the&#10;Sun) and a dark side (facing away from the Sun). At the bottom of the diagram eight phases of the moon are illustrated with the heading: How th e moon appears from Earth."/>
          <p:cNvPicPr/>
          <p:nvPr/>
        </p:nvPicPr>
        <p:blipFill>
          <a:blip r:embed="rId1"/>
          <a:stretch/>
        </p:blipFill>
        <p:spPr>
          <a:xfrm>
            <a:off x="914400" y="533520"/>
            <a:ext cx="6781680" cy="5651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0" y="6324480"/>
            <a:ext cx="4572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 Unicode MS"/>
              </a:rPr>
              <a:t>starchild.gsfc.nasa.gov/docs/StarChild/questions/phases.html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 Sun and Moon occasionally line up so that we have an eclipse.  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hese eclipses happen every yea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 see a solar eclipse, you need to be on a particular part of the Earth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EDiagram1c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045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7040" y="6248520"/>
            <a:ext cx="86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Unicode MS"/>
              </a:rPr>
              <a:t>When the Earth’s shadow covers the Moon, we have a lunar eclipse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ree types of Lunar Eclips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enumbral lunar eclipse—the Moon only passes through the pen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tial lunar eclipse—part of th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otal lunar eclipse—the entire Moon passes through the umbra of Earth’s shadow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Who on Earth will be able to see a lunar eclipse?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62120" y="49528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nyone who can see the Moon (anyone who is on the nighttime side of the Earth during the eclipse)</a:t>
            </a:r>
            <a:endParaRPr b="1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Tahoma"/>
              </a:rPr>
              <a:t>www.sliderbase.com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6:41Z</dcterms:created>
  <dc:creator>shipp</dc:creator>
  <dc:description/>
  <dc:language>en-US</dc:language>
  <cp:lastModifiedBy>LEGION</cp:lastModifiedBy>
  <dcterms:modified xsi:type="dcterms:W3CDTF">2018-03-22T09:38:11Z</dcterms:modified>
  <cp:revision>403</cp:revision>
  <dc:subject/>
  <dc:title>PowerPoint Presentation</dc:title>
</cp:coreProperties>
</file>