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B834-F22A-4949-B502-2791AB1F2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Lunar Pha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and Eclip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solarsystem.nasa.gov/multimedia/gallery/Earth_Moon.jpg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Created by the Lunar and Planetary Institut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For Educational Use Only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LPI is not responsible for the ways in which this powerpoint may be used or altered.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unar P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nd Ecli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http://solarsystem.nasa.gov/multimedia/gallery/Earth_Moon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reated by the Lunar and Planetary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or Education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PI is not responsible for the ways in which this powerpoint may be used or alt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Images from Fred Espenak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www.mreclipse.com/LEphoto/LEgallery1/LEgallery1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 Fred Espen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mreclipse.com/LEphoto/LEgallery1/LEgallery1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e Moon red during an ecli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’s atmosphere filters some sunlight and allows it to reach the Moon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ue light is removed—scattered down to make a blue sky over those in day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ing light is red or o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is remaining light is bent or refracted so that a small fraction of it reaches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 appearance depends on dust and clouds in the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y is the Moon red during an eclipse?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Earth’s atmosphere filters some sunlight and allows it to reach the Moon’s surfac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blue light is removed—scattered down to make a blue sky over those in daytim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Remaining light is red or orang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Some of this remaining light is bent or refracted so that a small fraction of it reaches the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Exact appearance depends on dust and clouds in the Earth’s atmospher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Solar Eclip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Moon’s shadow covers part of the Earth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Only happens at New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ree types: Annular, Partial, and Tota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Moon’s shadow covers part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happens at New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: Annular, Partial, and 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otal Solar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Observers in the “umbra” shadow see a total eclipse (safe to view the Sun); can see the corona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ose in “penumbra” see a partial eclipse—not safe to look directly at Su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Only lasts a few minut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ath of Totality about 10,000 miles long, only 100 miles wid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rs in the “umbra” shadow see a total eclipse (safe to view the Sun); can see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in “penumbra” see a partial eclipse—not safe to look directly at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lasts a few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 of Totality about 10,000 miles long, only 100 miles w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hoto of a Total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sunearthday.nasa.gov/2006/multimedia/gal_008.php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of a Total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unearthday.nasa.gov/2006/multimedia/gal_008.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Annular Solar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Moon is too far to completely cover the Sun—the umbra doesn’t reach the Earth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Sun appears as a donut around the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Moon is too far to completely cover the Sun—the umbra doesn’t reach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appears as a donut around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hotos of an Annular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sunearthday.nasa.gov/2006/multimedia/gal_010.php; photos taken by Fred Espenak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 of an Annular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unearthday.nasa.gov/2006/multimedia/gal_010.php; photos taken by Fred Espen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id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Moon’s gravity tugs on the Earth.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It pulls the most on the part of Earth closest, which raises the atmosphere, the oceans, and even the rocks (a little)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It pulls the least on the part of Earth that’s farthest, which allows the oceans and atmosphere to be further from the Moon (and higher)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Sun’s gravity does the same thing, but to a lesser extent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’s gravity tugs on the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ulls the most on the part of Earth closest, which raises the atmosphere, the oceans, and even the rocks (a lit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ulls the least on the part of Earth that’s farthest, which allows the oceans and atmosphere to be further from the Moon (and high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gravity does the same thing, but to a lesser ex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des and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ides and the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reliminary Topic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Before students can understand the reason for phases, they need to understand: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Moon orbits the Earth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Moon orbit at an angle with respect         to the Earth’s orbit around the Su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Moon doesn’t shine on its own; it reflects sunlight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scale of the Moon and Earth’s sizes and distanc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lease go through Earth and Moon statistics before trying to cover the reason for phases or eclipses.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Ecliptic plan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Moon’s orbital plan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liminary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students can understand the reason for phases, they need to understa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 orbit at an angle with respect         to the Earth’s orbit around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 doesn’t shine on its own; it reflects sun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ale of the Moon and Earth’s sizes and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go through Earth and Moon statistics before trying to cover the reason for phases or eclip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liptic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’s orbital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New (couple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axing Crescent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1st Quart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axing Gibbous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 Full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aning Gibbous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3rd Quart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aning Crescent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New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hases:</a:t>
            </a: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  Observing and Identifying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www.lpi.usra.edu/education/skytellers/moon_phases/about.s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(couple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ing Crescent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Quart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ing Gibbous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ull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ing Gibbous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Quart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ing Crescent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Observing and Ident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pi.usra.edu/education/skytellers/moon_phases/about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hases--Cau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Sun shines on the Moon. 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sunlight reflects off the Moon’s far side, we call it a New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sunlight reflects off on the Moon’s near side, we call it a Full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Between New and Full, we see parts of the daytime side of the Moon.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olfball and Blacklight Activity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--Ca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shines on the Mo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unlight reflects off the Moon’s far side, we call it a New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unlight reflects off on the Moon’s near side, we call it a Full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New and Full, we see parts of the daytime side of the M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fball and Blacklight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lease do NOT use this to teach phases;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use to test for comprehensi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starchild.gsfc.nasa.gov/docs/StarChild/questions/question3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do NOT use this to teach phase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o test for compreh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tarchild.gsfc.nasa.gov/docs/StarChild/questions/question3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starchild.gsfc.nasa.gov/docs/StarChild/questions/phases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ild.gsfc.nasa.gov/docs/StarChild/questions/phase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Eclip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Sun and Moon occasionally line up so that we have an eclipse. 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se eclipses happen every year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o see a solar eclipse, you need to be on a particular part of the Earth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li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nd Moon occasionally line up so that we have an eclip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clipses happen every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a solar eclipse, you need to be on a particular part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Earth’s shadow covers the Moon, we have a lunar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Earth’s shadow covers the Moon, we have a lunar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Lunar Ecli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umbral lunar eclipse—the Moon only passes through the penumbra of Earth’s sha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 lunar eclipse—part of the Moon passes through the umbra of Earth’s sha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lunar eclipse—the entire Moon passes through the umbra of Earth’s sha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on Earth will be able to see a lunar ecli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one who can see the Moon (anyone who is on the nighttime side of the Earth during the eclip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ree types of Lunar Eclip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enumbral lunar eclipse—the Moon only passes through the penumbra of Earth’s shadow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artial lunar eclipse—part of the Moon passes through the umbra of Earth’s shadow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otal lunar eclipse—the entire Moon passes through the umbra of Earth’s shadow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o on Earth will be able to see a lunar eclipse?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Anyone who can see the Moon (anyone who is on the nighttime side of the Earth during the eclipse)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D999-401D-4831-AF4E-E87D1954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1E8-CE67-4553-9C4C-61602E37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456A-0380-4B1F-9912-B6F5CC36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42C9-6740-4328-AB6E-C9D935D3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EAF3-AF76-4660-8ABC-5247B7B5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5B4A-D048-42DB-9564-C9243631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A067-C5FB-45B6-85DA-B3AADE8A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1A5F-8A78-4695-A6D0-C627D263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C18A-3615-4A2A-B710-C69E643B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3C14-B4CC-4C87-9CF6-19C2547B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7CAC-FE83-4BAE-98B3-494E3073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6FA6-0E83-4BEB-83CF-B550ACF9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913A-6A1A-4496-94A1-0E669F7AEEC0}" type="slidenum">
              <a:rPr b="0" lang="en-US" sz="1200" spc="-1" strike="noStrike">
                <a:solidFill>
                  <a:srgbClr val="ffff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olarsystem.nasa.gov/multimedia/gallery/Earth_Moo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The Earth-Moon System (click to enlarge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457200"/>
            <a:ext cx="3930480" cy="38196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3"/>
          <p:cNvSpPr/>
          <p:nvPr/>
        </p:nvSpPr>
        <p:spPr>
          <a:xfrm>
            <a:off x="152280" y="1752480"/>
            <a:ext cx="4114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Lunar Phases</a:t>
            </a:r>
            <a:endParaRPr b="1" lang="en-US" sz="48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nd Eclipses</a:t>
            </a:r>
            <a:endParaRPr b="1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4543560" y="6583320"/>
            <a:ext cx="479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 Unicode MS"/>
              </a:rPr>
              <a:t>http://solarsystem.nasa.gov/multimedia/gallery/Earth_Moon.jpg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304920" y="4952880"/>
            <a:ext cx="792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ed by the Lunar and Planetary Institute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For Educational Use Only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omic Sans MS"/>
              </a:rPr>
              <a:t>LPI is not responsible for the ways in which this powerpoint may be used or altered.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TLE1982-205+6w"/>
          <p:cNvPicPr/>
          <p:nvPr/>
        </p:nvPicPr>
        <p:blipFill>
          <a:blip r:embed="rId1"/>
          <a:stretch/>
        </p:blipFill>
        <p:spPr>
          <a:xfrm>
            <a:off x="1066680" y="914400"/>
            <a:ext cx="6934320" cy="49528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152280" y="6095880"/>
            <a:ext cx="556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Images from Fred Espenak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www.mreclipse.com/LEphoto/LEgallery1/LEgallery1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Why is the Moon red during an eclipse?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Earth’s atmosphere filters some sunlight and allows it to reach the Moon’s surfac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blue light is removed—scattered down to make a blue sky over those in daytim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Remaining light is red or orang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ome of this remaining light is bent or refracted so that a small fraction of it reaches the Moon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Exact appearance depends on dust and clouds in the Earth’s atmospher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Solar Eclips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When the Moon’s shadow covers part of the Earth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Only happens at New Moon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ree types: Annular, Partial, and Tota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95" name="Picture 4" descr="SEDiagram1c"/>
          <p:cNvPicPr/>
          <p:nvPr/>
        </p:nvPicPr>
        <p:blipFill>
          <a:blip r:embed="rId1"/>
          <a:stretch/>
        </p:blipFill>
        <p:spPr>
          <a:xfrm>
            <a:off x="1066680" y="1981080"/>
            <a:ext cx="7315200" cy="488628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otal Solar Eclips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Observers in the “umbra” shadow see a total eclipse (safe to view the Sun); can see the corona</a:t>
            </a: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Those in “penumbra” see a partial eclipse—not safe to look directly at Sun</a:t>
            </a: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Only lasts a few minutes</a:t>
            </a: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Path of Totality about 10,000 miles long, only 100 miles wide</a:t>
            </a: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99" name="Picture 4" descr="SEDiagram3c"/>
          <p:cNvPicPr/>
          <p:nvPr/>
        </p:nvPicPr>
        <p:blipFill>
          <a:blip r:embed="rId1"/>
          <a:stretch/>
        </p:blipFill>
        <p:spPr>
          <a:xfrm>
            <a:off x="1219320" y="2290680"/>
            <a:ext cx="6858000" cy="456732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hoto of a Total Eclips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3" descr="totality"/>
          <p:cNvPicPr/>
          <p:nvPr/>
        </p:nvPicPr>
        <p:blipFill>
          <a:blip r:embed="rId1"/>
          <a:stretch/>
        </p:blipFill>
        <p:spPr>
          <a:xfrm>
            <a:off x="1295280" y="1219320"/>
            <a:ext cx="6477120" cy="51703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4887000" y="6583320"/>
            <a:ext cx="44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sunearthday.nasa.gov/2006/multimedia/gal_008.php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Annular Solar Eclips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When the Moon is too far to completely cover the Sun—the umbra doesn’t reach the Earth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Sun appears as a donut around the Moon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07" name="Picture 4" descr="SEDiagram4c"/>
          <p:cNvPicPr/>
          <p:nvPr/>
        </p:nvPicPr>
        <p:blipFill>
          <a:blip r:embed="rId1"/>
          <a:stretch/>
        </p:blipFill>
        <p:spPr>
          <a:xfrm>
            <a:off x="914400" y="1905120"/>
            <a:ext cx="7086600" cy="471780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hotos of an Annular Eclips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3" descr="annular eclipse"/>
          <p:cNvPicPr/>
          <p:nvPr/>
        </p:nvPicPr>
        <p:blipFill>
          <a:blip r:embed="rId1"/>
          <a:stretch/>
        </p:blipFill>
        <p:spPr>
          <a:xfrm>
            <a:off x="685800" y="1224000"/>
            <a:ext cx="8077320" cy="5634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-64080" y="6400800"/>
            <a:ext cx="666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sunearthday.nasa.gov/2006/multimedia/gal_010.php; photos taken by Fred Espenak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id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Moon’s gravity tugs on the Earth.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It pulls the most on the part of Earth closest, which raises the atmosphere, the oceans, and even the rocks (a little)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It pulls the least on the part of Earth that’s farthest, which allows the oceans and atmosphere to be further from the Moon (and higher)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Sun’s gravity does the same thing, but to a lesser extent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ides and the Moon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5" descr="tides"/>
          <p:cNvPicPr/>
          <p:nvPr/>
        </p:nvPicPr>
        <p:blipFill>
          <a:blip r:embed="rId1"/>
          <a:stretch/>
        </p:blipFill>
        <p:spPr>
          <a:xfrm>
            <a:off x="2286000" y="1981080"/>
            <a:ext cx="5000760" cy="4043520"/>
          </a:xfrm>
          <a:prstGeom prst="rect">
            <a:avLst/>
          </a:prstGeom>
          <a:ln w="0">
            <a:noFill/>
          </a:ln>
        </p:spPr>
      </p:pic>
      <p:sp>
        <p:nvSpPr>
          <p:cNvPr id="11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052" descr="Mon orbit"/>
          <p:cNvPicPr/>
          <p:nvPr/>
        </p:nvPicPr>
        <p:blipFill>
          <a:blip r:embed="rId1"/>
          <a:stretch/>
        </p:blipFill>
        <p:spPr>
          <a:xfrm>
            <a:off x="5684760" y="2438280"/>
            <a:ext cx="3459240" cy="1297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reliminary Topic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5943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Before students can understand the reason for phases, they need to understand: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Aft>
                <a:spcPts val="2401"/>
              </a:spcAft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The Moon orbits the Earth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Aft>
                <a:spcPts val="2401"/>
              </a:spcAft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The Moon orbit at an angle with respect         to the Earth’s orbit around the Sun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Aft>
                <a:spcPts val="2401"/>
              </a:spcAft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The Moon doesn’t shine on its own; it reflects sunlight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Aft>
                <a:spcPts val="2401"/>
              </a:spcAft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The scale of the Moon and Earth’s sizes and distance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ease go through Earth and Moon statistics before trying to cover the reason for phases or eclipses.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6" name="Rectangle 2053"/>
          <p:cNvSpPr/>
          <p:nvPr/>
        </p:nvSpPr>
        <p:spPr>
          <a:xfrm>
            <a:off x="5943600" y="2590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Ecliptic plane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Rectangle 2054"/>
          <p:cNvSpPr/>
          <p:nvPr/>
        </p:nvSpPr>
        <p:spPr>
          <a:xfrm>
            <a:off x="7543800" y="27432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Moon’s orbital plan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35053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New (couple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Waxing Crescent (several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1</a:t>
            </a:r>
            <a:r>
              <a:rPr b="0" lang="en-US" sz="1800" spc="-1" strike="noStrike" baseline="30000">
                <a:solidFill>
                  <a:srgbClr val="ffff66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Quarte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Waxing Gibbous (several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Full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Waning Gibbous (several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en-US" sz="1800" spc="-1" strike="noStrike" baseline="30000">
                <a:solidFill>
                  <a:srgbClr val="ffff66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Quarte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Waning Crescent (several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533520" y="380880"/>
            <a:ext cx="5562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hases: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serving and Identifying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-69840" y="6583320"/>
            <a:ext cx="535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www.lpi.usra.edu/education/skytellers/moon_phases/about.s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2" name="Picture 12" descr="aboutmoon1"/>
          <p:cNvPicPr/>
          <p:nvPr/>
        </p:nvPicPr>
        <p:blipFill>
          <a:blip r:embed="rId1"/>
          <a:stretch/>
        </p:blipFill>
        <p:spPr>
          <a:xfrm>
            <a:off x="5943600" y="274680"/>
            <a:ext cx="2243160" cy="6583320"/>
          </a:xfrm>
          <a:prstGeom prst="rect">
            <a:avLst/>
          </a:prstGeom>
          <a:ln w="0">
            <a:noFill/>
          </a:ln>
        </p:spPr>
      </p:pic>
      <p:sp>
        <p:nvSpPr>
          <p:cNvPr id="6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hases--Caus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Sun shines on the Moon.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When the sunlight reflects off the Moon’s far side, we call it 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Moon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When the sunlight reflects off on the Moon’s near side, we call it 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ll Moon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Between New and Full, we see parts of the daytime side of the Moon.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04920" y="5105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9966"/>
                </a:solidFill>
                <a:latin typeface="Tahoma"/>
              </a:rPr>
              <a:t>Golfball and Blacklight Activity</a:t>
            </a:r>
            <a:endParaRPr b="1" lang="en-US" sz="3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352680" y="304920"/>
            <a:ext cx="563904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Please do NOT use this to teach phases; 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use to test for comprehension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9" name="Picture 5" descr="Moon Cycle &#10;Diagram looking down on Moon as it orbits Earth with Sun to right"/>
          <p:cNvPicPr/>
          <p:nvPr/>
        </p:nvPicPr>
        <p:blipFill>
          <a:blip r:embed="rId1"/>
          <a:stretch/>
        </p:blipFill>
        <p:spPr>
          <a:xfrm>
            <a:off x="380880" y="1066680"/>
            <a:ext cx="4267440" cy="2822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Cartoon of Moon-Earth Orbit, illustrating the phases of the moon. The &#10;cartoon is labeled Moon-Earth-Sun as viewed from above our solar system.  The &#10;Earth sits in the center of eight images of the moon at different places in &#10;the lunar cycle.  To the right the Sun shines on the Moon Earth system."/>
          <p:cNvPicPr/>
          <p:nvPr/>
        </p:nvPicPr>
        <p:blipFill>
          <a:blip r:embed="rId2"/>
          <a:stretch/>
        </p:blipFill>
        <p:spPr>
          <a:xfrm>
            <a:off x="3733920" y="3124080"/>
            <a:ext cx="5257800" cy="3492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8"/>
          <p:cNvSpPr/>
          <p:nvPr/>
        </p:nvSpPr>
        <p:spPr>
          <a:xfrm>
            <a:off x="228600" y="6583320"/>
            <a:ext cx="510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starchild.gsfc.nasa.gov/docs/StarChild/questions/question3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942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4" name="Picture 5" descr="This diagram shows how the Moon always has a lit side (facing the&#10;Sun) and a dark side (facing away from the Sun). At the bottom of the diagram eight phases of the moon are illustrated with the heading: How th e moon appears from Earth."/>
          <p:cNvPicPr/>
          <p:nvPr/>
        </p:nvPicPr>
        <p:blipFill>
          <a:blip r:embed="rId1"/>
          <a:stretch/>
        </p:blipFill>
        <p:spPr>
          <a:xfrm>
            <a:off x="914400" y="533520"/>
            <a:ext cx="6781680" cy="5651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4572000" y="6324480"/>
            <a:ext cx="45720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 Unicode MS"/>
              </a:rPr>
              <a:t>starchild.gsfc.nasa.gov/docs/StarChild/questions/phases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Eclips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5943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Sun and Moon occasionally line up so that we have an eclipse.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se eclipses happen every year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o see a solar eclipse, you need to be on a particular part of the Earth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LEDiagram1c"/>
          <p:cNvPicPr/>
          <p:nvPr/>
        </p:nvPicPr>
        <p:blipFill>
          <a:blip r:embed="rId1"/>
          <a:stretch/>
        </p:blipFill>
        <p:spPr>
          <a:xfrm>
            <a:off x="76320" y="0"/>
            <a:ext cx="9067680" cy="60451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437040" y="6248520"/>
            <a:ext cx="86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Unicode MS"/>
              </a:rPr>
              <a:t>When the Earth’s shadow covers the Moon, we have a lunar eclipse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hree types of Lunar Eclips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enumbral lunar eclipse—the Moon only passes through the penumbra of Earth’s shadow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artial lunar eclipse—part of the Moon passes through the umbra of Earth’s shadow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otal lunar eclipse—the entire Moon passes through the umbra of Earth’s shadow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Who on Earth will be able to see a lunar eclipse?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62120" y="4952880"/>
            <a:ext cx="71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ahoma"/>
              </a:rPr>
              <a:t>Anyone who can see the Moon (anyone who is on the nighttime side of the Earth during the eclipse)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1:56:41Z</dcterms:created>
  <dc:creator>shipp</dc:creator>
  <dc:description/>
  <dc:language>en-US</dc:language>
  <cp:lastModifiedBy>LEGION</cp:lastModifiedBy>
  <dcterms:modified xsi:type="dcterms:W3CDTF">2018-03-22T09:38:11Z</dcterms:modified>
  <cp:revision>403</cp:revision>
  <dc:subject/>
  <dc:title>PowerPoint Presentation</dc:title>
</cp:coreProperties>
</file>