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7.jpeg" ContentType="image/jpeg"/>
  <Override PartName="/ppt/media/image11.jpeg" ContentType="image/jpeg"/>
  <Override PartName="/ppt/media/image6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47350-8DE3-4E3D-B8A0-E9DE18FFC2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F3409-39BF-4CB1-9B30-2614255796FE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1E270-F64A-4607-955D-FDC7A0D781DD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30183-E34E-4E0F-8BD0-716E44DE2204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EC6FD-78B9-45BD-9A3F-F1FC988CCDE5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her end of the ladel point to Regul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ndle curves to Arcturus then Sp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51771-0219-4D3E-9D5F-0DBA538D2670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00B03-DFC4-4F7D-84D8-16F2C325E213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1029D-FA52-4922-BF15-DA221F8A1870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219AD-0EFD-4DFE-80F4-B62128BD31A5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E63FC-C243-43B5-9C49-FB5AB01AA9F3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38498-AF47-4233-B252-9E9FB689D4C2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56AD5-1AB6-4EF6-AF99-FEFA336E647C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6B17A-59D6-423E-A032-9BB396DE6DDB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A59DC-5A41-4191-A523-72079CB6D425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0AC4E-467F-48E5-B5D1-24BD2F44D782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59B5A-732A-4596-BE3B-4B898EE643D0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DC710-08E3-4C3A-B76F-EA557A1654BB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F8AEE-811B-4626-A519-1C7CE2AD5041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50BF1-C4C3-4841-B7ED-5946696CB2E4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29973-CC40-416E-BD0E-AD0CB9128F7A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681D6-2EB0-48AB-B207-EA1EB91A724F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FAB92-541E-4B2B-B1C2-3C4A00FA7235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1A4A7-AEF4-4C09-9481-E951482E5BB5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0085C-5B93-412A-9230-AFFE3DD627D1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81F90-2D03-4E17-BDBE-60C79A6EC26D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FC40B-0314-42DD-A1CE-479D405101B9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6771-2345-41DE-8AA7-19A9FCF45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D6C7-EE15-4636-A844-F7E6D419F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CCC0-943C-4B5C-B6AE-9978A1B69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2672-B246-4985-9E03-D9093D1AF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0034A-7F17-4722-868A-34547BD6E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7492A-14E1-43E5-99AA-129D3AFBF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529D2-333E-49E2-B6C0-3397A8AD6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8A536-2300-42E7-80E8-2F6F63774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C3356-9E2F-4DA1-A53B-4DEE21FED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B4E90-7CE9-44C0-B3F0-7348826E2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AB163-7B27-4253-A5A7-D3B57F74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DA48-67CF-499F-A81C-4FFD2A459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648E7-B921-4DBF-AC44-D8052671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B91D8-42E1-431B-ADC5-2AA40565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38931-0EDD-4C74-9DAB-0C9DD7B97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1DE2E-5F1F-4027-8648-D3AE61317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D95A7-CD95-4765-8A73-E24F17A70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0DC4-0DF2-49D1-AB47-1A46117FC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478E-F846-434E-AAB7-5883A7406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DF3F-D784-4FB6-A0AB-44E11B6B5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B57B-D73D-4532-9CCD-C341BA514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B34C-411B-463D-A914-C76D6130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912C-EB4B-402F-98D4-2A38C17D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160E-E1A2-41D7-9541-831BFBB8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1157D-45F0-467C-A642-9D5E36CBB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8D41F-36FF-4726-AF24-C1E93D680E39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antwrp.gsfc.nasa.gov/apod/ap090627.html" TargetMode="External"/><Relationship Id="rId2" Type="http://schemas.openxmlformats.org/officeDocument/2006/relationships/hyperlink" Target="http://antwrp.gsfc.nasa.gov/apod/ap090912.html" TargetMode="External"/><Relationship Id="rId3" Type="http://schemas.openxmlformats.org/officeDocument/2006/relationships/hyperlink" Target="http://antwrp.gsfc.nasa.gov/apod/ap021106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stropix.com/HTML/C_SPRING/URSAS.H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earth-and-moon-from-mars"/>
          <p:cNvPicPr/>
          <p:nvPr/>
        </p:nvPicPr>
        <p:blipFill>
          <a:blip r:embed="rId1"/>
          <a:stretch/>
        </p:blipFill>
        <p:spPr>
          <a:xfrm>
            <a:off x="152280" y="228600"/>
            <a:ext cx="8991720" cy="64771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Night Sky Watching (Basics)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y care about finding Polaris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direction of Polaris is due North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angle between Polaris and the horizon is </a:t>
            </a:r>
            <a:r>
              <a:rPr b="1" lang="en-US" sz="4400" spc="-1" strike="noStrike">
                <a:solidFill>
                  <a:srgbClr val="cc0099"/>
                </a:solidFill>
                <a:latin typeface="Verdana"/>
              </a:rPr>
              <a:t>YOUR LATITUDE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ow can I measure angles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9" name="Picture 4" descr="handdiagrams"/>
          <p:cNvPicPr/>
          <p:nvPr/>
        </p:nvPicPr>
        <p:blipFill>
          <a:blip r:embed="rId1"/>
          <a:stretch/>
        </p:blipFill>
        <p:spPr>
          <a:xfrm>
            <a:off x="-1066680" y="990720"/>
            <a:ext cx="11048760" cy="4724280"/>
          </a:xfrm>
          <a:prstGeom prst="rect">
            <a:avLst/>
          </a:prstGeom>
          <a:ln w="0">
            <a:noFill/>
          </a:ln>
        </p:spPr>
      </p:pic>
      <p:sp>
        <p:nvSpPr>
          <p:cNvPr id="16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Big Dipper as Star Guide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3" name="Picture 4" descr="dipper_guide"/>
          <p:cNvPicPr/>
          <p:nvPr/>
        </p:nvPicPr>
        <p:blipFill>
          <a:blip r:embed="rId1"/>
          <a:stretch/>
        </p:blipFill>
        <p:spPr>
          <a:xfrm>
            <a:off x="990720" y="415800"/>
            <a:ext cx="7238880" cy="6442200"/>
          </a:xfrm>
          <a:prstGeom prst="rect">
            <a:avLst/>
          </a:prstGeom>
          <a:ln w="0">
            <a:noFill/>
          </a:ln>
        </p:spPr>
      </p:pic>
      <p:sp>
        <p:nvSpPr>
          <p:cNvPr id="16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stellatio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7" name="Picture 4" descr="viewfromathens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145200"/>
          </a:xfrm>
          <a:prstGeom prst="rect">
            <a:avLst/>
          </a:prstGeom>
          <a:ln w="0">
            <a:noFill/>
          </a:ln>
        </p:spPr>
      </p:pic>
      <p:sp>
        <p:nvSpPr>
          <p:cNvPr id="16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Astronomy Picture of the Day (APOD)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http://antwrp.gsfc.nasa.gov/apod/ap090627.htm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ummer Triangl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http://antwrp.gsfc.nasa.gov/apod/ap090912.htm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Winter Hexag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http://antwrp.gsfc.nasa.gov/apod/ap021106.htm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-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ummer Triangl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4" name="Picture 4" descr="summertriangle"/>
          <p:cNvPicPr/>
          <p:nvPr/>
        </p:nvPicPr>
        <p:blipFill>
          <a:blip r:embed="rId1"/>
          <a:stretch/>
        </p:blipFill>
        <p:spPr>
          <a:xfrm>
            <a:off x="0" y="758880"/>
            <a:ext cx="9144000" cy="6161040"/>
          </a:xfrm>
          <a:prstGeom prst="rect">
            <a:avLst/>
          </a:prstGeom>
          <a:ln w="0">
            <a:noFill/>
          </a:ln>
        </p:spPr>
      </p:pic>
      <p:sp>
        <p:nvSpPr>
          <p:cNvPr id="17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277920"/>
            <a:ext cx="2590920" cy="6580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inter Hexag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7" name="Picture 3" descr="winterhexagon"/>
          <p:cNvPicPr/>
          <p:nvPr/>
        </p:nvPicPr>
        <p:blipFill>
          <a:blip r:embed="rId1"/>
          <a:stretch/>
        </p:blipFill>
        <p:spPr>
          <a:xfrm>
            <a:off x="2666880" y="0"/>
            <a:ext cx="647712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stellation Fact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104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roup of stars all in roughly the same direction from Earth, BUT …. Each has its own different distance from the Earth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refore, NOT grouped together is spac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rom Greek astronomers have inherited the names of the constellations: mythological figures or animal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ifferent cultures on Earth each have different names for the constellation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3733920" cy="487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stellation Stars at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ifferent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Distances from Earth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4" name="Picture 4" descr="orion_2d_3d"/>
          <p:cNvPicPr/>
          <p:nvPr/>
        </p:nvPicPr>
        <p:blipFill>
          <a:blip r:embed="rId1"/>
          <a:stretch/>
        </p:blipFill>
        <p:spPr>
          <a:xfrm>
            <a:off x="3505320" y="0"/>
            <a:ext cx="5960880" cy="7086600"/>
          </a:xfrm>
          <a:prstGeom prst="rect">
            <a:avLst/>
          </a:prstGeom>
          <a:ln w="0">
            <a:noFill/>
          </a:ln>
        </p:spPr>
      </p:pic>
      <p:sp>
        <p:nvSpPr>
          <p:cNvPr id="18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Visible Constellations change over a year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ay have heard …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rion is a winter constellation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You can see Cygnus most of the summer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bove comments arise because you cannot see the Constellations near where  the Sun is in the sk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un so bright it washes out rest of star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nce Sun moves along the Ecliptic over a year the constellations “away” from the Sun change over a year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tars Pivot around a Poin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7" name="Picture 4" descr="04a-021"/>
          <p:cNvPicPr/>
          <p:nvPr/>
        </p:nvPicPr>
        <p:blipFill>
          <a:blip r:embed="rId1"/>
          <a:stretch/>
        </p:blipFill>
        <p:spPr>
          <a:xfrm>
            <a:off x="2362320" y="533520"/>
            <a:ext cx="4356000" cy="6324480"/>
          </a:xfrm>
          <a:prstGeom prst="rect">
            <a:avLst/>
          </a:prstGeom>
          <a:ln w="0">
            <a:noFill/>
          </a:ln>
        </p:spPr>
      </p:pic>
      <p:sp>
        <p:nvSpPr>
          <p:cNvPr id="12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5105520" cy="586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stellations on opposite side of Sun (Opposition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1" name="Picture 4" descr="season_const"/>
          <p:cNvPicPr/>
          <p:nvPr/>
        </p:nvPicPr>
        <p:blipFill>
          <a:blip r:embed="rId1"/>
          <a:stretch/>
        </p:blipFill>
        <p:spPr>
          <a:xfrm>
            <a:off x="5073480" y="0"/>
            <a:ext cx="407052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Zodiac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Band of constellations closest to the Ecliptic (Sun’s yearly path across the sky)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298440" indent="-29844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orrespond to Horoscope “Signs”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646200" indent="-2484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strology used to make predictions (not science!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298440" indent="-29844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Useful for backyard astronomy: Planets and the Moon can </a:t>
            </a:r>
            <a:r>
              <a:rPr b="0" lang="en-US" sz="3600" spc="-1" strike="noStrike" u="sng">
                <a:solidFill>
                  <a:srgbClr val="eaeaea"/>
                </a:solidFill>
                <a:uFillTx/>
                <a:latin typeface="Verdana"/>
              </a:rPr>
              <a:t>always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be found in the Zodiac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298440" indent="-29844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Width of the Zodiac belt ~ 18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  <a:ea typeface="Times New Roman"/>
              </a:rPr>
              <a:t>°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8" name="Picture 1029" descr="zodiac_ba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9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2" name="Picture 4" descr="Westlake3Planets061905"/>
          <p:cNvPicPr/>
          <p:nvPr/>
        </p:nvPicPr>
        <p:blipFill>
          <a:blip r:embed="rId1"/>
          <a:stretch/>
        </p:blipFill>
        <p:spPr>
          <a:xfrm>
            <a:off x="-581040" y="0"/>
            <a:ext cx="10258560" cy="6862680"/>
          </a:xfrm>
          <a:prstGeom prst="rect">
            <a:avLst/>
          </a:prstGeom>
          <a:ln w="0">
            <a:noFill/>
          </a:ln>
        </p:spPr>
      </p:pic>
      <p:sp>
        <p:nvSpPr>
          <p:cNvPr id="203" name="Oval 5"/>
          <p:cNvSpPr/>
          <p:nvPr/>
        </p:nvSpPr>
        <p:spPr>
          <a:xfrm>
            <a:off x="6400800" y="5562720"/>
            <a:ext cx="228600" cy="228600"/>
          </a:xfrm>
          <a:prstGeom prst="ellipse">
            <a:avLst/>
          </a:prstGeom>
          <a:noFill/>
          <a:ln w="9360">
            <a:solidFill>
              <a:srgbClr val="5e85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4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7" name="Picture 4" descr="ecliptic_clem_bi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0" y="53341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Mercur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991800" y="44197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Mar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2209680" y="4724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Satur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1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38120" y="-36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Naming Star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952880" y="1905120"/>
            <a:ext cx="4191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rightest star in constellation Tauru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Greek name: </a:t>
            </a:r>
            <a:r>
              <a:rPr b="0" lang="el-GR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α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 Tauru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Arabic name: Aldebara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Al Debarren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The Follower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(of the Pleiades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4" name="Picture 4" descr="taurus"/>
          <p:cNvPicPr/>
          <p:nvPr/>
        </p:nvPicPr>
        <p:blipFill>
          <a:blip r:embed="rId1"/>
          <a:stretch/>
        </p:blipFill>
        <p:spPr>
          <a:xfrm>
            <a:off x="0" y="0"/>
            <a:ext cx="4951440" cy="38098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pleiades-20960"/>
          <p:cNvPicPr/>
          <p:nvPr/>
        </p:nvPicPr>
        <p:blipFill>
          <a:blip r:embed="rId2"/>
          <a:stretch/>
        </p:blipFill>
        <p:spPr>
          <a:xfrm>
            <a:off x="304920" y="365760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216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North Celestial Pole (NCP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pecial spot on the sky that the Earth’s rotation axis points to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y special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279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Verdana"/>
              </a:rPr>
              <a:t>During the night the stars appear to rotate around this spot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lso special (and useful) in other ways …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atching Stars from the North Pol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4" name="Picture 4" descr="SouthPole"/>
          <p:cNvPicPr/>
          <p:nvPr/>
        </p:nvPicPr>
        <p:blipFill>
          <a:blip r:embed="rId1"/>
          <a:stretch/>
        </p:blipFill>
        <p:spPr>
          <a:xfrm>
            <a:off x="838080" y="1128600"/>
            <a:ext cx="7162920" cy="5729400"/>
          </a:xfrm>
          <a:prstGeom prst="rect">
            <a:avLst/>
          </a:prstGeom>
          <a:ln w="0">
            <a:noFill/>
          </a:ln>
        </p:spPr>
      </p:pic>
      <p:sp>
        <p:nvSpPr>
          <p:cNvPr id="13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stellations are Bi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8" name="Picture 4" descr="polaris"/>
          <p:cNvPicPr/>
          <p:nvPr/>
        </p:nvPicPr>
        <p:blipFill>
          <a:blip r:embed="rId1"/>
          <a:stretch/>
        </p:blipFill>
        <p:spPr>
          <a:xfrm>
            <a:off x="0" y="714240"/>
            <a:ext cx="9144000" cy="6143760"/>
          </a:xfrm>
          <a:prstGeom prst="rect">
            <a:avLst/>
          </a:prstGeom>
          <a:ln w="0">
            <a:noFill/>
          </a:ln>
        </p:spPr>
      </p:pic>
      <p:sp>
        <p:nvSpPr>
          <p:cNvPr id="13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ig Dipper: Points to Polari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http://www.astropix.com/HTML/C_SPRING/URSAS.HT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inding Polari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5" name="Picture 4" descr="northstar01"/>
          <p:cNvPicPr/>
          <p:nvPr/>
        </p:nvPicPr>
        <p:blipFill>
          <a:blip r:embed="rId1"/>
          <a:stretch/>
        </p:blipFill>
        <p:spPr>
          <a:xfrm>
            <a:off x="228600" y="909720"/>
            <a:ext cx="8915400" cy="5948280"/>
          </a:xfrm>
          <a:prstGeom prst="rect">
            <a:avLst/>
          </a:prstGeom>
          <a:ln w="0">
            <a:noFill/>
          </a:ln>
        </p:spPr>
      </p:pic>
      <p:sp>
        <p:nvSpPr>
          <p:cNvPr id="14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ucky Breaks!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star Polaris is amazing close to NCP (now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“pointer stars” in the Big Dipper line up directly with Polaris!!!!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ig Dipper is circumpolar constellati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e it all night and all yea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olaris also called Pole Star, North Sta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ig Dipp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2" name="Picture 4" descr="04a-021a"/>
          <p:cNvPicPr/>
          <p:nvPr/>
        </p:nvPicPr>
        <p:blipFill>
          <a:blip r:embed="rId1"/>
          <a:stretch/>
        </p:blipFill>
        <p:spPr>
          <a:xfrm>
            <a:off x="838080" y="609480"/>
            <a:ext cx="740736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sus</cp:lastModifiedBy>
  <dcterms:modified xsi:type="dcterms:W3CDTF">2018-03-13T05:31:25Z</dcterms:modified>
  <cp:revision>185</cp:revision>
  <dc:subject/>
  <dc:title>PowerPoint Presentation</dc:title>
</cp:coreProperties>
</file>