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3CFD-A8C5-46E8-B031-3EA1A07AA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661A1-41DF-4E4E-BA94-F8B27B28B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F20BB-EB44-4951-9678-27CBAC586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FD05C-F1B9-4AA1-BD6A-C8CBF1A67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7325E-E98C-4D64-A7AB-556AE388D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FCB54-7C3C-411B-AD51-44737D96B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460D1-B714-4A36-9FD9-FCFCAA71F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1FE38-B2B7-4158-ADE1-52C90AED2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F2D2E-B8E8-4C58-AA86-66910C8B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195AB-258C-4908-A7EE-302AB44B2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BFE2-5C29-4795-BFC5-59726EFE5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5A73-F2F8-4822-9250-298AC9CCC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C7093-4B55-4B3B-8F15-4788DEA3B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F546-6231-451E-886F-8BEDBE05CD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Нижний колонтитул 3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Нижний колонтитул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8-03-22T09:51:53Z</dcterms:modified>
  <cp:revision>3</cp:revision>
  <dc:subject/>
  <dc:title>Chapter 6  Our Solar System and Its Origin</dc:title>
</cp:coreProperties>
</file>