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2578-683F-4926-8E0F-95F24733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6E9-605E-49BB-A31B-4D5E8B4A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941-B6A8-45BF-8ED9-10B7FCDC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00B-3E91-492A-9EAA-6FA0556D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8E8-D5C5-43FB-A3AC-83555E6C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716-09ED-44DA-A420-7459885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327-8C54-4C24-93A4-3C599F92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056-2A3A-4BF6-8768-DF3EE7A4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62B-5311-464E-A47E-FE33ED2C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344-CD83-4572-BFF5-883FCDD8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626-3409-4E51-976A-ADFA0C7E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093-5C21-4BBD-B38C-8EAB78C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0A2-FF80-46C9-AA7A-616B2A3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1B78-045A-4D74-977E-A99426DDF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5972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47120" y="1179360"/>
            <a:ext cx="81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55096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3200400" y="4800600"/>
            <a:ext cx="2057400" cy="14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975400" y="43434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286000" cy="145908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343400" cy="42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55400" y="5715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0840" y="1179360"/>
            <a:ext cx="77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858000" y="4952880"/>
            <a:ext cx="2057400" cy="1341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791320" y="5029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8040" y="1219320"/>
            <a:ext cx="88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229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210040" cy="15667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286000" cy="2346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32560" y="61722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14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2347920" cy="17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867280" y="373392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92680" y="2093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are sometim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snowb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"icy mudball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64120" y="369396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778360" y="559908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172200" y="1295280"/>
            <a:ext cx="2181240" cy="17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63192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79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838160" cy="181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378920" y="55227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581640" cy="368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27880" y="1523880"/>
            <a:ext cx="89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269960" y="4648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81280" cy="39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241760" y="1752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114800" y="2362320"/>
            <a:ext cx="18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1903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43504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2898720" y="1600200"/>
            <a:ext cx="285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666880" cy="19270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6224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00600" y="2133720"/>
            <a:ext cx="17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502920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802760" y="60199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66294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08160" y="10666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404400" y="37339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781680" y="495288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274320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1520" y="1255680"/>
            <a:ext cx="7968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or pla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666880" cy="2065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41840" cy="38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38280" cy="1616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499640" y="63244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89760" y="121932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6280" y="38098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3657600" cy="124128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9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15717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7320" y="1066680"/>
            <a:ext cx="88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1680" y="2209680"/>
            <a:ext cx="195264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6400800" y="3809880"/>
            <a:ext cx="22096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4719240" y="304812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930000" y="1752480"/>
            <a:ext cx="175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718880" y="5562720"/>
            <a:ext cx="405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9:56:38Z</dcterms:created>
  <dc:creator>justin</dc:creator>
  <dc:description/>
  <dc:language>en-US</dc:language>
  <cp:lastModifiedBy>LEGION</cp:lastModifiedBy>
  <dcterms:modified xsi:type="dcterms:W3CDTF">2018-03-22T09:53:36Z</dcterms:modified>
  <cp:revision>11</cp:revision>
  <dc:subject/>
  <dc:title>Slide 1</dc:title>
</cp:coreProperties>
</file>