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67D79-5AD0-4411-855F-A67DFD088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So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rian Jan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School Astronomy Clu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So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rian Jan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School Astronomy Clu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r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anus is a very unusual planet because it sits on its side with north and s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es sticking out the sides. It rotates around this axis, making it look like a b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ing around in a circle around the Su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f Uranus’s mo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RAN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lack r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ranus is a very unusual planet because it sits on its side with north and so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les sticking out the sides. It rotates around this axis, making it look like a b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lling around in a circle around the Sun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me of Uranus’s mo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TU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y Dark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tune, usually the eighth planet from the Sun, is a very cold pla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asionally, Pluto crosses Neptune’s orbit and becomes the eight plane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bluish color comes from its atmosphere of methane g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PTU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iny Dark Mo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ptune, usually the eighth planet from the Sun, is a very cold plac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ccasionally, Pluto crosses Neptune’s orbit and becomes the eight plane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ts bluish color comes from its atmosphere of methane ga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rest view to 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Pluto and Cha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to, usually the ninth planet from the Sun, is the smallest planet in our solar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scientists believe that Pluto once was one of Neptune’s moons, and that 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led out away from Neptune and made its own orb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U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rest view to d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f Pluto and Char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uto, usually the ninth planet from the Sun, is the smallest planet in our solar syste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me scientists believe that Pluto once was one of Neptune’s moons, and that i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lled out away from Neptune and made its own orbi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t Halley in 19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ts are sometimes called dirty snowballs or "icy mudballs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 mixture of ices (both water and frozen gases) and dust that 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eason didn't get incorporated into planets when the solar system was form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akes them very interesting as samples of the early history of the solar syst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ts h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liptical orb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e see a comet, w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seeing the tail of the com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comes close to the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t Halley in 19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ts are sometimes called dirty snowballs or "icy mudballs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 mixture of ices (both water and frozen gases) and dust that 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eason didn't get incorporated into planets when the solar system was form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akes them very interesting as samples of the early history of the solar syst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ts h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liptical orb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e see a comet, w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seeing the tail of the com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comes close to the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fl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sp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w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fl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sp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w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, the planet nearest the Sun, is the second smallest planet in our solar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only slightly larger than the Earth's moon. The surface is covered with cra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iny planet does not have any rings or mo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e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a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, the planet nearest the Sun, is the second smallest planet in our solar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only slightly larger than the Earth's moon. The surface is covered with cra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iny planet does not have any rings or mo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e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a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act cra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va fl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us is one of the brightest objects in our sk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it is clearly visible to the naked ey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an be tricky to spot because it is al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r the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rises and sets with the Sun each da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ient civilizations believed Venus w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ually two different object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y called the one that rose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ning Star, and the one that s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vening Sta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act cra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va fl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us is one of the brightest objects in our sk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it is clearly visible to the naked ey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an be tricky to spot because it is al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r the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rises and sets with the Sun each da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ient civilizations believed Venus w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ually two different object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y called the one that rose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ning Star, and the one that s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vening Sta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 and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imilaritie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s do you no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ween the Earth and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they have su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surface featu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 and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imilaritie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s do you no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ween the Earth and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they have su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surface featu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lympus Mons is the largest volcano in our solar system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an cr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 is very bright, which makes it easy to spot in the night sky. It was named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man god of war because its reddish color reminded the people of bl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people h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landed on Mar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sent robo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orers t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lympus Mons is the largest volcano in our solar system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an cr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 is very bright, which makes it easy to spot in the night sky. It was named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man god of war because its reddish color reminded the people of bl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people h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landed on Mar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sent robo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orers t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EROID BE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asteroids can be found in the Asteroid Belt, which is located betwe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 and Jupiter.  Asteroids are rocky and metallic objects that orbit the Sun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are too small to be considered planets. They are known as minor plan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eroids range in size from Ceres, which has a diameter of about 1000 km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wn to the size of pebb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EROID BE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asteroids can be found in the Asteroid Belt, which is located betwe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 and Jupiter.  Asteroids are rocky and metallic objects that orbit the Sun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are too small to be considered planets. They are known as minor plan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eroids range in size from Ceres, which has a diameter of about 1000 km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wn to the size of pebb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P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a few of Jupiter’s mo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piter, the fifth planet from the Sun, is the largest planet in our solar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piter is so big that over 1,000 planets the size of Earth could fit in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over 60 moons and 2 rings.  Can life exist on Jupiter's moon, Europa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Great Red Spo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ctually a hu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m system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UPI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ere are a few of Jupiter’s mo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upiter, the fifth planet from the Sun, is the largest planet in our solar system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upiter is so big that over 1,000 planets the size of Earth could fit into i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t has over 60 moons and 2 rings.  Can life exist on Jupiter's moon, Europa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“Great Red Spot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 actually a hu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orm system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urn, the sixth planet from the Sun, is the second largest planet in our solar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often called the ringed planet because many rings of dust and rocks surround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urn also has over 31 mo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f Saturn’s r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urn with some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mo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an is a moon of Saturn that may have so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itions necessary for life! The picture 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shows an artist’s drawing of how Tit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ght have looked when the Cassini-Huygen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e dropped into its atmosphere in Dec., 200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turn, the sixth planet from the Sun, is the second largest planet in our solar system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 is often called the ringed planet because many rings of dust and rocks surround i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turn also has over 31 moons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me of Saturn’s ring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turn with some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s mo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tan is a moon of Saturn that may have som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ditions necessary for life! The picture o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right shows an artist’s drawing of how Tit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ght have looked when the Cassini-Huygen’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be dropped into its atmosphere in Dec., 2004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8089-28F7-4B7A-B3A5-FC5AECBE7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590C-B81A-43F9-8272-2B91696CB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5F4F-F639-4751-8CD7-BB2C712C2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E39C-7EF7-453C-BBF0-B274EBFDC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142A-E2C0-4D4F-8085-6CFDD1D97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71EE-3BE6-4F55-A734-444C97A3C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7384-BA3D-4471-8EEE-54AEB21F7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6FFE-9F0B-450F-A7BB-94786A5E8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DBBF-7772-44EA-BDEF-21D0CDD12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97EC-152C-40AC-8985-FCB78E945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12BC-2E67-44B9-90A3-70FE0E86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0A3C-E59A-47D5-A435-7E148AF6B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20362-4549-43AE-95E7-D21C7D7A2C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r Solar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rian Jan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School Astronomy Clu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5486400" y="228600"/>
            <a:ext cx="3276720" cy="2023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2362320" cy="2308320"/>
          </a:xfrm>
          <a:prstGeom prst="rect">
            <a:avLst/>
          </a:prstGeom>
          <a:ln w="0">
            <a:noFill/>
          </a:ln>
        </p:spPr>
      </p:pic>
      <p:sp>
        <p:nvSpPr>
          <p:cNvPr id="52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A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533520" y="51814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459720" y="472428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ack r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447120" y="1179360"/>
            <a:ext cx="812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anus is a very unusual planet because it sits on its side with north and so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es sticking out the sides. It rotates around this axis, making it look like a b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lling around in a circle around the Su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"/>
          <p:cNvPicPr/>
          <p:nvPr/>
        </p:nvPicPr>
        <p:blipFill>
          <a:blip r:embed="rId2"/>
          <a:stretch/>
        </p:blipFill>
        <p:spPr>
          <a:xfrm>
            <a:off x="6019920" y="2666880"/>
            <a:ext cx="2550960" cy="3276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"/>
          <p:cNvPicPr/>
          <p:nvPr/>
        </p:nvPicPr>
        <p:blipFill>
          <a:blip r:embed="rId3"/>
          <a:stretch/>
        </p:blipFill>
        <p:spPr>
          <a:xfrm>
            <a:off x="1143000" y="220968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"/>
          <p:cNvPicPr/>
          <p:nvPr/>
        </p:nvPicPr>
        <p:blipFill>
          <a:blip r:embed="rId4"/>
          <a:stretch/>
        </p:blipFill>
        <p:spPr>
          <a:xfrm>
            <a:off x="3200400" y="4800600"/>
            <a:ext cx="2057400" cy="149076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1"/>
          <p:cNvSpPr/>
          <p:nvPr/>
        </p:nvSpPr>
        <p:spPr>
          <a:xfrm>
            <a:off x="2975400" y="4343400"/>
            <a:ext cx="270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of Uranus’s mo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2" descr=""/>
          <p:cNvPicPr/>
          <p:nvPr/>
        </p:nvPicPr>
        <p:blipFill>
          <a:blip r:embed="rId5"/>
          <a:stretch/>
        </p:blipFill>
        <p:spPr>
          <a:xfrm>
            <a:off x="3048120" y="2286000"/>
            <a:ext cx="2286000" cy="1459080"/>
          </a:xfrm>
          <a:prstGeom prst="rect">
            <a:avLst/>
          </a:prstGeom>
          <a:ln w="0">
            <a:noFill/>
          </a:ln>
        </p:spPr>
      </p:pic>
      <p:sp>
        <p:nvSpPr>
          <p:cNvPr id="129" name="Нижний колонтитул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PTU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609480" y="2362320"/>
            <a:ext cx="4343400" cy="4221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2"/>
          <a:stretch/>
        </p:blipFill>
        <p:spPr>
          <a:xfrm>
            <a:off x="5334120" y="45720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7"/>
          <p:cNvSpPr/>
          <p:nvPr/>
        </p:nvSpPr>
        <p:spPr>
          <a:xfrm>
            <a:off x="4955400" y="571500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ny Dark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600840" y="1179360"/>
            <a:ext cx="775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ptune, usually the eighth planet from the Sun, is a very cold pla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casionally, Pluto crosses Neptune’s orbit and becomes the eight plane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s bluish color comes from its atmosphere of methane g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9" descr=""/>
          <p:cNvPicPr/>
          <p:nvPr/>
        </p:nvPicPr>
        <p:blipFill>
          <a:blip r:embed="rId3"/>
          <a:stretch/>
        </p:blipFill>
        <p:spPr>
          <a:xfrm>
            <a:off x="6248520" y="2362320"/>
            <a:ext cx="1942920" cy="1942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"/>
          <p:cNvPicPr/>
          <p:nvPr/>
        </p:nvPicPr>
        <p:blipFill>
          <a:blip r:embed="rId4"/>
          <a:stretch/>
        </p:blipFill>
        <p:spPr>
          <a:xfrm>
            <a:off x="6858000" y="4952880"/>
            <a:ext cx="2057400" cy="1341720"/>
          </a:xfrm>
          <a:prstGeom prst="rect">
            <a:avLst/>
          </a:prstGeom>
          <a:ln w="0">
            <a:noFill/>
          </a:ln>
        </p:spPr>
      </p:pic>
      <p:sp>
        <p:nvSpPr>
          <p:cNvPr id="137" name="Нижний колонтитул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UT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"/>
          <p:cNvPicPr/>
          <p:nvPr/>
        </p:nvPicPr>
        <p:blipFill>
          <a:blip r:embed="rId1"/>
          <a:stretch/>
        </p:blipFill>
        <p:spPr>
          <a:xfrm>
            <a:off x="6019920" y="304812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6"/>
          <p:cNvSpPr/>
          <p:nvPr/>
        </p:nvSpPr>
        <p:spPr>
          <a:xfrm>
            <a:off x="5791320" y="5029200"/>
            <a:ext cx="231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arest view to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Pluto and Cha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158040" y="1219320"/>
            <a:ext cx="883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uto, usually the ninth planet from the Sun, is the smallest planet in our solar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scientists believe that Pluto once was one of Neptune’s moons, and that 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ed out away from Neptune and made its own orbi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0" descr=""/>
          <p:cNvPicPr/>
          <p:nvPr/>
        </p:nvPicPr>
        <p:blipFill>
          <a:blip r:embed="rId2"/>
          <a:stretch/>
        </p:blipFill>
        <p:spPr>
          <a:xfrm>
            <a:off x="838080" y="2362320"/>
            <a:ext cx="2971800" cy="22921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2" descr=""/>
          <p:cNvPicPr/>
          <p:nvPr/>
        </p:nvPicPr>
        <p:blipFill>
          <a:blip r:embed="rId3"/>
          <a:stretch/>
        </p:blipFill>
        <p:spPr>
          <a:xfrm>
            <a:off x="1295280" y="4800600"/>
            <a:ext cx="2210040" cy="1566720"/>
          </a:xfrm>
          <a:prstGeom prst="rect">
            <a:avLst/>
          </a:prstGeom>
          <a:ln w="0">
            <a:noFill/>
          </a:ln>
        </p:spPr>
      </p:pic>
      <p:sp>
        <p:nvSpPr>
          <p:cNvPr id="144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228600" y="3733920"/>
            <a:ext cx="2286000" cy="23461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4"/>
          <p:cNvSpPr/>
          <p:nvPr/>
        </p:nvSpPr>
        <p:spPr>
          <a:xfrm>
            <a:off x="232560" y="6172200"/>
            <a:ext cx="23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et Halley in 19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1600200" cy="1251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"/>
          <p:cNvPicPr/>
          <p:nvPr/>
        </p:nvPicPr>
        <p:blipFill>
          <a:blip r:embed="rId3"/>
          <a:stretch/>
        </p:blipFill>
        <p:spPr>
          <a:xfrm>
            <a:off x="6781680" y="228600"/>
            <a:ext cx="2114640" cy="14000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"/>
          <p:cNvPicPr/>
          <p:nvPr/>
        </p:nvPicPr>
        <p:blipFill>
          <a:blip r:embed="rId4"/>
          <a:stretch/>
        </p:blipFill>
        <p:spPr>
          <a:xfrm>
            <a:off x="3124080" y="4724280"/>
            <a:ext cx="2347920" cy="1765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"/>
          <p:cNvPicPr/>
          <p:nvPr/>
        </p:nvPicPr>
        <p:blipFill>
          <a:blip r:embed="rId5"/>
          <a:stretch/>
        </p:blipFill>
        <p:spPr>
          <a:xfrm>
            <a:off x="5867280" y="3733920"/>
            <a:ext cx="2772000" cy="184788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10"/>
          <p:cNvSpPr/>
          <p:nvPr/>
        </p:nvSpPr>
        <p:spPr>
          <a:xfrm>
            <a:off x="292680" y="2093760"/>
            <a:ext cx="878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ets are sometimes calle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ty snowbal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"icy mudballs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are a mixture of ices (both water and frozen gases) and dust that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reason didn't get incorporated into planets when the solar system was form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makes them very interesting as samples of the early history of the solar syst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3264120" y="3693960"/>
            <a:ext cx="167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ets ha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tical orbi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5778360" y="5599080"/>
            <a:ext cx="330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we see a comet, 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seeing the tail of the com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comes close to the Su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Нижний колонтитул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4114800" cy="4114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2"/>
          <a:stretch/>
        </p:blipFill>
        <p:spPr>
          <a:xfrm>
            <a:off x="4648320" y="3429000"/>
            <a:ext cx="1876320" cy="1876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"/>
          <p:cNvPicPr/>
          <p:nvPr/>
        </p:nvPicPr>
        <p:blipFill>
          <a:blip r:embed="rId3"/>
          <a:stretch/>
        </p:blipFill>
        <p:spPr>
          <a:xfrm>
            <a:off x="6172200" y="1295280"/>
            <a:ext cx="2181240" cy="1710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8"/>
          <p:cNvSpPr/>
          <p:nvPr/>
        </p:nvSpPr>
        <p:spPr>
          <a:xfrm>
            <a:off x="6631920" y="312408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ar fl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4879080" y="533412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n spo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0" descr=""/>
          <p:cNvPicPr/>
          <p:nvPr/>
        </p:nvPicPr>
        <p:blipFill>
          <a:blip r:embed="rId4"/>
          <a:stretch/>
        </p:blipFill>
        <p:spPr>
          <a:xfrm>
            <a:off x="6934320" y="3733920"/>
            <a:ext cx="1838160" cy="18111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2"/>
          <p:cNvSpPr/>
          <p:nvPr/>
        </p:nvSpPr>
        <p:spPr>
          <a:xfrm>
            <a:off x="7378920" y="5522760"/>
            <a:ext cx="12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ar 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Нижний колонтитул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CU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152280" y="2971800"/>
            <a:ext cx="3581640" cy="3687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2"/>
          <a:stretch/>
        </p:blipFill>
        <p:spPr>
          <a:xfrm>
            <a:off x="5791320" y="3276720"/>
            <a:ext cx="2628720" cy="1971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"/>
          <p:cNvPicPr/>
          <p:nvPr/>
        </p:nvPicPr>
        <p:blipFill>
          <a:blip r:embed="rId3"/>
          <a:stretch/>
        </p:blipFill>
        <p:spPr>
          <a:xfrm>
            <a:off x="4114800" y="33526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7"/>
          <p:cNvSpPr/>
          <p:nvPr/>
        </p:nvSpPr>
        <p:spPr>
          <a:xfrm>
            <a:off x="227880" y="1523880"/>
            <a:ext cx="89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cury, the planet nearest the Sun, is the second smallest planet in our solar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only slightly larger than the Earth's moon. The surface is covered with cra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tiny planet does not have any rings or mo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4269960" y="4648320"/>
            <a:ext cx="134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idence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457200" y="2362320"/>
            <a:ext cx="3581280" cy="3992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"/>
          <p:cNvPicPr/>
          <p:nvPr/>
        </p:nvPicPr>
        <p:blipFill>
          <a:blip r:embed="rId2"/>
          <a:stretch/>
        </p:blipFill>
        <p:spPr>
          <a:xfrm>
            <a:off x="685800" y="2286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"/>
          <p:cNvPicPr/>
          <p:nvPr/>
        </p:nvPicPr>
        <p:blipFill>
          <a:blip r:embed="rId3"/>
          <a:stretch/>
        </p:blipFill>
        <p:spPr>
          <a:xfrm>
            <a:off x="7238880" y="3808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7"/>
          <p:cNvSpPr/>
          <p:nvPr/>
        </p:nvSpPr>
        <p:spPr>
          <a:xfrm>
            <a:off x="380880" y="1600200"/>
            <a:ext cx="18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act cra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7241760" y="175248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va fl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4114800" y="2362320"/>
            <a:ext cx="1830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nus is one of the brightest objects in our sk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it is clearly visible to the naked eye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an be tricky to spot because it is alw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ar the Su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rises and sets with the Sun each da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cient civilizations believed Venus w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ually two different object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they called the one that rose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ning Star, and the one that s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vening St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Нижний колонтитул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TH and MO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6095880" y="1828800"/>
            <a:ext cx="1903680" cy="2057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"/>
          <p:cNvPicPr/>
          <p:nvPr/>
        </p:nvPicPr>
        <p:blipFill>
          <a:blip r:embed="rId2"/>
          <a:stretch/>
        </p:blipFill>
        <p:spPr>
          <a:xfrm>
            <a:off x="3657600" y="41148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"/>
          <p:cNvPicPr/>
          <p:nvPr/>
        </p:nvPicPr>
        <p:blipFill>
          <a:blip r:embed="rId3"/>
          <a:stretch/>
        </p:blipFill>
        <p:spPr>
          <a:xfrm>
            <a:off x="304920" y="2514600"/>
            <a:ext cx="2435040" cy="29718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2"/>
          <p:cNvSpPr/>
          <p:nvPr/>
        </p:nvSpPr>
        <p:spPr>
          <a:xfrm>
            <a:off x="2898720" y="1600200"/>
            <a:ext cx="2856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similaritie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ces do you no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ween the Earth and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do they have s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surface featur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3" descr=""/>
          <p:cNvPicPr/>
          <p:nvPr/>
        </p:nvPicPr>
        <p:blipFill>
          <a:blip r:embed="rId4"/>
          <a:stretch/>
        </p:blipFill>
        <p:spPr>
          <a:xfrm>
            <a:off x="6019920" y="4419720"/>
            <a:ext cx="2666880" cy="1927080"/>
          </a:xfrm>
          <a:prstGeom prst="rect">
            <a:avLst/>
          </a:prstGeom>
          <a:ln w="0">
            <a:noFill/>
          </a:ln>
        </p:spPr>
      </p:pic>
      <p:sp>
        <p:nvSpPr>
          <p:cNvPr id="83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3886200" cy="39924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"/>
          <p:cNvPicPr/>
          <p:nvPr/>
        </p:nvPicPr>
        <p:blipFill>
          <a:blip r:embed="rId2"/>
          <a:stretch/>
        </p:blipFill>
        <p:spPr>
          <a:xfrm>
            <a:off x="4952880" y="3352680"/>
            <a:ext cx="1362240" cy="12574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4800600" y="2133720"/>
            <a:ext cx="170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ympus Mons is the largest volcano in our solar system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"/>
          <p:cNvPicPr/>
          <p:nvPr/>
        </p:nvPicPr>
        <p:blipFill>
          <a:blip r:embed="rId3"/>
          <a:stretch/>
        </p:blipFill>
        <p:spPr>
          <a:xfrm>
            <a:off x="5029200" y="48769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8"/>
          <p:cNvSpPr/>
          <p:nvPr/>
        </p:nvSpPr>
        <p:spPr>
          <a:xfrm>
            <a:off x="4802760" y="601992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ian cr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6629400" y="182880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1"/>
          <p:cNvSpPr/>
          <p:nvPr/>
        </p:nvSpPr>
        <p:spPr>
          <a:xfrm>
            <a:off x="308160" y="1066680"/>
            <a:ext cx="85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s is very bright, which makes it easy to spot in the night sky. It was named af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oman god of war because its reddish color reminded the people of bloo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6404400" y="3733920"/>
            <a:ext cx="244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people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ver landed on Mar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ave sent robo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orers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3" descr=""/>
          <p:cNvPicPr/>
          <p:nvPr/>
        </p:nvPicPr>
        <p:blipFill>
          <a:blip r:embed="rId5"/>
          <a:stretch/>
        </p:blipFill>
        <p:spPr>
          <a:xfrm>
            <a:off x="6781680" y="4952880"/>
            <a:ext cx="1724040" cy="1724040"/>
          </a:xfrm>
          <a:prstGeom prst="rect">
            <a:avLst/>
          </a:prstGeom>
          <a:ln w="0">
            <a:noFill/>
          </a:ln>
        </p:spPr>
      </p:pic>
      <p:sp>
        <p:nvSpPr>
          <p:cNvPr id="94" name="Нижний колонтитул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TEROID BE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228600" y="5029200"/>
            <a:ext cx="2743200" cy="15494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6477120" y="4876920"/>
            <a:ext cx="2523960" cy="18399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"/>
          <p:cNvSpPr/>
          <p:nvPr/>
        </p:nvSpPr>
        <p:spPr>
          <a:xfrm>
            <a:off x="371520" y="1255680"/>
            <a:ext cx="7968600" cy="20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asteroids can be found in the Asteroid Belt, which is located betw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s and Jupiter.  Asteroids are rocky and metallic objects that orbit the Su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are too small to be considered planets. They are known 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inor plane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teroids range in size from Ceres, which has a diameter of about 1000 km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 to the size of pebbl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"/>
          <p:cNvPicPr/>
          <p:nvPr/>
        </p:nvPicPr>
        <p:blipFill>
          <a:blip r:embed="rId3"/>
          <a:stretch/>
        </p:blipFill>
        <p:spPr>
          <a:xfrm>
            <a:off x="3429000" y="2971800"/>
            <a:ext cx="2666880" cy="2065320"/>
          </a:xfrm>
          <a:prstGeom prst="rect">
            <a:avLst/>
          </a:prstGeom>
          <a:ln w="0">
            <a:noFill/>
          </a:ln>
        </p:spPr>
      </p:pic>
      <p:sp>
        <p:nvSpPr>
          <p:cNvPr id="100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PI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3741840" cy="3840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2"/>
          <a:stretch/>
        </p:blipFill>
        <p:spPr>
          <a:xfrm>
            <a:off x="5257800" y="2286000"/>
            <a:ext cx="2438280" cy="16160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7"/>
          <p:cNvSpPr/>
          <p:nvPr/>
        </p:nvSpPr>
        <p:spPr>
          <a:xfrm>
            <a:off x="4499640" y="6324480"/>
            <a:ext cx="359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e are a few of Jupiter’s mo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689760" y="1219320"/>
            <a:ext cx="794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piter, the fifth planet from the Sun, is the largest planet in our solar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piter is so big that over 1,000 planets the size of Earth could fit into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has over 60 moons and 2 rings.  Can life exist on Jupiter's moon, Europa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5336280" y="3809880"/>
            <a:ext cx="23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“Great Red Spo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actually a h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m system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3" descr=""/>
          <p:cNvPicPr/>
          <p:nvPr/>
        </p:nvPicPr>
        <p:blipFill>
          <a:blip r:embed="rId3"/>
          <a:stretch/>
        </p:blipFill>
        <p:spPr>
          <a:xfrm>
            <a:off x="4572000" y="5029200"/>
            <a:ext cx="3657600" cy="1241280"/>
          </a:xfrm>
          <a:prstGeom prst="rect">
            <a:avLst/>
          </a:prstGeom>
          <a:ln w="0">
            <a:noFill/>
          </a:ln>
        </p:spPr>
      </p:pic>
      <p:sp>
        <p:nvSpPr>
          <p:cNvPr id="108" name="Нижний колонтитул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TU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4190760" cy="39924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"/>
          <p:cNvPicPr/>
          <p:nvPr/>
        </p:nvPicPr>
        <p:blipFill>
          <a:blip r:embed="rId2"/>
          <a:stretch/>
        </p:blipFill>
        <p:spPr>
          <a:xfrm>
            <a:off x="4952880" y="1828800"/>
            <a:ext cx="1571760" cy="11523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157320" y="1066680"/>
            <a:ext cx="883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turn, the sixth planet from the Sun, is the second largest planet in our solar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often called the ringed planet because many rings of dust and rocks surround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turn also has over 31 mo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"/>
          <p:cNvPicPr/>
          <p:nvPr/>
        </p:nvPicPr>
        <p:blipFill>
          <a:blip r:embed="rId3"/>
          <a:stretch/>
        </p:blipFill>
        <p:spPr>
          <a:xfrm>
            <a:off x="6781680" y="2209680"/>
            <a:ext cx="1952640" cy="1468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"/>
          <p:cNvPicPr/>
          <p:nvPr/>
        </p:nvPicPr>
        <p:blipFill>
          <a:blip r:embed="rId4"/>
          <a:stretch/>
        </p:blipFill>
        <p:spPr>
          <a:xfrm>
            <a:off x="4876920" y="41911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"/>
          <p:cNvPicPr/>
          <p:nvPr/>
        </p:nvPicPr>
        <p:blipFill>
          <a:blip r:embed="rId5"/>
          <a:stretch/>
        </p:blipFill>
        <p:spPr>
          <a:xfrm>
            <a:off x="6400800" y="3809880"/>
            <a:ext cx="2209680" cy="17431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9"/>
          <p:cNvSpPr/>
          <p:nvPr/>
        </p:nvSpPr>
        <p:spPr>
          <a:xfrm>
            <a:off x="4719240" y="3048120"/>
            <a:ext cx="198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me of Saturn’s r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6930000" y="1752480"/>
            <a:ext cx="1759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turn with some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s mo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4718880" y="5562720"/>
            <a:ext cx="40546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tan is a moon of Saturn that may have som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ditions necessary for life! The picture 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right shows an artist’s drawing of how Tit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ght have looked when the Cassini-Huygen’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be dropped into its atmosphere in Dec., 200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Нижний колонтитул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9T19:56:38Z</dcterms:created>
  <dc:creator>justin</dc:creator>
  <dc:description/>
  <dc:language>en-US</dc:language>
  <cp:lastModifiedBy>LEGION</cp:lastModifiedBy>
  <dcterms:modified xsi:type="dcterms:W3CDTF">2018-03-22T09:53:36Z</dcterms:modified>
  <cp:revision>11</cp:revision>
  <dc:subject/>
  <dc:title>Slide 1</dc:title>
</cp:coreProperties>
</file>