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3029-51A6-4661-9C3A-60FCE2B93B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3E9-9E8C-46C6-AA5C-5EA90C45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B21-87D3-4BCF-868E-AAD7D6EE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F181-72E4-4637-B3D9-7DD55FA6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D855-E4E3-488B-A771-2C303D8E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6B5B-D466-4113-8F32-C054EC67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90D5-DAAB-4B76-B9EC-BD10F7D2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2A43-3702-4F4F-A7E5-E8E62319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CB4D-1165-43FF-ADD5-EF3B3A14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785E-D6BC-4003-926D-45E5752C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554-D42A-4619-BB0C-B844EB84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8E4-3B56-4D84-8D9F-690C1F98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4618-1B57-48DC-BF2D-C0D338BA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3764-50B4-4310-A5CD-46137D37A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l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(Last)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sing/Meridian/Setting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1371600"/>
          <a:ext cx="8610480" cy="4664160"/>
        </p:xfrm>
        <a:graphic>
          <a:graphicData uri="http://schemas.openxmlformats.org/drawingml/2006/table">
            <a:tbl>
              <a:tblPr/>
              <a:tblGrid>
                <a:gridCol w="3048120"/>
                <a:gridCol w="1904760"/>
                <a:gridCol w="1828800"/>
                <a:gridCol w="18288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i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Gibb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499"/>
          <p:cNvSpPr/>
          <p:nvPr/>
        </p:nvSpPr>
        <p:spPr>
          <a:xfrm>
            <a:off x="609480" y="6095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5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Peri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dereal Period – 27.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a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rue orbital period of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nodic Period – 29.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riod of the cycle of lunar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entire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partial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numbr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inside the Earth’s pen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complete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partial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ular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Tides – strong tides when the moon and sun are al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19:17:11Z</dcterms:created>
  <dc:creator>Preferred Customer</dc:creator>
  <dc:description/>
  <dc:language>en-US</dc:language>
  <cp:lastModifiedBy>LEGION</cp:lastModifiedBy>
  <dcterms:modified xsi:type="dcterms:W3CDTF">2018-03-22T10:00:08Z</dcterms:modified>
  <cp:revision>22</cp:revision>
  <dc:subject/>
  <dc:title>Phases of the Moon</dc:title>
</cp:coreProperties>
</file>