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projctor.wav" ContentType="audio/x-wav"/>
  <Override PartName="/ppt/media/image1.png" ContentType="image/png"/>
  <Override PartName="/ppt/media/explode.wav" ContentType="audio/x-wav"/>
  <Override PartName="/ppt/media/camera.wav" ContentType="audio/x-wav"/>
  <Override PartName="/ppt/media/image6.png" ContentType="image/png"/>
  <Override PartName="/ppt/media/chimes.wav" ContentType="audio/x-wav"/>
  <Override PartName="/ppt/media/image2.jpeg" ContentType="image/jpeg"/>
  <Override PartName="/ppt/media/image3.png" ContentType="image/png"/>
  <Override PartName="/ppt/media/glass.wav" ContentType="audio/x-wav"/>
  <Override PartName="/ppt/media/drumroll.wav" ContentType="audio/x-wav"/>
  <Override PartName="/ppt/media/image4.jpeg" ContentType="image/jpeg"/>
  <Override PartName="/ppt/media/image5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929CA-44B7-4AEB-8FE6-510B926797F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`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 Of A Pla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object in orbit around a star but does not give off its own  light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her it shines by reflecting sun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 close to the sun are rocky (inner plane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 farthur away from the sun consist mostly of gases and liqui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outer plane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nine major plane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 Of A Pla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object in orbit around a star but does not give off its own  light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it shines by reflecting sun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close to the sun are rocky (inner plan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farthur away from the sun consist mostly of gases and liqui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uter plan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nine major plane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called inner planets because they orbit close to the sun. These planets 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cu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ner Planets are called inner planets because they orbit close to the sun. These planets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rcu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er Planets are called ou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 because they orbit fa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sun. These planets 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le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t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Planets are called 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because they orbit f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sun. These planets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pi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a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ptu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t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teroids are sometimes called minor planets because the are made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rocks and metal. The rocks come in many sizes. Larger rocks 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teroids. They are found in large areas between the orbits of Ma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Jupi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area is known as the Asteroid Bel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eroids are sometimes called minor planets because the are made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rocks and metal. The rocks come in many sizes. Larger rocks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eroids. They are found in large areas between the orbits of M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Jupi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ea is known as the Asteroid Be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eoroids and Meteori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eoroids are loose dust particles that come from Comeroid. Most 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small. When it enters Earth’s atmosphere it forms a bright light,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oting star. Most meteoroids break up in the Earth’s atm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y break up it is called a meteor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eoroids and Meteo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eoroids are loose dust particles that come from Comeroid. Most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mall. When it enters Earth’s atmosphere it forms a bright light,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oting star. Most meteoroids break up in th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y break up it is called a meteori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- The Sun is a star at the center of our Solar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cury - Mercury is the planet closest to the Su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- Venus is the second planet from the Sun. It is the hottest plan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 - Earth is the third planet from the Sun and the planet we live 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 - Mars is a red planet and the fourth planet from the Su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 - Jupiter is the fifth planet from the Sun. This gas giant is the largest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- Saturn is the sixth planet from the Sun. This gas giant has large, beautiful ring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 - Uranus is a gas giant and is the seventh planet from the Su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 - Neptune is a gas giant and is usually the eighth planet from the Su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to - Pluto is a rocky planet that is usually the farthest planet from the Sun. It is the smallest plan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- The Sun is a star at the center of our Sola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rcury - Mercury is the planet closest to the Su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us - Venus is the second planet from the Sun. It is the hottest plane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- Earth is the third planet from the Sun and the planet we live 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 - Mars is a red planet and the fourth planet from the Su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piter - Jupiter is the fifth planet from the Sun. This gas giant is the largest plan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urn - Saturn is the sixth planet from the Sun. This gas giant has large, beautiful ring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anus - Uranus is a gas giant and is the seventh planet from the Su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ptune - Neptune is a gas giant and is usually the eighth planet from the Su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to - Pluto is a rocky planet that is usually the farthest planet from the Sun. It is the smallest plane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ore the Universe and expand your m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san Hammo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T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ne 20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re the Universe and expand your m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san Hamm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T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ne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1B37-92F7-406B-A1FB-EF9F23106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DF20-CCED-47D5-9713-DC0FFB97B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0BA4-66EF-4A96-9383-7A74FCE10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3B5A-56FD-4213-93D3-C14F0355E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B391-110F-441D-BF1F-F3017FDA4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FBAD-F58F-4C3E-A74B-9F223942C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8D9F-543E-45BB-867C-B125A06D6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69E6-71AC-408A-8620-E954E1C79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69D0-7B50-4B4B-9A2C-D23B0F857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FFE1-3837-4E56-A706-E07D6709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5398-532A-4D21-B262-9879B31E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74CF-310C-420D-9DD2-081E2630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54D4E-0943-4061-8A06-7002DB1B92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glass.wav"/><Relationship Id="rId3" Type="http://schemas.openxmlformats.org/officeDocument/2006/relationships/audio" Target="../media/glass.wav"/><Relationship Id="rId4" Type="http://schemas.openxmlformats.org/officeDocument/2006/relationships/audio" Target="../media/glass.wav"/><Relationship Id="rId5" Type="http://schemas.openxmlformats.org/officeDocument/2006/relationships/audio" Target="../media/glass.wav"/><Relationship Id="rId6" Type="http://schemas.openxmlformats.org/officeDocument/2006/relationships/audio" Target="../media/glass.wav"/><Relationship Id="rId7" Type="http://schemas.openxmlformats.org/officeDocument/2006/relationships/audio" Target="../media/drumroll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nchantedlearning.com/subjects/astronomy/sun/" TargetMode="External"/><Relationship Id="rId2" Type="http://schemas.openxmlformats.org/officeDocument/2006/relationships/hyperlink" Target="http://www.enchantedlearning.com/subjects/astronomy/planets/mercury/" TargetMode="External"/><Relationship Id="rId3" Type="http://schemas.openxmlformats.org/officeDocument/2006/relationships/hyperlink" Target="http://www.enchantedlearning.com/subjects/astronomy/planets/venus/" TargetMode="External"/><Relationship Id="rId4" Type="http://schemas.openxmlformats.org/officeDocument/2006/relationships/hyperlink" Target="http://www.enchantedlearning.com/subjects/astronomy/planets/earth/" TargetMode="External"/><Relationship Id="rId5" Type="http://schemas.openxmlformats.org/officeDocument/2006/relationships/hyperlink" Target="http://www.enchantedlearning.com/subjects/astronomy/planets/mars/" TargetMode="External"/><Relationship Id="rId6" Type="http://schemas.openxmlformats.org/officeDocument/2006/relationships/hyperlink" Target="http://www.enchantedlearning.com/subjects/dinosaurs/glossary/indexp2.shtml" TargetMode="External"/><Relationship Id="rId7" Type="http://schemas.openxmlformats.org/officeDocument/2006/relationships/hyperlink" Target="http://www.enchantedlearning.com/subjects/dinosaurs/glossary/indexp2.shtml" TargetMode="External"/><Relationship Id="rId8" Type="http://schemas.openxmlformats.org/officeDocument/2006/relationships/hyperlink" Target="http://www.enchantedlearning.com/subjects/astronomy/planets/uranus/" TargetMode="External"/><Relationship Id="rId9" Type="http://schemas.openxmlformats.org/officeDocument/2006/relationships/hyperlink" Target="http://www.enchantedlearning.com/subjects/astronomy/planets/neptune/" TargetMode="External"/><Relationship Id="rId10" Type="http://schemas.openxmlformats.org/officeDocument/2006/relationships/hyperlink" Target="http://www.enchantedlearning.com/subjects/astronomy/planets/pluto/" TargetMode="External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nchantedlearning.com/subjects/astronomy/solarsystem/" TargetMode="External"/><Relationship Id="rId2" Type="http://schemas.openxmlformats.org/officeDocument/2006/relationships/image" Target="../media/image6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whoosh.wav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442800" y="2700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The Solar System"/>
          <p:cNvPicPr/>
          <p:nvPr/>
        </p:nvPicPr>
        <p:blipFill>
          <a:blip r:embed="rId1"/>
          <a:stretch/>
        </p:blipFill>
        <p:spPr>
          <a:xfrm>
            <a:off x="0" y="0"/>
            <a:ext cx="9144000" cy="42670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1546200" y="5630760"/>
            <a:ext cx="184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2133720" y="4495680"/>
            <a:ext cx="5045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cc00"/>
                </a:solidFill>
                <a:latin typeface="Copperplate Gothic Bold"/>
              </a:rPr>
              <a:t>Planet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2133720" y="-184320"/>
            <a:ext cx="472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finition Of A Plan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-93600" y="1031760"/>
            <a:ext cx="9131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object in orbit around a star but does not give off its own  light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ther it shines by reflecting sun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nets close to the sun are rocky (inner pla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net farthur away from the sun consist mostly of gases and liqui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outer pla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re are nine major plane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0" y="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nner Planets are called inner planets because they orbit close to the sun. These planets are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4191120" y="3962520"/>
            <a:ext cx="432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Ma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6"/>
          <p:cNvSpPr/>
          <p:nvPr/>
        </p:nvSpPr>
        <p:spPr>
          <a:xfrm>
            <a:off x="457200" y="380988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Mercur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7"/>
          <p:cNvSpPr/>
          <p:nvPr/>
        </p:nvSpPr>
        <p:spPr>
          <a:xfrm>
            <a:off x="457200" y="4724280"/>
            <a:ext cx="35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Venus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0"/>
          <p:cNvSpPr/>
          <p:nvPr/>
        </p:nvSpPr>
        <p:spPr>
          <a:xfrm>
            <a:off x="457200" y="556272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Eart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Group 36"/>
          <p:cNvGrpSpPr/>
          <p:nvPr/>
        </p:nvGrpSpPr>
        <p:grpSpPr>
          <a:xfrm>
            <a:off x="-50760" y="1798560"/>
            <a:ext cx="9247320" cy="3260880"/>
            <a:chOff x="-50760" y="1798560"/>
            <a:chExt cx="9247320" cy="3260880"/>
          </a:xfrm>
        </p:grpSpPr>
        <p:sp>
          <p:nvSpPr>
            <p:cNvPr id="62" name="Rectangle 31"/>
            <p:cNvSpPr/>
            <p:nvPr/>
          </p:nvSpPr>
          <p:spPr>
            <a:xfrm>
              <a:off x="-50760" y="1798560"/>
              <a:ext cx="9247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" name="Group 35"/>
            <p:cNvGrpSpPr/>
            <p:nvPr/>
          </p:nvGrpSpPr>
          <p:grpSpPr>
            <a:xfrm>
              <a:off x="-50760" y="1798560"/>
              <a:ext cx="5875200" cy="3260880"/>
              <a:chOff x="-50760" y="1798560"/>
              <a:chExt cx="5875200" cy="3260880"/>
            </a:xfrm>
          </p:grpSpPr>
          <p:sp>
            <p:nvSpPr>
              <p:cNvPr id="64" name="Rectangle 32"/>
              <p:cNvSpPr/>
              <p:nvPr/>
            </p:nvSpPr>
            <p:spPr>
              <a:xfrm>
                <a:off x="-50760" y="1798560"/>
                <a:ext cx="58752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Rectangle 33"/>
              <p:cNvSpPr/>
              <p:nvPr/>
            </p:nvSpPr>
            <p:spPr>
              <a:xfrm>
                <a:off x="-50760" y="1798560"/>
                <a:ext cx="2286000" cy="32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n-US" sz="18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  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66" name="Picture 34" descr="http://planetary.org/html/news/articlearchive/headlines/2003/images/mars_shaded-globe.jpg"/>
          <p:cNvPicPr/>
          <p:nvPr/>
        </p:nvPicPr>
        <p:blipFill>
          <a:blip r:embed="rId1"/>
          <a:stretch/>
        </p:blipFill>
        <p:spPr>
          <a:xfrm>
            <a:off x="5791320" y="2438280"/>
            <a:ext cx="2819160" cy="18288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7"/>
          <p:cNvSpPr/>
          <p:nvPr/>
        </p:nvSpPr>
        <p:spPr>
          <a:xfrm>
            <a:off x="5241960" y="499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8"/>
          <p:cNvSpPr/>
          <p:nvPr/>
        </p:nvSpPr>
        <p:spPr>
          <a:xfrm>
            <a:off x="5927760" y="5146560"/>
            <a:ext cx="24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Нижний колонтитул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0" y="0"/>
            <a:ext cx="883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"/>
          <p:cNvSpPr/>
          <p:nvPr/>
        </p:nvSpPr>
        <p:spPr>
          <a:xfrm flipH="1">
            <a:off x="-720" y="0"/>
            <a:ext cx="937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0" y="304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211680" y="-22320"/>
            <a:ext cx="8930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Times New Roman"/>
              </a:rPr>
              <a:t>Outer Planets are called out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3300"/>
                </a:solidFill>
                <a:latin typeface="Times New Roman"/>
              </a:rPr>
              <a:t>planets because they orbit far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Times New Roman"/>
              </a:rPr>
              <a:t>from the sun. These planets are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Times New Roman"/>
              </a:rPr>
              <a:t>called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Group 13"/>
          <p:cNvGrpSpPr/>
          <p:nvPr/>
        </p:nvGrpSpPr>
        <p:grpSpPr>
          <a:xfrm>
            <a:off x="609480" y="3597120"/>
            <a:ext cx="9247320" cy="3260880"/>
            <a:chOff x="609480" y="3597120"/>
            <a:chExt cx="9247320" cy="3260880"/>
          </a:xfrm>
        </p:grpSpPr>
        <p:sp>
          <p:nvSpPr>
            <p:cNvPr id="77" name="Rectangle 8"/>
            <p:cNvSpPr/>
            <p:nvPr/>
          </p:nvSpPr>
          <p:spPr>
            <a:xfrm>
              <a:off x="609480" y="3597120"/>
              <a:ext cx="9247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" name="Group 12"/>
            <p:cNvGrpSpPr/>
            <p:nvPr/>
          </p:nvGrpSpPr>
          <p:grpSpPr>
            <a:xfrm>
              <a:off x="609480" y="3597120"/>
              <a:ext cx="5875200" cy="3260880"/>
              <a:chOff x="609480" y="3597120"/>
              <a:chExt cx="5875200" cy="3260880"/>
            </a:xfrm>
          </p:grpSpPr>
          <p:sp>
            <p:nvSpPr>
              <p:cNvPr id="79" name="Rectangle 9"/>
              <p:cNvSpPr/>
              <p:nvPr/>
            </p:nvSpPr>
            <p:spPr>
              <a:xfrm>
                <a:off x="609480" y="3597120"/>
                <a:ext cx="58752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Rectangle 10"/>
              <p:cNvSpPr/>
              <p:nvPr/>
            </p:nvSpPr>
            <p:spPr>
              <a:xfrm>
                <a:off x="609480" y="3597120"/>
                <a:ext cx="2286000" cy="32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8400" spc="-1" strike="noStrike">
                    <a:solidFill>
                      <a:srgbClr val="000000"/>
                    </a:solidFill>
                    <a:latin typeface="Arial"/>
                  </a:rPr>
                  <a:t> 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     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1" name="Text Box 14"/>
          <p:cNvSpPr/>
          <p:nvPr/>
        </p:nvSpPr>
        <p:spPr>
          <a:xfrm>
            <a:off x="436680" y="3371760"/>
            <a:ext cx="16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pi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5"/>
          <p:cNvSpPr/>
          <p:nvPr/>
        </p:nvSpPr>
        <p:spPr>
          <a:xfrm>
            <a:off x="2286000" y="3330720"/>
            <a:ext cx="1606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tu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9"/>
          <p:cNvSpPr/>
          <p:nvPr/>
        </p:nvSpPr>
        <p:spPr>
          <a:xfrm>
            <a:off x="4038480" y="3352680"/>
            <a:ext cx="17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an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20"/>
          <p:cNvSpPr/>
          <p:nvPr/>
        </p:nvSpPr>
        <p:spPr>
          <a:xfrm>
            <a:off x="5394240" y="3317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21"/>
          <p:cNvSpPr/>
          <p:nvPr/>
        </p:nvSpPr>
        <p:spPr>
          <a:xfrm>
            <a:off x="5089680" y="3546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22"/>
          <p:cNvSpPr/>
          <p:nvPr/>
        </p:nvSpPr>
        <p:spPr>
          <a:xfrm>
            <a:off x="4495680" y="3505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23"/>
          <p:cNvSpPr/>
          <p:nvPr/>
        </p:nvSpPr>
        <p:spPr>
          <a:xfrm>
            <a:off x="4724280" y="3352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24"/>
          <p:cNvSpPr/>
          <p:nvPr/>
        </p:nvSpPr>
        <p:spPr>
          <a:xfrm>
            <a:off x="5181480" y="3352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25"/>
          <p:cNvSpPr/>
          <p:nvPr/>
        </p:nvSpPr>
        <p:spPr>
          <a:xfrm>
            <a:off x="1903320" y="4114800"/>
            <a:ext cx="170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ptu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26"/>
          <p:cNvSpPr/>
          <p:nvPr/>
        </p:nvSpPr>
        <p:spPr>
          <a:xfrm>
            <a:off x="2270160" y="4003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27"/>
          <p:cNvSpPr/>
          <p:nvPr/>
        </p:nvSpPr>
        <p:spPr>
          <a:xfrm>
            <a:off x="4175280" y="4029120"/>
            <a:ext cx="501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28"/>
          <p:cNvSpPr/>
          <p:nvPr/>
        </p:nvSpPr>
        <p:spPr>
          <a:xfrm>
            <a:off x="4413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9"/>
          <p:cNvSpPr/>
          <p:nvPr/>
        </p:nvSpPr>
        <p:spPr>
          <a:xfrm>
            <a:off x="609480" y="3352680"/>
            <a:ext cx="550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0"/>
          <p:cNvSpPr/>
          <p:nvPr/>
        </p:nvSpPr>
        <p:spPr>
          <a:xfrm>
            <a:off x="609480" y="34290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1"/>
          <p:cNvSpPr/>
          <p:nvPr/>
        </p:nvSpPr>
        <p:spPr>
          <a:xfrm>
            <a:off x="457200" y="3429000"/>
            <a:ext cx="569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4"/>
          <p:cNvSpPr/>
          <p:nvPr/>
        </p:nvSpPr>
        <p:spPr>
          <a:xfrm>
            <a:off x="5257800" y="4038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6"/>
          <p:cNvSpPr/>
          <p:nvPr/>
        </p:nvSpPr>
        <p:spPr>
          <a:xfrm>
            <a:off x="2765520" y="364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7"/>
          <p:cNvSpPr/>
          <p:nvPr/>
        </p:nvSpPr>
        <p:spPr>
          <a:xfrm>
            <a:off x="2689200" y="35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8"/>
          <p:cNvSpPr/>
          <p:nvPr/>
        </p:nvSpPr>
        <p:spPr>
          <a:xfrm>
            <a:off x="5181480" y="3429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39"/>
          <p:cNvSpPr/>
          <p:nvPr/>
        </p:nvSpPr>
        <p:spPr>
          <a:xfrm>
            <a:off x="2895480" y="4114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40"/>
          <p:cNvSpPr/>
          <p:nvPr/>
        </p:nvSpPr>
        <p:spPr>
          <a:xfrm>
            <a:off x="4479840" y="4003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41"/>
          <p:cNvSpPr/>
          <p:nvPr/>
        </p:nvSpPr>
        <p:spPr>
          <a:xfrm>
            <a:off x="4264560" y="4114800"/>
            <a:ext cx="14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u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42"/>
          <p:cNvSpPr/>
          <p:nvPr/>
        </p:nvSpPr>
        <p:spPr>
          <a:xfrm>
            <a:off x="4632480" y="3927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Group 48"/>
          <p:cNvGrpSpPr/>
          <p:nvPr/>
        </p:nvGrpSpPr>
        <p:grpSpPr>
          <a:xfrm>
            <a:off x="-4680" y="3043080"/>
            <a:ext cx="9153360" cy="771480"/>
            <a:chOff x="-4680" y="3043080"/>
            <a:chExt cx="9153360" cy="771480"/>
          </a:xfrm>
        </p:grpSpPr>
        <p:grpSp>
          <p:nvGrpSpPr>
            <p:cNvPr id="105" name="Group 46"/>
            <p:cNvGrpSpPr/>
            <p:nvPr/>
          </p:nvGrpSpPr>
          <p:grpSpPr>
            <a:xfrm>
              <a:off x="0" y="3047760"/>
              <a:ext cx="9144000" cy="762120"/>
              <a:chOff x="0" y="3047760"/>
              <a:chExt cx="9144000" cy="762120"/>
            </a:xfrm>
          </p:grpSpPr>
          <p:sp>
            <p:nvSpPr>
              <p:cNvPr id="106" name="Rectangle 43"/>
              <p:cNvSpPr/>
              <p:nvPr/>
            </p:nvSpPr>
            <p:spPr>
              <a:xfrm>
                <a:off x="0" y="3047760"/>
                <a:ext cx="914400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Rectangle 45"/>
              <p:cNvSpPr/>
              <p:nvPr/>
            </p:nvSpPr>
            <p:spPr>
              <a:xfrm>
                <a:off x="0" y="3047760"/>
                <a:ext cx="9144000" cy="762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Rectangle 47"/>
            <p:cNvSpPr/>
            <p:nvPr/>
          </p:nvSpPr>
          <p:spPr>
            <a:xfrm>
              <a:off x="-4680" y="3043080"/>
              <a:ext cx="9153360" cy="7714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9" name="Picture 44" descr="http://www.enchantedlearning.com/sgifs/Saturntiny.GIF"/>
          <p:cNvPicPr/>
          <p:nvPr/>
        </p:nvPicPr>
        <p:blipFill>
          <a:blip r:embed="rId1"/>
          <a:stretch/>
        </p:blipFill>
        <p:spPr>
          <a:xfrm>
            <a:off x="0" y="4648320"/>
            <a:ext cx="9144000" cy="2209680"/>
          </a:xfrm>
          <a:prstGeom prst="rect">
            <a:avLst/>
          </a:prstGeom>
          <a:ln w="0">
            <a:noFill/>
          </a:ln>
        </p:spPr>
      </p:pic>
      <p:sp>
        <p:nvSpPr>
          <p:cNvPr id="110" name="Нижний колонтитул 4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3" descr="http://nssdc.gsfc.nasa.gov/image/planetary/asteroid/ida.jpg"/>
          <p:cNvPicPr/>
          <p:nvPr/>
        </p:nvPicPr>
        <p:blipFill>
          <a:blip r:embed="rId1"/>
          <a:stretch/>
        </p:blipFill>
        <p:spPr>
          <a:xfrm>
            <a:off x="1474920" y="1492200"/>
            <a:ext cx="6194160" cy="38750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-4680" y="0"/>
            <a:ext cx="9352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teroids are sometimes called minor planets because the are made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rocks and metal. The rocks come in many sizes. Larger rocks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teroids. They are found in large areas between the orbits of Ma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Jupi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1295280" y="556272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s area is known as the Asteroid Be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8381880" y="0"/>
            <a:ext cx="39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Meteoroids and Meteori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5" descr="http://www.geoscience.org.za/pmsu/meteorite/handsample8.jpg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7367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365040" y="3927600"/>
            <a:ext cx="8885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eteoroids are loose dust particles that come from Comeroid. Most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Very small. When it enters Earth’s atmosphere it forms a bright light,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hooting star. Most meteoroids break up in the Earth’s atmosp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When they break up it is called a meteor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3108240" y="87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609480" y="380880"/>
            <a:ext cx="784872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Sun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 Sun is a star at the center of our Solar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Mercury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- Mercury is the planet closest to the S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Venu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- Venus is the second planet from the Sun. It is the hottest plane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Earth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- Earth is the third planet from the Sun and the planet we live 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Mar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- Mars is a red planet and the fourth planet from the S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Jupite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- Jupiter is the fifth planet from the Sun. This gas giant is the largest plan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Satur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- Saturn is the sixth planet from the Sun. This gas giant has large, beautiful ring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Uranu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- Uranus is a gas giant and is the sevent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lanet from the Sun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Neptun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- Neptune is a gas giant and is usually the eighth planet from the S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Plut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- Pluto is a rocky planet that is usually the farthest planet from the Sun. It is the smallest plane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0" y="3110040"/>
            <a:ext cx="9144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0" y="3110040"/>
            <a:ext cx="9144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0" y="3110040"/>
            <a:ext cx="9144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9" descr="solar system diagram to label"/>
          <p:cNvPicPr/>
          <p:nvPr/>
        </p:nvPicPr>
        <p:blipFill>
          <a:blip r:embed="rId2"/>
          <a:stretch/>
        </p:blipFill>
        <p:spPr>
          <a:xfrm>
            <a:off x="-990720" y="0"/>
            <a:ext cx="10515600" cy="7494480"/>
          </a:xfrm>
          <a:prstGeom prst="rect">
            <a:avLst/>
          </a:prstGeom>
          <a:ln w="0">
            <a:noFill/>
          </a:ln>
        </p:spPr>
      </p:pic>
      <p:sp>
        <p:nvSpPr>
          <p:cNvPr id="131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F:\sh106\Solarsystemsizes.gif"/>
          <p:cNvPicPr/>
          <p:nvPr/>
        </p:nvPicPr>
        <p:blipFill>
          <a:blip r:embed="rId1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3"/>
          <p:cNvSpPr/>
          <p:nvPr/>
        </p:nvSpPr>
        <p:spPr>
          <a:xfrm flipV="1" rot="10800000">
            <a:off x="379440" y="464724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Explore the Universe and expand your mi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6869880" y="5670720"/>
            <a:ext cx="227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an Hamm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e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5T20:25:54Z</dcterms:created>
  <dc:creator>RCAS</dc:creator>
  <dc:description/>
  <dc:language>en-US</dc:language>
  <cp:lastModifiedBy>LEGION</cp:lastModifiedBy>
  <dcterms:modified xsi:type="dcterms:W3CDTF">2018-03-22T10:01:29Z</dcterms:modified>
  <cp:revision>63</cp:revision>
  <dc:subject/>
  <dc:title>PowerPoint Presentation</dc:title>
</cp:coreProperties>
</file>