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2970-9E91-495C-9B03-4DC4AE5BB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8F33-517E-40EE-B685-9BF0297186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ecture was prepared on 1/23/2005 (Sunda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k me 5 hours (from 8:00pm to 1:00a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8746-901B-4544-B830-1370700D8D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5852-ED55-46CA-9A47-0469F0C6FC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39B5-9034-4445-ABB3-9298913C54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936F-CE3B-44FE-821E-4B47649A7F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FCB8-815D-4660-98D9-B8D827AD75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2364-6C28-4C46-A6EE-9A0959EAB7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7416-574C-4496-BAC7-40308B6490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4D66-FFB0-44BD-95F8-590BCA2EDC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74AD-9376-46F9-83F6-3734FB0913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BE9A-7D48-4C3A-81D7-2255F67B45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A88C-9274-4FAB-8EE4-14567E6CD6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DBF2-1411-4949-8A26-AA87502FC5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7CC6-4358-423A-83CB-D04AC5350B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8CD7-EEE4-44BF-9A22-D7CC643FF5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9818-6ABC-4D1F-AA9B-7BBE76ED35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BD3C-08FD-4760-91F5-B4A879F3B7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E5E3-6829-47A7-B7D2-0A81E3ACB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6CB9-8D46-40EB-83DF-7E3AE4F9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C4B1-1D99-4E9C-B71B-2E7282F96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7FB8-3CC9-4470-A028-6F4F4C381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FF7C-2AE8-4DCB-B8B7-1B4E22AB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AE9A-6380-4AA0-8B54-704034DD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48B8-B0D3-4138-9316-010CA29D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05A0-D9F9-479C-95BE-47CE44B2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CAFC-65ED-4362-BC11-0E70598E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9E3D-D2D7-4D20-A480-60AE6A83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6B99-D91A-4615-B091-37BDA07A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9686-DD2E-487A-B8C4-50EE0242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3CF2-B2E6-405C-A698-410CC1B3AE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eo.utexas.edu/courses/302c/EarthsClimate_Web_Chapter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0" y="533520"/>
            <a:ext cx="9080640" cy="1069200"/>
            <a:chOff x="0" y="533520"/>
            <a:chExt cx="9080640" cy="1069200"/>
          </a:xfrm>
        </p:grpSpPr>
        <p:sp>
          <p:nvSpPr>
            <p:cNvPr id="49" name="Text Box 2"/>
            <p:cNvSpPr/>
            <p:nvPr/>
          </p:nvSpPr>
          <p:spPr>
            <a:xfrm>
              <a:off x="0" y="533520"/>
              <a:ext cx="9080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ecture 3: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Radiation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and Earth’s Atmosphe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Text Box 5"/>
            <p:cNvSpPr/>
            <p:nvPr/>
          </p:nvSpPr>
          <p:spPr>
            <a:xfrm>
              <a:off x="2133360" y="1143000"/>
              <a:ext cx="49532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0000"/>
                  </a:solidFill>
                  <a:uFillTx/>
                  <a:latin typeface="Times New Roman"/>
                  <a:hlinkClick r:id="rId1"/>
                </a:rPr>
                <a:t>EarthsClimate_Web_Chapter.pdf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, p. 1-5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 txBox="1"/>
          <p:nvPr/>
        </p:nvSpPr>
        <p:spPr>
          <a:xfrm>
            <a:off x="83808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arth’s global average surface temperature in present climate is 15C (59F).  Without the atmosphere, it would be -18C (-0.4F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33C or 59.4F colder!  Atmosphere is the most important component of the earth’s climat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ation vs. other heat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energy enter the earth’s atmosphere: 174 petawatts or 174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t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ar: 99.978%, Geothermal: 0.013%, waste and fossil fuel: 0.007%, tidal: 0.002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52280" y="30481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spcBef>
                <a:spcPts val="4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Water vapor accounts for 60% of the atmospheric greenhouse effect, CO</a:t>
            </a:r>
            <a:r>
              <a:rPr b="0" lang="en-US" sz="17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 26%, and the remaining greenhouse gases 14%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2057400" y="152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eenhouse G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429000" y="1143000"/>
            <a:ext cx="236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ater vapor (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981080" y="169056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rbon dioxide (C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572000" y="169056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ethane (C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5943600" y="2224080"/>
            <a:ext cx="266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itrous oxide (N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990720" y="2209680"/>
            <a:ext cx="190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zone (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3048120" y="2133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hlorofluorocarbons (CFC’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304920" y="83808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What are they?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152280" y="426708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contributes most (55-60%) to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hropogenic greenhouse effec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and methane is a distant second (16%)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152280" y="53341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FCs cause the strongest greenhouse warming on a molecule-for-molecule basis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1295280" y="1523880"/>
            <a:ext cx="7086600" cy="129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228600" y="228600"/>
            <a:ext cx="4038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Atmospheric Absor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228600" y="1447920"/>
            <a:ext cx="3429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radiation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passes rather freely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through Earth's atmosphe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Earth emits longwave energy, which either leaks through 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arrow window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sorbed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by greenhouse gases and radiated back to Ear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4" descr="G:\clones\Meterology\custom lectures\jpegs\chapter 02\11.jpg"/>
          <p:cNvPicPr/>
          <p:nvPr/>
        </p:nvPicPr>
        <p:blipFill>
          <a:blip r:embed="rId1"/>
          <a:stretch/>
        </p:blipFill>
        <p:spPr>
          <a:xfrm>
            <a:off x="4267080" y="76320"/>
            <a:ext cx="4267440" cy="66373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6095880" y="6384960"/>
            <a:ext cx="1828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aveleng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 rot="16200000">
            <a:off x="3111480" y="2940840"/>
            <a:ext cx="2252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bsorption (100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7086600" y="15228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Nitrous Ox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7162920" y="123336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Metha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391520" y="230040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Oz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7086600" y="321480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Water Vap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4800600" y="41911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Carbon Diox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12"/>
          <p:cNvSpPr/>
          <p:nvPr/>
        </p:nvSpPr>
        <p:spPr>
          <a:xfrm>
            <a:off x="5867280" y="5410080"/>
            <a:ext cx="25909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5562720" y="5410080"/>
            <a:ext cx="304560" cy="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14"/>
          <p:cNvSpPr/>
          <p:nvPr/>
        </p:nvSpPr>
        <p:spPr>
          <a:xfrm>
            <a:off x="4876920" y="5410080"/>
            <a:ext cx="685800" cy="0"/>
          </a:xfrm>
          <a:prstGeom prst="line">
            <a:avLst/>
          </a:prstGeom>
          <a:ln w="28440">
            <a:solidFill>
              <a:srgbClr val="cc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5105520" y="5867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Total At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7086600" y="5334120"/>
            <a:ext cx="457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5029200" y="505944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18"/>
          <p:cNvSpPr/>
          <p:nvPr/>
        </p:nvSpPr>
        <p:spPr>
          <a:xfrm>
            <a:off x="3200400" y="2133720"/>
            <a:ext cx="2362320" cy="41148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19"/>
          <p:cNvSpPr/>
          <p:nvPr/>
        </p:nvSpPr>
        <p:spPr>
          <a:xfrm>
            <a:off x="3048120" y="3809880"/>
            <a:ext cx="4419360" cy="20574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20"/>
          <p:cNvSpPr/>
          <p:nvPr/>
        </p:nvSpPr>
        <p:spPr>
          <a:xfrm>
            <a:off x="2438280" y="5029200"/>
            <a:ext cx="55627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21"/>
          <p:cNvSpPr/>
          <p:nvPr/>
        </p:nvSpPr>
        <p:spPr>
          <a:xfrm>
            <a:off x="2743200" y="5105520"/>
            <a:ext cx="3962520" cy="76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Нижний колонтитул 2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Solar Intensity and Latit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3" descr="G:\clones\Meterology\custom lectures\jpegs\chapter 03\02.jpg"/>
          <p:cNvPicPr/>
          <p:nvPr/>
        </p:nvPicPr>
        <p:blipFill>
          <a:blip r:embed="rId1"/>
          <a:stretch/>
        </p:blipFill>
        <p:spPr>
          <a:xfrm>
            <a:off x="415800" y="325440"/>
            <a:ext cx="8248680" cy="39495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11160" y="4448160"/>
            <a:ext cx="905976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intensity, defined as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ergy per area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is different at different latitu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 sunlight beam tha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rikes at an angl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pread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across a greater surface area, and is 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ss intens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heat source than a beam impinging direct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Unequal Radiation on a 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3" descr="figure 02-04"/>
          <p:cNvPicPr/>
          <p:nvPr/>
        </p:nvPicPr>
        <p:blipFill>
          <a:blip r:embed="rId1"/>
          <a:stretch/>
        </p:blipFill>
        <p:spPr>
          <a:xfrm>
            <a:off x="380880" y="762120"/>
            <a:ext cx="5346720" cy="60958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6248520" y="1752480"/>
            <a:ext cx="243828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solation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onger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in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opics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(low latitudes) than in in the polar regions (high latitude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Pole-to-Equator Heating Imbal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3" descr="figure 02-05"/>
          <p:cNvPicPr/>
          <p:nvPr/>
        </p:nvPicPr>
        <p:blipFill>
          <a:blip r:embed="rId1"/>
          <a:stretch/>
        </p:blipFill>
        <p:spPr>
          <a:xfrm>
            <a:off x="1676520" y="1066680"/>
            <a:ext cx="5608440" cy="5029200"/>
          </a:xfrm>
          <a:prstGeom prst="rect">
            <a:avLst/>
          </a:prstGeom>
          <a:ln w="0">
            <a:noFill/>
          </a:ln>
        </p:spPr>
      </p:pic>
      <p:sp>
        <p:nvSpPr>
          <p:cNvPr id="18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figure 02-07a"/>
          <p:cNvPicPr/>
          <p:nvPr/>
        </p:nvPicPr>
        <p:blipFill>
          <a:blip r:embed="rId1"/>
          <a:stretch/>
        </p:blipFill>
        <p:spPr>
          <a:xfrm>
            <a:off x="228600" y="838080"/>
            <a:ext cx="8534520" cy="54565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63360" y="22860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What controls the elevation of the Sun above the horizo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17220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’s Tilt Primarily Determines Sea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's Annual Energy Ba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52280" y="533520"/>
            <a:ext cx="2349720" cy="58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alanc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achieved locally a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nly two lines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of latitu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global balanc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maintained by excess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heat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from the equatorial region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ransferring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toward the po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4" descr="G:\clones\Meterology\custom lectures\jpegs\chapter 03\08.jpg"/>
          <p:cNvPicPr/>
          <p:nvPr/>
        </p:nvPicPr>
        <p:blipFill>
          <a:blip r:embed="rId1"/>
          <a:stretch/>
        </p:blipFill>
        <p:spPr>
          <a:xfrm>
            <a:off x="2654280" y="912960"/>
            <a:ext cx="6464160" cy="47955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5257800" y="1219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coming Solar Rad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4724280" y="2635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Outgoing Longwave Rad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2895480" y="6095880"/>
            <a:ext cx="61088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Unequal heating of tropics and p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290520" y="0"/>
            <a:ext cx="84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The Global Energy Budget:  Driver of Atmospheric Mo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Picture 3" descr="earthrad"/>
          <p:cNvPicPr/>
          <p:nvPr/>
        </p:nvPicPr>
        <p:blipFill>
          <a:blip r:embed="rId1"/>
          <a:stretch/>
        </p:blipFill>
        <p:spPr>
          <a:xfrm>
            <a:off x="228600" y="603360"/>
            <a:ext cx="8305920" cy="56451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4"/>
          <p:cNvSpPr/>
          <p:nvPr/>
        </p:nvSpPr>
        <p:spPr>
          <a:xfrm>
            <a:off x="6292080" y="5254560"/>
            <a:ext cx="2846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However, the tilt of t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Earth means this bal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is not maintained for ea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latitu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333840" y="533520"/>
            <a:ext cx="2951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 balance exists betwe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the incoming solar 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outgoing longwave energ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veraged over the glob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nd the ye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1324080" y="525780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1476360" y="5492880"/>
            <a:ext cx="11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DEFIC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-46080" y="548640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URPL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76212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urrent global mean surface temperatur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t is 33C or 59F warmer than it would be without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climate dominated by the radiation balance of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main greenhouse gases in the earth’s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at latitudes the earth’s gain and lost radiative energy (heat), respectively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76212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urrent global mean surface temperatur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5C or 59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t is 33C or 59F warmer than it would be without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cause of greenhouse effect of the atm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climate dominated by the radiation balance of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t contributes to 99.978% of total heat flux into the atm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main greenhouse gases in the earth’s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, C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CH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CFCs, N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at latitudes the earth’s gain and lost radiative energy (heat), respectively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ain heat in the tropics or 40S-40N, loss heat in high latitudes (50S-50N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’s 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380880" y="91440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What is it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9" descr="Picture1"/>
          <p:cNvPicPr/>
          <p:nvPr/>
        </p:nvPicPr>
        <p:blipFill>
          <a:blip r:embed="rId1"/>
          <a:stretch/>
        </p:blipFill>
        <p:spPr>
          <a:xfrm>
            <a:off x="6553080" y="7621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"/>
          <p:cNvSpPr/>
          <p:nvPr/>
        </p:nvSpPr>
        <p:spPr>
          <a:xfrm>
            <a:off x="685800" y="12952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 thin gaseous envelope around the plane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380880" y="202392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Composi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228600" y="2390760"/>
            <a:ext cx="5952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Today’s atmosphere: nitrogen  (78%), oxygen (21%), other (1%) – trace gases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685800" y="3048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Nitrogen, oxygen, argon, water vapor, carbon dioxide, methane, and most other gases are invi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685800" y="365760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louds are not gas, but condensed vapor in the form of  liquid droplets or ice partic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685800" y="434340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Ground based smog, which is visible, contains reactants of                       nitrogen and ozon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380880" y="489096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. Struc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2590920" y="48769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our layers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685800" y="51814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Trop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2133720" y="5181480"/>
            <a:ext cx="1676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(overturning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20"/>
          <p:cNvSpPr/>
          <p:nvPr/>
        </p:nvSpPr>
        <p:spPr>
          <a:xfrm>
            <a:off x="685800" y="54864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Strat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2133720" y="5486400"/>
            <a:ext cx="1676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(stratified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3657600" y="5181480"/>
            <a:ext cx="312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rom surface to 8-18 k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23"/>
          <p:cNvSpPr/>
          <p:nvPr/>
        </p:nvSpPr>
        <p:spPr>
          <a:xfrm>
            <a:off x="3657600" y="548640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rom troposphere top  to 50 k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24"/>
          <p:cNvSpPr/>
          <p:nvPr/>
        </p:nvSpPr>
        <p:spPr>
          <a:xfrm>
            <a:off x="685800" y="579132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es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25"/>
          <p:cNvSpPr/>
          <p:nvPr/>
        </p:nvSpPr>
        <p:spPr>
          <a:xfrm>
            <a:off x="685800" y="61722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Therm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2971800" y="1676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lue sky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27" descr="box 02-01"/>
          <p:cNvPicPr/>
          <p:nvPr/>
        </p:nvPicPr>
        <p:blipFill>
          <a:blip r:embed="rId2"/>
          <a:stretch/>
        </p:blipFill>
        <p:spPr>
          <a:xfrm>
            <a:off x="7054920" y="3505320"/>
            <a:ext cx="2165400" cy="3276360"/>
          </a:xfrm>
          <a:prstGeom prst="rect">
            <a:avLst/>
          </a:prstGeom>
          <a:ln w="0">
            <a:noFill/>
          </a:ln>
        </p:spPr>
      </p:pic>
      <p:sp>
        <p:nvSpPr>
          <p:cNvPr id="74" name="Нижний колонтитул 2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erested in more questions?  Try these 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name one or more main causes of glacier and interglacier climate chang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ost important greenhouse gases for modern climate change?  What is the fastest growing greenhouse ga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th’s climate has been much colder and warmer than that of today.  Do you know in what ways the earth’s radiation balance was alter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The Structure of Earth’s 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380880" y="9144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Four layers defined b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447920" y="1371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temper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71520" y="3200400"/>
            <a:ext cx="54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Importance to climate and climate chang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228600" y="3657600"/>
            <a:ext cx="595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Troposp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685800" y="1766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op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685800" y="2071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rat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685800" y="23763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s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685800" y="2666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erm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2438280" y="17668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de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2438280" y="20574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2514600" y="23907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de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7"/>
          <p:cNvSpPr/>
          <p:nvPr/>
        </p:nvSpPr>
        <p:spPr>
          <a:xfrm>
            <a:off x="2514600" y="26812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18"/>
          <p:cNvSpPr/>
          <p:nvPr/>
        </p:nvSpPr>
        <p:spPr>
          <a:xfrm>
            <a:off x="990720" y="4038480"/>
            <a:ext cx="2971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80% of Earth’s gas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19"/>
          <p:cNvSpPr/>
          <p:nvPr/>
        </p:nvSpPr>
        <p:spPr>
          <a:xfrm>
            <a:off x="990720" y="43434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ost of Earth’s weather happe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20"/>
          <p:cNvSpPr/>
          <p:nvPr/>
        </p:nvSpPr>
        <p:spPr>
          <a:xfrm>
            <a:off x="990720" y="464832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ost of the measure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21"/>
          <p:cNvSpPr/>
          <p:nvPr/>
        </p:nvSpPr>
        <p:spPr>
          <a:xfrm>
            <a:off x="228600" y="4997520"/>
            <a:ext cx="595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Stratosp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22"/>
          <p:cNvSpPr/>
          <p:nvPr/>
        </p:nvSpPr>
        <p:spPr>
          <a:xfrm>
            <a:off x="990720" y="533412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19.9% of Earth’s gas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23"/>
          <p:cNvSpPr/>
          <p:nvPr/>
        </p:nvSpPr>
        <p:spPr>
          <a:xfrm>
            <a:off x="990720" y="5638680"/>
            <a:ext cx="403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Ozone layer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4"/>
          <p:cNvSpPr/>
          <p:nvPr/>
        </p:nvSpPr>
        <p:spPr>
          <a:xfrm>
            <a:off x="1371600" y="59436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Blocking Sun’s ultraviolet radi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26" descr="vertpro"/>
          <p:cNvPicPr/>
          <p:nvPr/>
        </p:nvPicPr>
        <p:blipFill>
          <a:blip r:embed="rId1"/>
          <a:stretch/>
        </p:blipFill>
        <p:spPr>
          <a:xfrm>
            <a:off x="6172200" y="838080"/>
            <a:ext cx="2787480" cy="2787840"/>
          </a:xfrm>
          <a:prstGeom prst="rect">
            <a:avLst/>
          </a:prstGeom>
          <a:ln w="0">
            <a:noFill/>
          </a:ln>
        </p:spPr>
      </p:pic>
      <p:sp>
        <p:nvSpPr>
          <p:cNvPr id="96" name="Нижний колонтитул 2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nergy from the S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80880" y="9144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Characteristic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85800" y="13716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avels through space (vacuum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9" descr="figure 02-01"/>
          <p:cNvPicPr/>
          <p:nvPr/>
        </p:nvPicPr>
        <p:blipFill>
          <a:blip r:embed="rId1"/>
          <a:stretch/>
        </p:blipFill>
        <p:spPr>
          <a:xfrm>
            <a:off x="5013360" y="990720"/>
            <a:ext cx="4054320" cy="49035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"/>
          <p:cNvSpPr/>
          <p:nvPr/>
        </p:nvSpPr>
        <p:spPr>
          <a:xfrm>
            <a:off x="1143000" y="1676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a speed of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l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380880" y="516744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3. Importance to climate and climate chang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685800" y="20574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the form of wav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685800" y="27576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stream of partic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1143000" y="2362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lectromagnetic wav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3429000" y="2743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Photon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685800" y="5791320"/>
            <a:ext cx="5029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Primary driving force of Earth’s climate 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23"/>
          <p:cNvSpPr/>
          <p:nvPr/>
        </p:nvSpPr>
        <p:spPr>
          <a:xfrm>
            <a:off x="380880" y="35812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Electromagnetic spectru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24"/>
          <p:cNvSpPr/>
          <p:nvPr/>
        </p:nvSpPr>
        <p:spPr>
          <a:xfrm>
            <a:off x="685800" y="403848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short waveleng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, high energy, gamma rays to </a:t>
            </a:r>
            <a:r>
              <a:rPr b="1" lang="en-US" sz="1800" spc="-1" strike="noStrike">
                <a:solidFill>
                  <a:srgbClr val="cc6600"/>
                </a:solidFill>
                <a:latin typeface="Tahoma"/>
              </a:rPr>
              <a:t>long waveleng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, low energy, radio wav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28"/>
          <p:cNvSpPr/>
          <p:nvPr/>
        </p:nvSpPr>
        <p:spPr>
          <a:xfrm>
            <a:off x="685800" y="31384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leases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hea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hen absorb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30"/>
          <p:cNvSpPr/>
          <p:nvPr/>
        </p:nvSpPr>
        <p:spPr>
          <a:xfrm>
            <a:off x="685800" y="61722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Ultraviolet, Visible, Infrar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Sun’s Electromagnetic Spectr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60280" y="5076720"/>
            <a:ext cx="85615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radiation has peak intensities in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orter wavelengths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dominant in the region we know a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sibl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thu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ortwave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4" descr="G:\clones\Meterology\custom lectures\jpegs\chapter 02\09.jpg"/>
          <p:cNvPicPr/>
          <p:nvPr/>
        </p:nvPicPr>
        <p:blipFill>
          <a:blip r:embed="rId1"/>
          <a:stretch/>
        </p:blipFill>
        <p:spPr>
          <a:xfrm>
            <a:off x="12600" y="903240"/>
            <a:ext cx="9080640" cy="4000680"/>
          </a:xfrm>
          <a:prstGeom prst="rect">
            <a:avLst/>
          </a:prstGeom>
          <a:ln w="0">
            <a:noFill/>
          </a:ln>
        </p:spPr>
      </p:pic>
      <p:sp>
        <p:nvSpPr>
          <p:cNvPr id="11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ackbod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Radiation Curv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8" name="Picture 3" descr="bbcurves"/>
          <p:cNvPicPr/>
          <p:nvPr/>
        </p:nvPicPr>
        <p:blipFill>
          <a:blip r:embed="rId1"/>
          <a:stretch/>
        </p:blipFill>
        <p:spPr>
          <a:xfrm>
            <a:off x="685800" y="895320"/>
            <a:ext cx="7924680" cy="59436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4343400" y="1447920"/>
            <a:ext cx="380988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202060"/>
                </a:solidFill>
                <a:latin typeface="Tahoma"/>
              </a:rPr>
              <a:t>Any object above absolute zero radiates heat, 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s proportional to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</a:t>
            </a:r>
            <a:r>
              <a:rPr b="1" lang="en-US" sz="2400" spc="-1" strike="noStrike" baseline="30000">
                <a:solidFill>
                  <a:srgbClr val="cc66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895480" y="4572000"/>
            <a:ext cx="2971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Higher temperature, shorter waveleng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Longwave &amp; Shortwave Rad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3" descr="G:\clones\Meterology\custom lectures\jpegs\chapter 02\08.jpg"/>
          <p:cNvPicPr/>
          <p:nvPr/>
        </p:nvPicPr>
        <p:blipFill>
          <a:blip r:embed="rId1"/>
          <a:stretch/>
        </p:blipFill>
        <p:spPr>
          <a:xfrm>
            <a:off x="12600" y="682560"/>
            <a:ext cx="6756480" cy="52545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6794640" y="873000"/>
            <a:ext cx="232380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ot sun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radiates a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horter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wavelengths that carr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re energy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and the fraction absorbed by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oler earth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then re-radiated a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onger 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wavelength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Atmospheric Greenhouse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3" descr="G:\clones\Meterology\custom lectures\jpegs\chapter 02\12A.jpg"/>
          <p:cNvPicPr/>
          <p:nvPr/>
        </p:nvPicPr>
        <p:blipFill>
          <a:blip r:embed="rId1"/>
          <a:stretch/>
        </p:blipFill>
        <p:spPr>
          <a:xfrm>
            <a:off x="4603680" y="685800"/>
            <a:ext cx="4540320" cy="4129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G:\clones\Meterology\custom lectures\jpegs\chapter 02\12B.jpg"/>
          <p:cNvPicPr/>
          <p:nvPr/>
        </p:nvPicPr>
        <p:blipFill>
          <a:blip r:embed="rId2"/>
          <a:stretch/>
        </p:blipFill>
        <p:spPr>
          <a:xfrm>
            <a:off x="31680" y="674640"/>
            <a:ext cx="4540320" cy="33638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7"/>
          <p:cNvSpPr/>
          <p:nvPr/>
        </p:nvSpPr>
        <p:spPr>
          <a:xfrm>
            <a:off x="1676520" y="34434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= 15°C (59°F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6095880" y="4191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= –18°C (0°F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0" y="5410080"/>
            <a:ext cx="90806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reenhouse effects make Earth’s surface warm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228600" y="3809880"/>
            <a:ext cx="4114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urface Temperature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Wi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the Atmosp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4800600" y="4648320"/>
            <a:ext cx="4114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urface Temperature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Withou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the Atmosphe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GHeffect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769080"/>
          </a:xfrm>
          <a:prstGeom prst="rect">
            <a:avLst/>
          </a:prstGeom>
          <a:ln w="0">
            <a:noFill/>
          </a:ln>
        </p:spPr>
      </p:pic>
      <p:sp>
        <p:nvSpPr>
          <p:cNvPr id="13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3:12:03Z</dcterms:created>
  <dc:creator>Zong-Liang Yang</dc:creator>
  <dc:description/>
  <dc:language>en-US</dc:language>
  <cp:lastModifiedBy>Asus</cp:lastModifiedBy>
  <dcterms:modified xsi:type="dcterms:W3CDTF">2018-03-13T05:32:49Z</dcterms:modified>
  <cp:revision>237</cp:revision>
  <dc:subject/>
  <dc:title>Elements of the Sun; Solar Radiation</dc:title>
</cp:coreProperties>
</file>