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4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81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88.png" ContentType="image/png"/>
  <Override PartName="/ppt/media/image97.png" ContentType="image/png"/>
  <Override PartName="/ppt/media/image104.png" ContentType="image/png"/>
  <Override PartName="/ppt/media/image60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3.png" ContentType="image/png"/>
  <Override PartName="/ppt/media/image96.png" ContentType="image/png"/>
  <Override PartName="/ppt/media/image111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79.png" ContentType="image/png"/>
  <Override PartName="/ppt/media/image101.png" ContentType="image/png"/>
  <Override PartName="/ppt/media/image29.png" ContentType="image/png"/>
  <Override PartName="/ppt/media/image94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25.png" ContentType="image/png"/>
  <Override PartName="/ppt/media/image90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110.png" ContentType="image/png"/>
  <Override PartName="/ppt/media/image24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2.wmf" ContentType="image/x-wmf"/>
  <Override PartName="/ppt/media/image57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6C398-66A0-4A65-872D-36FCAC4D770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ic Table of the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ic Table of the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Oxyge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O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.999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18.4 °C (54.750008 °K, -361.1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83.0 °C (90.15 °K, -297.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Oxyge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O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.999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18.4 °C (54.750008 °K, -361.1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83.0 °C (90.15 °K, -297.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aliforn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51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aliforn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51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Einstei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E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52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Einstei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E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52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Ferm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F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0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57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Ferm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F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0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57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Mendelev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M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58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Mendelev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M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58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Nobe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N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59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Nobe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N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59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Lawrenc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L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2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Lawrenc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L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2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Rutherford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R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4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1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Rutherford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R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4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1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Dubn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Db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2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Dubn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Db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2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Seaborg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S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3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Seaborg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S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3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oh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2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oh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2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Fluorin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F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8.99840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19.62 °C (53.530006 °K, -363.3159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88.14 °C (85.01 °K, -306.652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Fluorin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F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8.99840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19.62 °C (53.530006 °K, -363.3159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88.14 °C (85.01 °K, -306.652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Hass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H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5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Hass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H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5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Meitne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M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6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Meitne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M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6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ic Table of the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s fr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chemsoc.org/viselements/pages/pertable_j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fr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chemicalelements.com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ic Table of the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ten by: Bill Byles  -  bill@internet4classrooms.c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ic Table of the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s fr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chemsoc.org/viselements/pages/pertable_j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fr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chemicalelements.com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ic Table of the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ten by: Bill Byles  -  bill@internet4classrooms.c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e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0.179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48.6 °C (24.549994 °K, -415.4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246.1 °C (27.049994 °K, -410.9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e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0.179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48.6 °C (24.549994 °K, -415.4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246.1 °C (27.049994 °K, -410.9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o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2.9897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7.8 °C (370.95 °K, 208.04001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52.9 °C (826.05005 °K, 1027.2201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o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2.9897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7.8 °C (370.95 °K, 208.04001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52.9 °C (826.05005 °K, 1027.2201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Magnes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Mg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4.30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50.0 °C (923.15 °K, 120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107.0 °C (1380.15 °K, 202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Magnes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Mg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4.30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50.0 °C (923.15 °K, 120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107.0 °C (1380.15 °K, 202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Alumin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Al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6.98153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60.37 °C (933.52 °K, 1220.66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467.0 °C (2740.15 °K, 4472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Alumin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Al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6.98153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60.37 °C (933.52 °K, 1220.66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467.0 °C (2740.15 °K, 4472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ilic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8.085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410.0 °C (1683.15 °K, 257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355.0 °C (2628.15 °K, 4271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ilic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8.085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410.0 °C (1683.15 °K, 257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355.0 °C (2628.15 °K, 4271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hosphoru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30.9737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44.1 °C (317.25 °K, 111.3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80.0 °C (553.15 °K, 536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hosphoru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30.9737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44.1 °C (317.25 °K, 111.3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80.0 °C (553.15 °K, 536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Sulfu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32.066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12.8 °C (385.95 °K, 235.04001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444.6 °C (717.75 °K, 832.2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Sulfu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32.066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12.8 °C (385.95 °K, 235.04001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444.6 °C (717.75 °K, 832.2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hlor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35.4527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-100.98 °C (172.17 °K, -149.764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-34.6 °C (238.55 °K, -30.279997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hlor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35.4527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-100.98 °C (172.17 °K, -149.764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-34.6 °C (238.55 °K, -30.279997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 an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Internet l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 an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Internet l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rg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39.948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-189.3 °C (83.85 °K, -308.74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-186.0 °C (87.15 °K, -302.8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rg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39.948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-189.3 °C (83.85 °K, -308.74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-186.0 °C (87.15 °K, -302.8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otass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K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39.0983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3.65 °C (336.8 °K, 146.57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774.0 °C (1047.15 °K, 1425.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otass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K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39.0983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3.65 °C (336.8 °K, 146.57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774.0 °C (1047.15 °K, 1425.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Calc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C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40.07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839.0 °C (1112.15 °K, 1542.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484.0 °C (1757.15 °K, 2703.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Calc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C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40.07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839.0 °C (1112.15 °K, 1542.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484.0 °C (1757.15 °K, 2703.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Scand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S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44.9559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539.0 °C (1812.15 °K, 2802.2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832.0 °C (3105.15 °K, 5129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Scand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S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44.9559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539.0 °C (1812.15 °K, 2802.2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832.0 °C (3105.15 °K, 5129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ita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47.86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660.0 °C (1933.15 °K, 302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287.0 °C (3560.15 °K, 5948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ita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47.86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660.0 °C (1933.15 °K, 302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287.0 °C (3560.15 °K, 5948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Vanad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V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50.9415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890.0 °C (2163.15 °K, 3434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3380.0 °C (3653.15 °K, 6116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Vanad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V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50.9415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890.0 °C (2163.15 °K, 3434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3380.0 °C (3653.15 °K, 6116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Chro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C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51.9961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857.0 °C (2130.15 °K, 3374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672.0 °C (2945.15 °K, 4841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Chro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C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51.9961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857.0 °C (2130.15 °K, 3374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672.0 °C (2945.15 °K, 4841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Manganes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M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54.9380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245.0 °C (1518.15 °K, 2273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962.0 °C (2235.15 °K, 3563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Manganes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M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54.9380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245.0 °C (1518.15 °K, 2273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962.0 °C (2235.15 °K, 3563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Ir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F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55.845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535.0 °C (1808.15 °K, 2795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750.0 °C (3023.15 °K, 4982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Ir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F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55.845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535.0 °C (1808.15 °K, 2795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750.0 °C (3023.15 °K, 4982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obal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58.933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495.0 °C (1768.15 °K, 2723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870.0 °C (3143.15 °K, 5198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obal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58.933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495.0 °C (1768.15 °K, 2723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870.0 °C (3143.15 °K, 5198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Hydroge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H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.0079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59.14 °C (14.009985 °K, -434.45203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252.87 °C (20.280005 °K, -423.16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Hydroge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H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.0079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59.14 °C (14.009985 °K, -434.45203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252.87 °C (20.280005 °K, -423.16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ickel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58.693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453.0 °C (1726.15 °K, 2647.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732.0 °C (3005.15 °K, 4949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ickel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58.693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453.0 °C (1726.15 °K, 2647.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732.0 °C (3005.15 °K, 4949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Coppe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C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63.54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083.0 °C (1356.15 °K, 1981.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567.0 °C (2840.15 °K, 4652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Coppe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C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63.54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083.0 °C (1356.15 °K, 1981.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567.0 °C (2840.15 °K, 4652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Zinc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Z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65.3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419.58 °C (692.73 °K, 787.2439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907.0 °C (1180.15 °K, 1664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Zinc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Z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65.3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419.58 °C (692.73 °K, 787.2439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907.0 °C (1180.15 °K, 1664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Gall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G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69.723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9.78 °C (302.93 °K, 85.60400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403.0 °C (2676.15 °K, 4357.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Gall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G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69.723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9.78 °C (302.93 °K, 85.60400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403.0 °C (2676.15 °K, 4357.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Germa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G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72.61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37.4 °C (1210.55 °K, 1719.3201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830.0 °C (3103.15 °K, 5126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Germa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G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72.61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37.4 °C (1210.55 °K, 1719.3201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830.0 °C (3103.15 °K, 5126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rseni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3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74.9216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817.0 °C (1090.15 °K, 1502.6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613.0 °C (886.15 °K, 1135.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rseni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3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74.9216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817.0 °C (1090.15 °K, 1502.6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613.0 °C (886.15 °K, 1135.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ele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78.9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17.0 °C (490.15 °K, 422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684.9 °C (958.05005 °K, 1264.8201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ele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78.9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17.0 °C (490.15 °K, 422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684.9 °C (958.05005 °K, 1264.8201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rom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3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79.904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-7.2 °C (265.95 °K, 19.04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58.78 °C (331.93 °K, 137.80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rom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3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79.904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-7.2 °C (265.95 °K, 19.04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58.78 °C (331.93 °K, 137.80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Krypt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K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83.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157.2 °C (115.950005 °K, -250.95999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53.4 °C (119.75001 °K, -244.1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Krypt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K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83.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157.2 °C (115.950005 °K, -250.95999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53.4 °C (119.75001 °K, -244.1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ubi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85.467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38.89 °C (312.04 °K, 102.00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688.0 °C (961.15 °K, 1270.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ubi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85.467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38.89 °C (312.04 °K, 102.00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688.0 °C (961.15 °K, 1270.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He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4.00260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-272.0 °C (1.15 °K, -457.6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-268.6 °C (4.549994 °K, -451.4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He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4.00260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-272.0 °C (1.15 °K, -457.6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-268.6 °C (4.549994 °K, -451.4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tront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87.62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769.0 °C (1042.15 °K, 1416.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384.0 °C (1657.15 °K, 2523.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tront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87.62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769.0 °C (1042.15 °K, 1416.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384.0 °C (1657.15 °K, 2523.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Yttr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Y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88.9058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523.0 °C (1796.15 °K, 2773.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337.0 °C (3610.15 °K, 6038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Yttr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Y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88.9058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523.0 °C (1796.15 °K, 2773.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337.0 °C (3610.15 °K, 6038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Zirco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Z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91.22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852.0 °C (2125.15 °K, 3365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377.0 °C (4650.15 °K, 7910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Zirco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Z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91.22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852.0 °C (2125.15 °K, 3365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377.0 °C (4650.15 °K, 7910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iob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92.9063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468.0 °C (2741.15 °K, 4474.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927.0 °C (5200.15 °K, 8900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iob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92.9063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468.0 °C (2741.15 °K, 4474.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927.0 °C (5200.15 °K, 8900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Molybden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Mo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95.9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617.0 °C (2890.15 °K, 4742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612.0 °C (4885.15 °K, 8333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Molybden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Mo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95.9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617.0 °C (2890.15 °K, 4742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612.0 °C (4885.15 °K, 8333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echnet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c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98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200.0 °C (2473.15 °K, 399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877.0 °C (5150.15 °K, 881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echnet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c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98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200.0 °C (2473.15 °K, 399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877.0 °C (5150.15 °K, 881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uthe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01.0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250.0 °C (2523.15 °K, 408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900.0 °C (4173.15 °K, 705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uthe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01.0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250.0 °C (2523.15 °K, 408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900.0 °C (4173.15 °K, 705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ho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h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02.905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966.0 °C (2239.15 °K, 3570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727.0 °C (4000.15 °K, 674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ho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h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02.905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966.0 °C (2239.15 °K, 3570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727.0 °C (4000.15 °K, 674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alla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d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06.42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552.0 °C (1825.15 °K, 2825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927.0 °C (3200.15 °K, 530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alla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d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06.42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552.0 °C (1825.15 °K, 2825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927.0 °C (3200.15 °K, 530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ilve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Ag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07.8682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61.93 °C (1235.08 °K, 1763.47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212.0 °C (2485.15 °K, 4013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ilve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Ag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07.8682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61.93 °C (1235.08 °K, 1763.47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212.0 °C (2485.15 °K, 4013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Lith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L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6.941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80.54 °C (453.69 °K, 356.97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347.0 °C (1620.15 °K, 2456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Lith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L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6.941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80.54 °C (453.69 °K, 356.97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347.0 °C (1620.15 °K, 2456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adm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4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12.41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20.9 °C (594.05 °K, 609.62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765.0 °C (1038.15 °K, 1409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adm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4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12.41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20.9 °C (594.05 °K, 609.62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765.0 °C (1038.15 °K, 1409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Ind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4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14.818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56.61 °C (429.76 °K, 313.898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000.0 °C (2273.15 °K, 363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Ind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4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14.818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56.61 °C (429.76 °K, 313.898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000.0 °C (2273.15 °K, 363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T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S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50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18.7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231.9 °C (505.05 °K, 449.41998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270.0 °C (2543.15 °K, 4118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T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S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50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18.7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231.9 °C (505.05 °K, 449.41998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270.0 °C (2543.15 °K, 4118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Antimony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21.7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30.0 °C (903.15 °K, 1166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750.0 °C (2023.15 °K, 318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Antimony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21.7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30.0 °C (903.15 °K, 1166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750.0 °C (2023.15 °K, 318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ellur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27.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449.5 °C (722.65 °K, 841.1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989.8 °C (1262.95 °K, 1813.6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ellur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27.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449.5 °C (722.65 °K, 841.1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989.8 °C (1262.95 °K, 1813.6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Iodin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26.9044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13.5 °C (386.65 °K, 236.3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84.0 °C (457.15 °K, 363.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Iodin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26.9044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13.5 °C (386.65 °K, 236.3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84.0 °C (457.15 °K, 363.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Xen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X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31.2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111.9 °C (161.25 °K, -169.4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08.1 °C (165.05 °K, -162.5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Xen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X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31.2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111.9 °C (161.25 °K, -169.4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08.1 °C (165.05 °K, -162.5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Ces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C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32.9054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8.5 °C (301.65 °K, 83.3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678.4 °C (951.55005 °K, 1253.1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Ces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C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32.9054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8.5 °C (301.65 °K, 83.3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678.4 °C (951.55005 °K, 1253.1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Bar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B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37.32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725.0 °C (998.15 °K, 1337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140.0 °C (1413.15 °K, 2084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Bar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B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37.32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725.0 °C (998.15 °K, 1337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140.0 °C (1413.15 °K, 2084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Lanthan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L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38.905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20.0 °C (1193.15 °K, 1688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469.0 °C (3742.15 °K, 6276.2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Lanthan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L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38.905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20.0 °C (1193.15 °K, 1688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469.0 °C (3742.15 °K, 6276.2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eryl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4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9.01218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278.0 °C (1551.15 °K, 2332.4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970.0 °C (3243.15 °K, 5378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eryl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4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9.01218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278.0 °C (1551.15 °K, 2332.4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970.0 °C (3243.15 °K, 5378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e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5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40.116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795.0 °C (1068.15 °K, 1463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3257.0 °C (3530.15 °K, 589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e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5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40.116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795.0 °C (1068.15 °K, 1463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3257.0 °C (3530.15 °K, 589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raseody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40.9076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35.0 °C (1208.15 °K, 1715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127.0 °C (3400.15 °K, 5660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raseody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40.9076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35.0 °C (1208.15 °K, 1715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127.0 °C (3400.15 °K, 5660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eody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d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44.2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010.0 °C (1283.15 °K, 185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127.0 °C (3400.15 °K, 566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eody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d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44.2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010.0 °C (1283.15 °K, 185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127.0 °C (3400.15 °K, 566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Prometh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P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6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145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Prometh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P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6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145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amar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0.3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072.0 °C (1345.15 °K, 1961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900.0 °C (2173.15 °K, 345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amar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0.3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072.0 °C (1345.15 °K, 1961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900.0 °C (2173.15 °K, 345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Europ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E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1.96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822.0 °C (1095.15 °K, 1511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597.0 °C (1870.15 °K, 2906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Europ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E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1.96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822.0 °C (1095.15 °K, 1511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597.0 °C (1870.15 °K, 2906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Gadoli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Gd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7.2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311.0 °C (1584.15 °K, 2391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233.0 °C (3506.15 °K, 5851.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Gadoli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Gd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7.2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311.0 °C (1584.15 °K, 2391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233.0 °C (3506.15 °K, 5851.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erb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8.9253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360.0 °C (1633.15 °K, 248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041.0 °C (3314.15 °K, 5505.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erb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8.9253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360.0 °C (1633.15 °K, 248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041.0 °C (3314.15 °K, 5505.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Dyspros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Dy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62.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412.0 °C (1685.15 °K, 2573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562.0 °C (2835.15 °K, 4643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Dyspros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Dy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62.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412.0 °C (1685.15 °K, 2573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562.0 °C (2835.15 °K, 4643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Hol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Ho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64.93031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470.0 °C (1743.15 °K, 2678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720.0 °C (2993.15 °K, 4928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Hol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Ho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64.93031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470.0 °C (1743.15 °K, 2678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720.0 °C (2993.15 °K, 4928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or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0.81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2300.0 °C (2573.15 °K, 4172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550.0 °C (2823.15 °K, 462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or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0.81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2300.0 °C (2573.15 °K, 4172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550.0 °C (2823.15 °K, 462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Erb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E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67.2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522.0 °C (1795.15 °K, 2771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510.0 °C (2783.15 °K, 4550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Erb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E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67.2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522.0 °C (1795.15 °K, 2771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510.0 °C (2783.15 °K, 4550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Thu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T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6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68.934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545.0 °C (1818.15 °K, 2813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1727.0 °C (2000.15 °K, 314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Thu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T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6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68.934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545.0 °C (1818.15 °K, 2813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1727.0 °C (2000.15 °K, 314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Ytterb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Y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73.0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824.0 °C (1097.15 °K, 1515.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466.0 °C (1739.15 °K, 2670.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Ytterb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Y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73.0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824.0 °C (1097.15 °K, 1515.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466.0 °C (1739.15 °K, 2670.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Lutet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L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74.96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656.0 °C (1929.15 °K, 3012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315.0 °C (3588.15 °K, 5999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Lutet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L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74.96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656.0 °C (1929.15 °K, 3012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315.0 °C (3588.15 °K, 5999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Haf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Hf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78.4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150.0 °C (2423.15 °K, 390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400.0 °C (5673.15 °K, 975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Haf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Hf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78.4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150.0 °C (2423.15 °K, 390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400.0 °C (5673.15 °K, 975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antal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80.947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996.0 °C (3269.15 °K, 5424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425.0 °C (5698.15 °K, 9797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antal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80.947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996.0 °C (3269.15 °K, 5424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425.0 °C (5698.15 °K, 9797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ungste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W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83.8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3410.0 °C (3683.15 °K, 617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660.0 °C (5933.15 °K, 10220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ungste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W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83.8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3410.0 °C (3683.15 °K, 617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660.0 °C (5933.15 °K, 10220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he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86.20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3180.0 °C (3453.15 °K, 5756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627.0 °C (5900.15 °K, 1016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he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86.20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3180.0 °C (3453.15 °K, 5756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627.0 °C (5900.15 °K, 1016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Os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O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90.23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3045.0 °C (3318.15 °K, 5513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027.0 °C (5300.15 °K, 908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Os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O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90.23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3045.0 °C (3318.15 °K, 5513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027.0 °C (5300.15 °K, 908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Iri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I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92.21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410.0 °C (2683.15 °K, 437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527.0 °C (4800.15 °K, 818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Iri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I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92.21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410.0 °C (2683.15 °K, 437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527.0 °C (4800.15 °K, 818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arb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2.0107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500.0 °C (3773.15 °K, 6332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4827.0 °C (5100.15 °K, 872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arb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2.0107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500.0 °C (3773.15 °K, 6332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4827.0 °C (5100.15 °K, 872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latin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t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95.07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772.0 °C (2045.15 °K, 3221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827.0 °C (4100.15 °K, 692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latin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t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95.07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772.0 °C (2045.15 °K, 3221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827.0 °C (4100.15 °K, 692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Gol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7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96.96655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064.43 °C (1337.5801 °K, 1947.9741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807.0 °C (3080.15 °K, 508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Gol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7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96.96655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064.43 °C (1337.5801 °K, 1947.9741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807.0 °C (3080.15 °K, 508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Mercury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Hg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00.5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38.87 °C (234.28 °K, -37.96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56.58 °C (629.73 °K, 673.84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Mercury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Hg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00.5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38.87 °C (234.28 °K, -37.96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56.58 °C (629.73 °K, 673.84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Thal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T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8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204.3833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03.5 °C (576.65 °K, 578.3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1457.0 °C (1730.15 °K, 265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Thal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T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8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204.3833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03.5 °C (576.65 °K, 578.3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1457.0 °C (1730.15 °K, 265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Lea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Pb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8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207.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27.5 °C (600.65 °K, 621.5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1740.0 °C (2013.15 °K, 3164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Lea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Pb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8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207.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27.5 °C (600.65 °K, 621.5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1740.0 °C (2013.15 °K, 3164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Bismuth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B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08.9803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71.3 °C (544.45 °K, 520.33997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560.0 °C (1833.15 °K, 2840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Bismuth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B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08.9803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71.3 °C (544.45 °K, 520.33997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560.0 °C (1833.15 °K, 2840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olo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o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09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54.0 °C (527.15 °K, 489.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962.0 °C (1235.15 °K, 1763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olo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o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09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54.0 °C (527.15 °K, 489.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962.0 °C (1235.15 °K, 1763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stat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8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10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02.0 °C (575.15 °K, 575.6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337.0 °C (610.15 °K, 638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stat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8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10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02.0 °C (575.15 °K, 575.6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337.0 °C (610.15 °K, 638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ad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22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71.0 °C (202.15 °K, -95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61.8 °C (211.35 °K, -79.2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ad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22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71.0 °C (202.15 °K, -95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61.8 °C (211.35 °K, -79.2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Franc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F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23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7.0 °C (300.15 °K, 80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677.0 °C (950.15 °K, 125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Franc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F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23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7.0 °C (300.15 °K, 80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677.0 °C (950.15 °K, 125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itroge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4.0067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09.9 °C (63.250008 °K, -345.8199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95.8 °C (77.35 °K, -320.4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itroge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4.0067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09.9 °C (63.250008 °K, -345.8199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95.8 °C (77.35 °K, -320.4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a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26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700.0 °C (973.15 °K, 129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737.0 °C (2010.15 °K, 3158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a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26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700.0 °C (973.15 °K, 129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737.0 °C (2010.15 °K, 3158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ctin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8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27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050.0 °C (1323.15 °K, 1922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3200.0 °C (3473.15 °K, 5792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ctin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8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27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050.0 °C (1323.15 °K, 1922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3200.0 °C (3473.15 °K, 5792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Tho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0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232.038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750.0 °C (2023.15 °K, 3182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4790.0 °C (5063.15 °K, 8654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Tho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0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232.038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750.0 °C (2023.15 °K, 3182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4790.0 °C (5063.15 °K, 8654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rotacti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31.0358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600.0 °C (1873.15 °K, 291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rotacti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31.0358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600.0 °C (1873.15 °K, 291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Ura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38.028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132.0 °C (1405.15 °K, 2069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818.0 °C (4091.15 °K, 6904.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Ura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38.028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132.0 °C (1405.15 °K, 2069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818.0 °C (4091.15 °K, 6904.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eptu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p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37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40.0 °C (913.15 °K, 1184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902.0 °C (4175.15 °K, 7055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eptu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p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37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40.0 °C (913.15 °K, 1184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902.0 °C (4175.15 °K, 7055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luto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44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39.5 °C (912.65 °K, 1183.1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235.0 °C (3508.15 °K, 5855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luto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44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39.5 °C (912.65 °K, 1183.1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235.0 °C (3508.15 °K, 5855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meric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43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994.0 °C (1267.15 °K, 1821.2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607.0 °C (2880.15 °K, 472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meric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43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994.0 °C (1267.15 °K, 1821.2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607.0 °C (2880.15 °K, 472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u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47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340.0 °C (1613.15 °K, 2444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u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47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340.0 °C (1613.15 °K, 2444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erke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k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47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erke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k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47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3111-27F8-4F49-A6DC-9F8D29335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B9A7-891D-4D1C-B6AA-5015273E2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C9FC-8A2D-4361-AF5B-3DB967331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3D6F-9C62-49E2-8A9D-315262779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F86A-9E43-411A-AC9A-45F05A9CA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60E6-50A6-471A-99E0-F99153A33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3133-49B6-4ED7-9BDB-0E2A399C1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AD9A-CCB1-4AAB-8219-E9025AFA9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CA8A-67FB-42CA-854D-CB1D7B2C2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2330-3264-43BE-953A-B22F38B7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7A6F-3AD0-42FE-B641-EC8DC902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59D5-960B-4C1D-A3C6-37B0E61A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8CFD1-2C2F-4799-BC6F-005680110D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8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9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10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11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12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1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1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1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1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17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" Target="slide18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" Target="slide21.xml"/><Relationship Id="rId21" Type="http://schemas.openxmlformats.org/officeDocument/2006/relationships/slide" Target="slide22.xml"/><Relationship Id="rId22" Type="http://schemas.openxmlformats.org/officeDocument/2006/relationships/slide" Target="slide23.xml"/><Relationship Id="rId23" Type="http://schemas.openxmlformats.org/officeDocument/2006/relationships/slide" Target="slide24.xml"/><Relationship Id="rId24" Type="http://schemas.openxmlformats.org/officeDocument/2006/relationships/slide" Target="slide25.xml"/><Relationship Id="rId25" Type="http://schemas.openxmlformats.org/officeDocument/2006/relationships/slide" Target="slide26.xml"/><Relationship Id="rId26" Type="http://schemas.openxmlformats.org/officeDocument/2006/relationships/slide" Target="slide27.xml"/><Relationship Id="rId27" Type="http://schemas.openxmlformats.org/officeDocument/2006/relationships/slide" Target="slide28.xml"/><Relationship Id="rId28" Type="http://schemas.openxmlformats.org/officeDocument/2006/relationships/slide" Target="slide29.xml"/><Relationship Id="rId29" Type="http://schemas.openxmlformats.org/officeDocument/2006/relationships/slide" Target="slide30.xml"/><Relationship Id="rId30" Type="http://schemas.openxmlformats.org/officeDocument/2006/relationships/slide" Target="slide31.xml"/><Relationship Id="rId31" Type="http://schemas.openxmlformats.org/officeDocument/2006/relationships/slide" Target="slide32.xml"/><Relationship Id="rId32" Type="http://schemas.openxmlformats.org/officeDocument/2006/relationships/slide" Target="slide33.xml"/><Relationship Id="rId33" Type="http://schemas.openxmlformats.org/officeDocument/2006/relationships/slide" Target="slide34.xml"/><Relationship Id="rId34" Type="http://schemas.openxmlformats.org/officeDocument/2006/relationships/slide" Target="slide35.xml"/><Relationship Id="rId35" Type="http://schemas.openxmlformats.org/officeDocument/2006/relationships/slide" Target="slide36.xml"/><Relationship Id="rId36" Type="http://schemas.openxmlformats.org/officeDocument/2006/relationships/slide" Target="slide37.xml"/><Relationship Id="rId37" Type="http://schemas.openxmlformats.org/officeDocument/2006/relationships/slide" Target="slide38.xml"/><Relationship Id="rId38" Type="http://schemas.openxmlformats.org/officeDocument/2006/relationships/slide" Target="slide39.xml"/><Relationship Id="rId39" Type="http://schemas.openxmlformats.org/officeDocument/2006/relationships/slide" Target="slide40.xml"/><Relationship Id="rId40" Type="http://schemas.openxmlformats.org/officeDocument/2006/relationships/slide" Target="slide41.xml"/><Relationship Id="rId41" Type="http://schemas.openxmlformats.org/officeDocument/2006/relationships/slide" Target="slide42.xml"/><Relationship Id="rId42" Type="http://schemas.openxmlformats.org/officeDocument/2006/relationships/slide" Target="slide43.xml"/><Relationship Id="rId43" Type="http://schemas.openxmlformats.org/officeDocument/2006/relationships/slide" Target="slide44.xml"/><Relationship Id="rId44" Type="http://schemas.openxmlformats.org/officeDocument/2006/relationships/slide" Target="slide45.xml"/><Relationship Id="rId45" Type="http://schemas.openxmlformats.org/officeDocument/2006/relationships/slide" Target="slide46.xml"/><Relationship Id="rId46" Type="http://schemas.openxmlformats.org/officeDocument/2006/relationships/slide" Target="slide47.xml"/><Relationship Id="rId47" Type="http://schemas.openxmlformats.org/officeDocument/2006/relationships/slide" Target="slide48.xml"/><Relationship Id="rId48" Type="http://schemas.openxmlformats.org/officeDocument/2006/relationships/slide" Target="slide49.xml"/><Relationship Id="rId49" Type="http://schemas.openxmlformats.org/officeDocument/2006/relationships/slide" Target="slide50.xml"/><Relationship Id="rId50" Type="http://schemas.openxmlformats.org/officeDocument/2006/relationships/slide" Target="slide51.xml"/><Relationship Id="rId51" Type="http://schemas.openxmlformats.org/officeDocument/2006/relationships/slide" Target="slide52.xml"/><Relationship Id="rId52" Type="http://schemas.openxmlformats.org/officeDocument/2006/relationships/slide" Target="slide53.xml"/><Relationship Id="rId53" Type="http://schemas.openxmlformats.org/officeDocument/2006/relationships/slide" Target="slide54.xml"/><Relationship Id="rId54" Type="http://schemas.openxmlformats.org/officeDocument/2006/relationships/slide" Target="slide55.xml"/><Relationship Id="rId55" Type="http://schemas.openxmlformats.org/officeDocument/2006/relationships/slide" Target="slide56.xml"/><Relationship Id="rId56" Type="http://schemas.openxmlformats.org/officeDocument/2006/relationships/slide" Target="slide57.xml"/><Relationship Id="rId57" Type="http://schemas.openxmlformats.org/officeDocument/2006/relationships/slide" Target="slide58.xml"/><Relationship Id="rId58" Type="http://schemas.openxmlformats.org/officeDocument/2006/relationships/slide" Target="slide59.xml"/><Relationship Id="rId59" Type="http://schemas.openxmlformats.org/officeDocument/2006/relationships/slide" Target="slide74.xml"/><Relationship Id="rId60" Type="http://schemas.openxmlformats.org/officeDocument/2006/relationships/slide" Target="slide75.xml"/><Relationship Id="rId61" Type="http://schemas.openxmlformats.org/officeDocument/2006/relationships/slide" Target="slide76.xml"/><Relationship Id="rId62" Type="http://schemas.openxmlformats.org/officeDocument/2006/relationships/slide" Target="slide77.xml"/><Relationship Id="rId63" Type="http://schemas.openxmlformats.org/officeDocument/2006/relationships/slide" Target="slide78.xml"/><Relationship Id="rId64" Type="http://schemas.openxmlformats.org/officeDocument/2006/relationships/slide" Target="slide79.xml"/><Relationship Id="rId65" Type="http://schemas.openxmlformats.org/officeDocument/2006/relationships/slide" Target="slide80.xml"/><Relationship Id="rId66" Type="http://schemas.openxmlformats.org/officeDocument/2006/relationships/slide" Target="slide81.xml"/><Relationship Id="rId67" Type="http://schemas.openxmlformats.org/officeDocument/2006/relationships/slide" Target="slide82.xml"/><Relationship Id="rId68" Type="http://schemas.openxmlformats.org/officeDocument/2006/relationships/slide" Target="slide83.xml"/><Relationship Id="rId69" Type="http://schemas.openxmlformats.org/officeDocument/2006/relationships/slide" Target="slide84.xml"/><Relationship Id="rId70" Type="http://schemas.openxmlformats.org/officeDocument/2006/relationships/slide" Target="slide85.xml"/><Relationship Id="rId71" Type="http://schemas.openxmlformats.org/officeDocument/2006/relationships/slide" Target="slide86.xml"/><Relationship Id="rId72" Type="http://schemas.openxmlformats.org/officeDocument/2006/relationships/slide" Target="slide87.xml"/><Relationship Id="rId73" Type="http://schemas.openxmlformats.org/officeDocument/2006/relationships/slide" Target="slide88.xml"/><Relationship Id="rId74" Type="http://schemas.openxmlformats.org/officeDocument/2006/relationships/slide" Target="slide89.xml"/><Relationship Id="rId75" Type="http://schemas.openxmlformats.org/officeDocument/2006/relationships/slide" Target="slide90.xml"/><Relationship Id="rId76" Type="http://schemas.openxmlformats.org/officeDocument/2006/relationships/slide" Target="slide91.xml"/><Relationship Id="rId77" Type="http://schemas.openxmlformats.org/officeDocument/2006/relationships/slide" Target="slide106.xml"/><Relationship Id="rId78" Type="http://schemas.openxmlformats.org/officeDocument/2006/relationships/slide" Target="slide107.xml"/><Relationship Id="rId79" Type="http://schemas.openxmlformats.org/officeDocument/2006/relationships/slide" Target="slide108.xml"/><Relationship Id="rId80" Type="http://schemas.openxmlformats.org/officeDocument/2006/relationships/slide" Target="slide109.xml"/><Relationship Id="rId81" Type="http://schemas.openxmlformats.org/officeDocument/2006/relationships/slide" Target="slide110.xml"/><Relationship Id="rId82" Type="http://schemas.openxmlformats.org/officeDocument/2006/relationships/slide" Target="slide60.xml"/><Relationship Id="rId83" Type="http://schemas.openxmlformats.org/officeDocument/2006/relationships/slide" Target="slide61.xml"/><Relationship Id="rId84" Type="http://schemas.openxmlformats.org/officeDocument/2006/relationships/slide" Target="slide62.xml"/><Relationship Id="rId85" Type="http://schemas.openxmlformats.org/officeDocument/2006/relationships/slide" Target="slide63.xml"/><Relationship Id="rId86" Type="http://schemas.openxmlformats.org/officeDocument/2006/relationships/slide" Target="slide64.xml"/><Relationship Id="rId87" Type="http://schemas.openxmlformats.org/officeDocument/2006/relationships/slide" Target="slide65.xml"/><Relationship Id="rId88" Type="http://schemas.openxmlformats.org/officeDocument/2006/relationships/slide" Target="slide66.xml"/><Relationship Id="rId89" Type="http://schemas.openxmlformats.org/officeDocument/2006/relationships/slide" Target="slide67.xml"/><Relationship Id="rId90" Type="http://schemas.openxmlformats.org/officeDocument/2006/relationships/slide" Target="slide68.xml"/><Relationship Id="rId91" Type="http://schemas.openxmlformats.org/officeDocument/2006/relationships/slide" Target="slide69.xml"/><Relationship Id="rId92" Type="http://schemas.openxmlformats.org/officeDocument/2006/relationships/slide" Target="slide70.xml"/><Relationship Id="rId93" Type="http://schemas.openxmlformats.org/officeDocument/2006/relationships/slide" Target="slide71.xml"/><Relationship Id="rId94" Type="http://schemas.openxmlformats.org/officeDocument/2006/relationships/slide" Target="slide72.xml"/><Relationship Id="rId95" Type="http://schemas.openxmlformats.org/officeDocument/2006/relationships/slide" Target="slide73.xml"/><Relationship Id="rId96" Type="http://schemas.openxmlformats.org/officeDocument/2006/relationships/slide" Target="slide92.xml"/><Relationship Id="rId97" Type="http://schemas.openxmlformats.org/officeDocument/2006/relationships/slide" Target="slide93.xml"/><Relationship Id="rId98" Type="http://schemas.openxmlformats.org/officeDocument/2006/relationships/slide" Target="slide94.xml"/><Relationship Id="rId99" Type="http://schemas.openxmlformats.org/officeDocument/2006/relationships/slide" Target="slide95.xml"/><Relationship Id="rId100" Type="http://schemas.openxmlformats.org/officeDocument/2006/relationships/slide" Target="slide96.xml"/><Relationship Id="rId101" Type="http://schemas.openxmlformats.org/officeDocument/2006/relationships/slide" Target="slide97.xml"/><Relationship Id="rId102" Type="http://schemas.openxmlformats.org/officeDocument/2006/relationships/slide" Target="slide98.xml"/><Relationship Id="rId103" Type="http://schemas.openxmlformats.org/officeDocument/2006/relationships/slide" Target="slide99.xml"/><Relationship Id="rId104" Type="http://schemas.openxmlformats.org/officeDocument/2006/relationships/slide" Target="slide100.xml"/><Relationship Id="rId105" Type="http://schemas.openxmlformats.org/officeDocument/2006/relationships/slide" Target="slide101.xml"/><Relationship Id="rId106" Type="http://schemas.openxmlformats.org/officeDocument/2006/relationships/slide" Target="slide102.xml"/><Relationship Id="rId107" Type="http://schemas.openxmlformats.org/officeDocument/2006/relationships/slide" Target="slide103.xml"/><Relationship Id="rId108" Type="http://schemas.openxmlformats.org/officeDocument/2006/relationships/slide" Target="slide104.xml"/><Relationship Id="rId109" Type="http://schemas.openxmlformats.org/officeDocument/2006/relationships/slide" Target="slide105.xml"/><Relationship Id="rId110" Type="http://schemas.openxmlformats.org/officeDocument/2006/relationships/slide" Target="slide111.xml"/><Relationship Id="rId111" Type="http://schemas.openxmlformats.org/officeDocument/2006/relationships/image" Target="../media/image2.wmf"/><Relationship Id="rId112" Type="http://schemas.openxmlformats.org/officeDocument/2006/relationships/slideLayout" Target="../slideLayouts/slideLayout1.xml"/><Relationship Id="rId11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18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19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0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1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2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7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1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8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9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0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1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2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7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2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8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9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0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1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2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7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3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8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9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0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1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2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7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4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8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9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0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1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2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7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5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8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9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0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1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2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7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6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8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9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0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1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2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7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7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8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9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90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91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92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9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9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9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9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Periodic Table of the Element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Object 2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838080" y="2286000"/>
            <a:ext cx="73915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xyge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.999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18.4 °C (54.750008 °K, -361.1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83.0 °C (90.15 °K, -297.4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0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3" name="Rectangle 5"/>
          <p:cNvSpPr/>
          <p:nvPr/>
        </p:nvSpPr>
        <p:spPr>
          <a:xfrm>
            <a:off x="1143000" y="2286000"/>
            <a:ext cx="44956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alifor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51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5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6" name="Object 5"/>
          <p:cNvGraphicFramePr/>
          <p:nvPr/>
        </p:nvGraphicFramePr>
        <p:xfrm>
          <a:off x="152280" y="152280"/>
          <a:ext cx="838440" cy="111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7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8" name="Rectangle 6"/>
          <p:cNvSpPr/>
          <p:nvPr/>
        </p:nvSpPr>
        <p:spPr>
          <a:xfrm>
            <a:off x="1143000" y="2286000"/>
            <a:ext cx="45720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instei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52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0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3" name="Rectangle 5"/>
          <p:cNvSpPr/>
          <p:nvPr/>
        </p:nvSpPr>
        <p:spPr>
          <a:xfrm>
            <a:off x="990720" y="2286000"/>
            <a:ext cx="41907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erm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57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5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6" name="Object 4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8" name="Rectangle 5"/>
          <p:cNvSpPr/>
          <p:nvPr/>
        </p:nvSpPr>
        <p:spPr>
          <a:xfrm>
            <a:off x="1219320" y="2286000"/>
            <a:ext cx="44193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endelev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58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0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1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3" name="Rectangle 5"/>
          <p:cNvSpPr/>
          <p:nvPr/>
        </p:nvSpPr>
        <p:spPr>
          <a:xfrm>
            <a:off x="1447920" y="2057400"/>
            <a:ext cx="426708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obel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59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5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6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8" name="Rectangle 5"/>
          <p:cNvSpPr/>
          <p:nvPr/>
        </p:nvSpPr>
        <p:spPr>
          <a:xfrm>
            <a:off x="1371600" y="2286000"/>
            <a:ext cx="43434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awrenc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62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0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1" name="Object 4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3" name="Rectangle 5"/>
          <p:cNvSpPr/>
          <p:nvPr/>
        </p:nvSpPr>
        <p:spPr>
          <a:xfrm>
            <a:off x="1219320" y="2133720"/>
            <a:ext cx="43434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utherfor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61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5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6" name="Object 4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8" name="Rectangle 5"/>
          <p:cNvSpPr/>
          <p:nvPr/>
        </p:nvSpPr>
        <p:spPr>
          <a:xfrm>
            <a:off x="1295280" y="2209680"/>
            <a:ext cx="411480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ub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62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0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1" name="Object 4"/>
          <p:cNvGraphicFramePr/>
          <p:nvPr/>
        </p:nvGraphicFramePr>
        <p:xfrm>
          <a:off x="152280" y="152280"/>
          <a:ext cx="847800" cy="110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4780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3" name="Rectangle 5"/>
          <p:cNvSpPr/>
          <p:nvPr/>
        </p:nvSpPr>
        <p:spPr>
          <a:xfrm>
            <a:off x="1219320" y="2133720"/>
            <a:ext cx="419076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eaborg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63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5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6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8" name="Rectangle 5"/>
          <p:cNvSpPr/>
          <p:nvPr/>
        </p:nvSpPr>
        <p:spPr>
          <a:xfrm>
            <a:off x="1219320" y="2286000"/>
            <a:ext cx="40384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oh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62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Object 2"/>
          <p:cNvGraphicFramePr/>
          <p:nvPr/>
        </p:nvGraphicFramePr>
        <p:xfrm>
          <a:off x="152280" y="228600"/>
          <a:ext cx="838440" cy="10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83844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5"/>
          <p:cNvSpPr/>
          <p:nvPr/>
        </p:nvSpPr>
        <p:spPr>
          <a:xfrm>
            <a:off x="609480" y="2133720"/>
            <a:ext cx="80010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luor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.99840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19.62 °C (53.530006 °K, -363.3159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88.14 °C (85.01 °K, -306.652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0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1" name="Object 4"/>
          <p:cNvGraphicFramePr/>
          <p:nvPr/>
        </p:nvGraphicFramePr>
        <p:xfrm>
          <a:off x="152280" y="152280"/>
          <a:ext cx="828720" cy="109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287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3" name="Rectangle 5"/>
          <p:cNvSpPr/>
          <p:nvPr/>
        </p:nvSpPr>
        <p:spPr>
          <a:xfrm>
            <a:off x="1295280" y="2209680"/>
            <a:ext cx="411480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ass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65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5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6" name="Object 4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8" name="Rectangle 5"/>
          <p:cNvSpPr/>
          <p:nvPr/>
        </p:nvSpPr>
        <p:spPr>
          <a:xfrm>
            <a:off x="1447920" y="2133720"/>
            <a:ext cx="43434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eitne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66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335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iodic Table of the El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ages fro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ww.chemsoc.org/viselements/pages/pertable_j.h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fro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ww.chemicalelements.com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Rectangle 7"/>
          <p:cNvSpPr/>
          <p:nvPr/>
        </p:nvSpPr>
        <p:spPr>
          <a:xfrm>
            <a:off x="8380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Periodic Table of the Element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 Box 8"/>
          <p:cNvSpPr/>
          <p:nvPr/>
        </p:nvSpPr>
        <p:spPr>
          <a:xfrm>
            <a:off x="735120" y="5756400"/>
            <a:ext cx="71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ritten by: Bill Byles  -  bill@internet4classrooms.c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Object 2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5"/>
          <p:cNvSpPr/>
          <p:nvPr/>
        </p:nvSpPr>
        <p:spPr>
          <a:xfrm>
            <a:off x="1143000" y="2286000"/>
            <a:ext cx="73915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e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0.179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48.6 °C (24.549994 °K, -415.4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46.1 °C (27.049994 °K, -410.98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Object 2"/>
          <p:cNvGraphicFramePr/>
          <p:nvPr/>
        </p:nvGraphicFramePr>
        <p:xfrm>
          <a:off x="152280" y="228600"/>
          <a:ext cx="828720" cy="10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82872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5"/>
          <p:cNvSpPr/>
          <p:nvPr/>
        </p:nvSpPr>
        <p:spPr>
          <a:xfrm>
            <a:off x="685800" y="2286000"/>
            <a:ext cx="77724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o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2.9897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7.8 °C (370.95 °K, 208.04001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52.9 °C (826.05005 °K, 1027.2201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Object 2"/>
          <p:cNvGraphicFramePr/>
          <p:nvPr/>
        </p:nvGraphicFramePr>
        <p:xfrm>
          <a:off x="152280" y="228600"/>
          <a:ext cx="847800" cy="110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84780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5"/>
          <p:cNvSpPr/>
          <p:nvPr/>
        </p:nvSpPr>
        <p:spPr>
          <a:xfrm>
            <a:off x="106668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agnes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4.30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50.0 °C (923.15 °K, 120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07.0 °C (1380.15 °K, 2024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AutoShape 3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4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6" name="Object 6"/>
          <p:cNvGraphicFramePr/>
          <p:nvPr/>
        </p:nvGraphicFramePr>
        <p:xfrm>
          <a:off x="152280" y="152280"/>
          <a:ext cx="828720" cy="1067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7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2872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Rectangle 7"/>
          <p:cNvSpPr/>
          <p:nvPr/>
        </p:nvSpPr>
        <p:spPr>
          <a:xfrm>
            <a:off x="10666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lumin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l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6.981539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60.37 °C (933.52 °K, 1220.66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467.0 °C (2740.15 °K, 4472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1" name="Object 4"/>
          <p:cNvGraphicFramePr/>
          <p:nvPr/>
        </p:nvGraphicFramePr>
        <p:xfrm>
          <a:off x="152280" y="152280"/>
          <a:ext cx="85752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Rectangle 5"/>
          <p:cNvSpPr/>
          <p:nvPr/>
        </p:nvSpPr>
        <p:spPr>
          <a:xfrm>
            <a:off x="1143000" y="2286000"/>
            <a:ext cx="70102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ilic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i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.085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10.0 °C (1683.15 °K, 2570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355.0 °C (2628.15 °K, 4271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6" name="Object 4"/>
          <p:cNvGraphicFramePr/>
          <p:nvPr/>
        </p:nvGraphicFramePr>
        <p:xfrm>
          <a:off x="152280" y="152280"/>
          <a:ext cx="82872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287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Rectangle 5"/>
          <p:cNvSpPr/>
          <p:nvPr/>
        </p:nvSpPr>
        <p:spPr>
          <a:xfrm>
            <a:off x="1295280" y="2286000"/>
            <a:ext cx="66294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hosphoru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0.9737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4.1 °C (317.25 °K, 111.3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0.0 °C (553.15 °K, 536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1" name="Object 4"/>
          <p:cNvGraphicFramePr/>
          <p:nvPr/>
        </p:nvGraphicFramePr>
        <p:xfrm>
          <a:off x="152280" y="152280"/>
          <a:ext cx="84780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Rectangle 5"/>
          <p:cNvSpPr/>
          <p:nvPr/>
        </p:nvSpPr>
        <p:spPr>
          <a:xfrm>
            <a:off x="114300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ulfu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.06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2.8 °C (385.95 °K, 235.04001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44.6 °C (717.75 °K, 832.28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6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Rectangle 5"/>
          <p:cNvSpPr/>
          <p:nvPr/>
        </p:nvSpPr>
        <p:spPr>
          <a:xfrm>
            <a:off x="1219320" y="2133720"/>
            <a:ext cx="73152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hlor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l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5.452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00.98 °C (172.17 °K, -149.76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34.6 °C (238.55 °K, -30.279997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chem_table_ppt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96916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>
            <a:hlinkClick r:id="rId2" action="ppaction://hlinksldjump"/>
          </p:cNvPr>
          <p:cNvSpPr/>
          <p:nvPr/>
        </p:nvSpPr>
        <p:spPr>
          <a:xfrm>
            <a:off x="0" y="4572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6">
            <a:hlinkClick r:id="rId3" action="ppaction://hlinksldjump"/>
          </p:cNvPr>
          <p:cNvSpPr/>
          <p:nvPr/>
        </p:nvSpPr>
        <p:spPr>
          <a:xfrm>
            <a:off x="8610480" y="45720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7">
            <a:hlinkClick r:id="rId4" action="ppaction://hlinksldjump"/>
          </p:cNvPr>
          <p:cNvSpPr/>
          <p:nvPr/>
        </p:nvSpPr>
        <p:spPr>
          <a:xfrm>
            <a:off x="76320" y="11430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8">
            <a:hlinkClick r:id="rId5" action="ppaction://hlinksldjump"/>
          </p:cNvPr>
          <p:cNvSpPr/>
          <p:nvPr/>
        </p:nvSpPr>
        <p:spPr>
          <a:xfrm>
            <a:off x="533520" y="11430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9">
            <a:hlinkClick r:id="rId6" action="ppaction://hlinksldjump"/>
          </p:cNvPr>
          <p:cNvSpPr/>
          <p:nvPr/>
        </p:nvSpPr>
        <p:spPr>
          <a:xfrm>
            <a:off x="6324480" y="1066680"/>
            <a:ext cx="381240" cy="6098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609840"/>
              <a:gd name="textAreaBottom" fmla="*/ 585360 h 609840"/>
            </a:gdLst>
            <a:ahLst/>
            <a:rect l="textAreaLeft" t="textAreaTop" r="textAreaRight" b="textAreaBottom"/>
            <a:pathLst>
              <a:path w="21600" h="34540">
                <a:moveTo>
                  <a:pt x="0" y="0"/>
                </a:moveTo>
                <a:lnTo>
                  <a:pt x="21600" y="0"/>
                </a:lnTo>
                <a:lnTo>
                  <a:pt x="21600" y="34540"/>
                </a:lnTo>
                <a:lnTo>
                  <a:pt x="0" y="34540"/>
                </a:lnTo>
                <a:close/>
              </a:path>
              <a:path fill="lightenLess" w="21600" h="345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40">
                <a:moveTo>
                  <a:pt x="21600" y="0"/>
                </a:moveTo>
                <a:lnTo>
                  <a:pt x="21600" y="34540"/>
                </a:lnTo>
                <a:lnTo>
                  <a:pt x="20200" y="33140"/>
                </a:lnTo>
                <a:lnTo>
                  <a:pt x="20200" y="1400"/>
                </a:lnTo>
                <a:close/>
              </a:path>
              <a:path fill="darkenLess" w="21600" h="34540">
                <a:moveTo>
                  <a:pt x="21600" y="34540"/>
                </a:moveTo>
                <a:lnTo>
                  <a:pt x="0" y="34540"/>
                </a:lnTo>
                <a:lnTo>
                  <a:pt x="1400" y="33140"/>
                </a:lnTo>
                <a:lnTo>
                  <a:pt x="20200" y="33140"/>
                </a:lnTo>
                <a:close/>
              </a:path>
              <a:path fill="lighten" w="21600" h="34540">
                <a:moveTo>
                  <a:pt x="0" y="34540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4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0">
            <a:hlinkClick r:id="rId7" action="ppaction://hlinksldjump"/>
          </p:cNvPr>
          <p:cNvSpPr/>
          <p:nvPr/>
        </p:nvSpPr>
        <p:spPr>
          <a:xfrm>
            <a:off x="6858000" y="1143000"/>
            <a:ext cx="304920" cy="5335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533520"/>
              <a:gd name="textAreaBottom" fmla="*/ 514080 h 533520"/>
            </a:gdLst>
            <a:ahLst/>
            <a:rect l="textAreaLeft" t="textAreaTop" r="textAreaRight" b="textAreaBottom"/>
            <a:pathLst>
              <a:path w="21600" h="37775">
                <a:moveTo>
                  <a:pt x="0" y="0"/>
                </a:moveTo>
                <a:lnTo>
                  <a:pt x="21600" y="0"/>
                </a:lnTo>
                <a:lnTo>
                  <a:pt x="21600" y="37775"/>
                </a:lnTo>
                <a:lnTo>
                  <a:pt x="0" y="37775"/>
                </a:lnTo>
                <a:close/>
              </a:path>
              <a:path fill="lightenLess" w="21600" h="377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775">
                <a:moveTo>
                  <a:pt x="21600" y="0"/>
                </a:moveTo>
                <a:lnTo>
                  <a:pt x="21600" y="37775"/>
                </a:lnTo>
                <a:lnTo>
                  <a:pt x="20200" y="36375"/>
                </a:lnTo>
                <a:lnTo>
                  <a:pt x="20200" y="1400"/>
                </a:lnTo>
                <a:close/>
              </a:path>
              <a:path fill="darkenLess" w="21600" h="37775">
                <a:moveTo>
                  <a:pt x="21600" y="37775"/>
                </a:moveTo>
                <a:lnTo>
                  <a:pt x="0" y="37775"/>
                </a:lnTo>
                <a:lnTo>
                  <a:pt x="1400" y="36375"/>
                </a:lnTo>
                <a:lnTo>
                  <a:pt x="20200" y="36375"/>
                </a:lnTo>
                <a:close/>
              </a:path>
              <a:path fill="lighten" w="21600" h="37775">
                <a:moveTo>
                  <a:pt x="0" y="3777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37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1">
            <a:hlinkClick r:id="rId8" action="ppaction://hlinksldjump"/>
          </p:cNvPr>
          <p:cNvSpPr/>
          <p:nvPr/>
        </p:nvSpPr>
        <p:spPr>
          <a:xfrm>
            <a:off x="7238880" y="1066680"/>
            <a:ext cx="457200" cy="6098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840"/>
              <a:gd name="textAreaBottom" fmla="*/ 580320 h 609840"/>
            </a:gdLst>
            <a:ahLst/>
            <a:rect l="textAreaLeft" t="textAreaTop" r="textAreaRight" b="textAreaBottom"/>
            <a:pathLst>
              <a:path w="21600" h="28806">
                <a:moveTo>
                  <a:pt x="0" y="0"/>
                </a:moveTo>
                <a:lnTo>
                  <a:pt x="21600" y="0"/>
                </a:lnTo>
                <a:lnTo>
                  <a:pt x="21600" y="28806"/>
                </a:lnTo>
                <a:lnTo>
                  <a:pt x="0" y="28806"/>
                </a:lnTo>
                <a:close/>
              </a:path>
              <a:path fill="lightenLess" w="21600" h="288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6">
                <a:moveTo>
                  <a:pt x="21600" y="0"/>
                </a:moveTo>
                <a:lnTo>
                  <a:pt x="21600" y="28806"/>
                </a:lnTo>
                <a:lnTo>
                  <a:pt x="20200" y="27406"/>
                </a:lnTo>
                <a:lnTo>
                  <a:pt x="20200" y="1400"/>
                </a:lnTo>
                <a:close/>
              </a:path>
              <a:path fill="darkenLess" w="21600" h="28806">
                <a:moveTo>
                  <a:pt x="21600" y="28806"/>
                </a:moveTo>
                <a:lnTo>
                  <a:pt x="0" y="28806"/>
                </a:lnTo>
                <a:lnTo>
                  <a:pt x="1400" y="27406"/>
                </a:lnTo>
                <a:lnTo>
                  <a:pt x="20200" y="27406"/>
                </a:lnTo>
                <a:close/>
              </a:path>
              <a:path fill="lighten" w="21600" h="28806">
                <a:moveTo>
                  <a:pt x="0" y="288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2">
            <a:hlinkClick r:id="rId9" action="ppaction://hlinksldjump"/>
          </p:cNvPr>
          <p:cNvSpPr/>
          <p:nvPr/>
        </p:nvSpPr>
        <p:spPr>
          <a:xfrm>
            <a:off x="7772400" y="1066680"/>
            <a:ext cx="380880" cy="6098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840"/>
              <a:gd name="textAreaBottom" fmla="*/ 585360 h 609840"/>
            </a:gdLst>
            <a:ahLst/>
            <a:rect l="textAreaLeft" t="textAreaTop" r="textAreaRight" b="textAreaBottom"/>
            <a:pathLst>
              <a:path w="21600" h="34572">
                <a:moveTo>
                  <a:pt x="0" y="0"/>
                </a:moveTo>
                <a:lnTo>
                  <a:pt x="21600" y="0"/>
                </a:lnTo>
                <a:lnTo>
                  <a:pt x="21600" y="34572"/>
                </a:lnTo>
                <a:lnTo>
                  <a:pt x="0" y="34572"/>
                </a:lnTo>
                <a:close/>
              </a:path>
              <a:path fill="lightenLess" w="21600" h="345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72">
                <a:moveTo>
                  <a:pt x="21600" y="0"/>
                </a:moveTo>
                <a:lnTo>
                  <a:pt x="21600" y="34572"/>
                </a:lnTo>
                <a:lnTo>
                  <a:pt x="20200" y="33172"/>
                </a:lnTo>
                <a:lnTo>
                  <a:pt x="20200" y="1400"/>
                </a:lnTo>
                <a:close/>
              </a:path>
              <a:path fill="darkenLess" w="21600" h="34572">
                <a:moveTo>
                  <a:pt x="21600" y="34572"/>
                </a:moveTo>
                <a:lnTo>
                  <a:pt x="0" y="34572"/>
                </a:lnTo>
                <a:lnTo>
                  <a:pt x="1400" y="33172"/>
                </a:lnTo>
                <a:lnTo>
                  <a:pt x="20200" y="33172"/>
                </a:lnTo>
                <a:close/>
              </a:path>
              <a:path fill="lighten" w="21600" h="34572">
                <a:moveTo>
                  <a:pt x="0" y="3457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7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13">
            <a:hlinkClick r:id="rId10" action="ppaction://hlinksldjump"/>
          </p:cNvPr>
          <p:cNvSpPr/>
          <p:nvPr/>
        </p:nvSpPr>
        <p:spPr>
          <a:xfrm>
            <a:off x="8229600" y="1066680"/>
            <a:ext cx="380880" cy="6098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840"/>
              <a:gd name="textAreaBottom" fmla="*/ 585360 h 609840"/>
            </a:gdLst>
            <a:ahLst/>
            <a:rect l="textAreaLeft" t="textAreaTop" r="textAreaRight" b="textAreaBottom"/>
            <a:pathLst>
              <a:path w="21600" h="34572">
                <a:moveTo>
                  <a:pt x="0" y="0"/>
                </a:moveTo>
                <a:lnTo>
                  <a:pt x="21600" y="0"/>
                </a:lnTo>
                <a:lnTo>
                  <a:pt x="21600" y="34572"/>
                </a:lnTo>
                <a:lnTo>
                  <a:pt x="0" y="34572"/>
                </a:lnTo>
                <a:close/>
              </a:path>
              <a:path fill="lightenLess" w="21600" h="345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72">
                <a:moveTo>
                  <a:pt x="21600" y="0"/>
                </a:moveTo>
                <a:lnTo>
                  <a:pt x="21600" y="34572"/>
                </a:lnTo>
                <a:lnTo>
                  <a:pt x="20200" y="33172"/>
                </a:lnTo>
                <a:lnTo>
                  <a:pt x="20200" y="1400"/>
                </a:lnTo>
                <a:close/>
              </a:path>
              <a:path fill="darkenLess" w="21600" h="34572">
                <a:moveTo>
                  <a:pt x="21600" y="34572"/>
                </a:moveTo>
                <a:lnTo>
                  <a:pt x="0" y="34572"/>
                </a:lnTo>
                <a:lnTo>
                  <a:pt x="1400" y="33172"/>
                </a:lnTo>
                <a:lnTo>
                  <a:pt x="20200" y="33172"/>
                </a:lnTo>
                <a:close/>
              </a:path>
              <a:path fill="lighten" w="21600" h="34572">
                <a:moveTo>
                  <a:pt x="0" y="3457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7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14">
            <a:hlinkClick r:id="rId11" action="ppaction://hlinksldjump"/>
          </p:cNvPr>
          <p:cNvSpPr/>
          <p:nvPr/>
        </p:nvSpPr>
        <p:spPr>
          <a:xfrm>
            <a:off x="8686800" y="11430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15">
            <a:hlinkClick r:id="rId12" action="ppaction://hlinksldjump"/>
          </p:cNvPr>
          <p:cNvSpPr/>
          <p:nvPr/>
        </p:nvSpPr>
        <p:spPr>
          <a:xfrm>
            <a:off x="0" y="1752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6">
            <a:hlinkClick r:id="rId13" action="ppaction://hlinksldjump"/>
          </p:cNvPr>
          <p:cNvSpPr/>
          <p:nvPr/>
        </p:nvSpPr>
        <p:spPr>
          <a:xfrm>
            <a:off x="533520" y="17524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17">
            <a:hlinkClick r:id="rId14" action="ppaction://hlinksldjump"/>
          </p:cNvPr>
          <p:cNvSpPr/>
          <p:nvPr/>
        </p:nvSpPr>
        <p:spPr>
          <a:xfrm>
            <a:off x="6324480" y="1676520"/>
            <a:ext cx="381240" cy="6094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19">
                <a:moveTo>
                  <a:pt x="0" y="0"/>
                </a:moveTo>
                <a:lnTo>
                  <a:pt x="21600" y="0"/>
                </a:lnTo>
                <a:lnTo>
                  <a:pt x="21600" y="34519"/>
                </a:lnTo>
                <a:lnTo>
                  <a:pt x="0" y="34519"/>
                </a:lnTo>
                <a:close/>
              </a:path>
              <a:path fill="lightenLess" w="21600" h="345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19">
                <a:moveTo>
                  <a:pt x="21600" y="0"/>
                </a:moveTo>
                <a:lnTo>
                  <a:pt x="21600" y="34519"/>
                </a:lnTo>
                <a:lnTo>
                  <a:pt x="20200" y="33119"/>
                </a:lnTo>
                <a:lnTo>
                  <a:pt x="20200" y="1400"/>
                </a:lnTo>
                <a:close/>
              </a:path>
              <a:path fill="darkenLess" w="21600" h="34519">
                <a:moveTo>
                  <a:pt x="21600" y="34519"/>
                </a:moveTo>
                <a:lnTo>
                  <a:pt x="0" y="34519"/>
                </a:lnTo>
                <a:lnTo>
                  <a:pt x="1400" y="33119"/>
                </a:lnTo>
                <a:lnTo>
                  <a:pt x="20200" y="33119"/>
                </a:lnTo>
                <a:close/>
              </a:path>
              <a:path fill="lighten" w="21600" h="34519">
                <a:moveTo>
                  <a:pt x="0" y="34519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1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18">
            <a:hlinkClick r:id="rId15" action="ppaction://hlinksldjump"/>
          </p:cNvPr>
          <p:cNvSpPr/>
          <p:nvPr/>
        </p:nvSpPr>
        <p:spPr>
          <a:xfrm>
            <a:off x="6781680" y="16765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19">
            <a:hlinkClick r:id="rId16" action="ppaction://hlinksldjump"/>
          </p:cNvPr>
          <p:cNvSpPr/>
          <p:nvPr/>
        </p:nvSpPr>
        <p:spPr>
          <a:xfrm>
            <a:off x="7238880" y="1752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20">
            <a:hlinkClick r:id="rId17" action="ppaction://hlinksldjump"/>
          </p:cNvPr>
          <p:cNvSpPr/>
          <p:nvPr/>
        </p:nvSpPr>
        <p:spPr>
          <a:xfrm>
            <a:off x="7696080" y="1752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21">
            <a:hlinkClick r:id="rId18" action="ppaction://hlinksldjump"/>
          </p:cNvPr>
          <p:cNvSpPr/>
          <p:nvPr/>
        </p:nvSpPr>
        <p:spPr>
          <a:xfrm>
            <a:off x="8229600" y="17524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22">
            <a:hlinkClick r:id="rId19" action="ppaction://hlinksldjump"/>
          </p:cNvPr>
          <p:cNvSpPr/>
          <p:nvPr/>
        </p:nvSpPr>
        <p:spPr>
          <a:xfrm>
            <a:off x="8686800" y="1752480"/>
            <a:ext cx="304920" cy="5335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533520"/>
              <a:gd name="textAreaBottom" fmla="*/ 514080 h 533520"/>
            </a:gdLst>
            <a:ahLst/>
            <a:rect l="textAreaLeft" t="textAreaTop" r="textAreaRight" b="textAreaBottom"/>
            <a:pathLst>
              <a:path w="21600" h="37775">
                <a:moveTo>
                  <a:pt x="0" y="0"/>
                </a:moveTo>
                <a:lnTo>
                  <a:pt x="21600" y="0"/>
                </a:lnTo>
                <a:lnTo>
                  <a:pt x="21600" y="37775"/>
                </a:lnTo>
                <a:lnTo>
                  <a:pt x="0" y="37775"/>
                </a:lnTo>
                <a:close/>
              </a:path>
              <a:path fill="lightenLess" w="21600" h="377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775">
                <a:moveTo>
                  <a:pt x="21600" y="0"/>
                </a:moveTo>
                <a:lnTo>
                  <a:pt x="21600" y="37775"/>
                </a:lnTo>
                <a:lnTo>
                  <a:pt x="20200" y="36375"/>
                </a:lnTo>
                <a:lnTo>
                  <a:pt x="20200" y="1400"/>
                </a:lnTo>
                <a:close/>
              </a:path>
              <a:path fill="darkenLess" w="21600" h="37775">
                <a:moveTo>
                  <a:pt x="21600" y="37775"/>
                </a:moveTo>
                <a:lnTo>
                  <a:pt x="0" y="37775"/>
                </a:lnTo>
                <a:lnTo>
                  <a:pt x="1400" y="36375"/>
                </a:lnTo>
                <a:lnTo>
                  <a:pt x="20200" y="36375"/>
                </a:lnTo>
                <a:close/>
              </a:path>
              <a:path fill="lighten" w="21600" h="37775">
                <a:moveTo>
                  <a:pt x="0" y="3777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37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23">
            <a:hlinkClick r:id="rId20" action="ppaction://hlinksldjump"/>
          </p:cNvPr>
          <p:cNvSpPr/>
          <p:nvPr/>
        </p:nvSpPr>
        <p:spPr>
          <a:xfrm>
            <a:off x="0" y="2362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24">
            <a:hlinkClick r:id="rId21" action="ppaction://hlinksldjump"/>
          </p:cNvPr>
          <p:cNvSpPr/>
          <p:nvPr/>
        </p:nvSpPr>
        <p:spPr>
          <a:xfrm>
            <a:off x="533520" y="23623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25">
            <a:hlinkClick r:id="rId22" action="ppaction://hlinksldjump"/>
          </p:cNvPr>
          <p:cNvSpPr/>
          <p:nvPr/>
        </p:nvSpPr>
        <p:spPr>
          <a:xfrm>
            <a:off x="1295280" y="2362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26">
            <a:hlinkClick r:id="rId23" action="ppaction://hlinksldjump"/>
          </p:cNvPr>
          <p:cNvSpPr/>
          <p:nvPr/>
        </p:nvSpPr>
        <p:spPr>
          <a:xfrm>
            <a:off x="1752480" y="2362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27">
            <a:hlinkClick r:id="rId24" action="ppaction://hlinksldjump"/>
          </p:cNvPr>
          <p:cNvSpPr/>
          <p:nvPr/>
        </p:nvSpPr>
        <p:spPr>
          <a:xfrm>
            <a:off x="2209680" y="2362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28">
            <a:hlinkClick r:id="rId25" action="ppaction://hlinksldjump"/>
          </p:cNvPr>
          <p:cNvSpPr/>
          <p:nvPr/>
        </p:nvSpPr>
        <p:spPr>
          <a:xfrm>
            <a:off x="2666880" y="2362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29">
            <a:hlinkClick r:id="rId26" action="ppaction://hlinksldjump"/>
          </p:cNvPr>
          <p:cNvSpPr/>
          <p:nvPr/>
        </p:nvSpPr>
        <p:spPr>
          <a:xfrm>
            <a:off x="3124080" y="2362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30">
            <a:hlinkClick r:id="rId27" action="ppaction://hlinksldjump"/>
          </p:cNvPr>
          <p:cNvSpPr/>
          <p:nvPr/>
        </p:nvSpPr>
        <p:spPr>
          <a:xfrm>
            <a:off x="3657600" y="2362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31">
            <a:hlinkClick r:id="rId28" action="ppaction://hlinksldjump"/>
          </p:cNvPr>
          <p:cNvSpPr/>
          <p:nvPr/>
        </p:nvSpPr>
        <p:spPr>
          <a:xfrm>
            <a:off x="4114800" y="2362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32">
            <a:hlinkClick r:id="rId29" action="ppaction://hlinksldjump"/>
          </p:cNvPr>
          <p:cNvSpPr/>
          <p:nvPr/>
        </p:nvSpPr>
        <p:spPr>
          <a:xfrm>
            <a:off x="4572000" y="2362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33">
            <a:hlinkClick r:id="rId30" action="ppaction://hlinksldjump"/>
          </p:cNvPr>
          <p:cNvSpPr/>
          <p:nvPr/>
        </p:nvSpPr>
        <p:spPr>
          <a:xfrm>
            <a:off x="5029200" y="2362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34">
            <a:hlinkClick r:id="rId31" action="ppaction://hlinksldjump"/>
          </p:cNvPr>
          <p:cNvSpPr/>
          <p:nvPr/>
        </p:nvSpPr>
        <p:spPr>
          <a:xfrm>
            <a:off x="5486400" y="2362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35">
            <a:hlinkClick r:id="rId32" action="ppaction://hlinksldjump"/>
          </p:cNvPr>
          <p:cNvSpPr/>
          <p:nvPr/>
        </p:nvSpPr>
        <p:spPr>
          <a:xfrm>
            <a:off x="6324480" y="2362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36">
            <a:hlinkClick r:id="rId33" action="ppaction://hlinksldjump"/>
          </p:cNvPr>
          <p:cNvSpPr/>
          <p:nvPr/>
        </p:nvSpPr>
        <p:spPr>
          <a:xfrm>
            <a:off x="6781680" y="2362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37">
            <a:hlinkClick r:id="rId34" action="ppaction://hlinksldjump"/>
          </p:cNvPr>
          <p:cNvSpPr/>
          <p:nvPr/>
        </p:nvSpPr>
        <p:spPr>
          <a:xfrm>
            <a:off x="7238880" y="2362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38">
            <a:hlinkClick r:id="rId35" action="ppaction://hlinksldjump"/>
          </p:cNvPr>
          <p:cNvSpPr/>
          <p:nvPr/>
        </p:nvSpPr>
        <p:spPr>
          <a:xfrm>
            <a:off x="7772400" y="2362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39">
            <a:hlinkClick r:id="rId36" action="ppaction://hlinksldjump"/>
          </p:cNvPr>
          <p:cNvSpPr/>
          <p:nvPr/>
        </p:nvSpPr>
        <p:spPr>
          <a:xfrm>
            <a:off x="8229600" y="2362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41">
            <a:hlinkClick r:id="rId37" action="ppaction://hlinksldjump"/>
          </p:cNvPr>
          <p:cNvSpPr/>
          <p:nvPr/>
        </p:nvSpPr>
        <p:spPr>
          <a:xfrm>
            <a:off x="8686800" y="2362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42">
            <a:hlinkClick r:id="rId38" action="ppaction://hlinksldjump"/>
          </p:cNvPr>
          <p:cNvSpPr/>
          <p:nvPr/>
        </p:nvSpPr>
        <p:spPr>
          <a:xfrm>
            <a:off x="76320" y="29718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43">
            <a:hlinkClick r:id="rId39" action="ppaction://hlinksldjump"/>
          </p:cNvPr>
          <p:cNvSpPr/>
          <p:nvPr/>
        </p:nvSpPr>
        <p:spPr>
          <a:xfrm>
            <a:off x="533520" y="297180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44">
            <a:hlinkClick r:id="rId40" action="ppaction://hlinksldjump"/>
          </p:cNvPr>
          <p:cNvSpPr/>
          <p:nvPr/>
        </p:nvSpPr>
        <p:spPr>
          <a:xfrm>
            <a:off x="1295280" y="297180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45">
            <a:hlinkClick r:id="rId41" action="ppaction://hlinksldjump"/>
          </p:cNvPr>
          <p:cNvSpPr/>
          <p:nvPr/>
        </p:nvSpPr>
        <p:spPr>
          <a:xfrm>
            <a:off x="1752480" y="297180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46">
            <a:hlinkClick r:id="rId42" action="ppaction://hlinksldjump"/>
          </p:cNvPr>
          <p:cNvSpPr/>
          <p:nvPr/>
        </p:nvSpPr>
        <p:spPr>
          <a:xfrm>
            <a:off x="2209680" y="297180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47">
            <a:hlinkClick r:id="rId43" action="ppaction://hlinksldjump"/>
          </p:cNvPr>
          <p:cNvSpPr/>
          <p:nvPr/>
        </p:nvSpPr>
        <p:spPr>
          <a:xfrm>
            <a:off x="2666880" y="297180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48">
            <a:hlinkClick r:id="rId44" action="ppaction://hlinksldjump"/>
          </p:cNvPr>
          <p:cNvSpPr/>
          <p:nvPr/>
        </p:nvSpPr>
        <p:spPr>
          <a:xfrm>
            <a:off x="3124080" y="297180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49">
            <a:hlinkClick r:id="rId45" action="ppaction://hlinksldjump"/>
          </p:cNvPr>
          <p:cNvSpPr/>
          <p:nvPr/>
        </p:nvSpPr>
        <p:spPr>
          <a:xfrm>
            <a:off x="36576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50">
            <a:hlinkClick r:id="rId46" action="ppaction://hlinksldjump"/>
          </p:cNvPr>
          <p:cNvSpPr/>
          <p:nvPr/>
        </p:nvSpPr>
        <p:spPr>
          <a:xfrm>
            <a:off x="41148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51">
            <a:hlinkClick r:id="rId47" action="ppaction://hlinksldjump"/>
          </p:cNvPr>
          <p:cNvSpPr/>
          <p:nvPr/>
        </p:nvSpPr>
        <p:spPr>
          <a:xfrm>
            <a:off x="45720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52">
            <a:hlinkClick r:id="rId48" action="ppaction://hlinksldjump"/>
          </p:cNvPr>
          <p:cNvSpPr/>
          <p:nvPr/>
        </p:nvSpPr>
        <p:spPr>
          <a:xfrm>
            <a:off x="50292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53">
            <a:hlinkClick r:id="rId49" action="ppaction://hlinksldjump"/>
          </p:cNvPr>
          <p:cNvSpPr/>
          <p:nvPr/>
        </p:nvSpPr>
        <p:spPr>
          <a:xfrm>
            <a:off x="54864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54">
            <a:hlinkClick r:id="rId50" action="ppaction://hlinksldjump"/>
          </p:cNvPr>
          <p:cNvSpPr/>
          <p:nvPr/>
        </p:nvSpPr>
        <p:spPr>
          <a:xfrm>
            <a:off x="6324480" y="29718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55">
            <a:hlinkClick r:id="rId51" action="ppaction://hlinksldjump"/>
          </p:cNvPr>
          <p:cNvSpPr/>
          <p:nvPr/>
        </p:nvSpPr>
        <p:spPr>
          <a:xfrm>
            <a:off x="6781680" y="297180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56">
            <a:hlinkClick r:id="rId52" action="ppaction://hlinksldjump"/>
          </p:cNvPr>
          <p:cNvSpPr/>
          <p:nvPr/>
        </p:nvSpPr>
        <p:spPr>
          <a:xfrm>
            <a:off x="7238880" y="29718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57">
            <a:hlinkClick r:id="rId53" action="ppaction://hlinksldjump"/>
          </p:cNvPr>
          <p:cNvSpPr/>
          <p:nvPr/>
        </p:nvSpPr>
        <p:spPr>
          <a:xfrm>
            <a:off x="77724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58">
            <a:hlinkClick r:id="rId54" action="ppaction://hlinksldjump"/>
          </p:cNvPr>
          <p:cNvSpPr/>
          <p:nvPr/>
        </p:nvSpPr>
        <p:spPr>
          <a:xfrm>
            <a:off x="82296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59">
            <a:hlinkClick r:id="rId55" action="ppaction://hlinksldjump"/>
          </p:cNvPr>
          <p:cNvSpPr/>
          <p:nvPr/>
        </p:nvSpPr>
        <p:spPr>
          <a:xfrm>
            <a:off x="86868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60">
            <a:hlinkClick r:id="rId56" action="ppaction://hlinksldjump"/>
          </p:cNvPr>
          <p:cNvSpPr/>
          <p:nvPr/>
        </p:nvSpPr>
        <p:spPr>
          <a:xfrm>
            <a:off x="0" y="35812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61">
            <a:hlinkClick r:id="rId57" action="ppaction://hlinksldjump"/>
          </p:cNvPr>
          <p:cNvSpPr/>
          <p:nvPr/>
        </p:nvSpPr>
        <p:spPr>
          <a:xfrm>
            <a:off x="533520" y="36576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62">
            <a:hlinkClick r:id="rId58" action="ppaction://hlinksldjump"/>
          </p:cNvPr>
          <p:cNvSpPr/>
          <p:nvPr/>
        </p:nvSpPr>
        <p:spPr>
          <a:xfrm>
            <a:off x="1295280" y="358128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63">
            <a:hlinkClick r:id="rId59" action="ppaction://hlinksldjump"/>
          </p:cNvPr>
          <p:cNvSpPr/>
          <p:nvPr/>
        </p:nvSpPr>
        <p:spPr>
          <a:xfrm>
            <a:off x="1752480" y="358128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64">
            <a:hlinkClick r:id="rId60" action="ppaction://hlinksldjump"/>
          </p:cNvPr>
          <p:cNvSpPr/>
          <p:nvPr/>
        </p:nvSpPr>
        <p:spPr>
          <a:xfrm>
            <a:off x="2209680" y="358128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65">
            <a:hlinkClick r:id="rId61" action="ppaction://hlinksldjump"/>
          </p:cNvPr>
          <p:cNvSpPr/>
          <p:nvPr/>
        </p:nvSpPr>
        <p:spPr>
          <a:xfrm>
            <a:off x="2666880" y="358128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66">
            <a:hlinkClick r:id="rId62" action="ppaction://hlinksldjump"/>
          </p:cNvPr>
          <p:cNvSpPr/>
          <p:nvPr/>
        </p:nvSpPr>
        <p:spPr>
          <a:xfrm>
            <a:off x="3124080" y="35812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67">
            <a:hlinkClick r:id="rId63" action="ppaction://hlinksldjump"/>
          </p:cNvPr>
          <p:cNvSpPr/>
          <p:nvPr/>
        </p:nvSpPr>
        <p:spPr>
          <a:xfrm>
            <a:off x="3657600" y="35812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68">
            <a:hlinkClick r:id="rId64" action="ppaction://hlinksldjump"/>
          </p:cNvPr>
          <p:cNvSpPr/>
          <p:nvPr/>
        </p:nvSpPr>
        <p:spPr>
          <a:xfrm>
            <a:off x="4114800" y="35812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69">
            <a:hlinkClick r:id="rId65" action="ppaction://hlinksldjump"/>
          </p:cNvPr>
          <p:cNvSpPr/>
          <p:nvPr/>
        </p:nvSpPr>
        <p:spPr>
          <a:xfrm>
            <a:off x="4572000" y="35812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70">
            <a:hlinkClick r:id="rId66" action="ppaction://hlinksldjump"/>
          </p:cNvPr>
          <p:cNvSpPr/>
          <p:nvPr/>
        </p:nvSpPr>
        <p:spPr>
          <a:xfrm>
            <a:off x="5029200" y="35812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71">
            <a:hlinkClick r:id="rId67" action="ppaction://hlinksldjump"/>
          </p:cNvPr>
          <p:cNvSpPr/>
          <p:nvPr/>
        </p:nvSpPr>
        <p:spPr>
          <a:xfrm>
            <a:off x="5486400" y="3581280"/>
            <a:ext cx="457200" cy="6098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840"/>
              <a:gd name="textAreaBottom" fmla="*/ 580320 h 609840"/>
            </a:gdLst>
            <a:ahLst/>
            <a:rect l="textAreaLeft" t="textAreaTop" r="textAreaRight" b="textAreaBottom"/>
            <a:pathLst>
              <a:path w="21600" h="28806">
                <a:moveTo>
                  <a:pt x="0" y="0"/>
                </a:moveTo>
                <a:lnTo>
                  <a:pt x="21600" y="0"/>
                </a:lnTo>
                <a:lnTo>
                  <a:pt x="21600" y="28806"/>
                </a:lnTo>
                <a:lnTo>
                  <a:pt x="0" y="28806"/>
                </a:lnTo>
                <a:close/>
              </a:path>
              <a:path fill="lightenLess" w="21600" h="288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6">
                <a:moveTo>
                  <a:pt x="21600" y="0"/>
                </a:moveTo>
                <a:lnTo>
                  <a:pt x="21600" y="28806"/>
                </a:lnTo>
                <a:lnTo>
                  <a:pt x="20200" y="27406"/>
                </a:lnTo>
                <a:lnTo>
                  <a:pt x="20200" y="1400"/>
                </a:lnTo>
                <a:close/>
              </a:path>
              <a:path fill="darkenLess" w="21600" h="28806">
                <a:moveTo>
                  <a:pt x="21600" y="28806"/>
                </a:moveTo>
                <a:lnTo>
                  <a:pt x="0" y="28806"/>
                </a:lnTo>
                <a:lnTo>
                  <a:pt x="1400" y="27406"/>
                </a:lnTo>
                <a:lnTo>
                  <a:pt x="20200" y="27406"/>
                </a:lnTo>
                <a:close/>
              </a:path>
              <a:path fill="lighten" w="21600" h="28806">
                <a:moveTo>
                  <a:pt x="0" y="288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72">
            <a:hlinkClick r:id="rId68" action="ppaction://hlinksldjump"/>
          </p:cNvPr>
          <p:cNvSpPr/>
          <p:nvPr/>
        </p:nvSpPr>
        <p:spPr>
          <a:xfrm>
            <a:off x="6324480" y="358128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73">
            <a:hlinkClick r:id="rId69" action="ppaction://hlinksldjump"/>
          </p:cNvPr>
          <p:cNvSpPr/>
          <p:nvPr/>
        </p:nvSpPr>
        <p:spPr>
          <a:xfrm>
            <a:off x="6781680" y="358128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74">
            <a:hlinkClick r:id="rId70" action="ppaction://hlinksldjump"/>
          </p:cNvPr>
          <p:cNvSpPr/>
          <p:nvPr/>
        </p:nvSpPr>
        <p:spPr>
          <a:xfrm>
            <a:off x="7238880" y="35812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75">
            <a:hlinkClick r:id="rId71" action="ppaction://hlinksldjump"/>
          </p:cNvPr>
          <p:cNvSpPr/>
          <p:nvPr/>
        </p:nvSpPr>
        <p:spPr>
          <a:xfrm>
            <a:off x="7696080" y="35812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76">
            <a:hlinkClick r:id="rId72" action="ppaction://hlinksldjump"/>
          </p:cNvPr>
          <p:cNvSpPr/>
          <p:nvPr/>
        </p:nvSpPr>
        <p:spPr>
          <a:xfrm>
            <a:off x="8229600" y="35812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77">
            <a:hlinkClick r:id="rId73" action="ppaction://hlinksldjump"/>
          </p:cNvPr>
          <p:cNvSpPr/>
          <p:nvPr/>
        </p:nvSpPr>
        <p:spPr>
          <a:xfrm>
            <a:off x="8686800" y="35812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78">
            <a:hlinkClick r:id="rId74" action="ppaction://hlinksldjump"/>
          </p:cNvPr>
          <p:cNvSpPr/>
          <p:nvPr/>
        </p:nvSpPr>
        <p:spPr>
          <a:xfrm>
            <a:off x="0" y="41911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79">
            <a:hlinkClick r:id="rId75" action="ppaction://hlinksldjump"/>
          </p:cNvPr>
          <p:cNvSpPr/>
          <p:nvPr/>
        </p:nvSpPr>
        <p:spPr>
          <a:xfrm>
            <a:off x="533520" y="42670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80">
            <a:hlinkClick r:id="rId76" action="ppaction://hlinksldjump"/>
          </p:cNvPr>
          <p:cNvSpPr/>
          <p:nvPr/>
        </p:nvSpPr>
        <p:spPr>
          <a:xfrm>
            <a:off x="1295280" y="4191120"/>
            <a:ext cx="381240" cy="6094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19">
                <a:moveTo>
                  <a:pt x="0" y="0"/>
                </a:moveTo>
                <a:lnTo>
                  <a:pt x="21600" y="0"/>
                </a:lnTo>
                <a:lnTo>
                  <a:pt x="21600" y="34519"/>
                </a:lnTo>
                <a:lnTo>
                  <a:pt x="0" y="34519"/>
                </a:lnTo>
                <a:close/>
              </a:path>
              <a:path fill="lightenLess" w="21600" h="345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19">
                <a:moveTo>
                  <a:pt x="21600" y="0"/>
                </a:moveTo>
                <a:lnTo>
                  <a:pt x="21600" y="34519"/>
                </a:lnTo>
                <a:lnTo>
                  <a:pt x="20200" y="33119"/>
                </a:lnTo>
                <a:lnTo>
                  <a:pt x="20200" y="1400"/>
                </a:lnTo>
                <a:close/>
              </a:path>
              <a:path fill="darkenLess" w="21600" h="34519">
                <a:moveTo>
                  <a:pt x="21600" y="34519"/>
                </a:moveTo>
                <a:lnTo>
                  <a:pt x="0" y="34519"/>
                </a:lnTo>
                <a:lnTo>
                  <a:pt x="1400" y="33119"/>
                </a:lnTo>
                <a:lnTo>
                  <a:pt x="20200" y="33119"/>
                </a:lnTo>
                <a:close/>
              </a:path>
              <a:path fill="lighten" w="21600" h="34519">
                <a:moveTo>
                  <a:pt x="0" y="34519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1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81">
            <a:hlinkClick r:id="rId77" action="ppaction://hlinksldjump"/>
          </p:cNvPr>
          <p:cNvSpPr/>
          <p:nvPr/>
        </p:nvSpPr>
        <p:spPr>
          <a:xfrm>
            <a:off x="1752480" y="41911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82">
            <a:hlinkClick r:id="rId78" action="ppaction://hlinksldjump"/>
          </p:cNvPr>
          <p:cNvSpPr/>
          <p:nvPr/>
        </p:nvSpPr>
        <p:spPr>
          <a:xfrm>
            <a:off x="2209680" y="41911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83">
            <a:hlinkClick r:id="rId79" action="ppaction://hlinksldjump"/>
          </p:cNvPr>
          <p:cNvSpPr/>
          <p:nvPr/>
        </p:nvSpPr>
        <p:spPr>
          <a:xfrm>
            <a:off x="2666880" y="41911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84">
            <a:hlinkClick r:id="rId80" action="ppaction://hlinksldjump"/>
          </p:cNvPr>
          <p:cNvSpPr/>
          <p:nvPr/>
        </p:nvSpPr>
        <p:spPr>
          <a:xfrm>
            <a:off x="3124080" y="41911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85">
            <a:hlinkClick r:id="rId81" action="ppaction://hlinksldjump"/>
          </p:cNvPr>
          <p:cNvSpPr/>
          <p:nvPr/>
        </p:nvSpPr>
        <p:spPr>
          <a:xfrm>
            <a:off x="3657600" y="41911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86">
            <a:hlinkClick r:id="rId82" action="ppaction://hlinksldjump"/>
          </p:cNvPr>
          <p:cNvSpPr/>
          <p:nvPr/>
        </p:nvSpPr>
        <p:spPr>
          <a:xfrm>
            <a:off x="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87">
            <a:hlinkClick r:id="rId83" action="ppaction://hlinksldjump"/>
          </p:cNvPr>
          <p:cNvSpPr/>
          <p:nvPr/>
        </p:nvSpPr>
        <p:spPr>
          <a:xfrm>
            <a:off x="533520" y="51814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88">
            <a:hlinkClick r:id="rId84" action="ppaction://hlinksldjump"/>
          </p:cNvPr>
          <p:cNvSpPr/>
          <p:nvPr/>
        </p:nvSpPr>
        <p:spPr>
          <a:xfrm>
            <a:off x="990720" y="51814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89">
            <a:hlinkClick r:id="rId85" action="ppaction://hlinksldjump"/>
          </p:cNvPr>
          <p:cNvSpPr/>
          <p:nvPr/>
        </p:nvSpPr>
        <p:spPr>
          <a:xfrm>
            <a:off x="1447920" y="5181480"/>
            <a:ext cx="380880" cy="6098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840"/>
              <a:gd name="textAreaBottom" fmla="*/ 585360 h 609840"/>
            </a:gdLst>
            <a:ahLst/>
            <a:rect l="textAreaLeft" t="textAreaTop" r="textAreaRight" b="textAreaBottom"/>
            <a:pathLst>
              <a:path w="21600" h="34572">
                <a:moveTo>
                  <a:pt x="0" y="0"/>
                </a:moveTo>
                <a:lnTo>
                  <a:pt x="21600" y="0"/>
                </a:lnTo>
                <a:lnTo>
                  <a:pt x="21600" y="34572"/>
                </a:lnTo>
                <a:lnTo>
                  <a:pt x="0" y="34572"/>
                </a:lnTo>
                <a:close/>
              </a:path>
              <a:path fill="lightenLess" w="21600" h="345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72">
                <a:moveTo>
                  <a:pt x="21600" y="0"/>
                </a:moveTo>
                <a:lnTo>
                  <a:pt x="21600" y="34572"/>
                </a:lnTo>
                <a:lnTo>
                  <a:pt x="20200" y="33172"/>
                </a:lnTo>
                <a:lnTo>
                  <a:pt x="20200" y="1400"/>
                </a:lnTo>
                <a:close/>
              </a:path>
              <a:path fill="darkenLess" w="21600" h="34572">
                <a:moveTo>
                  <a:pt x="21600" y="34572"/>
                </a:moveTo>
                <a:lnTo>
                  <a:pt x="0" y="34572"/>
                </a:lnTo>
                <a:lnTo>
                  <a:pt x="1400" y="33172"/>
                </a:lnTo>
                <a:lnTo>
                  <a:pt x="20200" y="33172"/>
                </a:lnTo>
                <a:close/>
              </a:path>
              <a:path fill="lighten" w="21600" h="34572">
                <a:moveTo>
                  <a:pt x="0" y="3457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7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90">
            <a:hlinkClick r:id="rId86" action="ppaction://hlinksldjump"/>
          </p:cNvPr>
          <p:cNvSpPr/>
          <p:nvPr/>
        </p:nvSpPr>
        <p:spPr>
          <a:xfrm>
            <a:off x="1905120" y="5181480"/>
            <a:ext cx="380880" cy="6098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840"/>
              <a:gd name="textAreaBottom" fmla="*/ 585360 h 609840"/>
            </a:gdLst>
            <a:ahLst/>
            <a:rect l="textAreaLeft" t="textAreaTop" r="textAreaRight" b="textAreaBottom"/>
            <a:pathLst>
              <a:path w="21600" h="34572">
                <a:moveTo>
                  <a:pt x="0" y="0"/>
                </a:moveTo>
                <a:lnTo>
                  <a:pt x="21600" y="0"/>
                </a:lnTo>
                <a:lnTo>
                  <a:pt x="21600" y="34572"/>
                </a:lnTo>
                <a:lnTo>
                  <a:pt x="0" y="34572"/>
                </a:lnTo>
                <a:close/>
              </a:path>
              <a:path fill="lightenLess" w="21600" h="345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72">
                <a:moveTo>
                  <a:pt x="21600" y="0"/>
                </a:moveTo>
                <a:lnTo>
                  <a:pt x="21600" y="34572"/>
                </a:lnTo>
                <a:lnTo>
                  <a:pt x="20200" y="33172"/>
                </a:lnTo>
                <a:lnTo>
                  <a:pt x="20200" y="1400"/>
                </a:lnTo>
                <a:close/>
              </a:path>
              <a:path fill="darkenLess" w="21600" h="34572">
                <a:moveTo>
                  <a:pt x="21600" y="34572"/>
                </a:moveTo>
                <a:lnTo>
                  <a:pt x="0" y="34572"/>
                </a:lnTo>
                <a:lnTo>
                  <a:pt x="1400" y="33172"/>
                </a:lnTo>
                <a:lnTo>
                  <a:pt x="20200" y="33172"/>
                </a:lnTo>
                <a:close/>
              </a:path>
              <a:path fill="lighten" w="21600" h="34572">
                <a:moveTo>
                  <a:pt x="0" y="3457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7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91">
            <a:hlinkClick r:id="rId87" action="ppaction://hlinksldjump"/>
          </p:cNvPr>
          <p:cNvSpPr/>
          <p:nvPr/>
        </p:nvSpPr>
        <p:spPr>
          <a:xfrm>
            <a:off x="2362320" y="5181480"/>
            <a:ext cx="380880" cy="6098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840"/>
              <a:gd name="textAreaBottom" fmla="*/ 585360 h 609840"/>
            </a:gdLst>
            <a:ahLst/>
            <a:rect l="textAreaLeft" t="textAreaTop" r="textAreaRight" b="textAreaBottom"/>
            <a:pathLst>
              <a:path w="21600" h="34572">
                <a:moveTo>
                  <a:pt x="0" y="0"/>
                </a:moveTo>
                <a:lnTo>
                  <a:pt x="21600" y="0"/>
                </a:lnTo>
                <a:lnTo>
                  <a:pt x="21600" y="34572"/>
                </a:lnTo>
                <a:lnTo>
                  <a:pt x="0" y="34572"/>
                </a:lnTo>
                <a:close/>
              </a:path>
              <a:path fill="lightenLess" w="21600" h="345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72">
                <a:moveTo>
                  <a:pt x="21600" y="0"/>
                </a:moveTo>
                <a:lnTo>
                  <a:pt x="21600" y="34572"/>
                </a:lnTo>
                <a:lnTo>
                  <a:pt x="20200" y="33172"/>
                </a:lnTo>
                <a:lnTo>
                  <a:pt x="20200" y="1400"/>
                </a:lnTo>
                <a:close/>
              </a:path>
              <a:path fill="darkenLess" w="21600" h="34572">
                <a:moveTo>
                  <a:pt x="21600" y="34572"/>
                </a:moveTo>
                <a:lnTo>
                  <a:pt x="0" y="34572"/>
                </a:lnTo>
                <a:lnTo>
                  <a:pt x="1400" y="33172"/>
                </a:lnTo>
                <a:lnTo>
                  <a:pt x="20200" y="33172"/>
                </a:lnTo>
                <a:close/>
              </a:path>
              <a:path fill="lighten" w="21600" h="34572">
                <a:moveTo>
                  <a:pt x="0" y="3457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7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92">
            <a:hlinkClick r:id="rId88" action="ppaction://hlinksldjump"/>
          </p:cNvPr>
          <p:cNvSpPr/>
          <p:nvPr/>
        </p:nvSpPr>
        <p:spPr>
          <a:xfrm>
            <a:off x="281952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3">
            <a:hlinkClick r:id="rId89" action="ppaction://hlinksldjump"/>
          </p:cNvPr>
          <p:cNvSpPr/>
          <p:nvPr/>
        </p:nvSpPr>
        <p:spPr>
          <a:xfrm>
            <a:off x="327672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94">
            <a:hlinkClick r:id="rId90" action="ppaction://hlinksldjump"/>
          </p:cNvPr>
          <p:cNvSpPr/>
          <p:nvPr/>
        </p:nvSpPr>
        <p:spPr>
          <a:xfrm>
            <a:off x="373392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95">
            <a:hlinkClick r:id="rId91" action="ppaction://hlinksldjump"/>
          </p:cNvPr>
          <p:cNvSpPr/>
          <p:nvPr/>
        </p:nvSpPr>
        <p:spPr>
          <a:xfrm>
            <a:off x="419112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96">
            <a:hlinkClick r:id="rId92" action="ppaction://hlinksldjump"/>
          </p:cNvPr>
          <p:cNvSpPr/>
          <p:nvPr/>
        </p:nvSpPr>
        <p:spPr>
          <a:xfrm>
            <a:off x="4724280" y="518148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97">
            <a:hlinkClick r:id="rId93" action="ppaction://hlinksldjump"/>
          </p:cNvPr>
          <p:cNvSpPr/>
          <p:nvPr/>
        </p:nvSpPr>
        <p:spPr>
          <a:xfrm>
            <a:off x="518148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98">
            <a:hlinkClick r:id="rId94" action="ppaction://hlinksldjump"/>
          </p:cNvPr>
          <p:cNvSpPr/>
          <p:nvPr/>
        </p:nvSpPr>
        <p:spPr>
          <a:xfrm>
            <a:off x="563868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99">
            <a:hlinkClick r:id="rId95" action="ppaction://hlinksldjump"/>
          </p:cNvPr>
          <p:cNvSpPr/>
          <p:nvPr/>
        </p:nvSpPr>
        <p:spPr>
          <a:xfrm>
            <a:off x="609588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100">
            <a:hlinkClick r:id="rId96" action="ppaction://hlinksldjump"/>
          </p:cNvPr>
          <p:cNvSpPr/>
          <p:nvPr/>
        </p:nvSpPr>
        <p:spPr>
          <a:xfrm>
            <a:off x="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101">
            <a:hlinkClick r:id="rId97" action="ppaction://hlinksldjump"/>
          </p:cNvPr>
          <p:cNvSpPr/>
          <p:nvPr/>
        </p:nvSpPr>
        <p:spPr>
          <a:xfrm>
            <a:off x="533520" y="5791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102">
            <a:hlinkClick r:id="rId98" action="ppaction://hlinksldjump"/>
          </p:cNvPr>
          <p:cNvSpPr/>
          <p:nvPr/>
        </p:nvSpPr>
        <p:spPr>
          <a:xfrm>
            <a:off x="990720" y="5791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103">
            <a:hlinkClick r:id="rId99" action="ppaction://hlinksldjump"/>
          </p:cNvPr>
          <p:cNvSpPr/>
          <p:nvPr/>
        </p:nvSpPr>
        <p:spPr>
          <a:xfrm>
            <a:off x="144792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104">
            <a:hlinkClick r:id="rId100" action="ppaction://hlinksldjump"/>
          </p:cNvPr>
          <p:cNvSpPr/>
          <p:nvPr/>
        </p:nvSpPr>
        <p:spPr>
          <a:xfrm>
            <a:off x="190512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105">
            <a:hlinkClick r:id="rId101" action="ppaction://hlinksldjump"/>
          </p:cNvPr>
          <p:cNvSpPr/>
          <p:nvPr/>
        </p:nvSpPr>
        <p:spPr>
          <a:xfrm>
            <a:off x="236232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106">
            <a:hlinkClick r:id="rId102" action="ppaction://hlinksldjump"/>
          </p:cNvPr>
          <p:cNvSpPr/>
          <p:nvPr/>
        </p:nvSpPr>
        <p:spPr>
          <a:xfrm>
            <a:off x="281952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107">
            <a:hlinkClick r:id="rId103" action="ppaction://hlinksldjump"/>
          </p:cNvPr>
          <p:cNvSpPr/>
          <p:nvPr/>
        </p:nvSpPr>
        <p:spPr>
          <a:xfrm>
            <a:off x="327672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108">
            <a:hlinkClick r:id="rId104" action="ppaction://hlinksldjump"/>
          </p:cNvPr>
          <p:cNvSpPr/>
          <p:nvPr/>
        </p:nvSpPr>
        <p:spPr>
          <a:xfrm>
            <a:off x="373392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109">
            <a:hlinkClick r:id="rId105" action="ppaction://hlinksldjump"/>
          </p:cNvPr>
          <p:cNvSpPr/>
          <p:nvPr/>
        </p:nvSpPr>
        <p:spPr>
          <a:xfrm>
            <a:off x="4267080" y="5791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110">
            <a:hlinkClick r:id="rId106" action="ppaction://hlinksldjump"/>
          </p:cNvPr>
          <p:cNvSpPr/>
          <p:nvPr/>
        </p:nvSpPr>
        <p:spPr>
          <a:xfrm>
            <a:off x="4724280" y="5791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111">
            <a:hlinkClick r:id="rId107" action="ppaction://hlinksldjump"/>
          </p:cNvPr>
          <p:cNvSpPr/>
          <p:nvPr/>
        </p:nvSpPr>
        <p:spPr>
          <a:xfrm>
            <a:off x="518148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112">
            <a:hlinkClick r:id="rId108" action="ppaction://hlinksldjump"/>
          </p:cNvPr>
          <p:cNvSpPr/>
          <p:nvPr/>
        </p:nvSpPr>
        <p:spPr>
          <a:xfrm>
            <a:off x="563868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114">
            <a:hlinkClick r:id="rId109" action="ppaction://hlinksldjump"/>
          </p:cNvPr>
          <p:cNvSpPr/>
          <p:nvPr/>
        </p:nvSpPr>
        <p:spPr>
          <a:xfrm>
            <a:off x="609588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115">
            <a:hlinkClick r:id="rId110" action="ppaction://hlinksldjump"/>
          </p:cNvPr>
          <p:cNvSpPr/>
          <p:nvPr/>
        </p:nvSpPr>
        <p:spPr>
          <a:xfrm>
            <a:off x="4114800" y="41911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16"/>
          <p:cNvSpPr/>
          <p:nvPr/>
        </p:nvSpPr>
        <p:spPr>
          <a:xfrm>
            <a:off x="2284560" y="457200"/>
            <a:ext cx="318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Select an e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117" descr="in00596_"/>
          <p:cNvPicPr/>
          <p:nvPr/>
        </p:nvPicPr>
        <p:blipFill>
          <a:blip r:embed="rId111"/>
          <a:stretch/>
        </p:blipFill>
        <p:spPr>
          <a:xfrm>
            <a:off x="2133720" y="1371600"/>
            <a:ext cx="533160" cy="3240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18"/>
          <p:cNvSpPr/>
          <p:nvPr/>
        </p:nvSpPr>
        <p:spPr>
          <a:xfrm>
            <a:off x="2590920" y="1317600"/>
            <a:ext cx="208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= Internet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20"/>
          <p:cNvSpPr/>
          <p:nvPr/>
        </p:nvSpPr>
        <p:spPr>
          <a:xfrm>
            <a:off x="1906920" y="11430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(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21"/>
          <p:cNvSpPr/>
          <p:nvPr/>
        </p:nvSpPr>
        <p:spPr>
          <a:xfrm>
            <a:off x="4573800" y="11430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1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Rectangle 5"/>
          <p:cNvSpPr/>
          <p:nvPr/>
        </p:nvSpPr>
        <p:spPr>
          <a:xfrm>
            <a:off x="1295280" y="2057400"/>
            <a:ext cx="678204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g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9.94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89.3 °C (83.85 °K, -308.7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86.0 °C (87.15 °K, -302.8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6" name="Object 5"/>
          <p:cNvGraphicFramePr/>
          <p:nvPr/>
        </p:nvGraphicFramePr>
        <p:xfrm>
          <a:off x="152280" y="152280"/>
          <a:ext cx="847800" cy="1114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Rectangle 6"/>
          <p:cNvSpPr/>
          <p:nvPr/>
        </p:nvSpPr>
        <p:spPr>
          <a:xfrm>
            <a:off x="1600200" y="2209680"/>
            <a:ext cx="685800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otass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K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9.0983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3.65 °C (336.8 °K, 146.57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74.0 °C (1047.15 °K, 1425.2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1" name="Object 4"/>
          <p:cNvGraphicFramePr/>
          <p:nvPr/>
        </p:nvGraphicFramePr>
        <p:xfrm>
          <a:off x="152280" y="152280"/>
          <a:ext cx="847800" cy="112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Rectangle 5"/>
          <p:cNvSpPr/>
          <p:nvPr/>
        </p:nvSpPr>
        <p:spPr>
          <a:xfrm>
            <a:off x="121932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alc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0.07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39.0 °C (1112.15 °K, 1542.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84.0 °C (1757.15 °K, 2703.2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6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Rectangle 5"/>
          <p:cNvSpPr/>
          <p:nvPr/>
        </p:nvSpPr>
        <p:spPr>
          <a:xfrm>
            <a:off x="1295280" y="2286000"/>
            <a:ext cx="69343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can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c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4.9559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39.0 °C (1812.15 °K, 2802.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32.0 °C (3105.15 °K, 5129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1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5"/>
          <p:cNvSpPr/>
          <p:nvPr/>
        </p:nvSpPr>
        <p:spPr>
          <a:xfrm>
            <a:off x="106668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ita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i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7.86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60.0 °C (1933.15 °K, 3020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87.0 °C (3560.15 °K, 5948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6" name="Object 4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Rectangle 5"/>
          <p:cNvSpPr/>
          <p:nvPr/>
        </p:nvSpPr>
        <p:spPr>
          <a:xfrm>
            <a:off x="1219320" y="2057400"/>
            <a:ext cx="701028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Vana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V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0.941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90.0 °C (2163.15 °K, 3434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380.0 °C (3653.15 °K, 6116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1" name="Object 4"/>
          <p:cNvGraphicFramePr/>
          <p:nvPr/>
        </p:nvGraphicFramePr>
        <p:xfrm>
          <a:off x="152280" y="152280"/>
          <a:ext cx="85752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Rectangle 5"/>
          <p:cNvSpPr/>
          <p:nvPr/>
        </p:nvSpPr>
        <p:spPr>
          <a:xfrm>
            <a:off x="114300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hrom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1.996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57.0 °C (2130.15 °K, 3374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672.0 °C (2945.15 °K, 4841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6" name="Object 4"/>
          <p:cNvGraphicFramePr/>
          <p:nvPr/>
        </p:nvGraphicFramePr>
        <p:xfrm>
          <a:off x="152280" y="152280"/>
          <a:ext cx="85752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Rectangle 5"/>
          <p:cNvSpPr/>
          <p:nvPr/>
        </p:nvSpPr>
        <p:spPr>
          <a:xfrm>
            <a:off x="1066680" y="213372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anganes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4.9380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245.0 °C (1518.15 °K, 2273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62.0 °C (2235.15 °K, 3563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9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Rectangle 5"/>
          <p:cNvSpPr/>
          <p:nvPr/>
        </p:nvSpPr>
        <p:spPr>
          <a:xfrm>
            <a:off x="1219320" y="2057400"/>
            <a:ext cx="693396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r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5.84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35.0 °C (1808.15 °K, 2795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750.0 °C (3023.15 °K, 4982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6" name="Object 4"/>
          <p:cNvGraphicFramePr/>
          <p:nvPr/>
        </p:nvGraphicFramePr>
        <p:xfrm>
          <a:off x="152280" y="152280"/>
          <a:ext cx="84780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9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Rectangle 5"/>
          <p:cNvSpPr/>
          <p:nvPr/>
        </p:nvSpPr>
        <p:spPr>
          <a:xfrm>
            <a:off x="1143000" y="213372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bal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8.933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95.0 °C (1768.15 °K, 2723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70.0 °C (3143.15 °K, 5198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Object 2"/>
          <p:cNvGraphicFramePr/>
          <p:nvPr/>
        </p:nvGraphicFramePr>
        <p:xfrm>
          <a:off x="152280" y="228600"/>
          <a:ext cx="828720" cy="10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82872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5"/>
          <p:cNvSpPr/>
          <p:nvPr/>
        </p:nvSpPr>
        <p:spPr>
          <a:xfrm>
            <a:off x="533520" y="2362320"/>
            <a:ext cx="83055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ydroge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.0079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59.14 °C (14.009985 °K, -434.45203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52.87 °C (20.280005 °K, -423.16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1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Rectangle 5"/>
          <p:cNvSpPr/>
          <p:nvPr/>
        </p:nvSpPr>
        <p:spPr>
          <a:xfrm>
            <a:off x="990720" y="213372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ickel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i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8.693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53.0 °C (1726.15 °K, 2647.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732.0 °C (3005.15 °K, 4949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6" name="Object 4"/>
          <p:cNvGraphicFramePr/>
          <p:nvPr/>
        </p:nvGraphicFramePr>
        <p:xfrm>
          <a:off x="152280" y="152280"/>
          <a:ext cx="85752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Rectangle 5"/>
          <p:cNvSpPr/>
          <p:nvPr/>
        </p:nvSpPr>
        <p:spPr>
          <a:xfrm>
            <a:off x="990720" y="205740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ppe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3.54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83.0 °C (1356.15 °K, 1981.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567.0 °C (2840.15 °K, 4652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1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Rectangle 5"/>
          <p:cNvSpPr/>
          <p:nvPr/>
        </p:nvSpPr>
        <p:spPr>
          <a:xfrm>
            <a:off x="1066680" y="2133720"/>
            <a:ext cx="746784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Zinc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Z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5.39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19.58 °C (692.73 °K, 787.2439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07.0 °C (1180.15 °K, 1664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6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Rectangle 5"/>
          <p:cNvSpPr/>
          <p:nvPr/>
        </p:nvSpPr>
        <p:spPr>
          <a:xfrm>
            <a:off x="1143000" y="2057400"/>
            <a:ext cx="716292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all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9.723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9.78 °C (302.93 °K, 85.60400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403.0 °C (2676.15 °K, 4357.4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Rectangle 5"/>
          <p:cNvSpPr/>
          <p:nvPr/>
        </p:nvSpPr>
        <p:spPr>
          <a:xfrm>
            <a:off x="914400" y="2286000"/>
            <a:ext cx="75438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erma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2.6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37.4 °C (1210.55 °K, 1719.3201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30.0 °C (3103.15 °K, 5126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4"/>
          <p:cNvSpPr/>
          <p:nvPr/>
        </p:nvSpPr>
        <p:spPr>
          <a:xfrm>
            <a:off x="1371600" y="2286000"/>
            <a:ext cx="69343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senic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4.921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17.0 °C (1090.15 °K, 1502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13.0 °C (886.15 °K, 1135.4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7" name="Object 5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8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Rectangle 5"/>
          <p:cNvSpPr/>
          <p:nvPr/>
        </p:nvSpPr>
        <p:spPr>
          <a:xfrm>
            <a:off x="914400" y="2286000"/>
            <a:ext cx="76960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ele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8.9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17.0 °C (490.15 °K, 422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84.9 °C (958.05005 °K, 1264.8201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6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Rectangle 5"/>
          <p:cNvSpPr/>
          <p:nvPr/>
        </p:nvSpPr>
        <p:spPr>
          <a:xfrm>
            <a:off x="1143000" y="2133720"/>
            <a:ext cx="68580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ro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9.90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7.2 °C (265.95 °K, 19.0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8.78 °C (331.93 °K, 137.804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1" name="Object 4"/>
          <p:cNvGraphicFramePr/>
          <p:nvPr/>
        </p:nvGraphicFramePr>
        <p:xfrm>
          <a:off x="152280" y="152280"/>
          <a:ext cx="857520" cy="1114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Rectangle 5"/>
          <p:cNvSpPr/>
          <p:nvPr/>
        </p:nvSpPr>
        <p:spPr>
          <a:xfrm>
            <a:off x="838080" y="2286000"/>
            <a:ext cx="80010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Krypt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K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3.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57.2 °C (115.950005 °K, -250.95999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53.4 °C (119.75001 °K, -244.12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6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Rectangle 5"/>
          <p:cNvSpPr/>
          <p:nvPr/>
        </p:nvSpPr>
        <p:spPr>
          <a:xfrm>
            <a:off x="762120" y="2057400"/>
            <a:ext cx="68580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ubi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5.467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8.89 °C (312.04 °K, 102.00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88.0 °C (961.15 °K, 1270.4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Object 2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5"/>
          <p:cNvSpPr/>
          <p:nvPr/>
        </p:nvSpPr>
        <p:spPr>
          <a:xfrm>
            <a:off x="990720" y="2362320"/>
            <a:ext cx="74674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el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.00260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72.0 °C (1.15 °K, -457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68.6 °C (4.549994 °K, -451.48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1" name="Object 4"/>
          <p:cNvGraphicFramePr/>
          <p:nvPr/>
        </p:nvGraphicFramePr>
        <p:xfrm>
          <a:off x="152280" y="228600"/>
          <a:ext cx="857520" cy="112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228600"/>
                    <a:ext cx="85752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Rectangle 5"/>
          <p:cNvSpPr/>
          <p:nvPr/>
        </p:nvSpPr>
        <p:spPr>
          <a:xfrm>
            <a:off x="91440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tront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7.6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69.0 °C (1042.15 °K, 1416.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84.0 °C (1657.15 °K, 2523.2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6" name="Object 4"/>
          <p:cNvGraphicFramePr/>
          <p:nvPr/>
        </p:nvGraphicFramePr>
        <p:xfrm>
          <a:off x="152280" y="152280"/>
          <a:ext cx="84780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Rectangle 5"/>
          <p:cNvSpPr/>
          <p:nvPr/>
        </p:nvSpPr>
        <p:spPr>
          <a:xfrm>
            <a:off x="1219320" y="2057400"/>
            <a:ext cx="701028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Ytt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8.9058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23.0 °C (1796.15 °K, 2773.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337.0 °C (3610.15 °K, 6038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1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Rectangle 5"/>
          <p:cNvSpPr/>
          <p:nvPr/>
        </p:nvSpPr>
        <p:spPr>
          <a:xfrm>
            <a:off x="914400" y="2057400"/>
            <a:ext cx="701028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Zirco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Z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1.22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52.0 °C (2125.15 °K, 3365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377.0 °C (4650.15 °K, 7910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6" name="Object 4"/>
          <p:cNvGraphicFramePr/>
          <p:nvPr/>
        </p:nvGraphicFramePr>
        <p:xfrm>
          <a:off x="152280" y="152280"/>
          <a:ext cx="847800" cy="107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Rectangle 5"/>
          <p:cNvSpPr/>
          <p:nvPr/>
        </p:nvSpPr>
        <p:spPr>
          <a:xfrm>
            <a:off x="1066680" y="2133720"/>
            <a:ext cx="693432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iob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2.9063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468.0 °C (2741.15 °K, 4474.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927.0 °C (5200.15 °K, 8900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1" name="Object 4"/>
          <p:cNvGraphicFramePr/>
          <p:nvPr/>
        </p:nvGraphicFramePr>
        <p:xfrm>
          <a:off x="152280" y="152280"/>
          <a:ext cx="857520" cy="112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Rectangle 5"/>
          <p:cNvSpPr/>
          <p:nvPr/>
        </p:nvSpPr>
        <p:spPr>
          <a:xfrm>
            <a:off x="1371600" y="2286000"/>
            <a:ext cx="69343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olybden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5.9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617.0 °C (2890.15 °K, 4742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612.0 °C (4885.15 °K, 8333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6" name="Object 4"/>
          <p:cNvGraphicFramePr/>
          <p:nvPr/>
        </p:nvGraphicFramePr>
        <p:xfrm>
          <a:off x="152280" y="152280"/>
          <a:ext cx="857520" cy="1114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8" name="Rectangle 5"/>
          <p:cNvSpPr/>
          <p:nvPr/>
        </p:nvSpPr>
        <p:spPr>
          <a:xfrm>
            <a:off x="762120" y="2286000"/>
            <a:ext cx="73152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echnet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c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98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200.0 °C (2473.15 °K, 399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877.0 °C (5150.15 °K, 881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1" name="Object 4"/>
          <p:cNvGraphicFramePr/>
          <p:nvPr/>
        </p:nvGraphicFramePr>
        <p:xfrm>
          <a:off x="152280" y="152280"/>
          <a:ext cx="847800" cy="1114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" name="Rectangle 5"/>
          <p:cNvSpPr/>
          <p:nvPr/>
        </p:nvSpPr>
        <p:spPr>
          <a:xfrm>
            <a:off x="76212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uthe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1.0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250.0 °C (2523.15 °K, 408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900.0 °C (4173.15 °K, 7052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6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Rectangle 5"/>
          <p:cNvSpPr/>
          <p:nvPr/>
        </p:nvSpPr>
        <p:spPr>
          <a:xfrm>
            <a:off x="990720" y="2209680"/>
            <a:ext cx="716256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ho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2.905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66.0 °C (2239.15 °K, 3570.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727.0 °C (4000.15 °K, 674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1" name="Object 4"/>
          <p:cNvGraphicFramePr/>
          <p:nvPr/>
        </p:nvGraphicFramePr>
        <p:xfrm>
          <a:off x="152280" y="152280"/>
          <a:ext cx="86688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9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6688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Rectangle 5"/>
          <p:cNvSpPr/>
          <p:nvPr/>
        </p:nvSpPr>
        <p:spPr>
          <a:xfrm>
            <a:off x="83808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alla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6.4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52.0 °C (1825.15 °K, 2825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927.0 °C (3200.15 °K, 530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6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9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8" name="Rectangle 5"/>
          <p:cNvSpPr/>
          <p:nvPr/>
        </p:nvSpPr>
        <p:spPr>
          <a:xfrm>
            <a:off x="914400" y="2286000"/>
            <a:ext cx="73915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ilve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7.868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61.93 °C (1235.08 °K, 1763.47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212.0 °C (2485.15 °K, 4013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Object 2"/>
          <p:cNvGraphicFramePr/>
          <p:nvPr/>
        </p:nvGraphicFramePr>
        <p:xfrm>
          <a:off x="152280" y="228600"/>
          <a:ext cx="847800" cy="10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84780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5"/>
          <p:cNvSpPr/>
          <p:nvPr/>
        </p:nvSpPr>
        <p:spPr>
          <a:xfrm>
            <a:off x="762120" y="2133720"/>
            <a:ext cx="716256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ith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i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.94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0.54 °C (453.69 °K, 356.97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47.0 °C (1620.15 °K, 2456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1" name="Object 4"/>
          <p:cNvGraphicFramePr/>
          <p:nvPr/>
        </p:nvGraphicFramePr>
        <p:xfrm>
          <a:off x="152280" y="228600"/>
          <a:ext cx="838440" cy="1104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0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228600"/>
                    <a:ext cx="83844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Rectangle 5"/>
          <p:cNvSpPr/>
          <p:nvPr/>
        </p:nvSpPr>
        <p:spPr>
          <a:xfrm>
            <a:off x="762120" y="2286000"/>
            <a:ext cx="68580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adm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2.41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0.9 °C (594.05 °K, 609.6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65.0 °C (1038.15 °K, 1409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6" name="Object 4"/>
          <p:cNvGraphicFramePr/>
          <p:nvPr/>
        </p:nvGraphicFramePr>
        <p:xfrm>
          <a:off x="152280" y="152280"/>
          <a:ext cx="866880" cy="112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0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6688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Rectangle 5"/>
          <p:cNvSpPr/>
          <p:nvPr/>
        </p:nvSpPr>
        <p:spPr>
          <a:xfrm>
            <a:off x="1143000" y="2286000"/>
            <a:ext cx="70102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n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4.81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6.61 °C (429.76 °K, 313.89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000.0 °C (2273.15 °K, 3632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1" name="Object 4"/>
          <p:cNvGraphicFramePr/>
          <p:nvPr/>
        </p:nvGraphicFramePr>
        <p:xfrm>
          <a:off x="152280" y="152280"/>
          <a:ext cx="84780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1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Rectangle 5"/>
          <p:cNvSpPr/>
          <p:nvPr/>
        </p:nvSpPr>
        <p:spPr>
          <a:xfrm>
            <a:off x="838080" y="2286000"/>
            <a:ext cx="72392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i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8.7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31.9 °C (505.05 °K, 449.4199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270.0 °C (2543.15 °K, 4118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6" name="Object 4"/>
          <p:cNvGraphicFramePr/>
          <p:nvPr/>
        </p:nvGraphicFramePr>
        <p:xfrm>
          <a:off x="152280" y="152280"/>
          <a:ext cx="84780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1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8" name="Rectangle 5"/>
          <p:cNvSpPr/>
          <p:nvPr/>
        </p:nvSpPr>
        <p:spPr>
          <a:xfrm>
            <a:off x="838080" y="2286000"/>
            <a:ext cx="70106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timon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21.7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30.0 °C (903.15 °K, 1166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50.0 °C (2023.15 °K, 3182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1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2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Rectangle 5"/>
          <p:cNvSpPr/>
          <p:nvPr/>
        </p:nvSpPr>
        <p:spPr>
          <a:xfrm>
            <a:off x="1066680" y="2133720"/>
            <a:ext cx="693432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ellu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27.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49.5 °C (722.65 °K, 841.1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89.8 °C (1262.95 °K, 1813.64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6" name="Object 4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2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8" name="Rectangle 5"/>
          <p:cNvSpPr/>
          <p:nvPr/>
        </p:nvSpPr>
        <p:spPr>
          <a:xfrm>
            <a:off x="990720" y="2286000"/>
            <a:ext cx="67053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od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26.9044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3.5 °C (386.65 °K, 236.3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4.0 °C (457.15 °K, 363.2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3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3" name="Rectangle 5"/>
          <p:cNvSpPr/>
          <p:nvPr/>
        </p:nvSpPr>
        <p:spPr>
          <a:xfrm>
            <a:off x="1295280" y="2286000"/>
            <a:ext cx="70106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Xen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X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1.29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11.9 °C (161.25 °K, -169.4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08.1 °C (165.05 °K, -162.58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6" name="Object 4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3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Rectangle 5"/>
          <p:cNvSpPr/>
          <p:nvPr/>
        </p:nvSpPr>
        <p:spPr>
          <a:xfrm>
            <a:off x="762120" y="2286000"/>
            <a:ext cx="73152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es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2.9054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.5 °C (301.65 °K, 83.3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78.4 °C (951.55005 °K, 1253.12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1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4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3" name="Rectangle 5"/>
          <p:cNvSpPr/>
          <p:nvPr/>
        </p:nvSpPr>
        <p:spPr>
          <a:xfrm>
            <a:off x="838080" y="2286000"/>
            <a:ext cx="69343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a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7.32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25.0 °C (998.15 °K, 1337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40.0 °C (1413.15 °K, 2084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6" name="Object 4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4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Rectangle 5"/>
          <p:cNvSpPr/>
          <p:nvPr/>
        </p:nvSpPr>
        <p:spPr>
          <a:xfrm>
            <a:off x="1143000" y="2133720"/>
            <a:ext cx="701028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anthan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8.905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20.0 °C (1193.15 °K, 1688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469.0 °C (3742.15 °K, 6276.2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Object 2"/>
          <p:cNvGraphicFramePr/>
          <p:nvPr/>
        </p:nvGraphicFramePr>
        <p:xfrm>
          <a:off x="228600" y="228600"/>
          <a:ext cx="838080" cy="10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83808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"/>
          <p:cNvSpPr/>
          <p:nvPr/>
        </p:nvSpPr>
        <p:spPr>
          <a:xfrm>
            <a:off x="1066680" y="2133720"/>
            <a:ext cx="723924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eryll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.01218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278.0 °C (1551.15 °K, 2332.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970.0 °C (3243.15 °K, 5378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1" name="Object 4"/>
          <p:cNvGraphicFramePr/>
          <p:nvPr/>
        </p:nvGraphicFramePr>
        <p:xfrm>
          <a:off x="228600" y="228600"/>
          <a:ext cx="84780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" y="228600"/>
                    <a:ext cx="84780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3" name="Rectangle 5"/>
          <p:cNvSpPr/>
          <p:nvPr/>
        </p:nvSpPr>
        <p:spPr>
          <a:xfrm>
            <a:off x="838080" y="2286000"/>
            <a:ext cx="73915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e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0.11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95.0 °C (1068.15 °K, 1463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57.0 °C (3530.15 °K, 5894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6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8" name="Rectangle 5"/>
          <p:cNvSpPr/>
          <p:nvPr/>
        </p:nvSpPr>
        <p:spPr>
          <a:xfrm>
            <a:off x="990720" y="2133720"/>
            <a:ext cx="716256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raseodym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0.9076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35.0 °C (1208.15 °K, 1715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127.0 °C (3400.15 °K, 5660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1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3" name="Rectangle 5"/>
          <p:cNvSpPr/>
          <p:nvPr/>
        </p:nvSpPr>
        <p:spPr>
          <a:xfrm>
            <a:off x="68580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eodym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4.2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10.0 °C (1283.15 °K, 1850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127.0 °C (3400.15 °K, 566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6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8" name="Rectangle 5"/>
          <p:cNvSpPr/>
          <p:nvPr/>
        </p:nvSpPr>
        <p:spPr>
          <a:xfrm>
            <a:off x="1066680" y="2209680"/>
            <a:ext cx="457200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rometh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145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1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3" name="Rectangle 5"/>
          <p:cNvSpPr/>
          <p:nvPr/>
        </p:nvSpPr>
        <p:spPr>
          <a:xfrm>
            <a:off x="10666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ama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0.3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72.0 °C (1345.15 °K, 1961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00.0 °C (2173.15 °K, 3452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6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8" name="Rectangle 5"/>
          <p:cNvSpPr/>
          <p:nvPr/>
        </p:nvSpPr>
        <p:spPr>
          <a:xfrm>
            <a:off x="762120" y="2057400"/>
            <a:ext cx="693396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urop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1.96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22.0 °C (1095.15 °K, 1511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97.0 °C (1870.15 °K, 2906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1" name="Object 4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8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3" name="Rectangle 5"/>
          <p:cNvSpPr/>
          <p:nvPr/>
        </p:nvSpPr>
        <p:spPr>
          <a:xfrm>
            <a:off x="762120" y="2286000"/>
            <a:ext cx="70102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adoli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7.2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11.0 °C (1584.15 °K, 2391.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33.0 °C (3506.15 °K, 5851.4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6" name="Object 4"/>
          <p:cNvGraphicFramePr/>
          <p:nvPr/>
        </p:nvGraphicFramePr>
        <p:xfrm>
          <a:off x="152280" y="152280"/>
          <a:ext cx="84780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8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8" name="Rectangle 5"/>
          <p:cNvSpPr/>
          <p:nvPr/>
        </p:nvSpPr>
        <p:spPr>
          <a:xfrm>
            <a:off x="838080" y="2286000"/>
            <a:ext cx="70106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erb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8.9253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60.0 °C (1633.15 °K, 2480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041.0 °C (3314.15 °K, 5505.8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Rectangle 5"/>
          <p:cNvSpPr/>
          <p:nvPr/>
        </p:nvSpPr>
        <p:spPr>
          <a:xfrm>
            <a:off x="91440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yspros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2.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12.0 °C (1685.15 °K, 2573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562.0 °C (2835.15 °K, 4643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6" name="Object 4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8" name="Rectangle 5"/>
          <p:cNvSpPr/>
          <p:nvPr/>
        </p:nvSpPr>
        <p:spPr>
          <a:xfrm>
            <a:off x="914400" y="228600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olm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4.9303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70.0 °C (1743.15 °K, 2678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720.0 °C (2993.15 °K, 4928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Object 2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1219320" y="2286000"/>
            <a:ext cx="73152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or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.81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300.0 °C (2573.15 °K, 417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550.0 °C (2823.15 °K, 4622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0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3" name="Rectangle 5"/>
          <p:cNvSpPr/>
          <p:nvPr/>
        </p:nvSpPr>
        <p:spPr>
          <a:xfrm>
            <a:off x="8380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rb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7.2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22.0 °C (1795.15 °K, 2771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510.0 °C (2783.15 °K, 4550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6" name="Object 4"/>
          <p:cNvGraphicFramePr/>
          <p:nvPr/>
        </p:nvGraphicFramePr>
        <p:xfrm>
          <a:off x="152280" y="152280"/>
          <a:ext cx="84780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0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8" name="Rectangle 5"/>
          <p:cNvSpPr/>
          <p:nvPr/>
        </p:nvSpPr>
        <p:spPr>
          <a:xfrm>
            <a:off x="838080" y="2286000"/>
            <a:ext cx="73152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ul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8.934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45.0 °C (1818.15 °K, 2813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27.0 °C (2000.15 °K, 314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1" name="Object 4"/>
          <p:cNvGraphicFramePr/>
          <p:nvPr/>
        </p:nvGraphicFramePr>
        <p:xfrm>
          <a:off x="152280" y="228600"/>
          <a:ext cx="838440" cy="1066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228600"/>
                    <a:ext cx="83844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3" name="Rectangle 5"/>
          <p:cNvSpPr/>
          <p:nvPr/>
        </p:nvSpPr>
        <p:spPr>
          <a:xfrm>
            <a:off x="1219320" y="2362320"/>
            <a:ext cx="70102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Ytterb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Y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3.0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24.0 °C (1097.15 °K, 1515.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66.0 °C (1739.15 °K, 2670.8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6" name="Object 4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8" name="Rectangle 5"/>
          <p:cNvSpPr/>
          <p:nvPr/>
        </p:nvSpPr>
        <p:spPr>
          <a:xfrm>
            <a:off x="914400" y="2286000"/>
            <a:ext cx="73915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utet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4.96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56.0 °C (1929.15 °K, 3012.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315.0 °C (3588.15 °K, 5999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1" name="Object 4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3" name="Rectangle 5"/>
          <p:cNvSpPr/>
          <p:nvPr/>
        </p:nvSpPr>
        <p:spPr>
          <a:xfrm>
            <a:off x="10666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af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8.49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150.0 °C (2423.15 °K, 390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400.0 °C (5673.15 °K, 9752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6" name="Object 4"/>
          <p:cNvGraphicFramePr/>
          <p:nvPr/>
        </p:nvGraphicFramePr>
        <p:xfrm>
          <a:off x="152280" y="152280"/>
          <a:ext cx="838440" cy="1067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8" name="Rectangle 5"/>
          <p:cNvSpPr/>
          <p:nvPr/>
        </p:nvSpPr>
        <p:spPr>
          <a:xfrm>
            <a:off x="91440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antal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0.9479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996.0 °C (3269.15 °K, 5424.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425.0 °C (5698.15 °K, 9797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1" name="Object 4"/>
          <p:cNvGraphicFramePr/>
          <p:nvPr/>
        </p:nvGraphicFramePr>
        <p:xfrm>
          <a:off x="152280" y="152280"/>
          <a:ext cx="847800" cy="1114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3" name="Rectangle 5"/>
          <p:cNvSpPr/>
          <p:nvPr/>
        </p:nvSpPr>
        <p:spPr>
          <a:xfrm>
            <a:off x="914400" y="2133720"/>
            <a:ext cx="716292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ungste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W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3.8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410.0 °C (3683.15 °K, 6170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660.0 °C (5933.15 °K, 10220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6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8" name="Rectangle 5"/>
          <p:cNvSpPr/>
          <p:nvPr/>
        </p:nvSpPr>
        <p:spPr>
          <a:xfrm>
            <a:off x="838080" y="2286000"/>
            <a:ext cx="73152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he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6.20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180.0 °C (3453.15 °K, 5756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627.0 °C (5900.15 °K, 1016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4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3" name="Rectangle 5"/>
          <p:cNvSpPr/>
          <p:nvPr/>
        </p:nvSpPr>
        <p:spPr>
          <a:xfrm>
            <a:off x="762120" y="2286000"/>
            <a:ext cx="70102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sm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0.23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045.0 °C (3318.15 °K, 5513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027.0 °C (5300.15 °K, 908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6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4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8" name="Rectangle 5"/>
          <p:cNvSpPr/>
          <p:nvPr/>
        </p:nvSpPr>
        <p:spPr>
          <a:xfrm>
            <a:off x="8380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ri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2.21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410.0 °C (2683.15 °K, 4370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527.0 °C (4800.15 °K, 818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Object 2"/>
          <p:cNvGraphicFramePr/>
          <p:nvPr/>
        </p:nvGraphicFramePr>
        <p:xfrm>
          <a:off x="152280" y="152280"/>
          <a:ext cx="847800" cy="10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4780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5"/>
          <p:cNvSpPr/>
          <p:nvPr/>
        </p:nvSpPr>
        <p:spPr>
          <a:xfrm>
            <a:off x="990720" y="2286000"/>
            <a:ext cx="72388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arb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2.010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500.0 °C (3773.15 °K, 633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827.0 °C (5100.15 °K, 872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1" name="Object 4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5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3" name="Rectangle 5"/>
          <p:cNvSpPr/>
          <p:nvPr/>
        </p:nvSpPr>
        <p:spPr>
          <a:xfrm>
            <a:off x="114300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latin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5.07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72.0 °C (2045.15 °K, 3221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827.0 °C (4100.15 °K, 692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6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5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" name="Rectangle 5"/>
          <p:cNvSpPr/>
          <p:nvPr/>
        </p:nvSpPr>
        <p:spPr>
          <a:xfrm>
            <a:off x="609480" y="2286000"/>
            <a:ext cx="80010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ol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6.9665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64.43 °C (1337.5801 °K, 1947.9741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07.0 °C (3080.15 °K, 5084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1" name="Object 4"/>
          <p:cNvGraphicFramePr/>
          <p:nvPr/>
        </p:nvGraphicFramePr>
        <p:xfrm>
          <a:off x="152280" y="152280"/>
          <a:ext cx="838440" cy="112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6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3" name="Rectangle 5"/>
          <p:cNvSpPr/>
          <p:nvPr/>
        </p:nvSpPr>
        <p:spPr>
          <a:xfrm>
            <a:off x="914400" y="2286000"/>
            <a:ext cx="69343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ercur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00.59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38.87 °C (234.28 °K, -37.96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56.58 °C (629.73 °K, 673.844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6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6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8" name="Rectangle 5"/>
          <p:cNvSpPr/>
          <p:nvPr/>
        </p:nvSpPr>
        <p:spPr>
          <a:xfrm>
            <a:off x="99072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all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l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04.3833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03.5 °C (576.65 °K, 578.3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57.0 °C (1730.15 °K, 2654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7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3" name="Rectangle 5"/>
          <p:cNvSpPr/>
          <p:nvPr/>
        </p:nvSpPr>
        <p:spPr>
          <a:xfrm>
            <a:off x="990720" y="2286000"/>
            <a:ext cx="71625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ea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07.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7.5 °C (600.65 °K, 621.5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40.0 °C (2013.15 °K, 3164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6" name="Object 4"/>
          <p:cNvGraphicFramePr/>
          <p:nvPr/>
        </p:nvGraphicFramePr>
        <p:xfrm>
          <a:off x="152280" y="152280"/>
          <a:ext cx="847800" cy="107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7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8" name="Rectangle 5"/>
          <p:cNvSpPr/>
          <p:nvPr/>
        </p:nvSpPr>
        <p:spPr>
          <a:xfrm>
            <a:off x="762120" y="2286000"/>
            <a:ext cx="74674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ismut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i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08.9803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71.3 °C (544.45 °K, 520.33997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60.0 °C (1833.15 °K, 2840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1" name="Object 4"/>
          <p:cNvGraphicFramePr/>
          <p:nvPr/>
        </p:nvGraphicFramePr>
        <p:xfrm>
          <a:off x="152280" y="152280"/>
          <a:ext cx="8287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287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3" name="Rectangle 5"/>
          <p:cNvSpPr/>
          <p:nvPr/>
        </p:nvSpPr>
        <p:spPr>
          <a:xfrm>
            <a:off x="1066680" y="2057400"/>
            <a:ext cx="693432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olo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09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54.0 °C (527.15 °K, 489.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62.0 °C (1235.15 °K, 1763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6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8" name="Rectangle 5"/>
          <p:cNvSpPr/>
          <p:nvPr/>
        </p:nvSpPr>
        <p:spPr>
          <a:xfrm>
            <a:off x="990720" y="2133720"/>
            <a:ext cx="66294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stat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10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02.0 °C (575.15 °K, 575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37.0 °C (610.15 °K, 638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1" name="Object 4"/>
          <p:cNvGraphicFramePr/>
          <p:nvPr/>
        </p:nvGraphicFramePr>
        <p:xfrm>
          <a:off x="152280" y="152280"/>
          <a:ext cx="847800" cy="107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3" name="Rectangle 5"/>
          <p:cNvSpPr/>
          <p:nvPr/>
        </p:nvSpPr>
        <p:spPr>
          <a:xfrm>
            <a:off x="990720" y="2057400"/>
            <a:ext cx="670536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ad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22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71.0 °C (202.15 °K, -95.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61.8 °C (211.35 °K, -79.24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6" name="Object 4"/>
          <p:cNvGraphicFramePr/>
          <p:nvPr/>
        </p:nvGraphicFramePr>
        <p:xfrm>
          <a:off x="152280" y="152280"/>
          <a:ext cx="819360" cy="107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1936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8" name="Rectangle 5"/>
          <p:cNvSpPr/>
          <p:nvPr/>
        </p:nvSpPr>
        <p:spPr>
          <a:xfrm>
            <a:off x="685800" y="2286000"/>
            <a:ext cx="69343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ranc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23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7.0 °C (300.15 °K, 80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77.0 °C (950.15 °K, 125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Object 2"/>
          <p:cNvGraphicFramePr/>
          <p:nvPr/>
        </p:nvGraphicFramePr>
        <p:xfrm>
          <a:off x="152280" y="152280"/>
          <a:ext cx="857520" cy="10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575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5"/>
          <p:cNvSpPr/>
          <p:nvPr/>
        </p:nvSpPr>
        <p:spPr>
          <a:xfrm>
            <a:off x="762120" y="2286000"/>
            <a:ext cx="81532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itroge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.0067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09.9 °C (63.250008 °K, -345.8199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95.8 °C (77.35 °K, -320.44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1" name="Object 4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0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3" name="Rectangle 5"/>
          <p:cNvSpPr/>
          <p:nvPr/>
        </p:nvSpPr>
        <p:spPr>
          <a:xfrm>
            <a:off x="8380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a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26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00.0 °C (973.15 °K, 129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37.0 °C (2010.15 °K, 3158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6" name="Object 4"/>
          <p:cNvGraphicFramePr/>
          <p:nvPr/>
        </p:nvGraphicFramePr>
        <p:xfrm>
          <a:off x="152280" y="152280"/>
          <a:ext cx="838440" cy="107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0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8" name="Rectangle 5"/>
          <p:cNvSpPr/>
          <p:nvPr/>
        </p:nvSpPr>
        <p:spPr>
          <a:xfrm>
            <a:off x="914400" y="228600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cti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c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27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50.0 °C (1323.15 °K, 192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00.0 °C (3473.15 °K, 5792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1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Rectangle 5"/>
          <p:cNvSpPr/>
          <p:nvPr/>
        </p:nvSpPr>
        <p:spPr>
          <a:xfrm>
            <a:off x="838080" y="213372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o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32.038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50.0 °C (2023.15 °K, 318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790.0 °C (5063.15 °K, 8654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6" name="Object 4"/>
          <p:cNvGraphicFramePr/>
          <p:nvPr/>
        </p:nvGraphicFramePr>
        <p:xfrm>
          <a:off x="152280" y="152280"/>
          <a:ext cx="857520" cy="1114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1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8" name="Rectangle 5"/>
          <p:cNvSpPr/>
          <p:nvPr/>
        </p:nvSpPr>
        <p:spPr>
          <a:xfrm>
            <a:off x="762120" y="213372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rotacti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31.0358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00.0 °C (1873.15 °K, 291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2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3" name="Rectangle 5"/>
          <p:cNvSpPr/>
          <p:nvPr/>
        </p:nvSpPr>
        <p:spPr>
          <a:xfrm>
            <a:off x="762120" y="2362320"/>
            <a:ext cx="72388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ra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38.0289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32.0 °C (1405.15 °K, 2069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818.0 °C (4091.15 °K, 6904.4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6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2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8" name="Rectangle 5"/>
          <p:cNvSpPr/>
          <p:nvPr/>
        </p:nvSpPr>
        <p:spPr>
          <a:xfrm>
            <a:off x="8380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eptu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p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37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40.0 °C (913.15 °K, 1184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902.0 °C (4175.15 °K, 7055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1" name="Object 4"/>
          <p:cNvGraphicFramePr/>
          <p:nvPr/>
        </p:nvGraphicFramePr>
        <p:xfrm>
          <a:off x="152280" y="152280"/>
          <a:ext cx="8287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3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287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3" name="Rectangle 5"/>
          <p:cNvSpPr/>
          <p:nvPr/>
        </p:nvSpPr>
        <p:spPr>
          <a:xfrm>
            <a:off x="68580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luto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44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39.5 °C (912.65 °K, 1183.1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35.0 °C (3508.15 °K, 5855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6" name="Object 4"/>
          <p:cNvGraphicFramePr/>
          <p:nvPr/>
        </p:nvGraphicFramePr>
        <p:xfrm>
          <a:off x="152280" y="152280"/>
          <a:ext cx="838440" cy="107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3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8" name="Rectangle 5"/>
          <p:cNvSpPr/>
          <p:nvPr/>
        </p:nvSpPr>
        <p:spPr>
          <a:xfrm>
            <a:off x="8380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meric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43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94.0 °C (1267.15 °K, 1821.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607.0 °C (2880.15 °K, 4724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1" name="Object 4"/>
          <p:cNvGraphicFramePr/>
          <p:nvPr/>
        </p:nvGraphicFramePr>
        <p:xfrm>
          <a:off x="152280" y="152280"/>
          <a:ext cx="8287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4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287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3" name="Rectangle 5"/>
          <p:cNvSpPr/>
          <p:nvPr/>
        </p:nvSpPr>
        <p:spPr>
          <a:xfrm>
            <a:off x="914400" y="2286000"/>
            <a:ext cx="70102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u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47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40.0 °C (1613.15 °K, 2444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5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6" name="Object 4"/>
          <p:cNvGraphicFramePr/>
          <p:nvPr/>
        </p:nvGraphicFramePr>
        <p:xfrm>
          <a:off x="152280" y="152280"/>
          <a:ext cx="828720" cy="109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287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8" name="Rectangle 5"/>
          <p:cNvSpPr/>
          <p:nvPr/>
        </p:nvSpPr>
        <p:spPr>
          <a:xfrm>
            <a:off x="1295280" y="2286000"/>
            <a:ext cx="46483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erkel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k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47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7T18:35:15Z</dcterms:created>
  <dc:creator>...</dc:creator>
  <dc:description/>
  <dc:language>en-US</dc:language>
  <cp:lastModifiedBy>RomaK</cp:lastModifiedBy>
  <dcterms:modified xsi:type="dcterms:W3CDTF">2015-09-02T06:00:34Z</dcterms:modified>
  <cp:revision>177</cp:revision>
  <dc:subject/>
  <dc:title>Periodic Table of the Elements</dc:title>
</cp:coreProperties>
</file>