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D112-6DC7-4E8C-B6FA-375D8F732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515-BFB8-4010-BF5C-0F74E00F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9AF-D618-4593-8279-11085468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5530-0EBC-4672-9F0E-8E754532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B27-933C-48A8-B6F0-0D2D6864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6BF-9667-495F-BF9A-2E20227A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9532-F055-4A48-892D-AD377D2D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CF8-6C89-4590-A0C0-A319EE36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817-9888-4E11-9A57-5127F782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D7F-D31D-446E-AC13-B6B49314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AB5-9E53-4BFC-8EE5-78B7C72E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A59D-DD1A-444B-BE6A-F3E0CBBE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0B4-3712-4C9E-BC46-0FD0C0DC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8939-9588-4DBE-A5C9-F2584AB61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-152280" y="987480"/>
            <a:ext cx="9448560" cy="5870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912120" y="12193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f00"/>
                </a:solidFill>
                <a:latin typeface="Georgia"/>
              </a:rPr>
              <a:t>Chicago (~40 m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6781680" y="1066680"/>
            <a:ext cx="152640" cy="914400"/>
          </a:xfrm>
          <a:prstGeom prst="line">
            <a:avLst/>
          </a:prstGeom>
          <a:ln w="19080">
            <a:solidFill>
              <a:srgbClr val="fa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i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Change 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the definition of tim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“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- famous 1905 Einste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784320" cy="499104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imultaneity_Simplified"/>
          <p:cNvPicPr/>
          <p:nvPr/>
        </p:nvPicPr>
        <p:blipFill>
          <a:blip r:embed="rId1"/>
          <a:srcRect l="3680" t="39142" r="43918" b="0"/>
          <a:stretch/>
        </p:blipFill>
        <p:spPr>
          <a:xfrm>
            <a:off x="152280" y="1216080"/>
            <a:ext cx="5410440" cy="3889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5851440" y="1295280"/>
            <a:ext cx="314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ack, lightening struck both train ca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ohn, lightening struck car B first and then car A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ultaneity is relative - things occurring at the same time at one place may occur at different times in another pl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how do we measure thing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851440" y="1295280"/>
            <a:ext cx="314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John sends out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gnal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to mark the ends of the train that he’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someone on the ground, the signal takes longer(shorter) to reach the right(left) side of th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simultaneity -&gt; relativity of distance! A moving train appears to be shor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Simultaneity_LengthContraction_Simplified"/>
          <p:cNvPicPr/>
          <p:nvPr/>
        </p:nvPicPr>
        <p:blipFill>
          <a:blip r:embed="rId1"/>
          <a:srcRect l="940" t="35579" r="38907" b="9571"/>
          <a:stretch/>
        </p:blipFill>
        <p:spPr>
          <a:xfrm>
            <a:off x="380880" y="1371600"/>
            <a:ext cx="487692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466560" y="4724280"/>
            <a:ext cx="48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Need signals to talk abou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an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How do we measure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0" y="4282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magine a clock that measures time by how long it takes light to bounce back and for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distance -&gt; relativity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TimeDialtion_Simplified"/>
          <p:cNvPicPr/>
          <p:nvPr/>
        </p:nvPicPr>
        <p:blipFill>
          <a:blip r:embed="rId1"/>
          <a:srcRect l="0" t="25201" r="0" b="30330"/>
          <a:stretch/>
        </p:blipFill>
        <p:spPr>
          <a:xfrm>
            <a:off x="152280" y="1316160"/>
            <a:ext cx="8382240" cy="2646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3200400" y="19969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c=speed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Putting it all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-360" y="9140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ly way we can measure time and distance is by sendin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and distance are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astest signal travels at the speed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Nothing can trave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6121440" y="4419720"/>
            <a:ext cx="3022560" cy="22604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9"/>
          <p:cNvSpPr/>
          <p:nvPr/>
        </p:nvSpPr>
        <p:spPr>
          <a:xfrm>
            <a:off x="0" y="3733920"/>
            <a:ext cx="60958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objects appear smaller and slower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t the effect is really small for everyday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result of the theory of special relativity: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0" t="-2632" r="0" b="0"/>
          <a:stretch/>
        </p:blipFill>
        <p:spPr>
          <a:xfrm>
            <a:off x="-152280" y="-380880"/>
            <a:ext cx="9448560" cy="6949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0" y="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f00"/>
                </a:solidFill>
                <a:latin typeface="Georgia"/>
              </a:rPr>
              <a:t>Fermi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648320" y="46483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 flipH="1" flipV="1">
            <a:off x="4647960" y="5714640"/>
            <a:ext cx="1600200" cy="152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295800" y="1981080"/>
            <a:ext cx="257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Anti-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3123720" y="2514600"/>
            <a:ext cx="22860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769608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0"/>
          <p:cNvSpPr/>
          <p:nvPr/>
        </p:nvSpPr>
        <p:spPr>
          <a:xfrm>
            <a:off x="7238880" y="457200"/>
            <a:ext cx="1067040" cy="9144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432" h="480">
                <a:moveTo>
                  <a:pt x="0" y="0"/>
                </a:moveTo>
                <a:cubicBezTo>
                  <a:pt x="132" y="104"/>
                  <a:pt x="264" y="208"/>
                  <a:pt x="336" y="288"/>
                </a:cubicBezTo>
                <a:cubicBezTo>
                  <a:pt x="408" y="368"/>
                  <a:pt x="416" y="448"/>
                  <a:pt x="432" y="480"/>
                </a:cubicBezTo>
              </a:path>
            </a:pathLst>
          </a:custGeom>
          <a:noFill/>
          <a:ln w="31680">
            <a:solidFill>
              <a:srgbClr val="fa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 flipH="1">
            <a:off x="8305560" y="1066680"/>
            <a:ext cx="228600" cy="3049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 flipH="1" flipV="1">
            <a:off x="7848720" y="1295280"/>
            <a:ext cx="457200" cy="763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-76320" y="447984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e prot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Seem 1000 times th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Have clocks that run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What about the other definition of space (all the stuff up in the sky and in the univers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eral Rela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23811" r="0" b="0"/>
          <a:stretch/>
        </p:blipFill>
        <p:spPr>
          <a:xfrm>
            <a:off x="457200" y="3124080"/>
            <a:ext cx="800100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already know that space and time are intertw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vity is a distortion of space and t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" y="2666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oon orbiting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72428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steroid pulled in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6477120" y="3048120"/>
            <a:ext cx="457200" cy="1218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H="1">
            <a:off x="1066680" y="3048120"/>
            <a:ext cx="533520" cy="83808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ven light is bent by grav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11" descr=""/>
          <p:cNvPicPr/>
          <p:nvPr/>
        </p:nvPicPr>
        <p:blipFill>
          <a:blip r:embed="rId2"/>
          <a:stretch/>
        </p:blipFill>
        <p:spPr>
          <a:xfrm>
            <a:off x="5931000" y="1219320"/>
            <a:ext cx="2832120" cy="19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9" name=""/>
          <p:cNvGraphicFramePr/>
          <p:nvPr/>
        </p:nvGraphicFramePr>
        <p:xfrm>
          <a:off x="533520" y="1295280"/>
          <a:ext cx="5105160" cy="11890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The position of a star observed during an eclipse confirmed Einstein’s the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914400"/>
          <a:ext cx="3124080" cy="4260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6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Dying stars can become black holes - gravity to an extreme! At some point, even light cannot escap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So named as “black holes” because you cannot see them … but you can see stuff around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1" descr=""/>
          <p:cNvPicPr/>
          <p:nvPr/>
        </p:nvPicPr>
        <p:blipFill>
          <a:blip r:embed="rId1"/>
          <a:stretch/>
        </p:blipFill>
        <p:spPr>
          <a:xfrm>
            <a:off x="3124080" y="196056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space and ti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lated to our work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pefully related to things you’re learn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hysics and astronomy, but also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 really interesting question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re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spac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n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tim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 ev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1531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7010280" y="1676520"/>
          <a:ext cx="2057400" cy="2651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65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Hubble telescope observing a disk of dust orbiting around a black hol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434340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35766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4452840" y="6400800"/>
            <a:ext cx="46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80880" y="5122800"/>
            <a:ext cx="5334120" cy="17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6189840" y="27338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c00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Relative motion in the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6276600" y="213372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c00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 flipH="1">
            <a:off x="5333760" y="2514600"/>
            <a:ext cx="685800" cy="0"/>
          </a:xfrm>
          <a:prstGeom prst="line">
            <a:avLst/>
          </a:prstGeom>
          <a:ln w="38160">
            <a:solidFill>
              <a:srgbClr val="ff0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6189840" y="4029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1"/>
          <p:cNvSpPr/>
          <p:nvPr/>
        </p:nvSpPr>
        <p:spPr>
          <a:xfrm>
            <a:off x="6276600" y="34290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2"/>
          <p:cNvSpPr/>
          <p:nvPr/>
        </p:nvSpPr>
        <p:spPr>
          <a:xfrm flipH="1">
            <a:off x="5333760" y="38098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he Universe is expand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Image2"/>
          <p:cNvPicPr/>
          <p:nvPr/>
        </p:nvPicPr>
        <p:blipFill>
          <a:blip r:embed="rId1"/>
          <a:stretch/>
        </p:blipFill>
        <p:spPr>
          <a:xfrm>
            <a:off x="152280" y="1143000"/>
            <a:ext cx="4011840" cy="4011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1"/>
          <p:cNvSpPr/>
          <p:nvPr/>
        </p:nvSpPr>
        <p:spPr>
          <a:xfrm>
            <a:off x="6019920" y="1371600"/>
            <a:ext cx="2949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mall view from the Hubble Space Telescope. Each blob is a galaxy with 100,000,000,000 st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rs are all moving away from us, and away fro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479520" y="64692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The Big Bang: The Universe was really tiny at its birth 13.5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 and time ar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things look shorter and 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-time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ight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dshift and blueshift of light is used to detect relative motion in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present universe is exp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you want to learn more about the universe, Einstein or smashing protons and anti-protons togeth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visit Fermi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ts of fun science demos at the lab’s Lederman Scien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lk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the lab’s b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for ask-a-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ww.fnal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Image1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3187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Einstei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ause … he was Einste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asily the greatest physicist and scientist in modern history. One of the great men of the 20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age1"/>
          <p:cNvPicPr/>
          <p:nvPr/>
        </p:nvPicPr>
        <p:blipFill>
          <a:blip r:embed="rId1"/>
          <a:stretch/>
        </p:blipFill>
        <p:spPr>
          <a:xfrm>
            <a:off x="7178760" y="4022640"/>
            <a:ext cx="1744560" cy="243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Image2"/>
          <p:cNvPicPr/>
          <p:nvPr/>
        </p:nvPicPr>
        <p:blipFill>
          <a:blip r:embed="rId2"/>
          <a:stretch/>
        </p:blipFill>
        <p:spPr>
          <a:xfrm>
            <a:off x="3886200" y="4038480"/>
            <a:ext cx="251784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Image3"/>
          <p:cNvPicPr/>
          <p:nvPr/>
        </p:nvPicPr>
        <p:blipFill>
          <a:blip r:embed="rId3"/>
          <a:stretch/>
        </p:blipFill>
        <p:spPr>
          <a:xfrm>
            <a:off x="0" y="4316400"/>
            <a:ext cx="2743200" cy="2541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032640" y="364176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905: Clerk i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7318800" y="64501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At older 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6200" y="3962520"/>
            <a:ext cx="15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School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 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at did Einstein 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, many discoveries. Easily could have won 3-4 Nobel p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He was a really smart 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will talk today about his two theories of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relativity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Special Relativity and General Rela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E=m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MS P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(speci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lack holes (gener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(a student’s perspectiv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is piece of paper is 8 inch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t is 1.5 miles from the school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 have to get up at 7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e bus is 20 minute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distance (such as 1.5 mil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a time (such as 7 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lock"/>
          <p:cNvPicPr/>
          <p:nvPr/>
        </p:nvPicPr>
        <p:blipFill>
          <a:blip r:embed="rId1"/>
          <a:stretch/>
        </p:blipFill>
        <p:spPr>
          <a:xfrm>
            <a:off x="5334120" y="365760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uler"/>
          <p:cNvPicPr/>
          <p:nvPr/>
        </p:nvPicPr>
        <p:blipFill>
          <a:blip r:embed="rId2"/>
          <a:stretch/>
        </p:blipFill>
        <p:spPr>
          <a:xfrm>
            <a:off x="7620120" y="2057400"/>
            <a:ext cx="1296720" cy="175248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for Aristo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“prime mo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An unknown, priviledged being in THE state of perpetual, absolut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Defined by (x, y, z) coordinate system with respect to the prime 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Unique and clear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is measured by the prime mover’s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ristotle"/>
          <p:cNvPicPr/>
          <p:nvPr/>
        </p:nvPicPr>
        <p:blipFill>
          <a:blip r:embed="rId1"/>
          <a:stretch/>
        </p:blipFill>
        <p:spPr>
          <a:xfrm>
            <a:off x="6078600" y="14479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5867280" y="54100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ristotle (384-322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Galil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 such things as “absolut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laws of nature and physics are identical for anybody moving with a constant speed along a 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rcRect l="0" t="0" r="0" b="-10375"/>
          <a:stretch/>
        </p:blipFill>
        <p:spPr>
          <a:xfrm>
            <a:off x="5626080" y="1295280"/>
            <a:ext cx="3517920" cy="472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5091480" y="57913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Galileo Galilei (1564-16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bsolute space, but we measure space only relative to other object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752840" cy="1667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15228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Line 8"/>
          <p:cNvSpPr/>
          <p:nvPr/>
        </p:nvSpPr>
        <p:spPr>
          <a:xfrm flipH="1">
            <a:off x="7086240" y="2666880"/>
            <a:ext cx="1522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im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n absolute time, but we measure relative ti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Object 14"/>
              <p:cNvSpPr txBox="1"/>
              <p:nvPr/>
            </p:nvSpPr>
            <p:spPr>
              <a:xfrm>
                <a:off x="6095880" y="1731960"/>
                <a:ext cx="1981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z</m:t>
                        </m:r>
                      </m:sub>
                      <m:sup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35:09Z</dcterms:created>
  <dc:creator>Office 2004 Test Drive User</dc:creator>
  <dc:description/>
  <dc:language>en-US</dc:language>
  <cp:lastModifiedBy>LEGION</cp:lastModifiedBy>
  <cp:lastPrinted>2007-05-31T15:07:17Z</cp:lastPrinted>
  <dcterms:modified xsi:type="dcterms:W3CDTF">2018-03-22T10:09:15Z</dcterms:modified>
  <cp:revision>64</cp:revision>
  <dc:subject/>
  <dc:title>Space, Time and Einstein</dc:title>
</cp:coreProperties>
</file>