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1FF4F-630B-4BA6-896A-C3418C5C75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tar (our sun )is part of a galax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lanet (earth) orbits a sta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moon (our moon) orbits a planet (earth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ar (our sun )is part of a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lanet (earth) orbits a st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oon (our moon) orbits a planet (ear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dio waves are detected by large curved dishes similar to the dish aerials in T.V. system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 waves are detected by large curved dishes similar to the dish aerials in T.V.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e light year is the distance travelled by light in a yea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takes light from the sun 8 minutes to get to the eart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light year is the distance travelled by light in a y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kes light from the sun 8 minutes to get to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takes 4 light years for light to reach the nearest star (alpha centauri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takes light 100,000 light years to get to the edge of our galax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kes 4 light years for light to reach the nearest star (alpha centaur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kes light 100,000 light years to get to the edge of our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 are two types of telescope ,the refractor and the reflecto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wo types of telescope ,the refractor and the reflec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fractor works by light bending or refracting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flector works by light reflecting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fractor works by light bending or refrac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flector works by light reflec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fracting Telescop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fracting telescope consis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  two convex lens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objective lens collects ligh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om distant objects such a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ets and stars.  It forms an image of them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eyepiece lens then magnifies this imag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fracting Tele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fracting telescope cons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 two convex len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bjective lens collects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distant objects such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ets and stars.  It forms an image of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yepiece lens then magnifies this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 can be made of  light ,radio and micro waves from the electromagnetic spectrum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can be made of  light ,radio and micro waves from the electromagnetic spectr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22B8-2548-4920-B9AE-3987FF519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F272-E4A2-49B5-AE08-DE8B6C5C1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F470-FBD5-4E5B-BC8A-DEBB08A3E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B118-F7D8-41C8-B785-43B78F274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9445E-B24F-402E-A8C7-8A61D5A43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E1972-4148-461D-A17E-6B9292C82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37D2C-2074-48C1-9796-4E77C34F8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23B19-15B8-406A-A4C8-2F260B0F4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5C466-110A-46EE-8A1A-F86E1CB47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0E52C-2E33-40BA-A98D-3C324E1C7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89797-21FA-4557-B72B-07946F4C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00D9-26A9-4DEB-94B6-E65D2BE5B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D27FE-746E-4715-8A46-500527D7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359B3-F79F-4021-A890-EF5BE495E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4499E-D1F9-4E8D-AACE-4955D6BBB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8A4B6-00F0-4CBF-82D2-CB5017E80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4D121-0C63-4AC8-A4A2-81F47C8C2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3BA5-716C-411E-8CD9-33F752201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523A-04DE-462E-AC9D-AB754F84F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A02E-84BC-423D-9D17-E1E04BDF0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4D2A-4D9A-4ACD-979C-C2CE0D82A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0C81-22EE-4C28-9CC6-879F1B7C9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38E8-6162-45D2-B8C8-EB4EAFA0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724F-6B39-4462-A7ED-B9C7822F3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3A9FE-EB9B-4769-9176-8C9BAC08E89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CA1D9-F587-410A-B54F-AC6377C0F07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5"/>
          <p:cNvSpPr/>
          <p:nvPr/>
        </p:nvSpPr>
        <p:spPr>
          <a:xfrm flipV="1">
            <a:off x="1066680" y="640440"/>
            <a:ext cx="662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A star (our sun )is part of a galaxy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A planet (earth) orbits a star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A moon (our moon) orbits a planet (earth)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Radio waves are detected by large curved dishes similar to the dish aerials in T.V. syste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3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One light year is the distance travelled by light in a year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It takes light from the sun 8 minutes to get to the earth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It takes 4 light years for light to reach the nearest star (alpha centauri)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It takes light 100,000 light years to get to the edge of our galaxy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4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9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ff"/>
                </a:solidFill>
                <a:latin typeface="Tahoma"/>
              </a:rPr>
              <a:t>There are two types of telescope ,the refractor and the reflector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0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The refractor works by light bending or refracting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The reflector works by light reflecting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7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7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2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GB" sz="4400" spc="-1" strike="noStrike">
                <a:solidFill>
                  <a:srgbClr val="ff9900"/>
                </a:solidFill>
                <a:latin typeface="Tahoma"/>
              </a:rPr>
              <a:t>The Refracting Telescop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0" y="1295280"/>
            <a:ext cx="8915400" cy="80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The refracting telescope consist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of  two convex lenses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The objective lens collects ligh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from distant objects such as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planets and stars.  It forms an image of them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The eyepiece lens then magnifies this image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2255760" y="2567160"/>
            <a:ext cx="4632480" cy="256032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sp>
        <p:nvSpPr>
          <p:cNvPr id="116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Use can be made of  light ,radio and micro waves from the electromagnetic spectrum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17:42:04Z</dcterms:created>
  <dc:creator>wallan</dc:creator>
  <dc:description/>
  <dc:language>en-US</dc:language>
  <cp:lastModifiedBy>LEGION</cp:lastModifiedBy>
  <dcterms:modified xsi:type="dcterms:W3CDTF">2018-03-22T10:10:33Z</dcterms:modified>
  <cp:revision>33</cp:revision>
  <dc:subject/>
  <dc:title>basic space</dc:title>
</cp:coreProperties>
</file>