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9E44-FD39-47F8-82D0-7A0905B210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2DB-68B7-4D5F-A672-F11F80B2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DEC-921C-4F01-930A-1F24A8AA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801-C2A0-451A-A1C2-BD0CFA74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265-0625-4A77-A69E-81D99E11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F5C4-8A5B-4458-B3B3-1B630587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C5C1-49A2-4086-BF0E-9A461366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ED82-DA6B-46DB-A4B6-FD4C9A21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5FE3-EB4C-4B69-96F2-88A67F8F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D53D-B205-4A2C-A9D5-7725459E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8E04-E606-4705-AE9C-6FA350C0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D303-8D6C-4657-BAEB-46C38ACB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921-995E-4319-948F-23D40BDD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7E3F-A596-4400-9109-77374A05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07BA-5ADC-444B-A596-5DB605F8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1817-CFF2-4D28-9BC8-EA5934BE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FD08-C148-4C72-B098-FE8E1640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8E48-94EF-4DA3-BF85-29278FF5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323-6FC0-4877-98F7-53A22E24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266-4B5D-46D5-B199-9A3F8CBC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2EA-E991-4118-9B64-63B02ECA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F8B-08DB-4F20-B948-02175F4A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273-375F-43C9-8C2C-0FFEB866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159-3EA1-403A-B184-43819A2C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C06-987B-4970-9D1E-0A256EC8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2FFB-741F-4D3D-A7D4-2A7065749B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385B-A35F-48F7-825B-7C2B0B4FCB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1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8-03-22T10:10:33Z</dcterms:modified>
  <cp:revision>33</cp:revision>
  <dc:subject/>
  <dc:title>basic space</dc:title>
</cp:coreProperties>
</file>