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BE02-776E-496A-858D-68393FF55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AEF5-C231-4FE1-B1A6-818F9D43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0389D-19A3-4183-8FAE-9E3F21FD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47DC-7800-4BCF-B9B0-C3E1777A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C9E53-E2F5-4060-ABF5-7DE4EA15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5A71-426D-4B14-A99F-B5D131FB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A90B-7AA3-43DB-840B-B9DFDACE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CA59-ABD6-4022-AE0A-0003600E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CDCD-5EAA-4CB6-B2F7-C5A59A8E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B57F-8C5D-4523-AD69-A3BCAC06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F72C-77DF-41E7-86FE-F0BEAF14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AFB7-7EB1-4834-A2EF-6658DFEF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3D2B8-826F-4D2E-91A5-9702E211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AC76-F9A0-45AB-A0EE-68FC4DB5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8F8E-A660-4CC5-AAA6-E5A3BA08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8D20-DA33-48B7-A80F-34CB8A5C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B63B-C219-4A00-95D1-FB0530D4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CC17-3558-495E-B6D8-9C2833B9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6783B-61A0-469B-ADD4-44B35DFF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33EE-92D3-4875-8DEB-FDA1F3A5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DCBB-C3AC-46D4-A01C-1AAF352C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790D1-D9A8-4BF2-8170-5D102409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6E6E3-E928-40EA-8FB2-A68FFD17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D8AB-C48E-48D1-8633-51AEC677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2690-B61F-449F-9348-D3C0EAA1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70F5-40B5-4DFE-99B3-671403D274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5ABB-B10F-4333-A3CF-EF81FE2543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8-03-22T10:12:07Z</dcterms:modified>
  <cp:revision>8</cp:revision>
  <dc:subject/>
  <dc:title>STARS</dc:title>
</cp:coreProperties>
</file>