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314CC-B8B7-4A63-806A-DBCC65BD32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AR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Constellations of our Galaxy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nstellations of our Galax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stellation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changing at the same (annual) timescale that we are observing the changing zodiac?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o the constellations appear to change positions in the night sky as Earth travels around our Sun throughout the year? YE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re the constellations themselves moving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ell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changing at the same (annual) timescale that we are observing the changing zodiac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the constellations appear to change positions in the night sky as Earth travels around our Sun throughout the year? Y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the constellations themselves moving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Constellation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What is changing at the same (annual) timescale that we are observing the changing zodiac?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Do the constellations appear to change positions in the night sky as Earth travels around our Sun throughout the year? YE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Are the constellations themselves moving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stellation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changing at the same (annual) timescale that we are observing the changing zodiac?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o the constellations appear to change positions in the night sky as Earth travels around our Sun throughout the year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re the constellations themselves moving? NO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causes this apparent change in positions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ell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changing at the same (annual) timescale that we are observing the changing zodiac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the constellations appear to change positions in the night sky as Earth travels around our Sun throughout the year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the constellations themselves moving? 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auses this apparent change in position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Constellation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What is changing at the same (annual) timescale that we are observing the changing zodiac?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Do the constellations appear to change positions in the night sky as Earth travels around our Sun throughout the year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Are the constellations themselves moving? NO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What causes this apparent change in positions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stellation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changing at the same (annual) timescale that we are observing the changing zodiac?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o the constellations appear to change positions in the night sky as Earth travels around our Sun throughout the year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re the constellations themselves moving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causes this apparent change in positions? As Earth orbits the Sun, our perspective change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o all stars appear in different positions at different times of the year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ell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changing at the same (annual) timescale that we are observing the changing zodiac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the constellations appear to change positions in the night sky as Earth travels around our Sun throughout the year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the constellations themselves moving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auses this apparent change in positions? As Earth orbits the Sun, our perspective chan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all stars appear in different positions at different times of the year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Constellation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What is changing at the same (annual) timescale that we are observing the changing zodiac?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Do the constellations appear to change positions in the night sky as Earth travels around our Sun throughout the year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Are the constellations themselves moving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What causes this apparent change in positions? As Earth orbits the Sun, our perspective change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Do all stars appear in different positions at different times of the year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stellation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changing at the same (annual) timescale that we are observing the changing zodiac?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o the constellations appear to change positions in the night sky as Earth travels around our Sun throughout the year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re the constellations themselves moving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causes this apparent change in positions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o all stars appear in different positions at different times of the year? All except Polari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y is Polaris the only star that appears “fixed”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ell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changing at the same (annual) timescale that we are observing the changing zodiac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the constellations appear to change positions in the night sky as Earth travels around our Sun throughout the year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the constellations themselves moving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auses this apparent change in position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all stars appear in different positions at different times of the year? All except Polar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is Polaris the only star that appears “fixed”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Constellation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What is changing at the same (annual) timescale that we are observing the changing zodiac?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Do the constellations appear to change positions in the night sky as Earth travels around our Sun throughout the year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Are the constellations themselves moving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What causes this apparent change in positions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Do all stars appear in different positions at different times of the year? All except Polari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Why is Polaris the only star that appears “fixed”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stellation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changing at the same (annual) timescale that we are observing the changing zodiac?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o the constellations appear to change positions in the night sky as Earth travels around our Sun throughout the year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re the constellations themselves moving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causes this apparent change in positions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o all stars appear in different positions at different times of the year?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y is Polaris the only star that appears “fixed”? Earth’s axis points to Polari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ell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changing at the same (annual) timescale that we are observing the changing zodiac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the constellations appear to change positions in the night sky as Earth travels around our Sun throughout the year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the constellations themselves moving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auses this apparent change in position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all stars appear in different positions at different times of the yea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is Polaris the only star that appears “fixed”? Earth’s axis points to Polar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Constellation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What is changing at the same (annual) timescale that we are observing the changing zodiac?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Do the constellations appear to change positions in the night sky as Earth travels around our Sun throughout the year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Are the constellations themselves moving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What causes this apparent change in positions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Do all stars appear in different positions at different times of the year?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Why is Polaris the only star that appears “fixed”? Earth’s axis points to Polari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orn under the sign of…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Born under the sign of…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rn under the sign of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reek: Scorpio (Oct 23 and 21 Nov 21)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giant scorpion sent forth by Gaia to slay ORION when he threatened to slay all the beasts of the earth.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stellation is “paired” with Orion, which leaves the sky when Scorpio appears.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ek: Scorpio (Oct 23 and 21 Nov 21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giant scorpion sent forth by Gaia to slay ORION when he threatened to slay all the beasts of the ear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ellation is “paired” with Orion, which leaves the sky when Scorpio appea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rion the Hunter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rion the Hun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akota: The Hand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akota: The H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ign your own constel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sign your own constellation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stellation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changing at the same (annual) timescale that we are observing the changing zodiac?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ell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changing at the same (annual) timescale that we are observing the changing zodiac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Constellation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What is changing at the same (annual) timescale that we are observing the changing zodiac?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stellation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changing at the same (annual) timescale that we are observing the changing zodiac? Earth’s revolving.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o the constellations appear to change positions in the night sky as Earth travels around our Sun throughout the year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ell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changing at the same (annual) timescale that we are observing the changing zodiac? Earth’s revolv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the constellations appear to change positions in the night sky as Earth travels around our Sun throughout the year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Constellation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What is changing at the same (annual) timescale that we are observing the changing zodiac? Earth’s revolving.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Do the constellations appear to change positions in the night sky as Earth travels around our Sun throughout the year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EECC48-E3F8-4EFE-947B-A6DF1162D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41C885-176E-4D58-8982-61E2068A8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D46BE0-FB02-4051-A6B6-BC9D0456C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9B5C8C-AA74-4920-A8C5-15EA2CCEB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7B4C0-E1D5-4F04-95BF-2C2FD4810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04D1D-5EE8-4C92-A232-CC245D478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42D52-3445-42D8-9131-DBF0E9E3F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995BD-91D5-4AE4-B26D-54C807B30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0DAB9-6A45-4E6A-B0C6-D40C3F38A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D2C9C-883A-4375-8097-997BF5801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6EB95-08ED-4496-A458-9938FEE8A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29479E-19AD-4F52-814D-10493C715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9F59D-47C5-4B2C-A175-76ACCE664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60030-25CA-487F-8298-BF15534A1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05854-BE7A-4509-8022-CD5564A3F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D4FF3-4B25-4129-A884-4AFBEECF8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D2471-F33D-40CE-AB73-2CB1516C3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2D0EEA-3853-4403-9D22-7EBBD3A4C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1BACFC-EABB-42D2-BFF6-C165DFAC3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CF5471-7CBA-4B40-9574-FD8FEB506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05F77E-C105-4A1A-8D87-8C3A22D4E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EC4288-20C7-431B-A31F-8C21E4318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D3718D-ACBB-482B-BBE8-0EB749C19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9E3058-07C9-4461-8D16-CF2CD98FE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7FFF6-9E19-4116-93C2-2716B78D70C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B2E3D-525D-4069-87BB-E1BA6E918C3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://en.wikipedia.org/wiki/File:Orionurania.jpg" TargetMode="External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STARS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Constellations of our Galax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Нижний колонтитул 3"/>
          <p:cNvSpPr/>
          <p:nvPr/>
        </p:nvSpPr>
        <p:spPr>
          <a:xfrm>
            <a:off x="3124080" y="625140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nstellatio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14479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hat is changing at the same (annual) timescale that we are observing the changing zodiac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o the constellations appear to change positions in the night sky as Earth travels around our Sun throughout the year? </a:t>
            </a:r>
            <a:r>
              <a:rPr b="0" lang="en-US" sz="2800" spc="-1" strike="noStrike">
                <a:solidFill>
                  <a:srgbClr val="ffff00"/>
                </a:solidFill>
                <a:latin typeface="Garamond"/>
              </a:rPr>
              <a:t>Y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re the constellations themselves moving?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0" name="Нижний колонтитул 3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nstellatio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80880" y="14479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hat is changing at the same (annual) timescale that we are observing the changing zodiac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o the constellations appear to change positions in the night sky as Earth travels around our Sun throughout the year?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re the constellations themselves moving? </a:t>
            </a:r>
            <a:r>
              <a:rPr b="0" lang="en-US" sz="2800" spc="-1" strike="noStrike">
                <a:solidFill>
                  <a:srgbClr val="ffff00"/>
                </a:solidFill>
                <a:latin typeface="Garamond"/>
              </a:rPr>
              <a:t>NO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hat causes this apparent change in positions?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3" name="Нижний колонтитул 3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nstellatio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80880" y="14479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hat is changing at the same (annual) timescale that we are observing the changing zodiac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o the constellations appear to change positions in the night sky as Earth travels around our Sun throughout the year?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re the constellations themselves moving?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hat causes this apparent change in positions? </a:t>
            </a:r>
            <a:r>
              <a:rPr b="0" lang="en-US" sz="2800" spc="-1" strike="noStrike">
                <a:solidFill>
                  <a:srgbClr val="ffff00"/>
                </a:solidFill>
                <a:latin typeface="Garamond"/>
              </a:rPr>
              <a:t>As Earth orbits the Sun, our perspective chang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o all stars appear in different positions at different times of the year?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6" name="Нижний колонтитул 3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nstellatio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80880" y="14479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hat is changing at the same (annual) timescale that we are observing the changing zodiac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o the constellations appear to change positions in the night sky as Earth travels around our Sun throughout the year?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re the constellations themselves moving?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hat causes this apparent change in positions?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o all stars appear in different positions at different times of the year? </a:t>
            </a:r>
            <a:r>
              <a:rPr b="0" lang="en-US" sz="2800" spc="-1" strike="noStrike">
                <a:solidFill>
                  <a:srgbClr val="ffff00"/>
                </a:solidFill>
                <a:latin typeface="Garamond"/>
              </a:rPr>
              <a:t>All except Polari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hy is Polaris the only star that appears “fixed”?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Нижний колонтитул 3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nstellatio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80880" y="1447920"/>
            <a:ext cx="83059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hat is changing at the same (annual) timescale that we are observing the changing zodiac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o the constellations appear to change positions in the night sky as Earth travels around our Sun throughout the year?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re the constellations themselves moving?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hat causes this apparent change in positions?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o all stars appear in different positions at different times of the year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hy is Polaris the only star that appears “fixed”? </a:t>
            </a:r>
            <a:r>
              <a:rPr b="0" lang="en-US" sz="2800" spc="-1" strike="noStrike">
                <a:solidFill>
                  <a:srgbClr val="ffff00"/>
                </a:solidFill>
                <a:latin typeface="Garamond"/>
              </a:rPr>
              <a:t>Earth’s axis points to Polari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2" name="Нижний колонтитул 3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3" descr=""/>
          <p:cNvPicPr/>
          <p:nvPr/>
        </p:nvPicPr>
        <p:blipFill>
          <a:blip r:embed="rId1"/>
          <a:stretch/>
        </p:blipFill>
        <p:spPr>
          <a:xfrm>
            <a:off x="0" y="685800"/>
            <a:ext cx="9144000" cy="61722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7238880"/>
          </a:xfrm>
          <a:prstGeom prst="rect">
            <a:avLst/>
          </a:prstGeom>
          <a:ln w="0">
            <a:noFill/>
          </a:ln>
        </p:spPr>
      </p:pic>
      <p:sp>
        <p:nvSpPr>
          <p:cNvPr id="112" name="Нижний колонтитул 3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orn under the sign of…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4" name="Picture 5" descr="Earth, Sun, and constellation Leo in alignment."/>
          <p:cNvPicPr/>
          <p:nvPr/>
        </p:nvPicPr>
        <p:blipFill>
          <a:blip r:embed="rId1"/>
          <a:stretch/>
        </p:blipFill>
        <p:spPr>
          <a:xfrm>
            <a:off x="0" y="2230560"/>
            <a:ext cx="9144000" cy="2341440"/>
          </a:xfrm>
          <a:prstGeom prst="rect">
            <a:avLst/>
          </a:prstGeom>
          <a:ln w="0">
            <a:noFill/>
          </a:ln>
        </p:spPr>
      </p:pic>
      <p:sp>
        <p:nvSpPr>
          <p:cNvPr id="115" name="Нижний колонтитул 3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Greek: Scorpio (</a:t>
            </a:r>
            <a:r>
              <a:rPr b="0" lang="en-US" sz="4400" spc="-1" strike="noStrike">
                <a:solidFill>
                  <a:srgbClr val="e5e5ff"/>
                </a:solidFill>
                <a:latin typeface="Garamond"/>
              </a:rPr>
              <a:t>Oct 23 and 21 Nov 21)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876560" y="160020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 giant scorpion sent forth by Gaia to slay ORION when he threatened to slay all the beasts of the earth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onstellation is “paired” with Orion, which leaves the sky when Scorpio appear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8" name="Picture 5" descr="This is the &lt;a href=&quot;/the_universe/Constellations/summer/scorpio.html&quot;&gt;Greek constellation Scorpius&lt;/a&gt;, the scorpion. It contains a bright star, &lt;a href=&quot;/the_universe/antares.html&quot;&gt;Antares&lt;/a&gt;, that is part of the scorpion's tail.  To the ancient Greeks, Scorpius was related to the death of the hunter &lt;a href=&quot;/mythology/orion.html&quot;&gt;Orion&lt;/a&gt;.&lt;p&gt;&lt;small&gt;&lt;em&gt;&lt;/em&gt;&lt;/small&gt;&lt;/p&gt;"/>
          <p:cNvPicPr/>
          <p:nvPr/>
        </p:nvPicPr>
        <p:blipFill>
          <a:blip r:embed="rId1"/>
          <a:stretch/>
        </p:blipFill>
        <p:spPr>
          <a:xfrm>
            <a:off x="762120" y="2362320"/>
            <a:ext cx="3809880" cy="2857320"/>
          </a:xfrm>
          <a:prstGeom prst="rect">
            <a:avLst/>
          </a:prstGeom>
          <a:ln w="0">
            <a:noFill/>
          </a:ln>
        </p:spPr>
      </p:pic>
      <p:sp>
        <p:nvSpPr>
          <p:cNvPr id="119" name="Нижний колонтитул 4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Orion the Hunter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114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2" name="Picture 5" descr="210px-Orionurania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04920" y="1295280"/>
            <a:ext cx="3824280" cy="54817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7" descr="File:Orion-guide dark.svg"/>
          <p:cNvPicPr/>
          <p:nvPr/>
        </p:nvPicPr>
        <p:blipFill>
          <a:blip r:embed="rId4"/>
          <a:stretch/>
        </p:blipFill>
        <p:spPr>
          <a:xfrm>
            <a:off x="4572000" y="1447920"/>
            <a:ext cx="4572000" cy="5257800"/>
          </a:xfrm>
          <a:prstGeom prst="rect">
            <a:avLst/>
          </a:prstGeom>
          <a:ln w="0">
            <a:noFill/>
          </a:ln>
        </p:spPr>
      </p:pic>
      <p:sp>
        <p:nvSpPr>
          <p:cNvPr id="124" name="Нижний колонтитул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Lakota: The Hand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191120" y="1447920"/>
            <a:ext cx="49528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7" name="Picture 5" descr="orion_hand_big"/>
          <p:cNvPicPr/>
          <p:nvPr/>
        </p:nvPicPr>
        <p:blipFill>
          <a:blip r:embed="rId1"/>
          <a:stretch/>
        </p:blipFill>
        <p:spPr>
          <a:xfrm>
            <a:off x="380880" y="1600200"/>
            <a:ext cx="3524400" cy="4952880"/>
          </a:xfrm>
          <a:prstGeom prst="rect">
            <a:avLst/>
          </a:prstGeom>
          <a:ln w="0">
            <a:noFill/>
          </a:ln>
        </p:spPr>
      </p:pic>
      <p:sp>
        <p:nvSpPr>
          <p:cNvPr id="128" name="Нижний колонтитул 4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Design your own constella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" name="Нижний колонтитул 3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nstellatio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80880" y="14479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hat is changing at the same (annual) timescale that we are observing the changing zodiac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4" name="Нижний колонтитул 3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nstellatio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80880" y="14479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hat is changing at the same (annual) timescale that we are observing the changing zodiac? </a:t>
            </a:r>
            <a:r>
              <a:rPr b="0" lang="en-US" sz="2800" spc="-1" strike="noStrike">
                <a:solidFill>
                  <a:srgbClr val="ffff00"/>
                </a:solidFill>
                <a:latin typeface="Garamond"/>
              </a:rPr>
              <a:t>Earth’s revolving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o the constellations appear to change positions in the night sky as Earth travels around our Sun throughout the year?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Нижний колонтитул 3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0T17:03:08Z</dcterms:created>
  <dc:creator>QuarkNet</dc:creator>
  <dc:description/>
  <dc:language>en-US</dc:language>
  <cp:lastModifiedBy>LEGION</cp:lastModifiedBy>
  <dcterms:modified xsi:type="dcterms:W3CDTF">2018-03-22T10:12:07Z</dcterms:modified>
  <cp:revision>8</cp:revision>
  <dc:subject/>
  <dc:title>STARS</dc:title>
</cp:coreProperties>
</file>