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8.jpeg" ContentType="image/jpeg"/>
  <Override PartName="/ppt/media/image26.jpeg" ContentType="image/jpeg"/>
  <Override PartName="/ppt/media/image22.png" ContentType="image/png"/>
  <Override PartName="/ppt/media/image24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5.jpeg" ContentType="image/jpeg"/>
  <Override PartName="/ppt/media/image30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39.png" ContentType="image/png"/>
  <Override PartName="/ppt/media/image41.png" ContentType="image/png"/>
  <Override PartName="/ppt/media/image42.jpeg" ContentType="image/jpeg"/>
  <Override PartName="/ppt/media/image19.jpeg" ContentType="image/jpeg"/>
  <Override PartName="/ppt/media/image40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45.jpeg" ContentType="image/jpeg"/>
  <Override PartName="/ppt/media/image46.jpeg" ContentType="image/jpeg"/>
  <Override PartName="/ppt/media/image35.png" ContentType="image/png"/>
  <Override PartName="/ppt/media/image5.png" ContentType="image/png"/>
  <Override PartName="/ppt/media/image43.jpeg" ContentType="image/jpeg"/>
  <Override PartName="/ppt/media/image11.png" ContentType="image/png"/>
  <Override PartName="/ppt/media/image9.jpeg" ContentType="image/jpeg"/>
  <Override PartName="/ppt/media/image20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4D3E-61B7-426B-A707-1B024802B71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ll the colors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lescope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r all the colors of light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were still unsatisfied – and came up with the idea of putting together a number of carefully made mirror segments, controlled by computer to stay extremely accur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ck I was a 10 meter segmented telescope – and the current larg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ddition of  Keck II (another 10 meter telescope) makes a very large telescope arr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eople were still unsatisfied – and came up with the idea of putting together a number of carefully made mirror segments, controlled by computer to stay extremely accurate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Keck I was a 10 meter segmented telescope – and the current largest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addition of  Keck II (another 10 meter telescope) makes a very large telescope array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eper the curve, the closer in the focal po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telescopes have farther focal points, Radio telescopes have shorter o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deeper the curve, the closer in the focal point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ptical telescopes have farther focal points, Radio telescopes have shorter ones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make a shor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, they pu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econdary mirror 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nt to reflect it bac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ough the ma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large telescop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is desig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o make a shorter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lescope, they put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 secondary mirror in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nt to reflect it back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rough the main 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irror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ost large telescopes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se this design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erschel’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ewtonia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yl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lesco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Herschel’s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Newtonian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telescope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inch Schmidt at Palom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for tak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s of sol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 objects –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and com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4 inch Schmidt at Paloma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sed for taking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mages of solar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ystem objects – 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lanets and comets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Telescopes are on Mountain t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way from the lights of the cities, above the clouds, above the weather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Telescopes are in Valle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oiding the radio noise made by cities, cars, and radio s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 and Gamma ray telescopes are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s and Gamma rays can’t get through the atmosphe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ptical Telescopes are on Mountain top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way from the lights of the cities, above the clouds, above the weather, 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adio Telescopes are in Valley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voiding the radio noise made by cities, cars, and radio station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X-ray and Gamma ray telescopes are in spac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X-rays and Gamma rays can’t get through the atmosphere!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ing one kind of invisibl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adio Telescope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eeing one kind of invisible light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t by Grote Reb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at NRAO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nban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Radio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Built by Grote Reber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w at NRAO-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Greenbank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irst Radio Telescop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g Ear - OS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ismantl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ed by John Kra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Big Ear - OSU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(dismantled)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eveloped by John Krau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odrell Bank - 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Jodrell Bank - UK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ilar to the telescop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ileo used to see the mo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Jupiter, the moon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Ve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 Lens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imilar to the telescope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Galileo used to see the moons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f Jupiter, the moon, 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nd Venu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ses  Lenses!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RAO – Greenbank, W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40 foot telescope used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s and a few other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Including Mr.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RAO – Greenbank, WV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40 foot telescope used by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achers and a few others.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         Including Mr.B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0 M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100 M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in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Germany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rld’s Largest - Arecib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orld’s Largest - Arecibo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LA – Socorro, N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VLA – Socorro, N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ble and Infr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Ground and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ptical Telescope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sible and Infrared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n the Ground and in Spac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rkes –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inch refra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Yerkes – 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40 inch refracto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ooker – Mt Wil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Hooker – Mt Wilson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Hale – Mt. Palom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200 inch</a:t>
            </a:r>
            <a:br>
              <a:rPr sz="1200"/>
            </a:b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5 meter</a:t>
            </a:r>
            <a:br>
              <a:rPr sz="1200"/>
            </a:br>
            <a:br>
              <a:rPr sz="1200"/>
            </a:b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olid glass</a:t>
            </a:r>
            <a:br>
              <a:rPr sz="1200"/>
            </a:b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 u="sng">
                <a:solidFill>
                  <a:srgbClr val="000000"/>
                </a:solidFill>
                <a:uFillTx/>
                <a:latin typeface="Arial"/>
              </a:rPr>
              <a:t>Hale – Mt. Paloma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 u="sng">
                <a:solidFill>
                  <a:srgbClr val="000000"/>
                </a:solidFill>
                <a:uFillTx/>
                <a:latin typeface="Arial"/>
              </a:rPr>
              <a:t>200 inch</a:t>
            </a:r>
            <a:br>
              <a:rPr sz="1200"/>
            </a:br>
            <a:r>
              <a:rPr b="0" lang="sv-SE" sz="1200" spc="-1" strike="noStrike" u="sng">
                <a:solidFill>
                  <a:srgbClr val="000000"/>
                </a:solidFill>
                <a:uFillTx/>
                <a:latin typeface="Arial"/>
              </a:rPr>
              <a:t>5 meter</a:t>
            </a:r>
            <a:br>
              <a:rPr sz="1200"/>
            </a:br>
            <a:br>
              <a:rPr sz="1200"/>
            </a:br>
            <a:r>
              <a:rPr b="0" lang="sv-SE" sz="1200" spc="-1" strike="noStrike" u="sng">
                <a:solidFill>
                  <a:srgbClr val="000000"/>
                </a:solidFill>
                <a:uFillTx/>
                <a:latin typeface="Arial"/>
              </a:rPr>
              <a:t>solid glass</a:t>
            </a:r>
            <a:br>
              <a:rPr sz="1200"/>
            </a:br>
            <a:r>
              <a:rPr b="0" lang="sv-SE" sz="1200" spc="-1" strike="noStrike" u="sng">
                <a:solidFill>
                  <a:srgbClr val="000000"/>
                </a:solidFill>
                <a:uFillTx/>
                <a:latin typeface="Arial"/>
              </a:rPr>
              <a:t>mirro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ck I and II – Mauna K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Keck I and II – Mauna Kea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alileo’s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Galileo’s telescope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baru –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una K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Subaru –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Mauna Kea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HST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fraRed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stronomy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atell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IRA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InfraRed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Astronomy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Satellit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RTF – Mauna K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IRTF – Mauna Kea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pitz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Next generation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R telescope in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Spitze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Next generation</a:t>
            </a:r>
            <a:br>
              <a:rPr sz="1200"/>
            </a:b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IR telescope in</a:t>
            </a:r>
            <a:br>
              <a:rPr sz="1200"/>
            </a:b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space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illimeter and Sub-millimeter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Millimeter and Sub-millimeter Telescope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CMT – Mauna K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am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erk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xwell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illimeter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d sub-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illi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JCMT – Mauna Kea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James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Clerk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Maxwell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Telescop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Millimeter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and sub-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millimete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ly High Energy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for Cherenkov Radiation in the atmosphere to prove gamma rays are coming 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Gamma Ray Telescope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ally High Energy!!!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Looking for Cherenkov Radiation in the atmosphere to prove gamma rays are coming in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ammam - Haleaka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Gammam - Haleakala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hipple – Gamma-ray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hipple – Gamma-ray telescop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0 foot long refracting telescope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t by Johannes Hevel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150 foot long refracting telescope!!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Built by Johannes Heveliu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-Ray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X-Ray Telescope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ndra X-Ray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Chandra X-Ray Telescop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-Ray Telescope (HEA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X-Ray Telescope (HEAO)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zing Incidence X-Ray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Grazing Incidence X-Ray Mirro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ther interesting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Other interesting Telescope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itt Peak – Solar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Kitt Peak – Solar Telescop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anda – Looking through the Earth for Neutrin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manda – Looking through the Earth for Neutrino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0 foot – NRAO - Bef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300 foot – NRAO - Befor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0 foot – NRAO - Af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300 foot – NRAO - Afte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ld Refractor with guide 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n old Refractor with guide scop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oh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put together these power points for use in my science class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may use them in your classe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images are public domain, some are used under the fair-use provisions of the copyright law, some are mine. Copyright is retained by the owne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d Brattstr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isclaime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loha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 put together these power points for use in my science classes.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You may use them in your classes.</a:t>
            </a:r>
            <a:br>
              <a:rPr sz="1200"/>
            </a:b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ome images are public domain, some are used under the fair-use provisions of the copyright law, some are mine. Copyright is retained by the owners!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d Brattstr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lenses absorbed some of the faint light, caused the colors to focus at different points, and could only be made to a certain siz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st is the 40 inch refracting telescope at Yerkes observatory. Glass bigger than that would not be able to hold itself u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But lenses absorbed some of the faint light, caused the colors to focus at different points, and could only be made to a certain size. 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largest is the 40 inch refracting telescope at Yerkes observatory. Glass bigger than that would not be able to hold itself up!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O…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igned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Newton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ginally designed wit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econdary mi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eyepiece. You ju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your eye near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 and looked i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pieces and camer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it all easier to 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esigned by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saac Newton –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riginally designed with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 secondary mirror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r eyepiece. You just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ut your eye near the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op and looked in!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Eyepieces and cameras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ade it all easier to use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arly Newtonian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Early Newtonian telescop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ould make a glass mirror a LOT bigger than 40 inches – and it didn’t distort the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5 meter mirror (the Hale telescope at Mt. Palomar) was the largest for a long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ly, the largest Single Piece of glass telescope is 8 meters (Subaru and oth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You could make a glass mirror a LOT bigger than 40 inches – and it didn’t distort the light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 5 meter mirror (the Hale telescope at Mt. Palomar) was the largest for a long time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urrently, the largest Single Piece of glass telescope is 8 meters (Subaru and others)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289B7-4044-4E87-9A4A-292F6A573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9CA2A-F309-4CCF-8E55-8B8E78E1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D696B-7931-4137-B796-DFECE4004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87C92-BEC5-4B9A-AA67-54D38D5E0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6504-082F-42E2-AE7B-0C358E436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BE57-57AA-4450-B0AD-91449A17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194A-54D5-4901-9C3E-9327BB3C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B5B5-1AD9-425B-A369-9BF3878B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E7DF-4590-4ADD-B23E-0392ED87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54F1-2AA8-48A0-A3F0-AFB25E5E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FFF5-F1BD-431E-95A8-5F4BD239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E46F2-D56C-477D-8C6A-601481F0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9ACB-4790-48C6-9888-8C506AB1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644A-A08F-4044-AB90-24C26405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87B3A-F72E-4C4C-A1B9-6A771507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D243-690E-4868-9813-BCBB44B5D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0C77-025D-43B9-9358-EE87AFFF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F9A74-5ACF-4DB1-880C-94D95F67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C9756-E7A9-424C-9E3E-D68D2267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E6BED-0908-4360-B541-2AA2316F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2D796-1049-47E2-AB12-E321A397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2A9D4-3589-4C78-9573-9F3A2BB1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1FC2E-DBF3-495D-9BF7-216286F5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345F3-8EA3-4AD4-8F52-8683FE48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1B8B-6460-49C0-8532-CCED35E3DC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A734-2982-4AB9-AFD5-ACC957EB24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elescop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r all the colors of ligh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were still unsatisfied – and came up with the idea of putting together a number of carefully made mirror segments, controlled by computer to stay extremely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ck I was a 10 meter segmented telescope – and the current larg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ddition of  Keck II (another 10 meter telescope) makes a very large telescope ar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eper the curve, the closer in the focal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cal telescopes have farther focal points, Radio telescopes have shorter 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para-tel"/>
          <p:cNvPicPr/>
          <p:nvPr/>
        </p:nvPicPr>
        <p:blipFill>
          <a:blip r:embed="rId1"/>
          <a:stretch/>
        </p:blipFill>
        <p:spPr>
          <a:xfrm>
            <a:off x="0" y="0"/>
            <a:ext cx="453708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ke a short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scope, they pu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condary mirror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nt to reflect it bac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 the mai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r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large telescop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is des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Cass-Tele"/>
          <p:cNvPicPr/>
          <p:nvPr/>
        </p:nvPicPr>
        <p:blipFill>
          <a:blip r:embed="rId1"/>
          <a:stretch/>
        </p:blipFill>
        <p:spPr>
          <a:xfrm>
            <a:off x="4637160" y="0"/>
            <a:ext cx="450684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schel’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tonia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y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sc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hershel-telescope"/>
          <p:cNvPicPr/>
          <p:nvPr/>
        </p:nvPicPr>
        <p:blipFill>
          <a:blip r:embed="rId1"/>
          <a:stretch/>
        </p:blipFill>
        <p:spPr>
          <a:xfrm>
            <a:off x="2948040" y="304920"/>
            <a:ext cx="6195960" cy="6372000"/>
          </a:xfrm>
          <a:prstGeom prst="rect">
            <a:avLst/>
          </a:prstGeom>
          <a:ln w="0">
            <a:noFill/>
          </a:ln>
        </p:spPr>
      </p:pic>
      <p:sp>
        <p:nvSpPr>
          <p:cNvPr id="1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4 inch Schmidt at Palo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tak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s of sol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objects –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ets and com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Shoemakers"/>
          <p:cNvPicPr/>
          <p:nvPr/>
        </p:nvPicPr>
        <p:blipFill>
          <a:blip r:embed="rId1"/>
          <a:stretch/>
        </p:blipFill>
        <p:spPr>
          <a:xfrm>
            <a:off x="4857840" y="1600200"/>
            <a:ext cx="3828960" cy="4976640"/>
          </a:xfrm>
          <a:prstGeom prst="rect">
            <a:avLst/>
          </a:prstGeom>
          <a:ln w="0">
            <a:noFill/>
          </a:ln>
        </p:spPr>
      </p:pic>
      <p:sp>
        <p:nvSpPr>
          <p:cNvPr id="1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ptical Telescopes are on Mountain t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way from the lights of the cities, above the clouds, above the weath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adio Telescopes are in Vall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ing the radio noise made by cities, cars, and radio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-ray and Gamma ray telescopes are in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-rays and Gamma rays can’t get through the atmosphe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o Tele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ing one kind of invisible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t by Grote Reb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t NRAO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n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grote2min"/>
          <p:cNvPicPr/>
          <p:nvPr/>
        </p:nvPicPr>
        <p:blipFill>
          <a:blip r:embed="rId1"/>
          <a:stretch/>
        </p:blipFill>
        <p:spPr>
          <a:xfrm>
            <a:off x="4492800" y="533520"/>
            <a:ext cx="5032080" cy="6324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grote6min"/>
          <p:cNvPicPr/>
          <p:nvPr/>
        </p:nvPicPr>
        <p:blipFill>
          <a:blip r:embed="rId2"/>
          <a:stretch/>
        </p:blipFill>
        <p:spPr>
          <a:xfrm>
            <a:off x="-457200" y="3151080"/>
            <a:ext cx="5410080" cy="37832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990360" y="45684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Radio Telesc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g Ear - OSU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ismantl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by John Kr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bigearhp[1]"/>
          <p:cNvPicPr/>
          <p:nvPr/>
        </p:nvPicPr>
        <p:blipFill>
          <a:blip r:embed="rId1"/>
          <a:stretch/>
        </p:blipFill>
        <p:spPr>
          <a:xfrm>
            <a:off x="0" y="2700360"/>
            <a:ext cx="9601200" cy="4233960"/>
          </a:xfrm>
          <a:prstGeom prst="rect">
            <a:avLst/>
          </a:prstGeom>
          <a:ln w="0">
            <a:noFill/>
          </a:ln>
        </p:spPr>
      </p:pic>
      <p:sp>
        <p:nvSpPr>
          <p:cNvPr id="18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drell Bank - U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Jodrell_Bank"/>
          <p:cNvPicPr/>
          <p:nvPr/>
        </p:nvPicPr>
        <p:blipFill>
          <a:blip r:embed="rId1"/>
          <a:stretch/>
        </p:blipFill>
        <p:spPr>
          <a:xfrm>
            <a:off x="914400" y="1274760"/>
            <a:ext cx="7467480" cy="55832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6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Refr-Tele"/>
          <p:cNvPicPr/>
          <p:nvPr/>
        </p:nvPicPr>
        <p:blipFill>
          <a:blip r:embed="rId1"/>
          <a:stretch/>
        </p:blipFill>
        <p:spPr>
          <a:xfrm>
            <a:off x="2771640" y="0"/>
            <a:ext cx="6372360" cy="70102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to the telescop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ileo used to see the mo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Jupiter, the moon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Ve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 Lens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RAO – Greenbank, W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radiotel[1]"/>
          <p:cNvPicPr/>
          <p:nvPr/>
        </p:nvPicPr>
        <p:blipFill>
          <a:blip r:embed="rId1"/>
          <a:stretch/>
        </p:blipFill>
        <p:spPr>
          <a:xfrm>
            <a:off x="4078440" y="1219320"/>
            <a:ext cx="4684680" cy="5562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40page[1]"/>
          <p:cNvPicPr/>
          <p:nvPr/>
        </p:nvPicPr>
        <p:blipFill>
          <a:blip r:embed="rId2"/>
          <a:stretch/>
        </p:blipFill>
        <p:spPr>
          <a:xfrm>
            <a:off x="304920" y="1905120"/>
            <a:ext cx="3047760" cy="36576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6"/>
          <p:cNvSpPr/>
          <p:nvPr/>
        </p:nvSpPr>
        <p:spPr>
          <a:xfrm>
            <a:off x="263880" y="5683320"/>
            <a:ext cx="32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40 foot telescope used b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s and a few other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Including Mr.B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2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100m_dish[1]"/>
          <p:cNvPicPr/>
          <p:nvPr/>
        </p:nvPicPr>
        <p:blipFill>
          <a:blip r:embed="rId1"/>
          <a:stretch/>
        </p:blipFill>
        <p:spPr>
          <a:xfrm>
            <a:off x="2733840" y="0"/>
            <a:ext cx="6410160" cy="7162920"/>
          </a:xfrm>
          <a:prstGeom prst="rect">
            <a:avLst/>
          </a:prstGeom>
          <a:ln w="0">
            <a:noFill/>
          </a:ln>
        </p:spPr>
      </p:pic>
      <p:sp>
        <p:nvSpPr>
          <p:cNvPr id="19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’s Largest - Arecib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arecibo[1]"/>
          <p:cNvPicPr/>
          <p:nvPr/>
        </p:nvPicPr>
        <p:blipFill>
          <a:blip r:embed="rId1"/>
          <a:stretch/>
        </p:blipFill>
        <p:spPr>
          <a:xfrm>
            <a:off x="800280" y="1238400"/>
            <a:ext cx="7543800" cy="5619600"/>
          </a:xfrm>
          <a:prstGeom prst="rect">
            <a:avLst/>
          </a:prstGeom>
          <a:ln w="0">
            <a:noFill/>
          </a:ln>
        </p:spPr>
      </p:pic>
      <p:sp>
        <p:nvSpPr>
          <p:cNvPr id="20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LA – Socorro, N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Socorro VLA"/>
          <p:cNvPicPr/>
          <p:nvPr/>
        </p:nvPicPr>
        <p:blipFill>
          <a:blip r:embed="rId1"/>
          <a:stretch/>
        </p:blipFill>
        <p:spPr>
          <a:xfrm>
            <a:off x="609480" y="1447920"/>
            <a:ext cx="8001000" cy="5333760"/>
          </a:xfrm>
          <a:prstGeom prst="rect">
            <a:avLst/>
          </a:prstGeom>
          <a:ln w="0">
            <a:noFill/>
          </a:ln>
        </p:spPr>
      </p:pic>
      <p:sp>
        <p:nvSpPr>
          <p:cNvPr id="20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cal Tele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ble and Infr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Ground and i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rkes –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0 inch refra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yerkes40[1]"/>
          <p:cNvPicPr/>
          <p:nvPr/>
        </p:nvPicPr>
        <p:blipFill>
          <a:blip r:embed="rId1"/>
          <a:stretch/>
        </p:blipFill>
        <p:spPr>
          <a:xfrm>
            <a:off x="276120" y="1981080"/>
            <a:ext cx="3305160" cy="4876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faculty_img11_lrg[1]"/>
          <p:cNvPicPr/>
          <p:nvPr/>
        </p:nvPicPr>
        <p:blipFill>
          <a:blip r:embed="rId2"/>
          <a:stretch/>
        </p:blipFill>
        <p:spPr>
          <a:xfrm>
            <a:off x="3943440" y="0"/>
            <a:ext cx="520056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ker – Mt Wil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hooker[1]"/>
          <p:cNvPicPr/>
          <p:nvPr/>
        </p:nvPicPr>
        <p:blipFill>
          <a:blip r:embed="rId1"/>
          <a:stretch/>
        </p:blipFill>
        <p:spPr>
          <a:xfrm>
            <a:off x="3129120" y="1592280"/>
            <a:ext cx="6014880" cy="3589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hooker[1]"/>
          <p:cNvPicPr/>
          <p:nvPr/>
        </p:nvPicPr>
        <p:blipFill>
          <a:blip r:embed="rId2"/>
          <a:srcRect l="4351" t="5102" r="4351" b="20392"/>
          <a:stretch/>
        </p:blipFill>
        <p:spPr>
          <a:xfrm>
            <a:off x="0" y="3581280"/>
            <a:ext cx="3733920" cy="259884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6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8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e – Mt. Palo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 inc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meter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glas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001[1]"/>
          <p:cNvPicPr/>
          <p:nvPr/>
        </p:nvPicPr>
        <p:blipFill>
          <a:blip r:embed="rId1"/>
          <a:stretch/>
        </p:blipFill>
        <p:spPr>
          <a:xfrm>
            <a:off x="3429000" y="1636560"/>
            <a:ext cx="5562720" cy="506916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5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ck I and II – Mauna K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distantkecks[1]"/>
          <p:cNvPicPr/>
          <p:nvPr/>
        </p:nvPicPr>
        <p:blipFill>
          <a:blip r:embed="rId1"/>
          <a:srcRect l="0" t="19555" r="0" b="0"/>
          <a:stretch/>
        </p:blipFill>
        <p:spPr>
          <a:xfrm>
            <a:off x="0" y="1893960"/>
            <a:ext cx="9144000" cy="496548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5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keck_litepath[1]"/>
          <p:cNvPicPr/>
          <p:nvPr/>
        </p:nvPicPr>
        <p:blipFill>
          <a:blip r:embed="rId1"/>
          <a:stretch/>
        </p:blipFill>
        <p:spPr>
          <a:xfrm>
            <a:off x="1219320" y="685800"/>
            <a:ext cx="6400800" cy="5800680"/>
          </a:xfrm>
          <a:prstGeom prst="rect">
            <a:avLst/>
          </a:prstGeom>
          <a:ln w="0">
            <a:noFill/>
          </a:ln>
        </p:spPr>
      </p:pic>
      <p:sp>
        <p:nvSpPr>
          <p:cNvPr id="23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lileo’s tele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galileoscopes[1]"/>
          <p:cNvPicPr/>
          <p:nvPr/>
        </p:nvPicPr>
        <p:blipFill>
          <a:blip r:embed="rId1"/>
          <a:stretch/>
        </p:blipFill>
        <p:spPr>
          <a:xfrm>
            <a:off x="1828800" y="2666880"/>
            <a:ext cx="7010280" cy="3872160"/>
          </a:xfrm>
          <a:prstGeom prst="rect">
            <a:avLst/>
          </a:prstGeom>
          <a:ln w="0">
            <a:noFill/>
          </a:ln>
        </p:spPr>
      </p:pic>
      <p:sp>
        <p:nvSpPr>
          <p:cNvPr id="12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aru –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una K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m10m_subaru_tel_8m[1]"/>
          <p:cNvPicPr/>
          <p:nvPr/>
        </p:nvPicPr>
        <p:blipFill>
          <a:blip r:embed="rId1"/>
          <a:stretch/>
        </p:blipFill>
        <p:spPr>
          <a:xfrm>
            <a:off x="4172040" y="0"/>
            <a:ext cx="4971960" cy="7077240"/>
          </a:xfrm>
          <a:prstGeom prst="rect">
            <a:avLst/>
          </a:prstGeom>
          <a:ln w="0">
            <a:noFill/>
          </a:ln>
        </p:spPr>
      </p:pic>
      <p:sp>
        <p:nvSpPr>
          <p:cNvPr id="23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preview_hstlitho60[1]"/>
          <p:cNvPicPr/>
          <p:nvPr/>
        </p:nvPicPr>
        <p:blipFill>
          <a:blip r:embed="rId1"/>
          <a:stretch/>
        </p:blipFill>
        <p:spPr>
          <a:xfrm>
            <a:off x="380880" y="2743200"/>
            <a:ext cx="5156280" cy="38988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hst2[1]"/>
          <p:cNvPicPr/>
          <p:nvPr/>
        </p:nvPicPr>
        <p:blipFill>
          <a:blip r:embed="rId2"/>
          <a:stretch/>
        </p:blipFill>
        <p:spPr>
          <a:xfrm>
            <a:off x="4952880" y="380880"/>
            <a:ext cx="3915000" cy="400068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6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R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tronom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I08-24-IRAS[1]"/>
          <p:cNvPicPr/>
          <p:nvPr/>
        </p:nvPicPr>
        <p:blipFill>
          <a:blip r:embed="rId1"/>
          <a:srcRect l="0" t="3701" r="0" b="2467"/>
          <a:stretch/>
        </p:blipFill>
        <p:spPr>
          <a:xfrm>
            <a:off x="4038480" y="609480"/>
            <a:ext cx="4114800" cy="5791320"/>
          </a:xfrm>
          <a:prstGeom prst="rect">
            <a:avLst/>
          </a:prstGeom>
          <a:ln w="0">
            <a:noFill/>
          </a:ln>
        </p:spPr>
      </p:pic>
      <p:sp>
        <p:nvSpPr>
          <p:cNvPr id="24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TF – Mauna K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5" descr="IRTF"/>
          <p:cNvPicPr/>
          <p:nvPr/>
        </p:nvPicPr>
        <p:blipFill>
          <a:blip r:embed="rId1"/>
          <a:srcRect l="11828" t="0" r="5376" b="0"/>
          <a:stretch/>
        </p:blipFill>
        <p:spPr>
          <a:xfrm>
            <a:off x="0" y="1905120"/>
            <a:ext cx="5867280" cy="4671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hawaii_irtf_telescope[1]"/>
          <p:cNvPicPr/>
          <p:nvPr/>
        </p:nvPicPr>
        <p:blipFill>
          <a:blip r:embed="rId2"/>
          <a:stretch/>
        </p:blipFill>
        <p:spPr>
          <a:xfrm>
            <a:off x="5589720" y="914400"/>
            <a:ext cx="3554280" cy="545616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6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tz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gener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 telescope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SIRTF_ir_1small[1]"/>
          <p:cNvPicPr/>
          <p:nvPr/>
        </p:nvPicPr>
        <p:blipFill>
          <a:blip r:embed="rId1"/>
          <a:stretch/>
        </p:blipFill>
        <p:spPr>
          <a:xfrm>
            <a:off x="4191120" y="380880"/>
            <a:ext cx="4829040" cy="6438960"/>
          </a:xfrm>
          <a:prstGeom prst="rect">
            <a:avLst/>
          </a:prstGeom>
          <a:ln w="0">
            <a:noFill/>
          </a:ln>
        </p:spPr>
      </p:pic>
      <p:sp>
        <p:nvSpPr>
          <p:cNvPr id="25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llimeter and Sub-millimeter Telesco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CMT – Mauna K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jcmt[1]"/>
          <p:cNvPicPr/>
          <p:nvPr/>
        </p:nvPicPr>
        <p:blipFill>
          <a:blip r:embed="rId1"/>
          <a:stretch/>
        </p:blipFill>
        <p:spPr>
          <a:xfrm>
            <a:off x="2421000" y="1563840"/>
            <a:ext cx="6723000" cy="52941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r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wel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imet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sub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i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ma Ray Tele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ly High Energy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ing for Cherenkov Radiation in the atmosphere to prove gamma rays are coming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mam - Haleak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gamma-haleakala"/>
          <p:cNvPicPr/>
          <p:nvPr/>
        </p:nvPicPr>
        <p:blipFill>
          <a:blip r:embed="rId1"/>
          <a:stretch/>
        </p:blipFill>
        <p:spPr>
          <a:xfrm>
            <a:off x="3029040" y="2343240"/>
            <a:ext cx="6114960" cy="4303800"/>
          </a:xfrm>
          <a:prstGeom prst="rect">
            <a:avLst/>
          </a:prstGeom>
          <a:ln w="0">
            <a:noFill/>
          </a:ln>
        </p:spPr>
      </p:pic>
      <p:sp>
        <p:nvSpPr>
          <p:cNvPr id="27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pple – Gamma-ray telesc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" descr="whipple-gamma"/>
          <p:cNvPicPr/>
          <p:nvPr/>
        </p:nvPicPr>
        <p:blipFill>
          <a:blip r:embed="rId1"/>
          <a:stretch/>
        </p:blipFill>
        <p:spPr>
          <a:xfrm>
            <a:off x="2590920" y="1600200"/>
            <a:ext cx="6172200" cy="4835520"/>
          </a:xfrm>
          <a:prstGeom prst="rect">
            <a:avLst/>
          </a:prstGeom>
          <a:ln w="0">
            <a:noFill/>
          </a:ln>
        </p:spPr>
      </p:pic>
      <p:sp>
        <p:nvSpPr>
          <p:cNvPr id="2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0 foot long refracting telescope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438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t by Johannes Hevel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150ft-tel2[1]"/>
          <p:cNvPicPr/>
          <p:nvPr/>
        </p:nvPicPr>
        <p:blipFill>
          <a:blip r:embed="rId1"/>
          <a:stretch/>
        </p:blipFill>
        <p:spPr>
          <a:xfrm>
            <a:off x="2895480" y="1558800"/>
            <a:ext cx="6248520" cy="5299200"/>
          </a:xfrm>
          <a:prstGeom prst="rect">
            <a:avLst/>
          </a:prstGeom>
          <a:ln w="0">
            <a:noFill/>
          </a:ln>
        </p:spPr>
      </p:pic>
      <p:sp>
        <p:nvSpPr>
          <p:cNvPr id="12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-Ray Tele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dra X-Ray Tele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4" descr="chandracraft_med[1]"/>
          <p:cNvPicPr/>
          <p:nvPr/>
        </p:nvPicPr>
        <p:blipFill>
          <a:blip r:embed="rId1"/>
          <a:stretch/>
        </p:blipFill>
        <p:spPr>
          <a:xfrm>
            <a:off x="2286000" y="144792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28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-Ray Telescope (HEA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xray_telescope[1]"/>
          <p:cNvPicPr/>
          <p:nvPr/>
        </p:nvPicPr>
        <p:blipFill>
          <a:blip r:embed="rId1"/>
          <a:stretch/>
        </p:blipFill>
        <p:spPr>
          <a:xfrm>
            <a:off x="3048120" y="1981080"/>
            <a:ext cx="5181480" cy="4770720"/>
          </a:xfrm>
          <a:prstGeom prst="rect">
            <a:avLst/>
          </a:prstGeom>
          <a:ln w="0">
            <a:noFill/>
          </a:ln>
        </p:spPr>
      </p:pic>
      <p:sp>
        <p:nvSpPr>
          <p:cNvPr id="28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zing Incidence X-Ray Mi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xray_focus2[1]"/>
          <p:cNvPicPr/>
          <p:nvPr/>
        </p:nvPicPr>
        <p:blipFill>
          <a:blip r:embed="rId1"/>
          <a:stretch/>
        </p:blipFill>
        <p:spPr>
          <a:xfrm>
            <a:off x="380880" y="2286000"/>
            <a:ext cx="8686800" cy="4502160"/>
          </a:xfrm>
          <a:prstGeom prst="rect">
            <a:avLst/>
          </a:prstGeom>
          <a:ln w="0">
            <a:noFill/>
          </a:ln>
        </p:spPr>
      </p:pic>
      <p:sp>
        <p:nvSpPr>
          <p:cNvPr id="29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interesting Tele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tt Peak – Solar Tele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02170a[1]"/>
          <p:cNvPicPr/>
          <p:nvPr/>
        </p:nvPicPr>
        <p:blipFill>
          <a:blip r:embed="rId1"/>
          <a:stretch/>
        </p:blipFill>
        <p:spPr>
          <a:xfrm>
            <a:off x="1295280" y="1703520"/>
            <a:ext cx="7848720" cy="5154480"/>
          </a:xfrm>
          <a:prstGeom prst="rect">
            <a:avLst/>
          </a:prstGeom>
          <a:ln w="0">
            <a:noFill/>
          </a:ln>
        </p:spPr>
      </p:pic>
      <p:sp>
        <p:nvSpPr>
          <p:cNvPr id="29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4" descr="amanda-pengi[1]"/>
          <p:cNvPicPr/>
          <p:nvPr/>
        </p:nvPicPr>
        <p:blipFill>
          <a:blip r:embed="rId1"/>
          <a:stretch/>
        </p:blipFill>
        <p:spPr>
          <a:xfrm>
            <a:off x="4267080" y="1371600"/>
            <a:ext cx="4616640" cy="548640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anda – Looking through the Earth for Neutri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0 foot – NRAO - Bef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5" descr="300ft_before_med[1]"/>
          <p:cNvPicPr/>
          <p:nvPr/>
        </p:nvPicPr>
        <p:blipFill>
          <a:blip r:embed="rId1"/>
          <a:stretch/>
        </p:blipFill>
        <p:spPr>
          <a:xfrm>
            <a:off x="1371600" y="1600200"/>
            <a:ext cx="7772400" cy="5297400"/>
          </a:xfrm>
          <a:prstGeom prst="rect">
            <a:avLst/>
          </a:prstGeom>
          <a:ln w="0">
            <a:noFill/>
          </a:ln>
        </p:spPr>
      </p:pic>
      <p:sp>
        <p:nvSpPr>
          <p:cNvPr id="30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0 foot – NRAO - Af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4" descr="300ft_after_med[1]"/>
          <p:cNvPicPr/>
          <p:nvPr/>
        </p:nvPicPr>
        <p:blipFill>
          <a:blip r:embed="rId1"/>
          <a:stretch/>
        </p:blipFill>
        <p:spPr>
          <a:xfrm>
            <a:off x="533520" y="3095640"/>
            <a:ext cx="9219960" cy="620064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5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-1143000" y="0"/>
            <a:ext cx="11430000" cy="8163000"/>
          </a:xfrm>
          <a:prstGeom prst="rect">
            <a:avLst/>
          </a:prstGeom>
          <a:ln w="0">
            <a:noFill/>
          </a:ln>
        </p:spPr>
      </p:pic>
      <p:sp>
        <p:nvSpPr>
          <p:cNvPr id="31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ld Refractor with guide 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140[1]"/>
          <p:cNvPicPr/>
          <p:nvPr/>
        </p:nvPicPr>
        <p:blipFill>
          <a:blip r:embed="rId1"/>
          <a:stretch/>
        </p:blipFill>
        <p:spPr>
          <a:xfrm>
            <a:off x="4133880" y="1523880"/>
            <a:ext cx="5010120" cy="5410440"/>
          </a:xfrm>
          <a:prstGeom prst="rect">
            <a:avLst/>
          </a:prstGeom>
          <a:ln w="0">
            <a:noFill/>
          </a:ln>
        </p:spPr>
      </p:pic>
      <p:sp>
        <p:nvSpPr>
          <p:cNvPr id="13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phot-02c-04-preview[1]"/>
          <p:cNvPicPr/>
          <p:nvPr/>
        </p:nvPicPr>
        <p:blipFill>
          <a:blip r:embed="rId1"/>
          <a:stretch/>
        </p:blipFill>
        <p:spPr>
          <a:xfrm>
            <a:off x="685800" y="501480"/>
            <a:ext cx="7848720" cy="6356520"/>
          </a:xfrm>
          <a:prstGeom prst="rect">
            <a:avLst/>
          </a:prstGeom>
          <a:ln w="0">
            <a:noFill/>
          </a:ln>
        </p:spPr>
      </p:pic>
      <p:sp>
        <p:nvSpPr>
          <p:cNvPr id="31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telescopes[1]"/>
          <p:cNvPicPr/>
          <p:nvPr/>
        </p:nvPicPr>
        <p:blipFill>
          <a:blip r:embed="rId1"/>
          <a:stretch/>
        </p:blipFill>
        <p:spPr>
          <a:xfrm>
            <a:off x="609480" y="423720"/>
            <a:ext cx="8077320" cy="6357960"/>
          </a:xfrm>
          <a:prstGeom prst="rect">
            <a:avLst/>
          </a:prstGeom>
          <a:ln w="0">
            <a:noFill/>
          </a:ln>
        </p:spPr>
      </p:pic>
      <p:sp>
        <p:nvSpPr>
          <p:cNvPr id="32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oh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ut together these power points for use in my science class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use them in your classes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images are public domain, some are used under the fair-use provisions of the copyright law, some are mine. Copyright is retained by the own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d Brattst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lenses absorbed some of the faint light, caused the colors to focus at different points, and could only be made to a certain siz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rgest is the 40 inch refracting telescope at Yerkes observatory. Glass bigger than that would not be able to hold itself u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Newt-Tele"/>
          <p:cNvPicPr/>
          <p:nvPr/>
        </p:nvPicPr>
        <p:blipFill>
          <a:blip r:embed="rId1"/>
          <a:stretch/>
        </p:blipFill>
        <p:spPr>
          <a:xfrm>
            <a:off x="4332240" y="0"/>
            <a:ext cx="481176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6172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b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aac Newton –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ly designed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econdary mirr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eyepiece. You ju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your eye near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and looked 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yepieces and camera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it all easier to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newtonscope1[1]"/>
          <p:cNvPicPr/>
          <p:nvPr/>
        </p:nvPicPr>
        <p:blipFill>
          <a:blip r:embed="rId1"/>
          <a:stretch/>
        </p:blipFill>
        <p:spPr>
          <a:xfrm>
            <a:off x="4343400" y="685800"/>
            <a:ext cx="4410000" cy="60199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Newtonian tele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ould make a glas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irr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LOT bigger than 40 inches – and it didn’t distort the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5 meter mirror (the Hale telescope at Mt. Palomar) was the largest for a long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, the largest Single Piece of glass telescope is 8 meters (Subaru and oth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05:34:00Z</dcterms:created>
  <dc:creator>Ted Brattstrom</dc:creator>
  <dc:description/>
  <dc:language>en-US</dc:language>
  <cp:lastModifiedBy>LEGION</cp:lastModifiedBy>
  <dcterms:modified xsi:type="dcterms:W3CDTF">2018-03-22T10:29:45Z</dcterms:modified>
  <cp:revision>35</cp:revision>
  <dc:subject/>
  <dc:title>Telescopes</dc:title>
</cp:coreProperties>
</file>