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5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39.png" ContentType="image/png"/>
  <Override PartName="/ppt/media/image41.png" ContentType="image/png"/>
  <Override PartName="/ppt/media/image42.jpeg" ContentType="image/jpeg"/>
  <Override PartName="/ppt/media/image19.jpeg" ContentType="image/jpeg"/>
  <Override PartName="/ppt/media/image40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45.jpeg" ContentType="image/jpeg"/>
  <Override PartName="/ppt/media/image46.jpeg" ContentType="image/jpeg"/>
  <Override PartName="/ppt/media/image35.png" ContentType="image/png"/>
  <Override PartName="/ppt/media/image5.png" ContentType="image/png"/>
  <Override PartName="/ppt/media/image43.jpeg" ContentType="image/jpeg"/>
  <Override PartName="/ppt/media/image11.png" ContentType="image/png"/>
  <Override PartName="/ppt/media/image9.jpeg" ContentType="image/jpeg"/>
  <Override PartName="/ppt/media/image2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C9DD-3C43-4F2C-BDF3-D8F741C29D2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ll the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r all the colors of ligh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were still unsatisfied – and came up with the idea of putting together a number of carefully made mirror segments, controlled by computer to stay extremely accur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ck I was a 10 meter segmented telescope – and the current larg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dition of  Keck II (another 10 meter telescope) makes a very large telescope arr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eople were still unsatisfied – and came up with the idea of putting together a number of carefully made mirror segments, controlled by computer to stay extremely accurat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Keck I was a 10 meter segmented telescope – and the current largest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ddition of  Keck II (another 10 meter telescope) makes a very large telescope array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eper the curve, the closer in the focal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telescopes have farther focal points, Radio telescopes have shorter 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deeper the curve, the closer in the focal point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ptical telescopes have farther focal points, Radio telescopes have shorter ones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a sho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, they p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condary mirror 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to reflect it bac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ma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large telescop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is desig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o make a shorte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lescope, they put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 secondary mirror in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nt to reflect it back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rough the main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irror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ost large telescopes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e this design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erschel’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wton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y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lesc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Herschel’s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Newtonian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telescop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inch Schmidt at Palo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ta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s of so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objects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nd com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4 inch Schmidt at Paloma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ed for taking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mages of sola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ystem objects –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lanets and comets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Telescopes are on Mountain t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ay from the lights of the cities, above the clouds, above the weathe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s are in Valle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oiding the radio noise made by cities, cars, and radio 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and Gamma ray telescopes are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 and Gamma rays can’t get through the atmosphe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ptical Telescopes are on Mountain top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way from the lights of the cities, above the clouds, above the weather,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o Telescopes are in Valley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voiding the radio noise made by cities, cars, and radio station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X-ray and Gamma ray telescopes are in spac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X-rays and Gamma rays can’t get through the atmosphere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one kind of in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o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eing one kind of invisible ligh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by Grote Re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at NRAO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b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Radio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ilt by Grote Rebe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w at NRAO-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reenbank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irst Radio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Ear - OS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ismantl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ed by John Kr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Big Ear - OSU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dismantled)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ed by John Krau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odrell Bank - 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Jodrell Bank - UK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to the tele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ileo used to see the mo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Jupiter, the moo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 Lens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imilar to the telescope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alileo used to see the moons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f Jupiter, the moon,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nd Venu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es  Lenses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RAO – Greenbank, W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0 foot telescope used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s and a few other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Including Mr.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RAO – Greenbank, WV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40 foot telescope used by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achers and a few others.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        Including Mr.B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 M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100 M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n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Germany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’s Largest - Arecib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orld’s Largest - Arecibo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LA – Socorro, N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VLA – Socorro, N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and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Ground and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ptical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sible and Infrared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n the Ground and in Spac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rkes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inch refr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rkes –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40 inch refracto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ooker – Mt Wil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Hooker – Mt Wilson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Hale – Mt. Palo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200 inch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5 meter</a:t>
            </a:r>
            <a:br>
              <a:rPr sz="1200"/>
            </a:b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lid glass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Hale – Mt. Paloma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200 inch</a:t>
            </a:r>
            <a:br>
              <a:rPr sz="1200"/>
            </a:b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5 meter</a:t>
            </a:r>
            <a:br>
              <a:rPr sz="1200"/>
            </a:br>
            <a:br>
              <a:rPr sz="1200"/>
            </a:b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solid glass</a:t>
            </a:r>
            <a:br>
              <a:rPr sz="1200"/>
            </a:b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mirro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ck I and II – 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Keck I and II – 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ileo’s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Galileo’s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baru –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Subaru –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HS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stronom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RA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nfraRed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Astronomy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Satellit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TF – 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RTF – 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it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ext genera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R telescope i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pitz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Next generation</a:t>
            </a:r>
            <a:br>
              <a:rPr sz="1200"/>
            </a:b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IR telescope in</a:t>
            </a:r>
            <a:br>
              <a:rPr sz="1200"/>
            </a:b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pac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llimeter and Sub-millimeter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illimeter and Sub-millimeter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CMT – 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am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erk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xwel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llime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d sub-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lli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JCMT – 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James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Clerk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axwell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illimeter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and sub-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illimet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ly High Energy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or Cherenkov Radiation in the atmosphere to prove gamma rays are coming 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amma Ray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ally High Energy!!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ooking for Cherenkov Radiation in the atmosphere to prove gamma rays are coming in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mmam - Haleak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Gammam - Haleakal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hipple – Gamma-ray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hipple – Gamma-ray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 foot long refracting telescope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by Johannes Hevel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50 foot long refracting telescope!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ilt by Johannes Heveliu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-Ray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X-Ray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ndra X-Ray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Chandra X-Ray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-Ray Telescope (HEA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X-Ray Telescope (HEAO)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zing Incidence X-Ray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razing Incidence X-Ray Mirro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 interesting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Other interesting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itt Peak – Solar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Kitt Peak – Solar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nda – Looking through the Earth for Neutrin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manda – Looking through the Earth for Neutrino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 foot – NRAO - Bef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foot – NRAO - Befor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 foot – NRAO - Af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foot – NRAO - Aft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ld Refractor with guide 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n old Refractor with guide 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oh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put together these power points for use in my science clas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ay use them in your class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mages are public domain, some are used under the fair-use provisions of the copyright law, some are mine. Copyright is retained by the own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d Brattst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isclaim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loha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 put together these power points for use in my science classes.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ou may use them in your classes.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me images are public domain, some are used under the fair-use provisions of the copyright law, some are mine. Copyright is retained by the owners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d Brattstr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enses absorbed some of the faint light, caused the colors to focus at different points, and could only be made to a certain siz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st is the 40 inch refracting telescope at Yerkes observatory. Glass bigger than that would not be able to hold itself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t lenses absorbed some of the faint light, caused the colors to focus at different points, and could only be made to a certain size.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largest is the 40 inch refracting telescope at Yerkes observatory. Glass bigger than that would not be able to hold itself up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…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ed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Newton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designed wi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econdary mi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eyepiece. You ju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your eye near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and looked i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pieces and camer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it all easier to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signed by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saac Newton –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iginally designed with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 secondary mirro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 eyepiece. You just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ut your eye near the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op and looked in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yepieces and cameras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de it all easier to us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arly Newtonia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Early Newtonian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ould make a glass mirror a LOT bigger than 40 inches – and it didn’t distort th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5 meter mirror (the Hale telescope at Mt. Palomar) was the largest for a long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ly, the largest Single Piece of glass telescope is 8 meters (Subaru and oth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ou could make a glass mirror a LOT bigger than 40 inches – and it didn’t distort the light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 5 meter mirror (the Hale telescope at Mt. Palomar) was the largest for a long tim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urrently, the largest Single Piece of glass telescope is 8 meters (Subaru and others)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D61CE-BC2D-4AE7-BFAD-D8865721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3E1AF-F47D-446A-8ECE-A57AB17E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5AAE1-600B-4E15-9543-10F490B0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7130D-7B16-4918-9FEE-55AC1597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7366-1277-409B-BDA1-4913BEC1C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ECA8-45D9-4A30-8419-8A3DD1DB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2706-EDA6-4654-8F1C-C83BBD8B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1204-6D43-4B7F-BADF-F79AC8E9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8529-14C8-4AD4-8AE8-B9EDBC7E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E46F-F224-4B12-9454-187E03FD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2400-E901-4CF4-95C6-AFD2DFD5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0B64A-AABF-497C-B8B1-6599FE0DB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71DD-8126-46D7-967E-FBDC378B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FE23-1601-4B47-938A-25CD6467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35FB-B46F-4836-9D8D-112ACD00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FF26-3DF2-4836-A700-37E672B8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6C42-47E5-459A-850D-45582578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72E1-AA4C-477F-85F2-C6BB1D29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CCF2F-B2DF-4FBC-978F-A1779BB1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E118F-2632-472D-BFFF-3331AA08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09DB-F409-4737-9B47-9886E180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5BAEA-EC25-4CA3-8240-B0F7A85D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4C2A3-94D0-4E1B-B3B5-18E2A9DB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C484E-7AA5-4985-A122-338DEC09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5879-2E2A-4638-BE88-1E040DB856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2032-4D39-4FDA-BDCD-50A99526CD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elescop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r all the colors of l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ere still unsatisfied – and came up with the idea of putting together a number of carefully made mirror segments, controlled by computer to stay extremely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ck I was a 10 meter segmented telescope – and the current larg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dition of  Keck II (another 10 meter telescope) makes a very large telescope a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eper the curve, the closer in the focal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cal telescopes have farther focal points, Radio telescopes have shorter 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para-tel"/>
          <p:cNvPicPr/>
          <p:nvPr/>
        </p:nvPicPr>
        <p:blipFill>
          <a:blip r:embed="rId1"/>
          <a:stretch/>
        </p:blipFill>
        <p:spPr>
          <a:xfrm>
            <a:off x="0" y="0"/>
            <a:ext cx="45370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shor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scope, they pu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condary mirror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t to reflect it ba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the ma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arge telescop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is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Cass-Tele"/>
          <p:cNvPicPr/>
          <p:nvPr/>
        </p:nvPicPr>
        <p:blipFill>
          <a:blip r:embed="rId1"/>
          <a:stretch/>
        </p:blipFill>
        <p:spPr>
          <a:xfrm>
            <a:off x="4637160" y="0"/>
            <a:ext cx="450684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schel’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i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sc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hershel-telescope"/>
          <p:cNvPicPr/>
          <p:nvPr/>
        </p:nvPicPr>
        <p:blipFill>
          <a:blip r:embed="rId1"/>
          <a:stretch/>
        </p:blipFill>
        <p:spPr>
          <a:xfrm>
            <a:off x="2948040" y="304920"/>
            <a:ext cx="6195960" cy="637200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 inch Schmidt at Palo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tak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s of sol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object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ts and com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Shoemakers"/>
          <p:cNvPicPr/>
          <p:nvPr/>
        </p:nvPicPr>
        <p:blipFill>
          <a:blip r:embed="rId1"/>
          <a:stretch/>
        </p:blipFill>
        <p:spPr>
          <a:xfrm>
            <a:off x="4857840" y="1600200"/>
            <a:ext cx="3828960" cy="497664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tical Telescopes are on Mountain 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y from the lights of the cities, above the clouds, above the weath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dio Telescopes are in Vall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ing the radio noise made by cities, cars, and radio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-ray and Gamma ray telescopes are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rays and Gamma rays can’t get through the atmosp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ing one kind of invisibl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by Grote Reb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t NRAO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grote2min"/>
          <p:cNvPicPr/>
          <p:nvPr/>
        </p:nvPicPr>
        <p:blipFill>
          <a:blip r:embed="rId1"/>
          <a:stretch/>
        </p:blipFill>
        <p:spPr>
          <a:xfrm>
            <a:off x="4492800" y="533520"/>
            <a:ext cx="5032080" cy="6324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grote6min"/>
          <p:cNvPicPr/>
          <p:nvPr/>
        </p:nvPicPr>
        <p:blipFill>
          <a:blip r:embed="rId2"/>
          <a:stretch/>
        </p:blipFill>
        <p:spPr>
          <a:xfrm>
            <a:off x="-457200" y="3151080"/>
            <a:ext cx="5410080" cy="37832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990360" y="4568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Radio Tele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Ear - OSU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smantl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John Kr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bigearhp[1]"/>
          <p:cNvPicPr/>
          <p:nvPr/>
        </p:nvPicPr>
        <p:blipFill>
          <a:blip r:embed="rId1"/>
          <a:stretch/>
        </p:blipFill>
        <p:spPr>
          <a:xfrm>
            <a:off x="0" y="2700360"/>
            <a:ext cx="9601200" cy="423396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drell Bank - 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Jodrell_Bank"/>
          <p:cNvPicPr/>
          <p:nvPr/>
        </p:nvPicPr>
        <p:blipFill>
          <a:blip r:embed="rId1"/>
          <a:stretch/>
        </p:blipFill>
        <p:spPr>
          <a:xfrm>
            <a:off x="914400" y="1274760"/>
            <a:ext cx="7467480" cy="5583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Refr-Tele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70102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the telesco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ileo used to see the mo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Jupiter, the mo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V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 Lens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RAO – Greenbank, W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radiotel[1]"/>
          <p:cNvPicPr/>
          <p:nvPr/>
        </p:nvPicPr>
        <p:blipFill>
          <a:blip r:embed="rId1"/>
          <a:stretch/>
        </p:blipFill>
        <p:spPr>
          <a:xfrm>
            <a:off x="4078440" y="1219320"/>
            <a:ext cx="4684680" cy="5562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40page[1]"/>
          <p:cNvPicPr/>
          <p:nvPr/>
        </p:nvPicPr>
        <p:blipFill>
          <a:blip r:embed="rId2"/>
          <a:stretch/>
        </p:blipFill>
        <p:spPr>
          <a:xfrm>
            <a:off x="304920" y="1905120"/>
            <a:ext cx="3047760" cy="3657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263880" y="5683320"/>
            <a:ext cx="32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40 foot telescope used b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and a few othe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Including Mr.B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100m_dish[1]"/>
          <p:cNvPicPr/>
          <p:nvPr/>
        </p:nvPicPr>
        <p:blipFill>
          <a:blip r:embed="rId1"/>
          <a:stretch/>
        </p:blipFill>
        <p:spPr>
          <a:xfrm>
            <a:off x="2733840" y="0"/>
            <a:ext cx="6410160" cy="7162920"/>
          </a:xfrm>
          <a:prstGeom prst="rect">
            <a:avLst/>
          </a:prstGeom>
          <a:ln w="0">
            <a:noFill/>
          </a:ln>
        </p:spPr>
      </p:pic>
      <p:sp>
        <p:nvSpPr>
          <p:cNvPr id="1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’s Largest - Areci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arecibo[1]"/>
          <p:cNvPicPr/>
          <p:nvPr/>
        </p:nvPicPr>
        <p:blipFill>
          <a:blip r:embed="rId1"/>
          <a:stretch/>
        </p:blipFill>
        <p:spPr>
          <a:xfrm>
            <a:off x="800280" y="1238400"/>
            <a:ext cx="7543800" cy="5619600"/>
          </a:xfrm>
          <a:prstGeom prst="rect">
            <a:avLst/>
          </a:prstGeom>
          <a:ln w="0">
            <a:noFill/>
          </a:ln>
        </p:spPr>
      </p:pic>
      <p:sp>
        <p:nvSpPr>
          <p:cNvPr id="20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 – Socorro, N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Socorro VLA"/>
          <p:cNvPicPr/>
          <p:nvPr/>
        </p:nvPicPr>
        <p:blipFill>
          <a:blip r:embed="rId1"/>
          <a:stretch/>
        </p:blipFill>
        <p:spPr>
          <a:xfrm>
            <a:off x="609480" y="1447920"/>
            <a:ext cx="8001000" cy="533376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le and Infr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Ground and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rkes –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0 inch refr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yerkes40[1]"/>
          <p:cNvPicPr/>
          <p:nvPr/>
        </p:nvPicPr>
        <p:blipFill>
          <a:blip r:embed="rId1"/>
          <a:stretch/>
        </p:blipFill>
        <p:spPr>
          <a:xfrm>
            <a:off x="276120" y="1981080"/>
            <a:ext cx="3305160" cy="4876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faculty_img11_lrg[1]"/>
          <p:cNvPicPr/>
          <p:nvPr/>
        </p:nvPicPr>
        <p:blipFill>
          <a:blip r:embed="rId2"/>
          <a:stretch/>
        </p:blipFill>
        <p:spPr>
          <a:xfrm>
            <a:off x="3943440" y="0"/>
            <a:ext cx="520056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ker – Mt Wi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hooker[1]"/>
          <p:cNvPicPr/>
          <p:nvPr/>
        </p:nvPicPr>
        <p:blipFill>
          <a:blip r:embed="rId1"/>
          <a:stretch/>
        </p:blipFill>
        <p:spPr>
          <a:xfrm>
            <a:off x="3129120" y="1592280"/>
            <a:ext cx="6014880" cy="3589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hooker[1]"/>
          <p:cNvPicPr/>
          <p:nvPr/>
        </p:nvPicPr>
        <p:blipFill>
          <a:blip r:embed="rId2"/>
          <a:srcRect l="4351" t="5102" r="4351" b="20392"/>
          <a:stretch/>
        </p:blipFill>
        <p:spPr>
          <a:xfrm>
            <a:off x="0" y="3581280"/>
            <a:ext cx="3733920" cy="25988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 – Mt. Palo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in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ete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g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001[1]"/>
          <p:cNvPicPr/>
          <p:nvPr/>
        </p:nvPicPr>
        <p:blipFill>
          <a:blip r:embed="rId1"/>
          <a:stretch/>
        </p:blipFill>
        <p:spPr>
          <a:xfrm>
            <a:off x="3429000" y="1636560"/>
            <a:ext cx="5562720" cy="50691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ck I and II – Mauna 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distantkecks[1]"/>
          <p:cNvPicPr/>
          <p:nvPr/>
        </p:nvPicPr>
        <p:blipFill>
          <a:blip r:embed="rId1"/>
          <a:srcRect l="0" t="19555" r="0" b="0"/>
          <a:stretch/>
        </p:blipFill>
        <p:spPr>
          <a:xfrm>
            <a:off x="0" y="1893960"/>
            <a:ext cx="9144000" cy="4965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keck_litepath[1]"/>
          <p:cNvPicPr/>
          <p:nvPr/>
        </p:nvPicPr>
        <p:blipFill>
          <a:blip r:embed="rId1"/>
          <a:stretch/>
        </p:blipFill>
        <p:spPr>
          <a:xfrm>
            <a:off x="1219320" y="685800"/>
            <a:ext cx="6400800" cy="580068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ileo’s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galileoscopes[1]"/>
          <p:cNvPicPr/>
          <p:nvPr/>
        </p:nvPicPr>
        <p:blipFill>
          <a:blip r:embed="rId1"/>
          <a:stretch/>
        </p:blipFill>
        <p:spPr>
          <a:xfrm>
            <a:off x="1828800" y="2666880"/>
            <a:ext cx="7010280" cy="3872160"/>
          </a:xfrm>
          <a:prstGeom prst="rect">
            <a:avLst/>
          </a:prstGeom>
          <a:ln w="0">
            <a:noFill/>
          </a:ln>
        </p:spPr>
      </p:pic>
      <p:sp>
        <p:nvSpPr>
          <p:cNvPr id="12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aru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una K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10m_subaru_tel_8m[1]"/>
          <p:cNvPicPr/>
          <p:nvPr/>
        </p:nvPicPr>
        <p:blipFill>
          <a:blip r:embed="rId1"/>
          <a:stretch/>
        </p:blipFill>
        <p:spPr>
          <a:xfrm>
            <a:off x="4172040" y="0"/>
            <a:ext cx="4971960" cy="7077240"/>
          </a:xfrm>
          <a:prstGeom prst="rect">
            <a:avLst/>
          </a:prstGeom>
          <a:ln w="0">
            <a:noFill/>
          </a:ln>
        </p:spPr>
      </p:pic>
      <p:sp>
        <p:nvSpPr>
          <p:cNvPr id="23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preview_hstlitho60[1]"/>
          <p:cNvPicPr/>
          <p:nvPr/>
        </p:nvPicPr>
        <p:blipFill>
          <a:blip r:embed="rId1"/>
          <a:stretch/>
        </p:blipFill>
        <p:spPr>
          <a:xfrm>
            <a:off x="380880" y="2743200"/>
            <a:ext cx="5156280" cy="3898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st2[1]"/>
          <p:cNvPicPr/>
          <p:nvPr/>
        </p:nvPicPr>
        <p:blipFill>
          <a:blip r:embed="rId2"/>
          <a:stretch/>
        </p:blipFill>
        <p:spPr>
          <a:xfrm>
            <a:off x="4952880" y="380880"/>
            <a:ext cx="3915000" cy="40006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R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ronom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I08-24-IRAS[1]"/>
          <p:cNvPicPr/>
          <p:nvPr/>
        </p:nvPicPr>
        <p:blipFill>
          <a:blip r:embed="rId1"/>
          <a:srcRect l="0" t="3701" r="0" b="2467"/>
          <a:stretch/>
        </p:blipFill>
        <p:spPr>
          <a:xfrm>
            <a:off x="4038480" y="609480"/>
            <a:ext cx="4114800" cy="5791320"/>
          </a:xfrm>
          <a:prstGeom prst="rect">
            <a:avLst/>
          </a:prstGeom>
          <a:ln w="0">
            <a:noFill/>
          </a:ln>
        </p:spPr>
      </p:pic>
      <p:sp>
        <p:nvSpPr>
          <p:cNvPr id="2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TF – Mauna 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IRTF"/>
          <p:cNvPicPr/>
          <p:nvPr/>
        </p:nvPicPr>
        <p:blipFill>
          <a:blip r:embed="rId1"/>
          <a:srcRect l="11828" t="0" r="5376" b="0"/>
          <a:stretch/>
        </p:blipFill>
        <p:spPr>
          <a:xfrm>
            <a:off x="0" y="1905120"/>
            <a:ext cx="5867280" cy="4671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awaii_irtf_telescope[1]"/>
          <p:cNvPicPr/>
          <p:nvPr/>
        </p:nvPicPr>
        <p:blipFill>
          <a:blip r:embed="rId2"/>
          <a:stretch/>
        </p:blipFill>
        <p:spPr>
          <a:xfrm>
            <a:off x="5589720" y="914400"/>
            <a:ext cx="3554280" cy="54561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t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telescop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SIRTF_ir_1small[1]"/>
          <p:cNvPicPr/>
          <p:nvPr/>
        </p:nvPicPr>
        <p:blipFill>
          <a:blip r:embed="rId1"/>
          <a:stretch/>
        </p:blipFill>
        <p:spPr>
          <a:xfrm>
            <a:off x="4191120" y="380880"/>
            <a:ext cx="4829040" cy="6438960"/>
          </a:xfrm>
          <a:prstGeom prst="rect">
            <a:avLst/>
          </a:prstGeom>
          <a:ln w="0">
            <a:noFill/>
          </a:ln>
        </p:spPr>
      </p:pic>
      <p:sp>
        <p:nvSpPr>
          <p:cNvPr id="2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limeter and Sub-millimeter Telesco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CMT – Mauna 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jcmt[1]"/>
          <p:cNvPicPr/>
          <p:nvPr/>
        </p:nvPicPr>
        <p:blipFill>
          <a:blip r:embed="rId1"/>
          <a:stretch/>
        </p:blipFill>
        <p:spPr>
          <a:xfrm>
            <a:off x="2421000" y="1563840"/>
            <a:ext cx="6723000" cy="52941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we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me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ub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ma Ray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ly High Energ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for Cherenkov Radiation in the atmosphere to prove gamma rays are coming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mam - Haleak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gamma-haleakala"/>
          <p:cNvPicPr/>
          <p:nvPr/>
        </p:nvPicPr>
        <p:blipFill>
          <a:blip r:embed="rId1"/>
          <a:stretch/>
        </p:blipFill>
        <p:spPr>
          <a:xfrm>
            <a:off x="3029040" y="2343240"/>
            <a:ext cx="6114960" cy="4303800"/>
          </a:xfrm>
          <a:prstGeom prst="rect">
            <a:avLst/>
          </a:prstGeom>
          <a:ln w="0">
            <a:noFill/>
          </a:ln>
        </p:spPr>
      </p:pic>
      <p:sp>
        <p:nvSpPr>
          <p:cNvPr id="27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pple – Gamma-ray tele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whipple-gamma"/>
          <p:cNvPicPr/>
          <p:nvPr/>
        </p:nvPicPr>
        <p:blipFill>
          <a:blip r:embed="rId1"/>
          <a:stretch/>
        </p:blipFill>
        <p:spPr>
          <a:xfrm>
            <a:off x="2590920" y="1600200"/>
            <a:ext cx="6172200" cy="4835520"/>
          </a:xfrm>
          <a:prstGeom prst="rect">
            <a:avLst/>
          </a:prstGeom>
          <a:ln w="0">
            <a:noFill/>
          </a:ln>
        </p:spPr>
      </p:pic>
      <p:sp>
        <p:nvSpPr>
          <p:cNvPr id="2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0 foot long refracting telescop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438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by Johannes Hevel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50ft-tel2[1]"/>
          <p:cNvPicPr/>
          <p:nvPr/>
        </p:nvPicPr>
        <p:blipFill>
          <a:blip r:embed="rId1"/>
          <a:stretch/>
        </p:blipFill>
        <p:spPr>
          <a:xfrm>
            <a:off x="2895480" y="1558800"/>
            <a:ext cx="6248520" cy="5299200"/>
          </a:xfrm>
          <a:prstGeom prst="rect">
            <a:avLst/>
          </a:prstGeom>
          <a:ln w="0">
            <a:noFill/>
          </a:ln>
        </p:spPr>
      </p:pic>
      <p:sp>
        <p:nvSpPr>
          <p:cNvPr id="12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dra X-Ray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chandracraft_med[1]"/>
          <p:cNvPicPr/>
          <p:nvPr/>
        </p:nvPicPr>
        <p:blipFill>
          <a:blip r:embed="rId1"/>
          <a:stretch/>
        </p:blipFill>
        <p:spPr>
          <a:xfrm>
            <a:off x="2286000" y="144792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28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Telescope (HEA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xray_telescope[1]"/>
          <p:cNvPicPr/>
          <p:nvPr/>
        </p:nvPicPr>
        <p:blipFill>
          <a:blip r:embed="rId1"/>
          <a:stretch/>
        </p:blipFill>
        <p:spPr>
          <a:xfrm>
            <a:off x="3048120" y="1981080"/>
            <a:ext cx="5181480" cy="4770720"/>
          </a:xfrm>
          <a:prstGeom prst="rect">
            <a:avLst/>
          </a:prstGeom>
          <a:ln w="0">
            <a:noFill/>
          </a:ln>
        </p:spPr>
      </p:pic>
      <p:sp>
        <p:nvSpPr>
          <p:cNvPr id="28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ng Incidence X-Ray Mi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xray_focus2[1]"/>
          <p:cNvPicPr/>
          <p:nvPr/>
        </p:nvPicPr>
        <p:blipFill>
          <a:blip r:embed="rId1"/>
          <a:stretch/>
        </p:blipFill>
        <p:spPr>
          <a:xfrm>
            <a:off x="380880" y="2286000"/>
            <a:ext cx="8686800" cy="4502160"/>
          </a:xfrm>
          <a:prstGeom prst="rect">
            <a:avLst/>
          </a:prstGeom>
          <a:ln w="0">
            <a:noFill/>
          </a:ln>
        </p:spPr>
      </p:pic>
      <p:sp>
        <p:nvSpPr>
          <p:cNvPr id="29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nteresting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tt Peak – Solar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02170a[1]"/>
          <p:cNvPicPr/>
          <p:nvPr/>
        </p:nvPicPr>
        <p:blipFill>
          <a:blip r:embed="rId1"/>
          <a:stretch/>
        </p:blipFill>
        <p:spPr>
          <a:xfrm>
            <a:off x="1295280" y="1703520"/>
            <a:ext cx="7848720" cy="5154480"/>
          </a:xfrm>
          <a:prstGeom prst="rect">
            <a:avLst/>
          </a:prstGeom>
          <a:ln w="0">
            <a:noFill/>
          </a:ln>
        </p:spPr>
      </p:pic>
      <p:sp>
        <p:nvSpPr>
          <p:cNvPr id="29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amanda-pengi[1]"/>
          <p:cNvPicPr/>
          <p:nvPr/>
        </p:nvPicPr>
        <p:blipFill>
          <a:blip r:embed="rId1"/>
          <a:stretch/>
        </p:blipFill>
        <p:spPr>
          <a:xfrm>
            <a:off x="4267080" y="1371600"/>
            <a:ext cx="4616640" cy="54864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nda – Looking through the Earth for Neutri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foot – NRAO - 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300ft_before_med[1]"/>
          <p:cNvPicPr/>
          <p:nvPr/>
        </p:nvPicPr>
        <p:blipFill>
          <a:blip r:embed="rId1"/>
          <a:stretch/>
        </p:blipFill>
        <p:spPr>
          <a:xfrm>
            <a:off x="1371600" y="1600200"/>
            <a:ext cx="7772400" cy="5297400"/>
          </a:xfrm>
          <a:prstGeom prst="rect">
            <a:avLst/>
          </a:prstGeom>
          <a:ln w="0">
            <a:noFill/>
          </a:ln>
        </p:spPr>
      </p:pic>
      <p:sp>
        <p:nvSpPr>
          <p:cNvPr id="3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foot – NRAO - 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300ft_after_med[1]"/>
          <p:cNvPicPr/>
          <p:nvPr/>
        </p:nvPicPr>
        <p:blipFill>
          <a:blip r:embed="rId1"/>
          <a:stretch/>
        </p:blipFill>
        <p:spPr>
          <a:xfrm>
            <a:off x="533520" y="3095640"/>
            <a:ext cx="9219960" cy="62006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-1143000" y="0"/>
            <a:ext cx="11430000" cy="8163000"/>
          </a:xfrm>
          <a:prstGeom prst="rect">
            <a:avLst/>
          </a:prstGeom>
          <a:ln w="0">
            <a:noFill/>
          </a:ln>
        </p:spPr>
      </p:pic>
      <p:sp>
        <p:nvSpPr>
          <p:cNvPr id="31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ld Refractor with guide 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40[1]"/>
          <p:cNvPicPr/>
          <p:nvPr/>
        </p:nvPicPr>
        <p:blipFill>
          <a:blip r:embed="rId1"/>
          <a:stretch/>
        </p:blipFill>
        <p:spPr>
          <a:xfrm>
            <a:off x="4133880" y="1523880"/>
            <a:ext cx="5010120" cy="541044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phot-02c-04-preview[1]"/>
          <p:cNvPicPr/>
          <p:nvPr/>
        </p:nvPicPr>
        <p:blipFill>
          <a:blip r:embed="rId1"/>
          <a:stretch/>
        </p:blipFill>
        <p:spPr>
          <a:xfrm>
            <a:off x="685800" y="501480"/>
            <a:ext cx="7848720" cy="6356520"/>
          </a:xfrm>
          <a:prstGeom prst="rect">
            <a:avLst/>
          </a:prstGeom>
          <a:ln w="0">
            <a:noFill/>
          </a:ln>
        </p:spPr>
      </p:pic>
      <p:sp>
        <p:nvSpPr>
          <p:cNvPr id="31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telescopes[1]"/>
          <p:cNvPicPr/>
          <p:nvPr/>
        </p:nvPicPr>
        <p:blipFill>
          <a:blip r:embed="rId1"/>
          <a:stretch/>
        </p:blipFill>
        <p:spPr>
          <a:xfrm>
            <a:off x="609480" y="423720"/>
            <a:ext cx="8077320" cy="6357960"/>
          </a:xfrm>
          <a:prstGeom prst="rect">
            <a:avLst/>
          </a:prstGeom>
          <a:ln w="0">
            <a:noFill/>
          </a:ln>
        </p:spPr>
      </p:pic>
      <p:sp>
        <p:nvSpPr>
          <p:cNvPr id="32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h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ut together these power points for use in my science class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use them in your classe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mages are public domain, some are used under the fair-use provisions of the copyright law, some are mine. Copyright is retained by the own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d Brattst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lenses absorbed some of the faint light, caused the colors to focus at different points, and could only be made to a certain si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rgest is the 40 inch refracting telescope at Yerkes observatory. Glass bigger than that would not be able to hold itself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Newt-Tele"/>
          <p:cNvPicPr/>
          <p:nvPr/>
        </p:nvPicPr>
        <p:blipFill>
          <a:blip r:embed="rId1"/>
          <a:stretch/>
        </p:blipFill>
        <p:spPr>
          <a:xfrm>
            <a:off x="4332240" y="0"/>
            <a:ext cx="48117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b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aac Newton –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designed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condary mirr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eyepiece. You ju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eye near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and looked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pieces and camer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t all easier to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newtonscope1[1]"/>
          <p:cNvPicPr/>
          <p:nvPr/>
        </p:nvPicPr>
        <p:blipFill>
          <a:blip r:embed="rId1"/>
          <a:stretch/>
        </p:blipFill>
        <p:spPr>
          <a:xfrm>
            <a:off x="4343400" y="685800"/>
            <a:ext cx="4410000" cy="6019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Newtonian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make a gla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OT bigger than 40 inches – and it didn’t distort th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5 meter mirror (the Hale telescope at Mt. Palomar) was the largest for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, the largest Single Piece of glass telescope is 8 meters (Subaru and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5:34:00Z</dcterms:created>
  <dc:creator>Ted Brattstrom</dc:creator>
  <dc:description/>
  <dc:language>en-US</dc:language>
  <cp:lastModifiedBy>LEGION</cp:lastModifiedBy>
  <dcterms:modified xsi:type="dcterms:W3CDTF">2018-03-22T10:29:45Z</dcterms:modified>
  <cp:revision>35</cp:revision>
  <dc:subject/>
  <dc:title>Telescopes</dc:title>
</cp:coreProperties>
</file>