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B69E-0420-4CB3-B622-B8C6DC6088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story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pick up your assigned transmi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pick up your assigned transmi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tolemy: Geocentric model, including 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mperfect, changeable Earth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Perfect Heavens (described by spher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guiding princi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olemy: Geocentric model, including 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mperfect, changeable Eart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Perfect Heavens (described by sphe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guiding princi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epicycles in Ptolemy’s model supposed to expl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against the background of the st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the sun is moving against the background of th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eastward for a short amount of time, while they are usually moving west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westward for a short amount of time, while they are usually moving east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seem to remain stationary for substantial amount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epicycles in Ptolemy’s model supposed to expl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against the background of the st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the sun is moving against the background of the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eastward for a short amount of time, while they are usually moving west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westward for a short amount of time, while they are usually moving east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seem to remain stationary for substantial amount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tolemaic system was considered the “standard model” of the Universe until the Copernican Rev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d to explain retrograde (westward) motion of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tolemaic system was considered the “standard model” of the Universe until the Copernican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d to explain retrograde (westward) motion of pla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time of Ptolemy, the introduction of epicycles was considered a very elegant idea because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explained the motion of the planets to the accuracy observable at th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nsistent with the prevailing geocentric world vi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explained the apparently irregular motion of the planets in the sky with “perfect” cir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it did not openly contradict the teaching of the previous author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time of Ptolemy, the introduction of epicycles was considered a very elegant idea becaus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plained the motion of the planets to the accuracy observable at th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consistent with the prevailing geocentric world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plained the apparently irregular motion of the planets in the sky with “perfect” cir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did not openly contradict the teaching of the previous author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pernican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olaus Copernicus (1473 – 1543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centric Universe (Sun in the Cen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pernica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laus Copernicus (1473 – 1543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Universe (Sun in the Ce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(and correct) explanation for retrograde motion of the plane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ade Ptolemy’s epicycles un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grade (westward) motion of a planet occurs when the Earth passes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d in Copernicus’ famous book “De Revolutionibus Orbium Coelestium” (“About the revolutions of celestial objects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(and correct) explanation for retrograde motion of the plane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de Ptolemy’s epicycles un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grade (westward) motion of a planet occurs when the Earth passes the pl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in Copernicus’ famous book “De Revolutionibus Orbium Coelestium” (“About the revolutions of celestial object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pernikan “Universe”, the orbits of planets and moons were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opernikan “Universe”, the orbits of planets and moons wer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ect Cir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annes Kepler (1571 – 16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he precise observational tables of Tycho Brahe (1546 – 1601) to study planetary motion mathema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lar motion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move around the sun on elliptical paths, with non-uniform veloc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a consistent description by abandoning bo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es Kepler (1571 – 16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he precise observational tables of Tycho Brahe (1546 – 1601) to study planetary motion mathema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r mo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s move around the sun on elliptical paths, with non-uniform veloc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a consistent description by abandoning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’s Laws of Planetary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bits of the planets are ellipses with the sun at one foc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centricity e = c/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pler’s Laws of Planetary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bits of the planets are ellipses with the sun at one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centricity e = c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ccentricitie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ccentricities of El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d mankind first become interested in the science of astronom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advent of modern computer technology (mid-20th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development of the theory of relativity (early 20th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invention of the telescope (~ A.D. 16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the times of the ancient greeks (~ 400 – 300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stone and bronze ages (several thousand years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id mankind first become interested in the science of astronom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advent of modern computer technology (mid-2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development of the theory of relativity (early 2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invention of the telescope (~ A.D. 16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e times of the ancient greeks (~ 400 – 300 B.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ne and bronze ages (several thousand years B.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centricities of planetary orb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bits of planets are virtually indistinguishable from circ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: e = 0.01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extreme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: e = 0.2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centricities of planetary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s of planets are virtually indistinguishable from circ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: e = 0.01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extreme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: e = 0.2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from a planet to the sun sweeps over equal areas in equal interval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 from a planet to the sun sweeps over equal areas in equal interval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all four seasons equally lo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summer is the longest; wint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fall is the longest; spring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winter is the longest; summ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spring is the longest; fall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all four seasons equally lo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summer is the longest; winter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fall is the longest; spring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inter is the longest; summer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spring is the longest; fall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ummer longer than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e precession of the Earth’s axis of ro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e moon’s 5o inclination with respect to the Eclip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rotating around its axis more slowly in the summer (→ longer days!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closest to the sun in January and most distant from the sun in Ju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closest to the sun in July and most distant from the sun in Janu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the summer longer than win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precession of the Earth’s axis of r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moon’s 5o inclination with respect to the Eclip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rotating around its axis more slowly in the summer (→ longer days!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closest to the sun in January and most distant from the sun in Ju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closest to the sun in July and most distant from the sun in Janu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umnal Equinox (beg. of fal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solstice (beg. of win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solstice (beg. of summ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nal equinox (beg. of spr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umnal Equinox (beg. of f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solstice (beg. of wi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solstice (beg. of sum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nal equinox (beg. of sp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lanet’s orbital period (P) squared is proportional to its average distance from the sun (a) cub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2 = aAU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Py = period in years; aAU = distance in A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epler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bital period P known → Calculate average distance to the sun,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AU = Py2/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verage distance to the sun, a, known → Calculate orbital period 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 = aAU3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 planet’s orbital period (P) squared is proportional to its average distance from the sun (a) cub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y2 = aAU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Py = period in years; aAU = distance in 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epler’s Third L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bital period P known → Calculate average distance to the sun, 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AU = Py2/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verage distance to the sun, a, known → Calculate orbital perio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y = aAU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29.46 years for Saturn to orbit once around the sun. What is its average distance from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54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.64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.46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4.31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0.55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29.46 years for Saturn to orbit once around the sun. What is its average distance from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54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.64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.46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.31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.55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critically about Kepler’s Laws: Would you categorize his achievements as physics or mathematic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critically about Kepler’s Laws: Would you categorize his achievements as physics or mathemat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Newton (1643 - 17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achievem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ed Calculus as a necessary tool to solve mathematical problems related to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hysics interpretations to the mathematical descriptions of astronomy by Copernicus, Galileo and Ke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e three laws 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e universal law of mutual gravi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 - 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achieve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ed Calculus as a necessary tool to solve mathematical problems related to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physics interpretations to the mathematical descriptions of astronomy by Copernicus, Galileo and Kep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three laws of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universal law of mutual gra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dy continues at rest or in uniform motion in a straight line unless acted upon by some net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stronaut floating in space will float forever in a straight line unless some external force is accelerating him/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continues at rest or in uniform motion in a straight line unless acted upon by some net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stronaut floating in space will float forever in a straight line unless some external force is accelerating him/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ts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 in the stone and bronze ages, human cultures realized the cyclic nature of motions in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uments dating back to ~ 3000 B.C. show alignments with astronomical signific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se monuments were probably used as calendars or even to predict eclip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s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in the stone and bronze ages, human cultures realized the cyclic nature of motions in the s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uments dating back to ~ 3000 B.C. show alignments with astronomical signific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monuments were probably used as calendars or even to predict eclip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nvolve(s) a (non-zero) accel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ing the speed of 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k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 on a circular p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 following involve(s) a (non-zero) accele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the speed of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 on a circular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n the conventional sense (i.e. increasing sp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cases of accele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 of the direction of motion (e.g., in circular mo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eleration (i.e. decreasing sp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in the conventional sense (i.e. increasing spe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ases of accele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of the direction of motion (e.g., in circular mo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eleration (i.e. decreasing spe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l attached to a string is in a circular motion as shown. Which path will the ball follow if the string breaks at the marked poi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Impossible to tell from the given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ll attached to a string is in a circular motion as shown. Which path will the ball follow if the string breaks at the marked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Impossible to tell from the given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eleration a of a body is inversely proportional to its mass m, directly proportional to the net force F, and in the same direction as the net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F/m      F = m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celeration a of a body is inversely proportional to its mass m, directly proportional to the net force F, and in the same direction as the net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F/m      F = 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every action, there is an equal and opposite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force that is accelerating the boy forward, is accelerating the skateboard back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very action, there is an equal and opposite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force that is accelerating the boy forward, is accelerating the skateboar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niversal Law of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two bodies are attracting each other through gravitation, with a force proportional to the product of their masses and inversely proportional to the square of their dist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- 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 is the Universal constant of gravity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al Law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two bodies are attracting each other through gravitation, with a force proportional to the product of their masses and inversely proportional to the square of their dista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- 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 is the Universal constant of gravit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ording to Newton’s universal law of gravity, the sun is attracting the Earth with a force of 3.6*1022 N. What is the gravitational force that the Earth exerts on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75*1018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6*1022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95*1029 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s on the relative speed of the Earth with respect to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Newton’s universal law of gravity, the sun is attracting the Earth with a force of 3.6*1022 N. What is the gravitational force that the Earth exerts on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75*1018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*1022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95*1029 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s on the relative speed of the Earth with respect to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ed 3000 – 1800 B.C. in Great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ignments with locations of sunset, sunrise, moonset and moonrise at summer and winter sols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used as calend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ed 3000 – 1800 B.C. in Grea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gnments with locations of sunset, sunrise, moonset and moonrise at summer and winter sols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used as calend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Horn Medicine Wheel (Wyom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Horn Medicine Wheel (Wyom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acol (Mexico); Maya culture, approx. A.D. 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acol (Mexico); Maya culture, approx. A.D.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it so difficult to find out about the state of astronomical knowledge of bronze-age civilizat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ten documents from that time are in a language that we don’t underst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written documents documents from tha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written documents about their astronomical knowledge often contradict each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the Earth’s precession, they had a completely different view of the sky than we have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idn’t have any astronomical knowledge at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so difficult to find out about the state of astronomical knowledge of bronze-age civiliz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documents from that time are in a language that we don’t underst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 written documents documents from that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written documents about their astronomical knowledge often contradict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Earth’s precession, they had a completely different view of the sky than we have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idn’t have any astronomical knowledge at 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cient Greek Astrono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were based on unproven “first principles”, believed to be “obvious” and were not question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eocentric “Universe”: The Earth is at the Center of the “Univers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“Perfect Heavens”: The motions of all celestial bodies can be described by motions involving objects of “perfect” shape, i.e., spheres or cir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Greek Astron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 were based on unproven “first principles”, believed to be “obvious” and were not questio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Geocentric “Universe”: The Earth is at the Center of the “Univers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“Perfect Heavens”: The motions of all celestial bodies can be described by motions involving objects of “perfect” shape, i.e., spheres or cir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1F34-412E-4F4A-B2D1-0C48443A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3438-2EE9-464F-BF33-7196CD07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FD31-2D73-4568-A9CB-8220BAB7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392A-604C-4E1C-B8BA-0B569F63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78A-1C7A-4F78-805F-46F8AD54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2D9E-1BBC-4D60-B750-1EE8F9ED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0E9A-E33F-447E-8C41-C9C1FCA5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0523-A897-42FD-8982-B98EF131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7430-094E-42B6-8C97-9B5C40A7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E6C4-6E65-42C3-83D4-E2D6F955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5525-A5C4-4222-A1A4-2CBF36D8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8DFD-8285-4D60-A22E-8ECE8BEE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F9E5-AF10-4684-9A52-310106305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file:///retrograde.mov" TargetMode="External"/><Relationship Id="rId4" Type="http://schemas.openxmlformats.org/officeDocument/2006/relationships/hyperlink" Target="file:///retrograde.mo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file:///passing_car.mo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tonehenge_solstic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-9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History of Astrono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62120" y="4800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ease pick up your assigned transmi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seedshistory044"/>
          <p:cNvPicPr/>
          <p:nvPr/>
        </p:nvPicPr>
        <p:blipFill>
          <a:blip r:embed="rId1"/>
          <a:stretch/>
        </p:blipFill>
        <p:spPr>
          <a:xfrm>
            <a:off x="1523880" y="1066680"/>
            <a:ext cx="6096240" cy="4135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28600" y="76320"/>
            <a:ext cx="8915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tolem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ocentric model, including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pi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6552720" y="762120"/>
            <a:ext cx="1219320" cy="1828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>
            <a:off x="5410080" y="762120"/>
            <a:ext cx="236232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H="1">
            <a:off x="4343040" y="762120"/>
            <a:ext cx="342900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1676520" y="5867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. Imperfect, changeable Ear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143000" y="6324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. Perfect Heavens (described by sph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2209680" y="5334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ntral guiding princi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at were the epicycles in Ptolemy’s model supposed to expl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against the background of the st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the sun is moving against the background of the st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eastward for a short amount of time, while they are usually moving we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westward for a short amount of time, while they are usually moving ea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seem to remain stationary for substantial amount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pi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seedshistory043"/>
          <p:cNvPicPr/>
          <p:nvPr/>
        </p:nvPicPr>
        <p:blipFill>
          <a:blip r:embed="rId1"/>
          <a:stretch/>
        </p:blipFill>
        <p:spPr>
          <a:xfrm>
            <a:off x="152280" y="1046160"/>
            <a:ext cx="4343400" cy="3525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1295280" y="49230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tolemaic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considered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“standard model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Universe until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pernican Rev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seedshistory042"/>
          <p:cNvPicPr/>
          <p:nvPr/>
        </p:nvPicPr>
        <p:blipFill>
          <a:blip r:embed="rId2"/>
          <a:stretch/>
        </p:blipFill>
        <p:spPr>
          <a:xfrm>
            <a:off x="4572000" y="1066680"/>
            <a:ext cx="4495680" cy="2560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4572000" y="3733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to explai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trograde (westward) motion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la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 flipH="1" flipV="1">
            <a:off x="6552720" y="2438280"/>
            <a:ext cx="121932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t the time of Ptolemy, the introduction of epicycles was considered a very elegant idea becaus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2590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motion of the planets to the accuracy observable at th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was consistent with the prevailing geocentric world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apparently irregular motion of the planets in the sky with “perfect” cir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it did not openly contradict the teaching of the previous author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Copernic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08"/>
          <p:cNvPicPr/>
          <p:nvPr/>
        </p:nvPicPr>
        <p:blipFill>
          <a:blip r:embed="rId1"/>
          <a:stretch/>
        </p:blipFill>
        <p:spPr>
          <a:xfrm>
            <a:off x="1295280" y="990720"/>
            <a:ext cx="296388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9a"/>
          <p:cNvPicPr/>
          <p:nvPr/>
        </p:nvPicPr>
        <p:blipFill>
          <a:blip r:embed="rId2"/>
          <a:stretch/>
        </p:blipFill>
        <p:spPr>
          <a:xfrm>
            <a:off x="4952880" y="990720"/>
            <a:ext cx="307044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457200" y="57150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icolaus Coperni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473 – 1543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liocentric Unive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Sun in the Ce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New (and correct) explanation for retrograde motion of the plan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09b"/>
          <p:cNvPicPr/>
          <p:nvPr/>
        </p:nvPicPr>
        <p:blipFill>
          <a:blip r:embed="rId1"/>
          <a:stretch/>
        </p:blipFill>
        <p:spPr>
          <a:xfrm>
            <a:off x="685800" y="1143000"/>
            <a:ext cx="255744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10"/>
          <p:cNvPicPr/>
          <p:nvPr/>
        </p:nvPicPr>
        <p:blipFill>
          <a:blip r:embed="rId2"/>
          <a:stretch/>
        </p:blipFill>
        <p:spPr>
          <a:xfrm>
            <a:off x="3448080" y="1143000"/>
            <a:ext cx="291924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6367320" y="39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d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tolemy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picy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443640" y="120492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trog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estward)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tion of a planet occ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hen the Earth passes the plane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76320" y="573084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d in Copernicus’ famous book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 Revolutionibus Orbium Coelestiu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” (“About the revolutions of celestial object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In the Copernikan “Universe”, the orbits of planets and moons wer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33720" y="2514240"/>
            <a:ext cx="4876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fect 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lip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i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pi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ne of 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7"/>
          <p:cNvSpPr/>
          <p:nvPr/>
        </p:nvSpPr>
        <p:spPr>
          <a:xfrm>
            <a:off x="990720" y="1522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Johannes Kepler (1571 – 16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04920" y="990720"/>
            <a:ext cx="533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he precise observational tables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cho Brahe (1546 – 160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udy planetary motion mathematic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990720" y="40384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ircular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0" y="54100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move around the sun o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lliptical pat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n-uniform veloc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228600" y="3000240"/>
            <a:ext cx="5029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nd a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consistent descrip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abandon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o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990720" y="46483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niform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kepler"/>
          <p:cNvPicPr/>
          <p:nvPr/>
        </p:nvPicPr>
        <p:blipFill>
          <a:blip r:embed="rId1"/>
          <a:stretch/>
        </p:blipFill>
        <p:spPr>
          <a:xfrm>
            <a:off x="5943600" y="1295280"/>
            <a:ext cx="2830680" cy="388620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1752480" y="15228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Arial"/>
              </a:rPr>
              <a:t>Kepler’s Laws of Planetary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990720" y="19051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orbits of the planets 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lipse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with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t on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cu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20a"/>
          <p:cNvPicPr/>
          <p:nvPr/>
        </p:nvPicPr>
        <p:blipFill>
          <a:blip r:embed="rId1"/>
          <a:stretch/>
        </p:blipFill>
        <p:spPr>
          <a:xfrm>
            <a:off x="1160640" y="2819520"/>
            <a:ext cx="3259080" cy="342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20b"/>
          <p:cNvPicPr/>
          <p:nvPr/>
        </p:nvPicPr>
        <p:blipFill>
          <a:blip r:embed="rId2"/>
          <a:stretch/>
        </p:blipFill>
        <p:spPr>
          <a:xfrm>
            <a:off x="4724280" y="3048120"/>
            <a:ext cx="4114800" cy="2728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5944680" y="4343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4952880" y="60199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centricity e = c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El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609480" y="1219320"/>
            <a:ext cx="266724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42900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632448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1600200" y="3962520"/>
            <a:ext cx="28954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219320" y="2224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962520" y="22096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858000" y="2209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2286000" y="4952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715000" y="4952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4876920" y="3962520"/>
            <a:ext cx="33526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3808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3526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24852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219320" y="4191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4648320" y="41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ижний колонтитул 1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en did mankind first become interested in the science of astronom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advent of modern computer technology (mid-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development of the theory of relativity (early 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invention of the telescope (~ A.D. 16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uring the times of the ancient greeks (~ 400 – 300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stone and bronze ages (several thousand years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planetary or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990720" y="15238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rbits of planets are virtually indistinguishable from circ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1219320" y="3809880"/>
            <a:ext cx="2666880" cy="266724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356120" y="31240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arth: e = 0.01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181480" y="27432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st extreme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uto: e = 0.2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5486400" y="3962520"/>
            <a:ext cx="281952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838080" y="380880"/>
            <a:ext cx="784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ne from a planet to the su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sweeps ove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areas in equal intervals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20c"/>
          <p:cNvPicPr/>
          <p:nvPr/>
        </p:nvPicPr>
        <p:blipFill>
          <a:blip r:embed="rId1"/>
          <a:stretch/>
        </p:blipFill>
        <p:spPr>
          <a:xfrm>
            <a:off x="1752480" y="2081160"/>
            <a:ext cx="6019920" cy="3710160"/>
          </a:xfrm>
          <a:prstGeom prst="rect">
            <a:avLst/>
          </a:prstGeom>
          <a:ln w="0">
            <a:noFill/>
          </a:ln>
        </p:spPr>
      </p:pic>
      <p:sp>
        <p:nvSpPr>
          <p:cNvPr id="17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 rot="16200000">
            <a:off x="565200" y="3168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 rot="5400000">
            <a:off x="7421760" y="38545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6400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re all four seasons equally l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520" y="22860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ummer is the longest; wint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fall is the longest; spring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winter is the longest; summ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pring is the longest; fall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1520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y is the summer longer than win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precession of the Earth’s axis of r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moon’s 5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nclination with respect to the Eclip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rotating around its axis more slowly in the summer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er days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anuary and most distant from the sun in J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uly and most distant from the sun in Janu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reeform 32"/>
          <p:cNvSpPr/>
          <p:nvPr/>
        </p:nvSpPr>
        <p:spPr>
          <a:xfrm>
            <a:off x="3962520" y="1066680"/>
            <a:ext cx="3657600" cy="28195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304" h="1776">
                <a:moveTo>
                  <a:pt x="2256" y="1776"/>
                </a:moveTo>
                <a:lnTo>
                  <a:pt x="0" y="1776"/>
                </a:lnTo>
                <a:lnTo>
                  <a:pt x="0" y="96"/>
                </a:lnTo>
                <a:lnTo>
                  <a:pt x="357" y="23"/>
                </a:lnTo>
                <a:lnTo>
                  <a:pt x="672" y="0"/>
                </a:lnTo>
                <a:lnTo>
                  <a:pt x="960" y="0"/>
                </a:lnTo>
                <a:lnTo>
                  <a:pt x="1248" y="48"/>
                </a:lnTo>
                <a:lnTo>
                  <a:pt x="1584" y="192"/>
                </a:lnTo>
                <a:lnTo>
                  <a:pt x="1776" y="336"/>
                </a:lnTo>
                <a:lnTo>
                  <a:pt x="2021" y="571"/>
                </a:lnTo>
                <a:lnTo>
                  <a:pt x="2160" y="768"/>
                </a:lnTo>
                <a:lnTo>
                  <a:pt x="2267" y="1120"/>
                </a:lnTo>
                <a:lnTo>
                  <a:pt x="2304" y="1440"/>
                </a:lnTo>
                <a:cubicBezTo>
                  <a:pt x="2298" y="1492"/>
                  <a:pt x="2294" y="1544"/>
                  <a:pt x="2286" y="1595"/>
                </a:cubicBezTo>
                <a:cubicBezTo>
                  <a:pt x="2283" y="1614"/>
                  <a:pt x="2267" y="1650"/>
                  <a:pt x="2267" y="1650"/>
                </a:cubicBezTo>
                <a:lnTo>
                  <a:pt x="2256" y="177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1"/>
          <p:cNvSpPr/>
          <p:nvPr/>
        </p:nvSpPr>
        <p:spPr>
          <a:xfrm>
            <a:off x="1752480" y="3886200"/>
            <a:ext cx="2210040" cy="2286000"/>
          </a:xfrm>
          <a:custGeom>
            <a:avLst/>
            <a:gdLst>
              <a:gd name="textAreaLeft" fmla="*/ 0 w 2210040"/>
              <a:gd name="textAreaRight" fmla="*/ 2210040 w 221004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392" h="1440">
                <a:moveTo>
                  <a:pt x="0" y="0"/>
                </a:moveTo>
                <a:lnTo>
                  <a:pt x="1392" y="0"/>
                </a:lnTo>
                <a:lnTo>
                  <a:pt x="1392" y="1440"/>
                </a:lnTo>
                <a:lnTo>
                  <a:pt x="1152" y="1392"/>
                </a:lnTo>
                <a:lnTo>
                  <a:pt x="960" y="1344"/>
                </a:lnTo>
                <a:lnTo>
                  <a:pt x="752" y="1246"/>
                </a:lnTo>
                <a:lnTo>
                  <a:pt x="576" y="1152"/>
                </a:lnTo>
                <a:lnTo>
                  <a:pt x="377" y="999"/>
                </a:lnTo>
                <a:lnTo>
                  <a:pt x="240" y="816"/>
                </a:lnTo>
                <a:lnTo>
                  <a:pt x="96" y="528"/>
                </a:lnTo>
                <a:lnTo>
                  <a:pt x="21" y="341"/>
                </a:lnTo>
                <a:lnTo>
                  <a:pt x="0" y="192"/>
                </a:lnTo>
                <a:lnTo>
                  <a:pt x="0" y="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earth2"/>
          <p:cNvPicPr/>
          <p:nvPr/>
        </p:nvPicPr>
        <p:blipFill>
          <a:blip r:embed="rId1"/>
          <a:stretch/>
        </p:blipFill>
        <p:spPr>
          <a:xfrm>
            <a:off x="3429000" y="838080"/>
            <a:ext cx="1066680" cy="800280"/>
          </a:xfrm>
          <a:prstGeom prst="rect">
            <a:avLst/>
          </a:prstGeom>
          <a:ln w="0">
            <a:noFill/>
          </a:ln>
        </p:spPr>
      </p:pic>
      <p:sp>
        <p:nvSpPr>
          <p:cNvPr id="190" name="Oval 4"/>
          <p:cNvSpPr/>
          <p:nvPr/>
        </p:nvSpPr>
        <p:spPr>
          <a:xfrm rot="20298000">
            <a:off x="1676520" y="1143000"/>
            <a:ext cx="6019560" cy="495288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733920" y="365760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 flipH="1" flipV="1">
            <a:off x="3657240" y="837720"/>
            <a:ext cx="609480" cy="7621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380880" y="3886200"/>
            <a:ext cx="8763120" cy="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3962520" y="0"/>
            <a:ext cx="0" cy="685800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H="1">
            <a:off x="4038120" y="685800"/>
            <a:ext cx="838440" cy="5335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4419720" y="304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tumnal Equinox (beg. of f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1295280" y="2819520"/>
            <a:ext cx="457200" cy="990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0" y="192096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 solstice (beg. of wi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 flipH="1">
            <a:off x="7619760" y="3276720"/>
            <a:ext cx="685800" cy="5331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7772400" y="172404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 solstice (beg. of su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 flipH="1" flipV="1">
            <a:off x="3962520" y="6171840"/>
            <a:ext cx="2209680" cy="152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6095880" y="5883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nal equinox (beg. of sp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1219320" y="5028840"/>
            <a:ext cx="76176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2286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6172200" y="1828440"/>
            <a:ext cx="76212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541008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266688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2590920" y="4267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434340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4343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ижний колонтитул 2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01364 C -0.1927 0.10497 -0.28229 0.32716 -0.22621 0.51075 C -0.16979 0.69503 0.01198 0.7711 0.17917 0.67907 C 0.34775 0.59029 0.43855 0.36462 0.38073 0.18081 C 0.32483 -0.00231999999999999 0.14393 -0.07607 -0.02361 0.01364 Z">
                                      <p:cBhvr>
                                        <p:cTn id="186" dur="10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6 0.00809 C -0.18871 0.09711 -0.27968 0.32 -0.2276 0.50312 C -0.17343 0.68833 0.00711999999999999 0.76717 0.17691 0.68 C 0.34323 0.59306 0.43768 0.37156 0.38455 0.18543 C 0.32969 0.00162000000000001 0.14879 -0.0763 -0.01996 0.00809 Z">
                                      <p:cBhvr>
                                        <p:cTn id="188" dur="10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685800" y="121932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planet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bital period (P) squar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proportional to its averag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tance from the sun (a) cub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4038480" y="259092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962520" y="2590920"/>
            <a:ext cx="190476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447920" y="327672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period in years;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AU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distance in 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5335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Kepler’s Third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838080" y="418932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know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→ Calculate 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581280" y="4738680"/>
            <a:ext cx="19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838080" y="547056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, known → Calculate 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3505320" y="603396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takes 29.46 years for Saturn to orbit once around the sun. What is its average distance from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286000" y="2819160"/>
            <a:ext cx="5867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9.5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.6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9.46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4.31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60.55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ink critically about Kepler’s Laws: Would you categorize his achievements as physics or mathematic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514600" y="3123720"/>
            <a:ext cx="4572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14300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Major achievem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85800" y="4419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vented Calcul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necessary tool to solve mathematical problems related to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04920" y="1143000"/>
            <a:ext cx="5715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ding physics interpret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thematical descri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stronomy b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pernicus, Galileo and Ke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685800" y="5257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ree laws of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685800" y="5791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iversal law of mutual grav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newton"/>
          <p:cNvPicPr/>
          <p:nvPr/>
        </p:nvPicPr>
        <p:blipFill>
          <a:blip r:embed="rId1"/>
          <a:stretch/>
        </p:blipFill>
        <p:spPr>
          <a:xfrm>
            <a:off x="6031080" y="1143000"/>
            <a:ext cx="3036600" cy="3124080"/>
          </a:xfrm>
          <a:prstGeom prst="rect">
            <a:avLst/>
          </a:prstGeom>
          <a:ln w="0">
            <a:noFill/>
          </a:ln>
        </p:spPr>
      </p:pic>
      <p:sp>
        <p:nvSpPr>
          <p:cNvPr id="238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58400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d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inues at rest or in uniform motion in a straight 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ed upon by som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05a"/>
          <p:cNvPicPr/>
          <p:nvPr/>
        </p:nvPicPr>
        <p:blipFill>
          <a:blip r:embed="rId1"/>
          <a:stretch/>
        </p:blipFill>
        <p:spPr>
          <a:xfrm>
            <a:off x="5027760" y="1660680"/>
            <a:ext cx="3506760" cy="45259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990720" y="44956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tronaut floating in space will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oat forever in a straight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less som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ternal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ccelerating him/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Roots of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ready in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one and bronze 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uman cultures realized the cyclic nature of motions in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ating back to ~ 3000 B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show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ignments with astronomical signific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monuments were probably used a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lend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even to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edict eclip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9718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ich of the following involve(s) a (non-zero) acceler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2819160"/>
            <a:ext cx="6324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ing the speed of an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a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form motion on a circular 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e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124080" y="42670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eleration in the conventional se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 in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29718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048120" y="35812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cases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57150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 the 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otion (e.g., in circular mo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124080" y="5105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cele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.e. de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8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Нижний колонтитул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2204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ball attached to a string is in a circular motion as shown. Which path will the ball follow if the string breaks at the marked poi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82"/>
          <p:cNvSpPr/>
          <p:nvPr/>
        </p:nvSpPr>
        <p:spPr>
          <a:xfrm>
            <a:off x="3962520" y="318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83"/>
          <p:cNvSpPr/>
          <p:nvPr/>
        </p:nvSpPr>
        <p:spPr>
          <a:xfrm>
            <a:off x="4724280" y="3035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4"/>
          <p:cNvSpPr/>
          <p:nvPr/>
        </p:nvSpPr>
        <p:spPr>
          <a:xfrm>
            <a:off x="5486400" y="3492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85"/>
          <p:cNvSpPr/>
          <p:nvPr/>
        </p:nvSpPr>
        <p:spPr>
          <a:xfrm>
            <a:off x="5867280" y="4527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86"/>
          <p:cNvSpPr/>
          <p:nvPr/>
        </p:nvSpPr>
        <p:spPr>
          <a:xfrm>
            <a:off x="5105520" y="52135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) Impossible to tell from the given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87"/>
          <p:cNvSpPr/>
          <p:nvPr/>
        </p:nvSpPr>
        <p:spPr>
          <a:xfrm>
            <a:off x="2666880" y="3645000"/>
            <a:ext cx="2590920" cy="2666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88"/>
          <p:cNvSpPr/>
          <p:nvPr/>
        </p:nvSpPr>
        <p:spPr>
          <a:xfrm>
            <a:off x="4191120" y="3187800"/>
            <a:ext cx="1079280" cy="175248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680" h="1104">
                <a:moveTo>
                  <a:pt x="672" y="1104"/>
                </a:moveTo>
                <a:cubicBezTo>
                  <a:pt x="676" y="1072"/>
                  <a:pt x="680" y="1040"/>
                  <a:pt x="672" y="960"/>
                </a:cubicBezTo>
                <a:cubicBezTo>
                  <a:pt x="664" y="880"/>
                  <a:pt x="664" y="736"/>
                  <a:pt x="624" y="624"/>
                </a:cubicBezTo>
                <a:cubicBezTo>
                  <a:pt x="584" y="512"/>
                  <a:pt x="504" y="376"/>
                  <a:pt x="432" y="288"/>
                </a:cubicBezTo>
                <a:cubicBezTo>
                  <a:pt x="360" y="200"/>
                  <a:pt x="264" y="144"/>
                  <a:pt x="192" y="96"/>
                </a:cubicBezTo>
                <a:cubicBezTo>
                  <a:pt x="120" y="48"/>
                  <a:pt x="60" y="24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89"/>
          <p:cNvSpPr/>
          <p:nvPr/>
        </p:nvSpPr>
        <p:spPr>
          <a:xfrm>
            <a:off x="2590920" y="486396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90"/>
          <p:cNvSpPr/>
          <p:nvPr/>
        </p:nvSpPr>
        <p:spPr>
          <a:xfrm flipV="1">
            <a:off x="5257800" y="3111480"/>
            <a:ext cx="0" cy="19051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91"/>
          <p:cNvSpPr/>
          <p:nvPr/>
        </p:nvSpPr>
        <p:spPr>
          <a:xfrm>
            <a:off x="5105520" y="4863960"/>
            <a:ext cx="304560" cy="304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92"/>
          <p:cNvSpPr/>
          <p:nvPr/>
        </p:nvSpPr>
        <p:spPr>
          <a:xfrm>
            <a:off x="2666880" y="49402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3"/>
          <p:cNvSpPr/>
          <p:nvPr/>
        </p:nvSpPr>
        <p:spPr>
          <a:xfrm>
            <a:off x="3886200" y="48639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94"/>
          <p:cNvSpPr/>
          <p:nvPr/>
        </p:nvSpPr>
        <p:spPr>
          <a:xfrm flipV="1">
            <a:off x="5257800" y="3492360"/>
            <a:ext cx="990720" cy="1524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95"/>
          <p:cNvSpPr/>
          <p:nvPr/>
        </p:nvSpPr>
        <p:spPr>
          <a:xfrm>
            <a:off x="5257800" y="5016600"/>
            <a:ext cx="12952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ижний колонтитул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18 0.00578 C 0.00018 -0.10127 0.06407 -0.18867 0.14202 -0.18867 C 0.22014 -0.18867 0.28351 -0.10127 0.28351 0.00578 C 0.28351 0.11307 0.22014 0.19977 0.14202 0.19977 C 0.06407 0.19977 0.00018 0.11307 0.00018 0.00578 Z">
                                      <p:cBhvr>
                                        <p:cTn id="398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21600000">
                                      <p:cBhvr>
                                        <p:cTn id="40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05556E-006 -2.42775E-006 C -3.05556E-006 -0.05225 0.03299 -0.0948 0.07309 -0.0948 C 0.11337 -0.0948 0.14584 -0.05225 0.14584 -2.42775E-006 C 0.14584 0.05226 0.11337 0.09411 0.07309 0.09411 C 0.03299 0.09411 -3.05556E-006 0.05226 -3.05556E-006 -2.42775E-006 Z">
                                      <p:cBhvr>
                                        <p:cTn id="402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34 0.0111 L 0.28334 -0.26636 E">
                                      <p:cBhvr>
                                        <p:cTn id="406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body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verse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t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ss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rect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 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the same 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net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914400" y="5715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/m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= 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05b"/>
          <p:cNvPicPr/>
          <p:nvPr/>
        </p:nvPicPr>
        <p:blipFill>
          <a:blip r:embed="rId1"/>
          <a:stretch/>
        </p:blipFill>
        <p:spPr>
          <a:xfrm>
            <a:off x="5018040" y="1752480"/>
            <a:ext cx="3516480" cy="4419720"/>
          </a:xfrm>
          <a:prstGeom prst="rect">
            <a:avLst/>
          </a:prstGeom>
          <a:ln w="0">
            <a:noFill/>
          </a:ln>
        </p:spPr>
      </p:pic>
      <p:sp>
        <p:nvSpPr>
          <p:cNvPr id="30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4343400" y="15238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3124080" y="39625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9"/>
          <p:cNvSpPr/>
          <p:nvPr/>
        </p:nvSpPr>
        <p:spPr>
          <a:xfrm>
            <a:off x="9907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0"/>
          <p:cNvSpPr/>
          <p:nvPr/>
        </p:nvSpPr>
        <p:spPr>
          <a:xfrm>
            <a:off x="16765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3505320" y="579132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4648320" y="58672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21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1952280"/>
            <a:ext cx="39621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ery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re is 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and opposite re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05c"/>
          <p:cNvPicPr/>
          <p:nvPr/>
        </p:nvPicPr>
        <p:blipFill>
          <a:blip r:embed="rId1"/>
          <a:stretch/>
        </p:blipFill>
        <p:spPr>
          <a:xfrm>
            <a:off x="4800600" y="1952640"/>
            <a:ext cx="4038480" cy="39718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990720" y="4390920"/>
            <a:ext cx="37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force that is accelerating the boy forward, is accelerating the skateboard back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Universal Law of Gr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two bodies are attracting each other through gravitation, with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ce proportional to the product of their masses and inversely proportional to the square of their d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895480" y="4876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 = -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"/>
          <p:cNvSpPr/>
          <p:nvPr/>
        </p:nvSpPr>
        <p:spPr>
          <a:xfrm>
            <a:off x="4419720" y="518148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343400" y="47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449568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1676520" y="5943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 is the Universal constant of gravit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2743200" y="4648320"/>
            <a:ext cx="2514600" cy="1066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cording to Newton’s universal law of gravity, the sun is attracting the Earth with a force of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3.6*10</a:t>
            </a:r>
            <a:r>
              <a:rPr b="0" lang="en-US" sz="3600" spc="-1" strike="noStrike" u="sng" baseline="30000">
                <a:solidFill>
                  <a:srgbClr val="ffff00"/>
                </a:solidFill>
                <a:uFillTx/>
                <a:latin typeface="Arial"/>
              </a:rPr>
              <a:t>22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 N.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is the gravitational force that the Earth exerts on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90720" y="3124080"/>
            <a:ext cx="72388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7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.6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9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9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pends on the relative speed of the Earth with respect to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stonehenge_aerial"/>
          <p:cNvPicPr/>
          <p:nvPr/>
        </p:nvPicPr>
        <p:blipFill>
          <a:blip r:embed="rId1"/>
          <a:stretch/>
        </p:blipFill>
        <p:spPr>
          <a:xfrm>
            <a:off x="-1295280" y="-449280"/>
            <a:ext cx="10972800" cy="7307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00"/>
                </a:solidFill>
                <a:uFillTx/>
                <a:latin typeface="Arial"/>
              </a:rPr>
              <a:t>Stonehen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Stoneh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01c"/>
          <p:cNvPicPr/>
          <p:nvPr/>
        </p:nvPicPr>
        <p:blipFill>
          <a:blip r:embed="rId1"/>
          <a:stretch/>
        </p:blipFill>
        <p:spPr>
          <a:xfrm>
            <a:off x="3895560" y="914400"/>
            <a:ext cx="5175360" cy="5791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0" y="3962520"/>
            <a:ext cx="38862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ucted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3000 – 1800 B.C. in Great Bri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gnments with locations of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sunset, sunrise, moonset and moonrise at summer and winter sols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ably used as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alend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stonehenge_solstice"/>
          <p:cNvPicPr/>
          <p:nvPr/>
        </p:nvPicPr>
        <p:blipFill>
          <a:blip r:embed="rId2"/>
          <a:stretch/>
        </p:blipFill>
        <p:spPr>
          <a:xfrm>
            <a:off x="76320" y="933480"/>
            <a:ext cx="3733560" cy="280044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2"/>
          <p:cNvPicPr/>
          <p:nvPr/>
        </p:nvPicPr>
        <p:blipFill>
          <a:blip r:embed="rId1"/>
          <a:stretch/>
        </p:blipFill>
        <p:spPr>
          <a:xfrm>
            <a:off x="152280" y="928800"/>
            <a:ext cx="8839440" cy="52149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676520" y="624852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g Horn Medicine Wheel (Wyo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03a"/>
          <p:cNvPicPr/>
          <p:nvPr/>
        </p:nvPicPr>
        <p:blipFill>
          <a:blip r:embed="rId1"/>
          <a:stretch/>
        </p:blipFill>
        <p:spPr>
          <a:xfrm>
            <a:off x="152280" y="1523880"/>
            <a:ext cx="4038840" cy="4313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609480" y="6019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racol (Mexico); Maya culture, approx. A.D.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03b"/>
          <p:cNvPicPr/>
          <p:nvPr/>
        </p:nvPicPr>
        <p:blipFill>
          <a:blip r:embed="rId2"/>
          <a:stretch/>
        </p:blipFill>
        <p:spPr>
          <a:xfrm>
            <a:off x="4267080" y="2057400"/>
            <a:ext cx="4724640" cy="3438360"/>
          </a:xfrm>
          <a:prstGeom prst="rect">
            <a:avLst/>
          </a:prstGeom>
          <a:ln w="0">
            <a:noFill/>
          </a:ln>
        </p:spPr>
      </p:pic>
      <p:sp>
        <p:nvSpPr>
          <p:cNvPr id="7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y is it so difficult to find out about the state of astronomical knowledge of bronze-age civiliz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ritten documents from that time are in a language that we don’t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re are no written documents documents from tha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fferent written documents about their astronomical knowledge often contradict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ue to the Earth’s precession, they had a completely different view of the sky than we have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didn’t have any astronomical knowledg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Ancient Greek Astron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 were based 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pro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first principles”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ieved to be “obvious” and were not questio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371600" y="2819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 Geocentric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t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er of the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371600" y="423864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 “Perfect Heavens”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tions of all celestial bodies can be described by motions involving objects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perfect” sha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.e.,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heres or cir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1T22:00:39Z</dcterms:created>
  <dc:creator>Markus Boettcher</dc:creator>
  <dc:description/>
  <dc:language>en-US</dc:language>
  <cp:lastModifiedBy>LEGION</cp:lastModifiedBy>
  <dcterms:modified xsi:type="dcterms:W3CDTF">2018-03-22T10:40:00Z</dcterms:modified>
  <cp:revision>297</cp:revision>
  <dc:subject/>
  <dc:title>The Roots of Astronomy</dc:title>
</cp:coreProperties>
</file>