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EFCC-6805-4CD6-A398-68B09CC673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884-A806-47BE-B22A-A5870CC0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265-FDD6-41EB-8DCF-38A0B64D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3EC-8F1B-46D3-B66B-F8596C94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A38-6094-4057-8B96-8062BD98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171-1A9F-4047-8B73-EB379934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08C-4A98-4FE8-B0CC-BC991884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D43-9558-4B98-8A11-C605E19A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76C-F883-4371-A96A-2910D9C1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B66-9824-4A7B-ACFE-F053F024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9F4-8AB8-4053-A26B-FE4FA887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F92-9E20-4738-AC32-17484EC2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4E5-05F8-46AF-B5B2-B311E9D3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1BF3-9A1B-45B2-991D-FE340019B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0122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The Size and Structure of the Milky Way Gal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2_28"/>
          <p:cNvPicPr/>
          <p:nvPr/>
        </p:nvPicPr>
        <p:blipFill>
          <a:blip r:embed="rId1"/>
          <a:stretch/>
        </p:blipFill>
        <p:spPr>
          <a:xfrm>
            <a:off x="2819520" y="1523880"/>
            <a:ext cx="3450960" cy="476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553080" y="22860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We live in a new class of astronomic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responds to net force by moving on circular path around the 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orces on Star"/>
          <p:cNvPicPr/>
          <p:nvPr/>
        </p:nvPicPr>
        <p:blipFill>
          <a:blip r:embed="rId1"/>
          <a:stretch/>
        </p:blipFill>
        <p:spPr>
          <a:xfrm>
            <a:off x="1143000" y="298440"/>
            <a:ext cx="6400800" cy="479592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09680" y="3505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943600" y="2057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2_29"/>
          <p:cNvPicPr/>
          <p:nvPr/>
        </p:nvPicPr>
        <p:blipFill>
          <a:blip r:embed="rId1"/>
          <a:stretch/>
        </p:blipFill>
        <p:spPr>
          <a:xfrm>
            <a:off x="304920" y="2394000"/>
            <a:ext cx="845820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2819520" y="4952880"/>
            <a:ext cx="152388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086600" y="5029200"/>
            <a:ext cx="16765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6360" y="54864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 plot of V versus R is called a </a:t>
            </a:r>
            <a:r>
              <a:rPr b="1" lang="en-US" sz="2400" spc="-1" strike="noStrike">
                <a:solidFill>
                  <a:srgbClr val="0d5807"/>
                </a:solidFill>
                <a:latin typeface="Arial"/>
              </a:rPr>
              <a:t>rotat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bserved Cas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2_30"/>
          <p:cNvPicPr/>
          <p:nvPr/>
        </p:nvPicPr>
        <p:blipFill>
          <a:blip r:embed="rId1"/>
          <a:stretch/>
        </p:blipFill>
        <p:spPr>
          <a:xfrm>
            <a:off x="1752480" y="1752480"/>
            <a:ext cx="5572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gnificance of the Rotation Curv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dicated by the rotation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n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676520" y="2286000"/>
            <a:ext cx="5181480" cy="32004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matter h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752480" y="45716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rk Matter: A Major Problem for Contemporary Physics and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tars are a small fraction of the mass of major gala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dark matter problem becomes more pronounced as you go out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form of the dark matter is unknown; probably not what you studied in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ssibly/probably an unknown form of elementary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 the Very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cradioarc_vla"/>
          <p:cNvPicPr/>
          <p:nvPr/>
        </p:nvPicPr>
        <p:blipFill>
          <a:blip r:embed="rId1"/>
          <a:stretch/>
        </p:blipFill>
        <p:spPr>
          <a:xfrm>
            <a:off x="1066680" y="990720"/>
            <a:ext cx="7143840" cy="568008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do we see at the galactic center (radio and infrared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rong radio source (synchrotron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 infrared wavelengths, can see stars orbiting very vast around Sg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twrp.gsfc.nasa.gov/apod/ap001220.html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en years of observations speed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rbit of Star 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2-GC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6712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8120" y="4800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rea Ghez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7524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964"/>
                </a:solidFill>
                <a:latin typeface="Arial"/>
              </a:rPr>
              <a:t>First… an advertisement for 29:52 “Exploration of the Solar Syste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The other half of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turn"/>
          <p:cNvPicPr/>
          <p:nvPr/>
        </p:nvPicPr>
        <p:blipFill>
          <a:blip r:embed="rId1"/>
          <a:stretch/>
        </p:blipFill>
        <p:spPr>
          <a:xfrm>
            <a:off x="609480" y="1600200"/>
            <a:ext cx="493092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itan"/>
          <p:cNvPicPr/>
          <p:nvPr/>
        </p:nvPicPr>
        <p:blipFill>
          <a:blip r:embed="rId2"/>
          <a:stretch/>
        </p:blipFill>
        <p:spPr>
          <a:xfrm>
            <a:off x="6153120" y="1523880"/>
            <a:ext cx="2322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Observations indicate the shape and size of the Milky Way Galax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2_28"/>
          <p:cNvPicPr/>
          <p:nvPr/>
        </p:nvPicPr>
        <p:blipFill>
          <a:blip r:embed="rId1"/>
          <a:stretch/>
        </p:blipFill>
        <p:spPr>
          <a:xfrm>
            <a:off x="4371840" y="457200"/>
            <a:ext cx="44132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Structure of the Milky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B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2_28"/>
          <p:cNvPicPr/>
          <p:nvPr/>
        </p:nvPicPr>
        <p:blipFill>
          <a:blip r:embed="rId1"/>
          <a:stretch/>
        </p:blipFill>
        <p:spPr>
          <a:xfrm>
            <a:off x="5029200" y="1600200"/>
            <a:ext cx="3451320" cy="476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3640" y="454356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Question: what simpl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Is consistent with a part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0645"/>
                </a:solidFill>
                <a:latin typeface="Arial"/>
              </a:rPr>
              <a:t>A view of the Milky Way with an artist’s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ilky_Way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14600" y="1295280"/>
            <a:ext cx="4419720" cy="40388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7811600">
            <a:off x="2115360" y="2075400"/>
            <a:ext cx="687240" cy="345960"/>
          </a:xfrm>
          <a:prstGeom prst="rightArrow">
            <a:avLst>
              <a:gd name="adj1" fmla="val 50000"/>
              <a:gd name="adj2" fmla="val 4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49960" y="1905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1040" y="561024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The sun moves in response to the gravitational for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ll the rest of the mass in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the mass distribu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we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istribution Galactic Mass"/>
          <p:cNvPicPr/>
          <p:nvPr/>
        </p:nvPicPr>
        <p:blipFill>
          <a:blip r:embed="rId1"/>
          <a:stretch/>
        </p:blipFill>
        <p:spPr>
          <a:xfrm>
            <a:off x="990720" y="895320"/>
            <a:ext cx="7315200" cy="5483160"/>
          </a:xfrm>
          <a:prstGeom prst="rect">
            <a:avLst/>
          </a:prstGeom>
          <a:ln w="0">
            <a:noFill/>
          </a:ln>
        </p:spPr>
      </p:pic>
      <p:sp>
        <p:nvSpPr>
          <p:cNvPr id="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Arial"/>
              </a:rPr>
              <a:t>Force of Gravity acts on the Sun and all objects in the Gala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bits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29:46Z</dcterms:created>
  <dc:creator>Steven/Spangler</dc:creator>
  <dc:description/>
  <dc:language>en-US</dc:language>
  <cp:lastModifiedBy>LEGION</cp:lastModifiedBy>
  <dcterms:modified xsi:type="dcterms:W3CDTF">2018-03-22T10:47:14Z</dcterms:modified>
  <cp:revision>11</cp:revision>
  <dc:subject/>
  <dc:title>The Size and Structure of the Milky Way Galaxy</dc:title>
</cp:coreProperties>
</file>