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2B83-B0A8-42D7-B0A0-86BEEBD8A1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417-B564-4376-BA32-D1AA21AC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EF3-306C-4D71-B079-7AFFC5D8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326-E1BD-4274-8EF1-6F0CC5F1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849-ADC7-496E-BDB1-1F93C735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42E-9645-45D5-8897-60803AF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77D-EB9F-44B0-A92F-6B064D78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D8F-2036-46B4-8773-E2B31AC7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0FD-D939-4FD6-9256-255E10EA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4D3-F97E-4D9B-8AD3-E0833FF8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4D0-2D94-46AD-BFDB-171AEB2B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0BB-BB8A-40E6-8AEE-6F346B7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21F-3D55-4632-B0C4-824FCD6E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AD34-A76A-450B-B9F2-928DED610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812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rea Ghez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8-03-22T10:47:14Z</dcterms:modified>
  <cp:revision>11</cp:revision>
  <dc:subject/>
  <dc:title>The Size and Structure of the Milky Way Galaxy</dc:title>
</cp:coreProperties>
</file>