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CDEA-0D49-48BE-A319-3A6C93D882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“Gas Giant” has a methane atmosp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was downgraded to a “dwarf objec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ay the planets in ord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lu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bject is at the center of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the closest to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nicknamed the “Morning Star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plants, animals, and 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is called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Red Planet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the large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 in our Solar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planet has rocky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y plan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22 r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32F-2EDD-40F5-9025-F26FE896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04C-B330-4AF5-A0E4-FFADC52F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9D4-61FB-477D-9CF3-EF64B90C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952-8273-402A-ABBC-C19941D1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EBD-C699-4494-870D-8F867BFC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14D-76C9-40E7-9CB2-90C00B2C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3FC-11CA-4EB1-A6AE-6D7DCC4E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855-749C-4A8F-B28B-A7271366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BBB-A966-401D-893F-75AAF808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179-56AD-4F7F-A007-2EAAE0F6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96F-1E7B-4C5D-85AF-E1E9D983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5FF-A859-4CC7-980E-A30EB4FD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0567-C93D-4CCE-8AB6-A44AA18EA0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EA47-CE4D-4795-9A45-BD399FFBF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The Solar Syste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Wha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 “</a:t>
            </a:r>
            <a:r>
              <a:rPr b="0" lang="en-US" sz="4400" spc="-1" strike="noStrike">
                <a:solidFill>
                  <a:srgbClr val="0066cc"/>
                </a:solidFill>
                <a:latin typeface="Cooper Std Black"/>
              </a:rPr>
              <a:t>Gas Giant</a:t>
            </a:r>
            <a:r>
              <a:rPr b="0" lang="en-US" sz="4400" spc="-1" strike="noStrike">
                <a:solidFill>
                  <a:srgbClr val="0066cc"/>
                </a:solidFill>
                <a:latin typeface="Calibri"/>
              </a:rPr>
              <a:t>” </a:t>
            </a: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has a methane atmosp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6477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cc"/>
                </a:solidFill>
                <a:latin typeface="Cooper Std Black"/>
              </a:rPr>
              <a:t>Neptune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neptune"/>
          <p:cNvPicPr/>
          <p:nvPr/>
        </p:nvPicPr>
        <p:blipFill>
          <a:blip r:embed="rId1"/>
          <a:stretch/>
        </p:blipFill>
        <p:spPr>
          <a:xfrm>
            <a:off x="5410080" y="3209760"/>
            <a:ext cx="3581640" cy="358164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planet was downgraded to a “</a:t>
            </a:r>
            <a:r>
              <a:rPr b="0" lang="en-US" sz="4400" spc="-1" strike="noStrike">
                <a:solidFill>
                  <a:srgbClr val="b2b2b2"/>
                </a:solidFill>
                <a:latin typeface="Magneto"/>
              </a:rPr>
              <a:t>dwarf objec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Magneto"/>
              </a:rPr>
              <a:t>Pluto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7" descr="pluto"/>
          <p:cNvPicPr/>
          <p:nvPr/>
        </p:nvPicPr>
        <p:blipFill>
          <a:blip r:embed="rId1"/>
          <a:stretch/>
        </p:blipFill>
        <p:spPr>
          <a:xfrm>
            <a:off x="3952800" y="441324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Berlin Sans FB"/>
              </a:rPr>
              <a:t>Ca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33"/>
                </a:solidFill>
                <a:latin typeface="Berlin Sans FB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996633"/>
                </a:solidFill>
                <a:latin typeface="Berlin Sans FB"/>
              </a:rPr>
              <a:t>say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Berlin Sans FB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Berlin Sans FB"/>
              </a:rPr>
              <a:t>planets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0066cc"/>
                </a:solidFill>
                <a:latin typeface="Berlin Sans FB"/>
              </a:rPr>
              <a:t>in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Berlin Sans FB"/>
              </a:rPr>
              <a:t>order</a:t>
            </a: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Calibri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alibri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alibri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alibri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alibri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alibri"/>
              </a:rPr>
              <a:t>(Plu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78168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What object is at the </a:t>
            </a:r>
            <a:r>
              <a:rPr b="0" i="1" lang="en-US" sz="4000" spc="-1" strike="noStrike" u="sng">
                <a:solidFill>
                  <a:srgbClr val="ffc000"/>
                </a:solidFill>
                <a:uFillTx/>
                <a:latin typeface="Calibri"/>
              </a:rPr>
              <a:t>center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 of our Solar Syste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3008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The </a:t>
            </a:r>
            <a:r>
              <a:rPr b="0" i="1" lang="en-US" sz="5400" spc="-1" strike="noStrike">
                <a:solidFill>
                  <a:srgbClr val="ff0000"/>
                </a:solidFill>
                <a:latin typeface="Calibri"/>
              </a:rPr>
              <a:t>Sun</a:t>
            </a:r>
            <a:r>
              <a:rPr b="0" i="1" lang="en-US" sz="60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8" descr="sun.jpg"/>
          <p:cNvPicPr/>
          <p:nvPr/>
        </p:nvPicPr>
        <p:blipFill>
          <a:blip r:embed="rId1"/>
          <a:stretch/>
        </p:blipFill>
        <p:spPr>
          <a:xfrm>
            <a:off x="4267080" y="3124080"/>
            <a:ext cx="4604040" cy="34624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Which Planet is the </a:t>
            </a:r>
            <a:r>
              <a:rPr b="1" lang="en-US" sz="4800" spc="-1" strike="noStrike">
                <a:solidFill>
                  <a:srgbClr val="ff0000"/>
                </a:solidFill>
                <a:latin typeface="Gloucester MT Extra Condensed"/>
              </a:rPr>
              <a:t>closest</a:t>
            </a:r>
            <a:r>
              <a:rPr b="1" lang="en-US" sz="4000" spc="-1" strike="noStrike">
                <a:solidFill>
                  <a:srgbClr val="ff0000"/>
                </a:solidFill>
                <a:latin typeface="Gloucester MT Extra Condensed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o the su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4" descr="mercury.jpg"/>
          <p:cNvPicPr/>
          <p:nvPr/>
        </p:nvPicPr>
        <p:blipFill>
          <a:blip r:embed="rId1"/>
          <a:stretch/>
        </p:blipFill>
        <p:spPr>
          <a:xfrm>
            <a:off x="4038480" y="2362320"/>
            <a:ext cx="4383360" cy="335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30081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000"/>
                </a:solidFill>
                <a:latin typeface="Gloucester MT Extra Condensed"/>
              </a:rPr>
              <a:t>Mercury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038480" cy="24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ich planet is nicknamed the “</a:t>
            </a:r>
            <a:r>
              <a:rPr b="1" lang="en-US" sz="4000" spc="-1" strike="noStrike">
                <a:solidFill>
                  <a:srgbClr val="0070c0"/>
                </a:solidFill>
                <a:latin typeface="Bradley Hand ITC"/>
              </a:rPr>
              <a:t>Morning Star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venus.jpg"/>
          <p:cNvPicPr/>
          <p:nvPr/>
        </p:nvPicPr>
        <p:blipFill>
          <a:blip r:embed="rId1"/>
          <a:stretch/>
        </p:blipFill>
        <p:spPr>
          <a:xfrm>
            <a:off x="4343400" y="1981080"/>
            <a:ext cx="399240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36576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Bradley Hand ITC"/>
              </a:rPr>
              <a:t>Venu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3008160" cy="37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roadway"/>
              </a:rPr>
              <a:t>Which planet has plants, animals, and u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4" descr="earth.jpg"/>
          <p:cNvPicPr/>
          <p:nvPr/>
        </p:nvPicPr>
        <p:blipFill>
          <a:blip r:embed="rId1"/>
          <a:stretch/>
        </p:blipFill>
        <p:spPr>
          <a:xfrm>
            <a:off x="4191120" y="914400"/>
            <a:ext cx="4487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37339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0c0"/>
                </a:solidFill>
                <a:latin typeface="Broadway"/>
              </a:rPr>
              <a:t>Earth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ich planet is called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400" spc="-1" strike="noStrike">
                <a:solidFill>
                  <a:srgbClr val="cc0000"/>
                </a:solidFill>
                <a:latin typeface="Britannic Bold"/>
              </a:rPr>
              <a:t>Red Plane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03848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Britannic Bold"/>
              </a:rPr>
              <a:t>Mar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mars"/>
          <p:cNvPicPr/>
          <p:nvPr/>
        </p:nvPicPr>
        <p:blipFill>
          <a:blip r:embed="rId1"/>
          <a:stretch/>
        </p:blipFill>
        <p:spPr>
          <a:xfrm>
            <a:off x="5025960" y="2209680"/>
            <a:ext cx="3254400" cy="327672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Calibri"/>
              </a:rPr>
              <a:t>Which is t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large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planet in our</a:t>
            </a:r>
            <a:r>
              <a:rPr b="0" lang="en-US" sz="3600" spc="-1" strike="noStrike">
                <a:solidFill>
                  <a:srgbClr val="ff9933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Solar Syste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684400"/>
            <a:ext cx="845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Goudy Stout"/>
              </a:rPr>
              <a:t>Jupiter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jupiter"/>
          <p:cNvPicPr/>
          <p:nvPr/>
        </p:nvPicPr>
        <p:blipFill>
          <a:blip r:embed="rId1"/>
          <a:stretch/>
        </p:blipFill>
        <p:spPr>
          <a:xfrm>
            <a:off x="3124080" y="2286000"/>
            <a:ext cx="2826000" cy="32004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Which planet has </a:t>
            </a:r>
            <a:r>
              <a:rPr b="1" lang="en-US" sz="4400" spc="-1" strike="noStrike">
                <a:solidFill>
                  <a:srgbClr val="c0504d"/>
                </a:solidFill>
                <a:latin typeface="Ravie"/>
              </a:rPr>
              <a:t>rocky rings</a:t>
            </a: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66"/>
                </a:solidFill>
                <a:latin typeface="Ravie"/>
              </a:rPr>
              <a:t>Satur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saturn"/>
          <p:cNvPicPr/>
          <p:nvPr/>
        </p:nvPicPr>
        <p:blipFill>
          <a:blip r:embed="rId1"/>
          <a:stretch/>
        </p:blipFill>
        <p:spPr>
          <a:xfrm>
            <a:off x="4876920" y="1295280"/>
            <a:ext cx="4038480" cy="314820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What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00ccff"/>
                </a:solidFill>
                <a:latin typeface="Chiller"/>
              </a:rPr>
              <a:t>icy planet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ccff"/>
                </a:solidFill>
                <a:latin typeface="Calibri"/>
              </a:rPr>
              <a:t>has 22 ring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f81bd"/>
                </a:solidFill>
                <a:latin typeface="Chiller"/>
              </a:rPr>
              <a:t>Uranus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uranus"/>
          <p:cNvPicPr/>
          <p:nvPr/>
        </p:nvPicPr>
        <p:blipFill>
          <a:blip r:embed="rId1"/>
          <a:stretch/>
        </p:blipFill>
        <p:spPr>
          <a:xfrm>
            <a:off x="228600" y="29718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34:29Z</dcterms:created>
  <dc:creator>COE-MATT-Classroom</dc:creator>
  <dc:description/>
  <dc:language>en-US</dc:language>
  <cp:lastModifiedBy>LEGION</cp:lastModifiedBy>
  <dcterms:modified xsi:type="dcterms:W3CDTF">2018-03-22T10:48:21Z</dcterms:modified>
  <cp:revision>14</cp:revision>
  <dc:subject/>
  <dc:title>The Solar System</dc:title>
</cp:coreProperties>
</file>