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11.gif" ContentType="image/gif"/>
  <Override PartName="/ppt/media/image14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5.png" ContentType="image/png"/>
  <Override PartName="/ppt/media/image13.gif" ContentType="image/gif"/>
  <Override PartName="/ppt/media/image22.wmf" ContentType="image/x-wmf"/>
  <Override PartName="/ppt/media/image20.png" ContentType="image/png"/>
  <Override PartName="/ppt/media/image17.gif" ContentType="image/gif"/>
  <Override PartName="/ppt/media/image3.png" ContentType="image/png"/>
  <Override PartName="/ppt/media/image18.gif" ContentType="image/gif"/>
  <Override PartName="/ppt/media/image21.png" ContentType="image/png"/>
  <Override PartName="/ppt/media/image16.gif" ContentType="image/gif"/>
  <Override PartName="/ppt/media/image9.jpeg" ContentType="image/jpeg"/>
  <Override PartName="/ppt/media/image15.jpeg" ContentType="image/jpeg"/>
  <Override PartName="/ppt/media/image19.gif" ContentType="image/gif"/>
  <Override PartName="/ppt/media/image1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6D72-8CFE-4FD8-8D79-1C80DF488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:  The Sun:  A Nuclear Power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pter 15:  The Sun:  A Nuclear Powerhou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re are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’t simply convert atoms into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rearrange the protons and neutrons in nuclei to get a lower-mass configu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initial mass and final mass is converted to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comes from rearranging atoms to configurations of lower energy (mas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nergy comes from rearranging nuclei to configurations of lower mass (energ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case, we get out the energy dif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ut there are r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can’t simply convert atoms into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rearrange the protons and neutrons in nuclei to get a lower-mass configur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difference between initial mass and final mass is converted to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emical energy comes from rearranging atoms to configurations of lower energy (mass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energy comes from rearranging nuclei to configurations of lower mass (energy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each case, we get out the energy differe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ary Particles (conden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particles play a fundamental role in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make atomic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orbit nuclei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s are emitted by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are also emit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lementary Particles (condens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 particles play a fundamental role in the Su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s and neutrons make atomic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lectrons orbit nuclei of ato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ns are emitted by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are also emit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5.2.3 The Atomic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ways to rearrange nuclei and get energ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s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duces energy by breaking up massive nuclei like Uranium into less massive nuclei like Barium and Kry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-bombs, nuclear re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eeds Uranium 235, Plutonium 2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blem: no Uranium or Plutonium o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duces energy by combining light nuclei like Hydrogen to make more massive nuclei like Hel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-bomb, tokamak, internal confinement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n has lots of Hydroge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.3 The Atomic Nucle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ways to rearrange nuclei and get energy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ss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duces energy by breaking up massive nuclei like Uranium into less massive nuclei like Barium and Krypt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-bombs, nuclear re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eds Uranium 235, Plutonium 23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blem: no Uranium or Plutonium on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duces energy by combining light nuclei like Hydrogen to make more massive nuclei like Heliu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-bomb, tokamak, internal confinement f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n has lots of Hydrogen!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Fusion Wo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cess by which two light nuclei combine to form a single larger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: nuclei are positively char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charges rep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nuclei naturally repel each other and thus cannot fuse spontane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usion, electrical repulsion must be “overc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nuclei are very close the strong nuclear force takes over and holds them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two nuclei get close enoug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Does Fusion Work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process by which two light nuclei combine to form a single larger nucleu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ever: nuclei are positively charge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ike charges repe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nuclei naturally repel each other and thus cannot fuse spontaneous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 fusion, electrical repulsion must be “overcome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n two nuclei are very close the strong nuclear force takes over and holds them toge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do two nuclei get close enough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needs fast moving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nuclei can overcome the repulsion - they get a running st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fast moving nuclei means high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e of the Sun has a temperature of 15 million degrees Kelvin.  (ouch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needs fast moving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ast moving nuclei can overcome the repulsion - they get a running star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ots of fast moving nuclei means high temperat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ore of the Sun has a temperature of 15 million degrees Kelvin.  (ouch!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Power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s the source of energy for hydrogen bom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trying to harness fusion to generate electric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kamak - magnetic confinement machine as envisioned for ITER shown to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rtial confinement fusion - Lawrence Livermore National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R re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Power on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is the source of energy for hydrogen bomb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are trying to harness fusion to generate electricity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kamak - magnetic confinement machine as envisioned for ITER shown to the r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ertial confinement fusion - Lawrence Livermore National La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TER react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Powers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s in the cores of stars are above the approximately 8 million K needed to fuse hydrogen nuclei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ons:  observed power output of the Sun consistent with fusion of hydrogen nucle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: neutrinos from Sun produced by fusion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:  all stars produce energy by nuclear fu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Powers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s in the cores of stars are above the approximately 8 million K needed to fuse hydrogen nuclei toge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ions:  observed power output of the Sun consistent with fusion of hydrogen nuclei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bservation: neutrinos from Sun produced by fusion reac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pothesis:  all stars produce energy by nuclear fus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on-proton ch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se two hydrogen, H (1 proton) to make deuterium, 2H (1 proton, 1 neutron), neutrino and posi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se one deuterium and one hydrogen to make helium-3 3He (1 proton, 2 neutrons), gamma ray (energetic phot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se two helium-3 to make helium 4He plus two hydrogen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-proton chai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two hydrogen, H (1 proton) to make deuterium, 2H (1 proton, 1 neutron), neutrino and posit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one deuterium and one hydrogen to make helium-3 3He (1 proton, 2 neutrons), gamma ray (energetic photon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two helium-3 to make helium 4He plus two hydrogen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 complicated ch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would be simpler if four protons would collide simultaneously to make one helium nucle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r, but less lik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 for four objects to collide simultaneously with high enough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 of this happening are very, very sm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 too slow to power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-proton chain: each step involves collision of two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 of two particles colliding and fusing is much higher, so nature slowly builds up the helium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a complicated chai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would be simpler if four protons would collide simultaneously to make one helium nucleu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impler, but less like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re for four objects to collide simultaneously with high enough energ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nce of this happening are very, very sma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te too slow to power the Su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-proton chain: each step involves collision of two partic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nce of two particles colliding and fusing is much higher, so nature slowly builds up the helium nucleu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appy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only in Sun'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place its hot en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fusion determines Sun's 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and Solar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only in Sun's co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ly place its hot en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fusion determines Sun's struc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and Solar Struct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Core determines Sun's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: balance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pressure from the hot core pushing outward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squeezes the star collapse to the very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 rate is very sensitive to temper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ight increase/decrease in T causes fusion rate to increase/decrease by a large amou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Core determines Sun's S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ce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: balance betwe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rmal pressure from the hot core pushing outwards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squeezes the star collapse to the very cen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 rate is very sensitive to temperatu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slight increase/decrease in T causes fusion rate to increase/decrease by a large amoun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and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's second law: F = 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quilibrium: no acceleration if forces on object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tries to pull 1/4 pounder to center of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table opposes grav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 on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cloud of gas" (like 1/4 pound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cloud to 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gas below opposes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fusion in the hot core increases pressur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utput controls size of su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 from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hot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 from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and Press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ce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wton's second law: F = m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tic equilibrium: no acceleration if forces on object bal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tries to pull 1/4 pounder to center of the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table opposes gravit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 on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"cloud of gas" (like 1/4 pounder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pulls cloud to the cen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gas below opposes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fusion in the hot core increases pressure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nergy output controls size of sun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tab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ou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hot g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Press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: random motion of atoms in a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: amount of force per unit area on piston from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pressure increases with increasing tempera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 and Press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: random motion of atoms in a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: amount of force per unit area on piston from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nerally pressure increases with increasing tempera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Fusion, Gravity and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rate of fusion increases, th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pressure increases causing the star to exp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 expands to a new point where gravity would balance the thermal 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ansion would reduce compression of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n the core would drop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fusion rate would subsequently slow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rmal pressure would then dr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 would shr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would rise again and the nuclear fusion rate would incr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would be re-established between the nuclear reaction rates and the gravity com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alancing Fusion, Gravity and Press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the rate of fusion increases, the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rmal pressure increases causing the star to exp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r expands to a new point where gravity would balance the thermal press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ansion would reduce compression of the co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emperature in the core would drop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uclear fusion rate would subsequently slow dow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hermal pressure would then drop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tar would shri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emperature would rise again and the nuclear fusion rate would increa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bility would be re-established between the nuclear reaction rates and the gravity compres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between pressure, heat from fusion and gravity determines Sun's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stars have cooler cores, small stars have hotter cores – more com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alance between pressure, heat from fusion and gravity determines Sun's s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ig stars have cooler cores, small stars have hotter cores – more compress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is not the only product in the fusion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ther particle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ther Partic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lium is not the only product in the fusion of hydro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other particles produc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it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 Propagation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rons quickly annihilate with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s produced in core of the Sun take about a million years to move to the surfa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 migration because they scatter off the dense gas partic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about only a centimeter between collis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collision, they transfer some of their energy to the gas partic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y reach the photosphere, gamma rays have become visible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amma Ray Propagation in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itrons quickly annihilate with electr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ns produced in core of the Sun take about a million years to move to the surfac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low migration because they scatter off the dense gas particl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ove about only a centimeter between collisi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each collision, they transfer some of their energy to the gas particl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s they reach the photosphere, gamma rays have become visible phot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massless particles with no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ly interact with ordinary mat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travel extremely fa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at the speed of light if small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pass from the core of the Sun to the surface in only two sec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ake less than 8.5 minutes to travel the distance from the Sun to the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arly massless particles with no char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rely interact with ordinary mat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travel extremely fa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lmost at the speed of light if small ma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pass from the core of the Sun to the surface in only two second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y take less than 8.5 minutes to travel the distance from the Sun to the Eart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Cou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inci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neutrino count at Earth as indicator of the Sun’s energ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have a very low probability of interacting with mat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pass through a light year of lead and not be stopped by any of the lead 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Coun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principl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se neutrino count at Earth as indicator of the Sun’s energy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roblem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have a very low probability of interacting with mat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uld pass through a light year of lead and not be stopped by any of the lead atom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the Sun Shi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gives off energy (duh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must come from somewhere - there’s no free lun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rvation of energy is a fundamental tenet of phys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energy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the 20th century only 2 possibilities were know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Does the Sun Shin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gives off energy (duh)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nergy must come from somewhere - there’s no free lunc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nservation of energy is a fundamental tenet of physic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re does the energy come fro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ntil the 20th century only 2 possibilities were know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Abu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A LOT of neutrin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ne second several million billion neutrinos pass through your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feel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o worr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utrinos do not damage anyth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at majority of neutrinos pass right through the entire Earth as if it wasn’t t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Abund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A LOT of neutrino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one second several million billion neutrinos pass through your bod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o you feel the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t to worry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eutrinos do not damage anything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great majority of neutrinos pass right through the entire Earth as if it wasn’t the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cting 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the odds of detecting neutrinos by using a LARGE amount of a material that reacts with neutrinos in a measurable 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lorine isotope changes to a radioactive isotope of argon when hit by a neutri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allium isotope changes to a radioactive isotope of german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can interact with protons and neutrons and produce an electron.  The electron can be det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tecting 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crease the odds of detecting neutrinos by using a LARGE amount of a material that reacts with neutrinos in a measurable wa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chlorine isotope changes to a radioactive isotope of argon when hit by a neutrin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gallium isotope changes to a radioactive isotope of germaniu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can interact with protons and neutrons and produce an electron.  The electron can be det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Det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detectors use hundreds of thousands of liters of these materials in a container buried under many tens of meters of rock to shield the detectors from other energetic particles from space called cosmic ray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e largest detectors detect only a few neutrinos per d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mioka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 Da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in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Dete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detectors use hundreds of thousands of liters of these materials in a container buried under many tens of meters of rock to shield the detectors from other energetic particles from space called cosmic ray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ven the largest detectors detect only a few neutrinos per da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Kamiokan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y Dav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bel Prize in 200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inos produced in the Sun is directly proportional to the number of nuclear reactions taking place in the Sun's co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principle with neutrinos produced via the Carbon-Nitrogen-Oxygen ch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reactions there are, the more neutrinos are produced and the more that should be detected here on the Earth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mber of neutrinos produced in the Sun is directly proportional to the number of nuclear reactions taking place in the Sun's co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ame principle with neutrinos produced via the Carbon-Nitrogen-Oxygen chai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more reactions there are, the more neutrinos are produced and the more that should be detected here on the Earth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ists find that the number of neutrinos coming from the Sun is smaller than exp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experiments detected only 1/3 of the expected number of neutrin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xperiments used hundreds of thousands of liters of cleaning fluid (composed of chlorine compounds) or very pure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 (cont’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ysicists find that the number of neutrinos coming from the Sun is smaller than exp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arly experiments detected only 1/3 of the expected number of neutrino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experiments used hundreds of thousands of liters of cleaning fluid (composed of chlorine compounds) or very pure wa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experiments using many tons of gallium were able to detect the more abundant low-energy neutrin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ose experiments also found the same problem: too few neutrinos (the gallium experiments found about 2/3 the expected number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zzling lack of neutrinos from the Sun is called the solar neutrino probl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 (cont’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ater experiments using many tons of gallium were able to detect the more abundant low-energy neutrino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ever, those experiments also found the same problem: too few neutrinos (the gallium experiments found about 2/3 the expected number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uzzling lack of neutrinos from the Sun is called the solar neutrino proble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Explan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 is not the Sun's power source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supported by observations, not likely to be the correct rea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eriments were not calibrated correctly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reaction rate in the Sun is lower than what our calculations say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but many people have checked and re-checked the physics of the reaction r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constraints in how much one can lower the temperature in the core of the Sun to slow down the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sible Explanation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 is not the Sun's power source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t supported by observations, not likely to be the correct reas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eriments were not calibrated correctly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uclear reaction rate in the Sun is lower than what our calculations say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sible but many people have checked and re-checked the physics of the reaction rat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rong constraints in how much one can lower the temperature in the core of the Sun to slow down the reac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neutrinos ex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only one type, called electron 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eriments detect only electron-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ir way from the Sun, neutrinos can transform from one type to another  we only detect 1/3 of the mix at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so implies that neutrinos have mass, very small, but not ze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Solu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ree types of neutrinos exis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only one type, called electron 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eriments detect only electron-typ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 their way from the Sun, neutrinos can transform from one type to another  we only detect 1/3 of the mix at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also implies that neutrinos have mass, very small, but not zer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Oscil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on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e neutrinos (gre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ecomes one of the types 1, 2, or 3 on its way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3 mix on their way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look at the neutrinos on Earth, some of the original green is now blue or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Oscill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onl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e neutrinos (green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becomes one of the types 1, 2, or 3 on its way to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3 mix on their way to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n we look at the neutrinos on Earth, some of the original green is now blue or yellow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’s Energy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bright is the Sun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4x1026 wat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att is the unit for the rate of energy use, commonly seen on light bulbs and appliances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ur largest power plants produce around 5 x 109 watts of power (5,000 megawatts or 5 gigawatt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n = 8 x 1016 of these power plants (80,000 trillion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nyway you look at it, the Sun gives off a lot of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bright is the Su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4x1026 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t is the unit for the rate of energy use, commonly seen on light bulbs and appliances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largest power plants produce around 5 x 109 watts of power (5,000 megawatts or 5 gigawat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= 8 x 1016 of these power plants (80,000 trilli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way you look at it, the Sun gives off a lot of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Powered by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rrange the atoms in molecules, as in 2H2 + O2  2H2O + energy.  This reaction combines hydrogen and oxygen gas to produce water plus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se the process: 2H2O + energy  2H2 + O2.  By adding energy we can dissociate water into hydrogen and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factor is often left out of chemical reaction formulas, for conven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s the Sun Powered by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are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arrange the atoms in molecules, as in 2H2 + O2  2H2O + energy.  This reaction combines hydrogen and oxygen gas to produce water plus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verse the process: 2H2O + energy  2H2 + O2.  By adding energy we can dissociate water into hydrogen and oxy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nergy factor is often left out of chemical reaction formulas, for convenie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Powered by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un is powered by burning coal or oil, how long could its fuel la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 few thousand ye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cess that uses fuel more efficiently is needed - something that gets more energy out of every kilogram of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s the Sun Powered by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the Sun is powered by burning coal or oil, how long could its fuel las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ly a few thousand year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process that uses fuel more efficiently is needed - something that gets more energy out of every kilogram of materia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Squeez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contraction: falling layers of the Sun's material compress the Sun  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 a book  noise!  Gravitational potential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ction of 40m per day would account for the Sun’s energy out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iciency ~ 1/10000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could power the Sun for about 100 million years  but the Sun is at least 4 billion years ol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can't be the Sun's main 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t did help ignite the Sun when it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Squeez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ational contraction: falling layers of the Sun's material compress the Sun  heat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rop a book  noise!  Gravitational potential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contraction of 40m per day would account for the Sun’s energy outpu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fficiency ~ 1/10000 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could power the Sun for about 100 million years  but the Sun is at least 4 billion years old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can't be the Sun's main energy sour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ut it did help ignite the Sun when it form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 Mass, Energy, and the Special Theory of Rel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the way the Sun produces energy, we need to learn a little about nuclear physics and the special theory of rela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physics deals with the structure of the nuclei of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ial theory of relativity deals with the behavior of things moving at close to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 Mass, Energy, and the Special Theory of Relati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 understand the way the Sun produces energy, we need to learn a little about nuclear physics and the special theory of relativ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physics deals with the structure of the nuclei of atom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pecial theory of relativity deals with the behavior of things moving at close to the speed of l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.1 Converting Mass to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 of the special theory of relativity comes the most famous equation in science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quation tells us that mass (m) is just another form of energy (E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2 is the square of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gram of matter is equivalent to the energy obtained by burning 15,000 barrels of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.1 Converting Mass to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ut of the special theory of relativity comes the most famous equation in science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equation tells us that mass (m) is just another form of energy (E)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2 is the square of the speed of l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 gram of matter is equivalent to the energy obtained by burning 15,000 barrels of oi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F131-83BD-405A-9F1D-DA32D83E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36FD-F86F-40BC-B095-3E4E6F52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A002-6770-4B0D-8200-3858D6E32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2B56-9D35-4A39-9CC1-16882A71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E904C-23C2-46EA-9EDC-36200A84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8ADB7-F23A-4B01-8012-527525DB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C8F6E-E869-43CA-BDA0-B7EC3AD6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A0CC2-8F13-4640-A9DB-8CCBA302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E98F7-505B-47F5-B2A6-2538240F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E7BE2-BDD4-4863-A542-DF294A6C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C468B-B618-4F23-89E0-70B31849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D695-9702-4AB2-A837-B2DD21F1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DDD45-6871-4E40-9886-C1068B4F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AA6C4-957E-4653-BD75-E00D3FBB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181F1-75BA-4CC7-87ED-E27615A1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CB7B5-FC22-4561-9110-CC17B784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604DF-379F-46A0-AB5E-DDC3CF542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F19A-6BFF-44DF-A53C-B8453D4C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63B6-B0C5-40D2-9249-0B3C3380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FB6B-E10B-4EE7-8754-782244C8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B8E9-194D-4138-8E30-7BF4C2E4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F5D2-A896-4E16-9B8B-A836A801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0C77-EF97-4F44-9719-0E3AA292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6152-7BF2-4D6C-A743-D4A195D1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7130-729C-4DD6-9CE8-82C6FD7B72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BFCC-6CEB-42BC-8C13-AB01693FEE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2" descr="eit_19970914_0121_304"/>
          <p:cNvPicPr/>
          <p:nvPr/>
        </p:nvPicPr>
        <p:blipFill>
          <a:blip r:embed="rId1"/>
          <a:srcRect l="0" t="11579" r="0" b="12586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76720" cy="2971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hapter 15:  The Sun:  A Nuclear Powerhous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…</a:t>
            </a: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but there are rule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e can’t simply convert atoms into energy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81160" indent="-2811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e rearrange the protons and neutrons in nuclei to get a lower-mass configuratio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81160" indent="-2811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difference between initial mass and final mass is converted to energy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hemical energy comes from rearranging atoms to configurations of lower energy (mass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energy comes from rearranging nuclei to configurations of lower mass (energy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n each case, we get out the energy differenc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3" descr="Particle_chart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Elementary Particles (condense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29200" y="762120"/>
            <a:ext cx="4114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5 particles play a fundamental role in the Sun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rotons and neutrons make atomic nuclei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lectrons orbit nuclei of atom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hotons are emitted by the Su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s are also emitte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838080"/>
          <a:ext cx="4876920" cy="5326200"/>
        </p:xfrm>
        <a:graphic>
          <a:graphicData uri="http://schemas.openxmlformats.org/drawingml/2006/table">
            <a:tbl>
              <a:tblPr/>
              <a:tblGrid>
                <a:gridCol w="1625760"/>
                <a:gridCol w="1763640"/>
                <a:gridCol w="1487520"/>
              </a:tblGrid>
              <a:tr h="154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article n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Mass (MeV/c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Chalkboard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Charge (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r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938.2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+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Neu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939.5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.5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Neutri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&lt;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Chalkboard"/>
                        </a:rPr>
                        <a:t>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h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.3 The Atomic Nucleu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wo ways to rearrange nuclei and get energy: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Fission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energy b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breaking u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assive nuclei like Uranium into less massive nuclei like Barium and Kryp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-bombs, nuclear reac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eds Uranium 235, Plutonium 23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roblem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o Uranium or Plutonium on the Su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Fus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energy b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ombining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ght nuclei like Hydrogen to make more massive nuclei like Heliu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-bomb, tokamak, internal confinement fu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n has lots of Hydrogen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How Does Fusion Work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fusion: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process by which two light nuclei combine to form a single larger nucleus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owever: nuclei are positively charged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Like charges rep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wo nuclei naturally repel each other and thus cannot fuse spontaneously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r fusion, electrical repulsion must be “overcome”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en two nuclei are very close the </a:t>
            </a:r>
            <a:r>
              <a:rPr b="1" i="1" lang="en-US" sz="2800" spc="-1" strike="noStrike">
                <a:solidFill>
                  <a:srgbClr val="ffffff"/>
                </a:solidFill>
                <a:latin typeface="Chalkboard"/>
              </a:rPr>
              <a:t>strong nuclear forc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takes over and holds them together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ow do two nuclei get close enough?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Chalkboard"/>
              </a:rPr>
              <a:t>Fusion needs </a:t>
            </a:r>
            <a:r>
              <a:rPr b="0" lang="en-US" sz="4000" spc="-1" strike="noStrike">
                <a:solidFill>
                  <a:srgbClr val="ffff66"/>
                </a:solidFill>
                <a:latin typeface="Chalkboard"/>
              </a:rPr>
              <a:t>fast</a:t>
            </a:r>
            <a:r>
              <a:rPr b="0" lang="en-US" sz="3600" spc="-1" strike="noStrike">
                <a:solidFill>
                  <a:srgbClr val="ffff66"/>
                </a:solidFill>
                <a:latin typeface="Chalkboard"/>
              </a:rPr>
              <a:t> moving nuclei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76680" y="609480"/>
            <a:ext cx="44960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ast moving nuclei can overcome the repulsion - they get a running start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Lots of fast moving nuclei means high temperatur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core of the Sun has a temperature of 15 million degrees Kelvin.  (ouch!)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153" name="Group 4"/>
          <p:cNvGrpSpPr/>
          <p:nvPr/>
        </p:nvGrpSpPr>
        <p:grpSpPr>
          <a:xfrm>
            <a:off x="4419720" y="1224000"/>
            <a:ext cx="4724280" cy="2319480"/>
            <a:chOff x="4419720" y="1224000"/>
            <a:chExt cx="4724280" cy="2319480"/>
          </a:xfrm>
        </p:grpSpPr>
        <p:pic>
          <p:nvPicPr>
            <p:cNvPr id="154" name="Picture 5" descr="fuscond-anim1"/>
            <p:cNvPicPr/>
            <p:nvPr/>
          </p:nvPicPr>
          <p:blipFill>
            <a:blip r:embed="rId4"/>
            <a:stretch/>
          </p:blipFill>
          <p:spPr>
            <a:xfrm>
              <a:off x="4419720" y="1224000"/>
              <a:ext cx="4724280" cy="23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6"/>
            <p:cNvSpPr/>
            <p:nvPr/>
          </p:nvSpPr>
          <p:spPr>
            <a:xfrm>
              <a:off x="4488840" y="1292760"/>
              <a:ext cx="2076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ahoma"/>
                </a:rPr>
                <a:t>Low spee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6" name="Group 7"/>
          <p:cNvGrpSpPr/>
          <p:nvPr/>
        </p:nvGrpSpPr>
        <p:grpSpPr>
          <a:xfrm>
            <a:off x="4419720" y="3943440"/>
            <a:ext cx="4705200" cy="2305080"/>
            <a:chOff x="4419720" y="3943440"/>
            <a:chExt cx="4705200" cy="2305080"/>
          </a:xfrm>
        </p:grpSpPr>
        <p:pic>
          <p:nvPicPr>
            <p:cNvPr id="157" name="Picture 8" descr="fuscond-anim2"/>
            <p:cNvPicPr/>
            <p:nvPr/>
          </p:nvPicPr>
          <p:blipFill>
            <a:blip r:embed="rId5"/>
            <a:stretch/>
          </p:blipFill>
          <p:spPr>
            <a:xfrm>
              <a:off x="4419720" y="3943440"/>
              <a:ext cx="470520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9"/>
            <p:cNvSpPr/>
            <p:nvPr/>
          </p:nvSpPr>
          <p:spPr>
            <a:xfrm>
              <a:off x="4439880" y="4003920"/>
              <a:ext cx="2071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ahoma"/>
                </a:rPr>
                <a:t>High spee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Fusion Power on Earth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is the source of energy for hydrogen bomb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e are trying to harness fusion to generate electricity: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okamak - magnetic confinement machine as envisioned for ITER shown to the righ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nertial confinement fusion - Lawrence Livermore National Lab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63" name="Picture 5" descr="iter8-high"/>
          <p:cNvPicPr/>
          <p:nvPr/>
        </p:nvPicPr>
        <p:blipFill>
          <a:blip r:embed="rId5"/>
          <a:stretch/>
        </p:blipFill>
        <p:spPr>
          <a:xfrm>
            <a:off x="4648320" y="9907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5992560" y="5638680"/>
            <a:ext cx="22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ITER rea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Fusion Powers the Su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mperatures in the cores of stars are above the approximately 8 million K needed to fuse hydrogen nuclei together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alculations:  observed power output of the Sun consistent with fusion of hydrogen nuclei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bservation: neutrinos from Sun produced by fusion reacti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ypothesis:  all stars produce energy by nuclear fusio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proton-proton chain 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72" name="Picture 5" descr="fusion-anim"/>
          <p:cNvPicPr/>
          <p:nvPr/>
        </p:nvPicPr>
        <p:blipFill>
          <a:blip r:embed="rId1"/>
          <a:stretch/>
        </p:blipFill>
        <p:spPr>
          <a:xfrm>
            <a:off x="0" y="914400"/>
            <a:ext cx="5153040" cy="364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3" name="Object 6"/>
              <p:cNvSpPr txBox="1"/>
              <p:nvPr/>
            </p:nvSpPr>
            <p:spPr>
              <a:xfrm>
                <a:off x="457200" y="4876920"/>
                <a:ext cx="24354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7"/>
              <p:cNvSpPr txBox="1"/>
              <p:nvPr/>
            </p:nvSpPr>
            <p:spPr>
              <a:xfrm>
                <a:off x="2752560" y="5691240"/>
                <a:ext cx="2097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8"/>
              <p:cNvSpPr txBox="1"/>
              <p:nvPr/>
            </p:nvSpPr>
            <p:spPr>
              <a:xfrm>
                <a:off x="5638680" y="5943600"/>
                <a:ext cx="286884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76" name="AutoShape 9"/>
          <p:cNvCxnSpPr/>
          <p:nvPr/>
        </p:nvCxnSpPr>
        <p:spPr>
          <a:xfrm>
            <a:off x="1866600" y="5219640"/>
            <a:ext cx="1028880" cy="689760"/>
          </a:xfrm>
          <a:prstGeom prst="curvedConnector5">
            <a:avLst>
              <a:gd name="adj1" fmla="val 49982"/>
              <a:gd name="adj2" fmla="val 49973"/>
              <a:gd name="adj3" fmla="val 49982"/>
            </a:avLst>
          </a:prstGeom>
          <a:ln w="41400">
            <a:solidFill>
              <a:srgbClr val="ffcc00"/>
            </a:solidFill>
            <a:miter/>
            <a:tailEnd len="lg" type="stealth" w="lg"/>
          </a:ln>
        </p:spPr>
      </p:cxnSp>
      <p:cxnSp>
        <p:nvCxnSpPr>
          <p:cNvPr id="177" name="AutoShape 10"/>
          <p:cNvCxnSpPr/>
          <p:nvPr/>
        </p:nvCxnSpPr>
        <p:spPr>
          <a:xfrm>
            <a:off x="4647960" y="5715000"/>
            <a:ext cx="997560" cy="59760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41400">
            <a:solidFill>
              <a:srgbClr val="ffcc00"/>
            </a:solidFill>
            <a:miter/>
            <a:tailEnd len="lg" type="stealth" w="lg"/>
          </a:ln>
        </p:spPr>
      </p:cxnSp>
      <p:sp>
        <p:nvSpPr>
          <p:cNvPr id="178" name="Text Box 11"/>
          <p:cNvSpPr/>
          <p:nvPr/>
        </p:nvSpPr>
        <p:spPr>
          <a:xfrm>
            <a:off x="5181480" y="0"/>
            <a:ext cx="3962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two hydrogen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1 proton) to make deuterium,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 proton, 1 neutron), neutrino and positr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one deuterium and one hydrogen to make helium-3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 proton, 2 neutrons),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gamma ray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energetic photon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two helium-3 to make helium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lus two hydrogen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Why a complicated chain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would be simpler if four protons would collide simultaneously to make one helium nucleus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mpler, but less </a:t>
            </a:r>
            <a:r>
              <a:rPr b="0" lang="en-US" sz="2800" spc="-1" strike="noStrike">
                <a:solidFill>
                  <a:srgbClr val="ffcc00"/>
                </a:solidFill>
                <a:latin typeface="Chalkboard"/>
              </a:rPr>
              <a:t>likel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are for four objects to collide simultaneously with high enough energy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hance of this happening are very, very smal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ate too slow to power the Sun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roton-proton chain: each step involves collision of two particle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hance of two particles colliding and fusing is much higher, so nature slowly builds up the helium nucleus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Happy Su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97" name="Picture 1028" descr=""/>
          <p:cNvPicPr/>
          <p:nvPr/>
        </p:nvPicPr>
        <p:blipFill>
          <a:blip r:embed="rId1"/>
          <a:stretch/>
        </p:blipFill>
        <p:spPr>
          <a:xfrm>
            <a:off x="1866960" y="762120"/>
            <a:ext cx="5410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477120" y="1066680"/>
            <a:ext cx="2666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only in Sun's cor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nly place its hot enough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eat from fusion determines Sun's structure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Fusion and Solar Structur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87" name="Picture 1033" descr=""/>
          <p:cNvPicPr/>
          <p:nvPr/>
        </p:nvPicPr>
        <p:blipFill>
          <a:blip r:embed="rId4"/>
          <a:srcRect l="4468" t="1933" r="3215" b="1803"/>
          <a:stretch/>
        </p:blipFill>
        <p:spPr>
          <a:xfrm>
            <a:off x="0" y="1066680"/>
            <a:ext cx="662940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Heat from Core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determines Sun's Size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ce equilibrium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ydrostatic equilibrium: balance between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mal pressure from the hot core pushing outwards 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avity squeezes the star collapse to the very center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clear fusion rate is very sensitive to temperatur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slight increase/decrease in T causes fusion rate to increase/decrease by a large amount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6019920" y="4038480"/>
            <a:ext cx="3124080" cy="2438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Gravity and Pressure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6019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force equilibrium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ewton's second law: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 = m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tic equilibrium: no acceleration if forces on object balanc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vity tries to pull 1/4 pounder to center of the Earth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sure from table opposes gravity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hydrostatic equilibrium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n Sun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"cloud of gas" (like 1/4 pounder)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vity pulls cloud to the center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sure from gas below opposes gravity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heat from fusion in the hot core increases pressure 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energy output controls size of sun!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197" name="Group 10"/>
          <p:cNvGrpSpPr/>
          <p:nvPr/>
        </p:nvGrpSpPr>
        <p:grpSpPr>
          <a:xfrm>
            <a:off x="6172200" y="1219320"/>
            <a:ext cx="2895480" cy="1828800"/>
            <a:chOff x="6172200" y="1219320"/>
            <a:chExt cx="2895480" cy="1828800"/>
          </a:xfrm>
        </p:grpSpPr>
        <p:pic>
          <p:nvPicPr>
            <p:cNvPr id="198" name="Picture 5" descr="qtrcheeseLG"/>
            <p:cNvPicPr/>
            <p:nvPr/>
          </p:nvPicPr>
          <p:blipFill>
            <a:blip r:embed="rId12"/>
            <a:srcRect l="13782" t="26442" r="14664" b="26002"/>
            <a:stretch/>
          </p:blipFill>
          <p:spPr>
            <a:xfrm>
              <a:off x="6933960" y="1219320"/>
              <a:ext cx="1371600" cy="91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9" name="Group 9"/>
            <p:cNvGrpSpPr/>
            <p:nvPr/>
          </p:nvGrpSpPr>
          <p:grpSpPr>
            <a:xfrm>
              <a:off x="6172200" y="2133720"/>
              <a:ext cx="2895480" cy="914400"/>
              <a:chOff x="6172200" y="2133720"/>
              <a:chExt cx="2895480" cy="914400"/>
            </a:xfrm>
          </p:grpSpPr>
          <p:sp>
            <p:nvSpPr>
              <p:cNvPr id="200" name="Rectangle 6"/>
              <p:cNvSpPr/>
              <p:nvPr/>
            </p:nvSpPr>
            <p:spPr>
              <a:xfrm>
                <a:off x="6172200" y="2133720"/>
                <a:ext cx="2895480" cy="1522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Rectangle 7"/>
              <p:cNvSpPr/>
              <p:nvPr/>
            </p:nvSpPr>
            <p:spPr>
              <a:xfrm>
                <a:off x="6324480" y="2210040"/>
                <a:ext cx="228600" cy="8380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Rectangle 8"/>
              <p:cNvSpPr/>
              <p:nvPr/>
            </p:nvSpPr>
            <p:spPr>
              <a:xfrm>
                <a:off x="8686800" y="2210040"/>
                <a:ext cx="228600" cy="8380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03" name="Line 14"/>
          <p:cNvSpPr/>
          <p:nvPr/>
        </p:nvSpPr>
        <p:spPr>
          <a:xfrm flipV="1">
            <a:off x="7620120" y="53352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7772400" y="152280"/>
            <a:ext cx="108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essure from 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7718400" y="2666880"/>
            <a:ext cx="112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AutoShape 18"/>
          <p:cNvSpPr/>
          <p:nvPr/>
        </p:nvSpPr>
        <p:spPr>
          <a:xfrm>
            <a:off x="6629400" y="4876920"/>
            <a:ext cx="2133720" cy="685800"/>
          </a:xfrm>
          <a:prstGeom prst="cloudCallout">
            <a:avLst>
              <a:gd name="adj1" fmla="val -26115"/>
              <a:gd name="adj2" fmla="val 45601"/>
            </a:avLst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lou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Line 20"/>
          <p:cNvSpPr/>
          <p:nvPr/>
        </p:nvSpPr>
        <p:spPr>
          <a:xfrm>
            <a:off x="7620120" y="20574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Line 22"/>
          <p:cNvSpPr/>
          <p:nvPr/>
        </p:nvSpPr>
        <p:spPr>
          <a:xfrm flipV="1">
            <a:off x="7620120" y="41148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Line 23"/>
          <p:cNvSpPr/>
          <p:nvPr/>
        </p:nvSpPr>
        <p:spPr>
          <a:xfrm>
            <a:off x="7620120" y="54864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Text Box 24"/>
          <p:cNvSpPr/>
          <p:nvPr/>
        </p:nvSpPr>
        <p:spPr>
          <a:xfrm>
            <a:off x="7848720" y="3962520"/>
            <a:ext cx="108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pressure from hot ga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Text Box 25"/>
          <p:cNvSpPr/>
          <p:nvPr/>
        </p:nvSpPr>
        <p:spPr>
          <a:xfrm>
            <a:off x="7870680" y="5562720"/>
            <a:ext cx="112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Temperature and Pressure 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15" name="Picture 1029" descr="idealgas-anim"/>
          <p:cNvPicPr/>
          <p:nvPr/>
        </p:nvPicPr>
        <p:blipFill>
          <a:blip r:embed="rId1"/>
          <a:stretch/>
        </p:blipFill>
        <p:spPr>
          <a:xfrm>
            <a:off x="4952880" y="1295280"/>
            <a:ext cx="4141800" cy="47246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mperature: random motion of atoms in a ga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ressure: amount of force per unit area on piston from ga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601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generally pressure increases with increasing temperature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Balancing Fusion, Gravity and Pressur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f the rate of fusion increases, then: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rmal pressure increases causing the star to expand.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r expands to a new point where gravity would balance the thermal pressure.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expansion would reduce compression of the cor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emperature in the core would drop 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nuclear fusion rate would subsequently slow down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hermal pressure would then drop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tar would shrink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emperature would rise again and the nuclear fusion rate would increas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bility would be re-established between the nuclear reaction rates and the gravity compression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Hydrostatic Equilibrium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24" name="Picture 1029" descr="hydroeql-strong"/>
          <p:cNvPicPr/>
          <p:nvPr/>
        </p:nvPicPr>
        <p:blipFill>
          <a:blip r:embed="rId1"/>
          <a:stretch/>
        </p:blipFill>
        <p:spPr>
          <a:xfrm>
            <a:off x="5562720" y="99072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30" descr="hydroeql-weak"/>
          <p:cNvPicPr/>
          <p:nvPr/>
        </p:nvPicPr>
        <p:blipFill>
          <a:blip r:embed="rId2"/>
          <a:stretch/>
        </p:blipFill>
        <p:spPr>
          <a:xfrm>
            <a:off x="0" y="685800"/>
            <a:ext cx="4343400" cy="4302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50288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alance between pressure, heat from fusion and gravity determines Sun's siz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ig stars have cooler cores, small stars have hotter cores – more compresse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Other Particles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lium is not the only product in the fusion of hydroge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wo other particles produced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ositr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Neutrino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31" name="Picture 21" descr="neutrino-maker"/>
          <p:cNvPicPr/>
          <p:nvPr/>
        </p:nvPicPr>
        <p:blipFill>
          <a:blip r:embed="rId5"/>
          <a:stretch/>
        </p:blipFill>
        <p:spPr>
          <a:xfrm>
            <a:off x="3990960" y="2743200"/>
            <a:ext cx="515304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halkboard"/>
              </a:rPr>
              <a:t>Gamma Ray Propagation in the Sun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ositrons quick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annihilate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with electr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hotons produced in core of the Sun take about a million years to move to the surfac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low migration because they scatter off the dense gas particles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move about only a centimeter between collisions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n each collision, they transfer some of their energy to the gas particles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s they reach the photosphere, gamma rays have become visible phot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arly massless particles with no charge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rely interact with ordinary mat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utrinos travel extremely fast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most at the speed of light if small mas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utrinos pass from the core of the Sun to the surface in on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two second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 take less than 8.5 minutes to travel the distance from the Sun to the Earth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Counting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SzPct val="1096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n principle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Use neutrino count at Earth as indicator of the Sun’s energy outpu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901"/>
              </a:spcBef>
              <a:buSzPct val="1096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problem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eutrinos have a very low probability of interacting with mat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ould pass through a light year of lead and not be stopped by any of the lead atoms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Why Does the Sun Shine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un gives off energy (duh)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energy must come from somewhere - there’s no free lunch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onservation of energy is a fundamental tenet of physic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ere does the energy come from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Until the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halkboard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century only 2 possibilities were known: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hemical reaction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Abundanc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SzPct val="1096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Sun produces A LOT of neutrinos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901"/>
              </a:spcBef>
              <a:buSzPct val="1096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Chalkboard"/>
              </a:rPr>
              <a:t>In one second several m</a:t>
            </a:r>
            <a:r>
              <a:rPr b="0" i="1" lang="en-US" sz="3600" spc="-1" strike="noStrike">
                <a:solidFill>
                  <a:srgbClr val="66ff33"/>
                </a:solidFill>
                <a:latin typeface="Chalkboard"/>
              </a:rPr>
              <a:t>illion billion</a:t>
            </a:r>
            <a:r>
              <a:rPr b="0" lang="en-US" sz="3600" spc="-1" strike="noStrike">
                <a:solidFill>
                  <a:srgbClr val="66ff33"/>
                </a:solidFill>
                <a:latin typeface="Chalkboard"/>
              </a:rPr>
              <a:t> neutrinos pass through your body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Do you feel them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t to worry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097280" indent="-219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eutrinos do not damage anythin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reat majority of neutrinos pass right through the entire Earth as if it wasn’t the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Detecting Neutrino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ncrease the odds of detecting neutrinos by using a </a:t>
            </a:r>
            <a:r>
              <a:rPr b="1" lang="en-US" sz="3200" spc="-1" strike="noStrike">
                <a:solidFill>
                  <a:srgbClr val="ffffff"/>
                </a:solidFill>
                <a:latin typeface="Chalkboard"/>
              </a:rPr>
              <a:t>LARGE amount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of a material that reacts with neutrinos in a measurable way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chlorine isotope changes to a radioactive isotope of argon when hit by a neutrino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gallium isotope changes to a radioactive isotope of germanium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s can interact with protons and neutrons and produce an electron.  The electron can be detected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28172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Detector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5791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 detectors use hundreds of thousands of liters of these materials in a container buried under many tens of meters of rock to shield the detectors from other energetic particles from space called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cosmic rays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ven the largest detectors detect only a few neutrinos per day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6400800" y="0"/>
            <a:ext cx="2743200" cy="2722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"/>
          <p:cNvPicPr/>
          <p:nvPr/>
        </p:nvPicPr>
        <p:blipFill>
          <a:blip r:embed="rId4"/>
          <a:stretch/>
        </p:blipFill>
        <p:spPr>
          <a:xfrm>
            <a:off x="5888160" y="3886200"/>
            <a:ext cx="3255840" cy="22510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7"/>
          <p:cNvSpPr/>
          <p:nvPr/>
        </p:nvSpPr>
        <p:spPr>
          <a:xfrm>
            <a:off x="3889800" y="563868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Kamiokan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4779360" y="68580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Ray Dav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6017760" y="297180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Nobel Prize in 200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Solar Neutrino Productio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mber of neutrinos produced in the Sun is directly proportional to the number of nuclear reactions taking place in the Sun's cor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me principle with neutrinos produced via the Carbon-Nitrogen-Oxygen chai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ore reactions there are, the more neutrinos are produced and the more that should be detected here on the Earth. 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Solar Neutrino Production (cont’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hysicists find that the number of neutrinos coming from the Sun is </a:t>
            </a:r>
            <a:r>
              <a:rPr b="0" i="1" lang="en-US" sz="3200" spc="-1" strike="noStrike">
                <a:solidFill>
                  <a:srgbClr val="ffffff"/>
                </a:solidFill>
                <a:latin typeface="Chalkboard"/>
              </a:rPr>
              <a:t>smaller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than expected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Early experiments detected only 1/3 of the expected number of neutrinos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se experiments used hundreds of thousands of liters of cleaning fluid (composed of chlorine compounds) or very pure wa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Solar Neutrino Production (cont’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Later experiments using many tons of gallium were able to detect the more abundant low-energy neutrinos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25800" indent="-32580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owever, those experiments also found the same problem: too few neutrinos (the gallium experiments found about 2/3 the expected number)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25800" indent="-32580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puzzling lack of neutrinos from the Sun is called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solar neutrino problem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Possible Explanations: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fusion is not the Sun's power source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Not supported by observations, not likely to be the correct reason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experiments were not calibrated correctly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nuclear reaction rate in the Sun is lower than what our calculations say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ossible but many people have checked and re-checked the physics of the reaction rates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trong constraints in how much one can lower the temperature in the core of the Sun to slow down the reactions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Solar Neutrino Solutio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ree types of neutrinos exis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un produces only one type, called electron neutrino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experiments detect only electron-type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n their way from the Sun, neutrinos can transform from one type to anothe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we only detect 1/3 of the mix at Earth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s also implies that neutrinos have mass, very small, but not zero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Neutrino Oscillation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1"/>
          <a:stretch/>
        </p:blipFill>
        <p:spPr>
          <a:xfrm>
            <a:off x="0" y="762120"/>
            <a:ext cx="4495680" cy="54100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95680" y="76176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Sun produces onl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neutrinos (green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s becomes one of the typ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, or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on its way to Earth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se 3 mix on their way to Earth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en we look at the neutrinos on Earth, some of the original green is now blue or yellow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The Sun’s Energy Outpu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bright is the Sun?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un produces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4x10</a:t>
            </a:r>
            <a:r>
              <a:rPr b="0" lang="en-US" sz="2400" spc="-1" strike="noStrike" baseline="30000">
                <a:solidFill>
                  <a:srgbClr val="ffcc00"/>
                </a:solidFill>
                <a:latin typeface="Verdana"/>
              </a:rPr>
              <a:t>26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 watt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att is the unit for the rate of energy use, commonly seen on light bulbs and appliances.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ur largest power plants produce around 5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watts of power (5,000 megawatts or 5 gigawatts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n = 8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f these power plants (80,000 trillion)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yway you look at it, the Sun gives off a lot of energy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06" name="Picture 5" descr="FMNV03P14_14"/>
          <p:cNvPicPr/>
          <p:nvPr/>
        </p:nvPicPr>
        <p:blipFill>
          <a:blip r:embed="rId6"/>
          <a:stretch/>
        </p:blipFill>
        <p:spPr>
          <a:xfrm>
            <a:off x="6324480" y="685800"/>
            <a:ext cx="2590920" cy="1746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7"/>
          <a:stretch/>
        </p:blipFill>
        <p:spPr>
          <a:xfrm>
            <a:off x="6040440" y="2438280"/>
            <a:ext cx="31035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Is the Sun Powered by Chemical Reactions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at are chemical reactions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arrange the atoms in molecules, as in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+ energy.  This reaction combines hydrogen and oxygen gas to produce water plu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energy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verse the process: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+ energy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  By adding energy we can dissociate water into hydrogen and oxygen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energy factor is often left out of chemical reaction formulas, for convenienc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Is the Sun Powered by Chemical Reactions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f the Sun is powered by burning coal or oil, how long could its fuel last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nly a few thousand years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 process that uses fuel more efficiently is needed - something that gets more energy out of every kilogram of material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Gravity Squeeze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ational contraction: falling layers of the Sun's material compress the Su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heat energ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drop a book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noise!  Gravitational potential energy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contraction of 40m per day would account for the Sun’s energy output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Efficiency ~ 1/10000 %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 could power the Sun for about 100 million year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but the Sun is at least 4 billion years old!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spcBef>
                <a:spcPts val="700"/>
              </a:spcBef>
              <a:buSzPct val="14097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 can't be the Sun's main energy sourc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ut it did help </a:t>
            </a:r>
            <a:r>
              <a:rPr b="0" lang="en-US" sz="2400" spc="-1" strike="noStrike">
                <a:solidFill>
                  <a:srgbClr val="ffcc00"/>
                </a:solidFill>
                <a:latin typeface="Chalkboard"/>
              </a:rPr>
              <a:t>ignite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the Sun when it forme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 Mass, Energy, and the Special Theory of Relativity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o understand the way the Sun produces energy, we need to learn a little abou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nuclear physics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an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special theory of relativity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uclear physics deals with the structure of the nuclei of atom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pecial theory of relativity deals with the behavior of things moving at close to the speed of ligh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.1 Converting Mass to Energy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ut of the special theory of relativity comes the most famous equation in science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s equation tells us that mass (m) is just another form of energy (E)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is the square of the speed of ligh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1 gram of matter is equivalent to the energy obtained by burning 15,000 barrels of oil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28" name="Picture 6" descr="final"/>
          <p:cNvPicPr/>
          <p:nvPr/>
        </p:nvPicPr>
        <p:blipFill>
          <a:blip r:embed="rId5"/>
          <a:stretch/>
        </p:blipFill>
        <p:spPr>
          <a:xfrm>
            <a:off x="3429000" y="1981080"/>
            <a:ext cx="214632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16:15:49Z</dcterms:created>
  <dc:creator>Sean Gavin</dc:creator>
  <dc:description/>
  <dc:language>en-US</dc:language>
  <cp:lastModifiedBy>LEGION</cp:lastModifiedBy>
  <cp:lastPrinted>2003-10-27T22:25:26Z</cp:lastPrinted>
  <dcterms:modified xsi:type="dcterms:W3CDTF">2018-03-22T10:54:21Z</dcterms:modified>
  <cp:revision>111</cp:revision>
  <dc:subject/>
  <dc:title>PowerPoint Presentation  -  The Sun as a Power House</dc:title>
</cp:coreProperties>
</file>