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0ACC-0EB0-4EC9-BAF6-194529A23AB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63E-2F3D-4225-82F7-654B615D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33C-833D-4356-A397-F0EA1631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7857-7A4D-4E6F-8D48-6C2D2FDC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B19-7028-48EF-B973-3AA927F0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A64-3380-40B1-B4A6-6E482232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7ED-F4E2-4746-B537-5D4CB9B0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6B3-09BD-4485-A496-09C7F971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541-8E97-4210-BB25-C69A271E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52E-A1B9-445F-A14B-B299CC7D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517-D15B-4997-9109-4D87850B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1C2-6040-423D-9E8E-1A772C44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C0D-4F80-44F2-B2C2-4ABA6183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9466-CF2B-41B2-A862-EC77599E6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2819520" y="6170760"/>
            <a:ext cx="567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rst Quar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1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ird (Last) Quar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1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ul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3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Real 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00240" y="2133720"/>
            <a:ext cx="3505320" cy="358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ully l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you see the “Man in the Moon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906120" y="6248520"/>
            <a:ext cx="523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3" descr="_x000c_fullmoon.jpg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092320"/>
            <a:ext cx="3809880" cy="389088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ew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 light visi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3:25:09Z</dcterms:created>
  <dc:creator>john smith</dc:creator>
  <dc:description/>
  <dc:language>en-US</dc:language>
  <cp:lastModifiedBy>LEGION</cp:lastModifiedBy>
  <dcterms:modified xsi:type="dcterms:W3CDTF">2018-03-22T11:00:37Z</dcterms:modified>
  <cp:revision>35</cp:revision>
  <dc:subject/>
  <dc:title>What Moon Phase Is This?</dc:title>
</cp:coreProperties>
</file>