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C8A0-FA8F-496C-84B2-0FA88241908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(Last) Qu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l 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l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the “Man in the Moon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Copyright 2007.  M. J. Krech. All rights reser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Cr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ight 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Gibb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half l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on Pha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E2E-00EE-4A46-BA54-30C28110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BC6-1EAC-427B-B6FE-41E977E4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CA7-31C5-4DBE-BF41-EC50A95B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0D8-E4F9-4CE5-BE4C-D529D2E5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6FA-A7C8-4F94-9D7F-06A97E1C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683-DE5E-4C84-9859-12ACC0C8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137-C9B8-4CE9-B534-3EF1D72D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01D-7381-47B4-9DAD-13869144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21B-F7A8-4266-826B-67BE73E9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8DC7-1726-4400-9913-29E96743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174-A2EB-4F30-915F-DC435356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6C8-F20E-48C8-85B7-B727C26F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F9EB-07D8-49FF-8C94-04FA70D56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2819520" y="6170760"/>
            <a:ext cx="567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rst Quar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1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_x000b_wan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ird (Last) Qu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0" descr="_x000b_lastqtr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1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ul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_x0008_full.gif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Real Full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00240" y="2133720"/>
            <a:ext cx="3505320" cy="358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ully l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you see the “Man in the Moon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906120" y="6248520"/>
            <a:ext cx="523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© Copyright 2007.  M. J. Krech. All rights reserv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3" descr="_x000c_fullmoon.jpg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092320"/>
            <a:ext cx="3809880" cy="389088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Cres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ss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_x000b_waxcres.gif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n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l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&#10;wan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ew Mo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 light visi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" descr="_x0007_new.gif   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axing Gibbo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3504960" cy="373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igh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r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re than half l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9" descr="&#10;waxgib.gif  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Moon Phas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05160" y="2209680"/>
            <a:ext cx="327636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K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" descr="_x000c_firstqtr.gif                                                   0008DEA4_x000c_Macintosh HD                   BEE366AB:"/>
          <p:cNvPicPr/>
          <p:nvPr/>
        </p:nvPicPr>
        <p:blipFill>
          <a:blip r:embed="rId1"/>
          <a:stretch/>
        </p:blipFill>
        <p:spPr>
          <a:xfrm>
            <a:off x="685800" y="2127240"/>
            <a:ext cx="3809880" cy="382104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3:25:09Z</dcterms:created>
  <dc:creator>john smith</dc:creator>
  <dc:description/>
  <dc:language>en-US</dc:language>
  <cp:lastModifiedBy>LEGION</cp:lastModifiedBy>
  <dcterms:modified xsi:type="dcterms:W3CDTF">2018-03-22T11:00:37Z</dcterms:modified>
  <cp:revision>35</cp:revision>
  <dc:subject/>
  <dc:title>What Moon Phase Is This?</dc:title>
</cp:coreProperties>
</file>