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1817-B887-443B-8784-A736F71EFC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c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Qu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Cr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(Last) Qu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y l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see the “Man in the Moon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l 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l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the “Man in the Moon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Cr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Gibb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ght vi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ight 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Gibb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AEA3-A14D-4B0F-9A06-C237FBD0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E3D-FAF5-45E2-9B3C-140E273B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48D-34D9-4C8E-B9EE-90E702DA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F30-60F3-4081-9553-A25C699B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D29-1004-4C70-A8BD-EC60E73D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167D-3542-47F7-BC01-55A6E6B5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778-8915-4DBE-801E-8E43B961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86FC-475E-45C4-9BE2-3FC8786A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66E0-170C-431F-8430-6E3A2BCF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CCA-184E-4B75-9099-81E259E9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9AF-284E-4CCE-B505-668F9653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0E1-DFB3-4599-8271-38E01022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BE2B-3FE3-403E-B663-15ED6BC5C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_x000b_wax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2819520" y="6170760"/>
            <a:ext cx="567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© Copyright 2007.  M. J. Krech. All rights reserv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irst Quar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_x000c_firstqtr.gif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1" descr="_x000b_wan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ning Cres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l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" descr="_x000b_wan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8" descr="_x000b_lastqtr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ird (Last) Quar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" descr="_x000b_lastqtr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1" descr="_x0008_full.gif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ull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ul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3" descr="_x0008_full.gif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e Real Full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00240" y="2133720"/>
            <a:ext cx="3505320" cy="358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ully l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you see the “Man in the Moon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906120" y="6248520"/>
            <a:ext cx="523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© Copyright 2007.  M. J. Krech. All rights reserv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3" descr="_x000c_fullmoon.jpg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092320"/>
            <a:ext cx="3809880" cy="389088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xing Cres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_x000b_wax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" descr="&#10;wan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ning Gibb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l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e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9" descr="&#10;wan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" descr="_x0007_new.gif 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New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 light visi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0" descr="_x0007_new.gif 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&#10;wax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xing Gibb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e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9" descr="&#10;wax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" descr="_x000c_firstqtr.gif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3:25:09Z</dcterms:created>
  <dc:creator>john smith</dc:creator>
  <dc:description/>
  <dc:language>en-US</dc:language>
  <cp:lastModifiedBy>LEGION</cp:lastModifiedBy>
  <dcterms:modified xsi:type="dcterms:W3CDTF">2018-03-22T11:00:37Z</dcterms:modified>
  <cp:revision>35</cp:revision>
  <dc:subject/>
  <dc:title>What Moon Phase Is This?</dc:title>
</cp:coreProperties>
</file>