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C51-007A-4031-A578-13C4158A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299-F56E-4AFB-9C40-C181CBF6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CB5-50B9-4FEE-9101-6011556B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E56-A0E6-4490-89C9-5F19209E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67B-C289-4CC6-834C-67B00F21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D55-CD94-4B91-B080-293F5CEB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1D4-2414-4CE5-AAA4-5F01CD34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5D3-6992-4373-8A79-CED6A6C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AAD-E7D4-4AE7-B1CE-5FEB942C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D86-2AB5-4C8B-8074-E3E467AC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6DD-58AB-4579-B0E5-23808B8F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D27-A9BA-453D-9FA3-E6841EDC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1F9F-20AB-40F0-B17A-6B34109D3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sus</cp:lastModifiedBy>
  <dcterms:modified xsi:type="dcterms:W3CDTF">2018-03-09T15:37:47Z</dcterms:modified>
  <cp:revision>18</cp:revision>
  <dc:subject/>
  <dc:title>Optical Illusions</dc:title>
</cp:coreProperties>
</file>