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314-5DDE-4575-96E4-0EEAABB4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E29-A00E-453B-BA35-5994F66C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EA0-9F31-465E-8685-55582A59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E66-2329-4E28-BBE3-0C3F7189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7F1-D94F-45A5-B8AC-7F84A8EC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17E-DF18-4E1E-8598-BA62B02B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03D-FB3F-4D9F-9D62-4C54BD10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661-157B-4EB6-BE59-C42804D5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E7B-2289-4AF6-9DD3-9346E95F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375-A2CA-427D-99D3-306F6A87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176-A46B-4ACB-8CA0-90C5D901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A9D-98C6-45A2-80E1-8F7631DE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C0D1-E7FE-4262-8922-146952080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3716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09480" y="5059440"/>
            <a:ext cx="815364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President Clinton and Vice President Gore, ri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... It's Clinton's face twice, with two different haircu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76720" y="990720"/>
            <a:ext cx="47242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7972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38280" y="6172200"/>
            <a:ext cx="45720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a couple or a skull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695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438280" y="5607000"/>
            <a:ext cx="4267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black dots! :o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4728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013040" y="563868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horizontal lines parallel or do they slop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613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828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egs does this elephant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570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432160" y="597204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e three fac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34120" cy="461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98108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e sign say? Are you su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00440" cy="5105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833480" y="5867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the face? Or an Esk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568760" cy="4800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0574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cube missing a corner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o you see a small cube in a big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5464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22440" y="563868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blue on the inner left back or the outer left fr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81640" cy="5181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646640" y="579132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musician or a girl's 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71620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752480" y="6095880"/>
            <a:ext cx="53341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's a face... and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393000" y="25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895480" y="380880"/>
            <a:ext cx="5791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725720" cy="5410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826920" y="601992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n old man's face or two lovers k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2789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133720" y="5257800"/>
            <a:ext cx="4952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y're both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981080" y="990720"/>
            <a:ext cx="5334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ft center circle bigg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819520" y="380880"/>
            <a:ext cx="41907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 spiral, right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19320" y="5880240"/>
            <a:ext cx="7238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se are a bunch of independent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68460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600200" y="380880"/>
            <a:ext cx="7010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ring at the black dot. After a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y haze around it will appear to shrink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402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895480" y="380880"/>
            <a:ext cx="54864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dog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60352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914400" y="380880"/>
            <a:ext cx="82296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e at the black lightbulb for at least 30 sec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mmediately stare at a white area on the scr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t a sheet of paper. You should see a glowing light bulb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2235600" y="1206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do you se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371600" y="5638680"/>
            <a:ext cx="6858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3 colors: White, green, and pin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em to be two different shades of pin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only one pink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7920" y="165240"/>
            <a:ext cx="6933960" cy="6535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14:47Z</dcterms:created>
  <dc:creator>Carolyn Baker</dc:creator>
  <dc:description/>
  <dc:language>en-US</dc:language>
  <cp:lastModifiedBy>Asus</cp:lastModifiedBy>
  <dcterms:modified xsi:type="dcterms:W3CDTF">2018-03-09T15:37:47Z</dcterms:modified>
  <cp:revision>18</cp:revision>
  <dc:subject/>
  <dc:title>Optical Illusions</dc:title>
</cp:coreProperties>
</file>