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55E6-3C08-46A0-A5F5-699CC15A1B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otherapy dose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43 patients received 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achieved in all but one patient (99.7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(1.2%) had isolated spinal 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 (3.8%) overall relapse over half outside craniospinal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0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8 patients treated with whole brain or whole ventr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(2.9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1 (7.6%) overall rela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3 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 (11.3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1 (23.3%) overall relaps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A4D-9779-482A-9411-1EB55875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2DA-D7C3-4727-9011-33625817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8B5-66F2-4B0C-B054-CE6F4487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D0A-E8CD-4DB1-B8BF-0C90DEA4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291-6217-44C5-A600-D46A3EFE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6DF-12C9-4644-B3FF-D01116F4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1CC-B1F9-4644-9E11-AB616AC9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59E-8ACB-42E2-8905-10EEC706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D14-FCDA-4331-A434-0723F8A2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2C9-D7DD-4A06-8023-0F2D259D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1EA-302D-465C-AC4F-F79703C6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A71-5B03-4D17-9974-24BD488B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E05E-FD80-4768-84FF-3F3D856FFF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69D9-CA36-45EC-9B91-9497E5DB6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SI.jpg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5170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rain RT.jpg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2727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8" descr="axial brain.jpg"/>
          <p:cNvPicPr/>
          <p:nvPr/>
        </p:nvPicPr>
        <p:blipFill>
          <a:blip r:embed="rId1"/>
          <a:stretch/>
        </p:blipFill>
        <p:spPr>
          <a:xfrm>
            <a:off x="533520" y="1523880"/>
            <a:ext cx="7888320" cy="2909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DVH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30920" cy="3936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1"/>
          <p:cNvSpPr/>
          <p:nvPr/>
        </p:nvSpPr>
        <p:spPr>
          <a:xfrm>
            <a:off x="1777320" y="556272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895480"/>
          <a:ext cx="7696440" cy="148284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914400"/>
                <a:gridCol w="1600200"/>
                <a:gridCol w="1219320"/>
                <a:gridCol w="14479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niosp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666880"/>
          <a:ext cx="8686800" cy="3978360"/>
        </p:xfrm>
        <a:graphic>
          <a:graphicData uri="http://schemas.openxmlformats.org/drawingml/2006/table">
            <a:tbl>
              <a:tblPr/>
              <a:tblGrid>
                <a:gridCol w="1219320"/>
                <a:gridCol w="1676160"/>
                <a:gridCol w="1219320"/>
                <a:gridCol w="838080"/>
                <a:gridCol w="914400"/>
                <a:gridCol w="990720"/>
                <a:gridCol w="76212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otherap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arbo/e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r 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is/cyclop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 SD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ntri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HCG- 10IU-70IU in 10-20% pure germinomas, &gt;1000IU choriocarc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CG more then 100 some consider adequate to diagnose “malignant” G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137134194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81080" y="1447920"/>
            <a:ext cx="1143000" cy="53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44:27Z</dcterms:created>
  <dc:creator>crittend</dc:creator>
  <dc:description/>
  <dc:language>en-US</dc:language>
  <cp:lastModifiedBy>LEGION</cp:lastModifiedBy>
  <dcterms:modified xsi:type="dcterms:W3CDTF">2018-04-03T08:52:22Z</dcterms:modified>
  <cp:revision>109</cp:revision>
  <dc:subject/>
  <dc:title>Germinomas: An evolution in the use of Radiation</dc:title>
</cp:coreProperties>
</file>