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CD72-CA81-47BA-84FF-C253D2254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 9 - Nuclear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ing Radioactive Isot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Fission and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&amp;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h 9 - Nuclear Radi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Emiss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Equat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roducing Radioactive Isotop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alf-Lif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Fission and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s &amp; Effect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lpha deca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4Th  ®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4Pa    + 0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91                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 deca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34Th  ®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34Pa    + 0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90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91                1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 particl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 in atomic or mass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B  +     0 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                             5         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on atom in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-energy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amma radi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o change in atomic or mass numb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1B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1B  +     0 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                                 5                 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oron atom in a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igh-energy stat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edict the product, simply remember that the mass number and atomic number are con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identity of X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o predict the product, simply remember that the mass number and atomic number are conserv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at is the identity of X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nuclear equation for the beta emitter Co-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the nuclear equation for the beta emitter Co-60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60Co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60Ni +     0 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7                     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28                -1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60Co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60Ni +     0 e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27                         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28                -1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9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239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Np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Producing Radioactive Isot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mbardment of atoms produces radioisot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60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9Co     +  1n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6Mn   +    4H 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7                      0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5                     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27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balt     neutron            manganese    alp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to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radioisotope   particl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. Producing Radioactive Isotop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ombardment of atoms produces radioisotop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60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6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9Co     +  1n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6Mn   +    4H e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7                      0 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5                      2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27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2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obalt     neutron            manganese    alpha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om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radioisotope   particl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adioactive isotope is produced in the following bombardment of bo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B     +  4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  +    1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               2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0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at radioactive isotope is produced in the following bombardment of boron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0B     +  4He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?   +    1n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                   2 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       0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adioactive isotope is produced in the following bombardment of bo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B     +  4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13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   1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               2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7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0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isot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at radioactive isotope is produced in the following bombardment of boron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0B     +  4He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  13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+    1n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                   2 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7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              0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oisotop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Half-Life of a Radioisot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for the radiation level to fall (decay) to one-half its initial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4. Half-Life of a Radioisotop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time for the radiation level to fall (decay) to one-half its initial valu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: +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: neut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: - charg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ymb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number of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number number of protons and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Symbols – notice mass number is on t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rotons: + charg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utrons: neutral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lectrons: - charge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omic symbo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omic number number of prot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ass number number of protons and neutr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Symbols – notice mass number is on top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Half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pe          Hal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-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-22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-22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12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-23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0 000 0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xamples of Half-Lif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sotope          Half lif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-15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.4 sec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-224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.6 day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-223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2 day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-125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60 day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-14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700 yea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-235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710 000 000 yea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f life of I-123 is 13 hr.  How much of a 64 mg sample of I-123 is left after 26 hours?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half life of I-123 is 13 hr.  How much of a 64 mg sample of I-123 is left after 26 hours?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/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hrs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 hour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t1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initial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m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remain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64 mg  x ½  x 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16 m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1/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3 hrs     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6 hours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x t1/2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mount initial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64mg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mount remaining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 64 mg  x ½  x ½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 16 mg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Fission VS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nuclei break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5U    +  1n         139Ba  +  94Kr + 3 1n 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2                0                   56              36         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. Fission VS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arge nuclei break up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35U    +  1n         139Ba  +  94Kr + 3 1n  +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92                0                   56              36                 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sion of Uranium-2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n reaction – the reaction sustains itself by producing more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ission of Uranium-235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hain reaction – the reaction sustains itself by producing more neutr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nuclei comb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    +     3H             4He    +  1n 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                1                        2            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in the sun and other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ssive heat can not be co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mpts at “cold” fusion have FAI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” fusion is difficult to con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usion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mall nuclei combin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H    +     3H             4He    +  1n  +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                   1                        2                    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Occurs in the sun and other sta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xcessive heat can not be contain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tempts at “cold” fusion have FAILED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ot” fusion is difficult to contai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if each of the following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spl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energy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nuclei form larger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nuclei re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ndicate if each of the following ar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issio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2)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us split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arge amounts of energy releas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mall nuclei form larger nuclei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ydrogen nuclei reac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if each of the following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    Nucleus spl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2  Large amounts of energy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      Small nuclei form larger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      Hydrogen nuclei re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ndicate if each of the following ar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issio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2)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       Nucleus split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+ 2  Large amounts of energy releas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       Small nuclei form larger nuclei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       Hydrogen nuclei reac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Uses &amp;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- treatment of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dicine - use of radioisotopes in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rs – small amounts of radioactive substances used as probes to study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imaging – medical techniques involving tra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- irradiated with g rays from 60Co or 137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diated milk - shelf life of 3 mo. w/o coo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DA - approved irradiation of meats and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6. Uses &amp; Effect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ation - treatment of canc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medicine - use of radioisotopes in diagnosi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racers – small amounts of radioactive substances used as probes to study internal orga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imaging – medical techniques involving trace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ood Irradi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ood - irradiated with g rays from 60Co or 137Cs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rradiated milk - shelf life of 3 mo. w/o cooling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DA - approved irradiation of meats and egg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Nuclear E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comes from the nucleus of an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table nucleus emits a particle or energ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 alp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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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radioactive particle = neu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. Nuclear Emiss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ation comes from the nucleus of an atom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nstable nucleus emits a particle or energy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 alpha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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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amma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on-radioactive particle = neutr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posure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xposure Sourc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pha Particl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s a helium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e    or 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lpha Particle </a:t>
            </a:r>
            <a:br>
              <a:rPr sz="1200"/>
            </a:b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ame as a helium nucleu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He)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He    or 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wo prot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wo neutr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Particle 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on emitted from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  or     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utron in the nucleus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                             1               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 Particle 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n electron emitted from the nucleu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   or     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    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 neutron in the nucleus breaks dow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H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+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                               1                -1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  Radi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e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an X-ray but comes from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amma  Radiation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ure radi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ike an X-ray but comes from the nucleu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Prot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e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pha – paper, cl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– lab coat, glo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- lead, thick concr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 time exp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distance from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ation Protection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hielding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lpha – paper, clothing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 – lab coat, glov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amma- lead, thick concret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imit time expos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Keep distance from sourc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diation Protectio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ation Protection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Nucl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reactants and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s must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numbers must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.  Nuclear Equation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n the reactants and product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omic numbers must balanc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ass numbers must balanc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94C8-309E-4C3C-A49C-FB383F8F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7C76-1907-425F-A49B-B468BC7C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8E4F-5277-4F49-B701-716D50A96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32BA-3129-44CC-AF81-A7AF03DEB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9ADE-F458-40ED-97E9-6E550625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956D-E32D-409C-BD28-6E636CA3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64C1-9413-40C9-A59C-241EB3A4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77A5-8BF9-49F7-A7ED-8DF57FE6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6CBD-88FA-4E81-BD64-8089C3A0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6D89-4A19-493E-A7B2-2913ED5A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E95F-149C-424E-A1DA-C220D842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0453-C925-4FB5-8959-F42BDACD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881E-58EF-445F-B2CC-FAF466FDB4A1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Ch 9 - Nuclear Radi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uclear Emiss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uclear Equa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ducing Radioactive Isotop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alf-Lif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uclear Fission and Fus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ses &amp; Effec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0" name="Picture 5" descr="bd06719_"/>
          <p:cNvPicPr/>
          <p:nvPr/>
        </p:nvPicPr>
        <p:blipFill>
          <a:blip r:embed="rId1"/>
          <a:stretch/>
        </p:blipFill>
        <p:spPr>
          <a:xfrm>
            <a:off x="4876920" y="3862440"/>
            <a:ext cx="3809880" cy="2927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685800" y="4495680"/>
            <a:ext cx="3935520" cy="2230560"/>
          </a:xfrm>
          <a:prstGeom prst="rect">
            <a:avLst/>
          </a:prstGeom>
          <a:ln w="3240">
            <a:solidFill>
              <a:srgbClr val="ffff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5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lpha deca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247680" y="3276720"/>
          <a:ext cx="8763120" cy="119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276720"/>
                    <a:ext cx="8763120" cy="11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eta deca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23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  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23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    +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9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91            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ff9900"/>
                </a:solidFill>
                <a:latin typeface="Arial"/>
              </a:rPr>
              <a:t>beta particl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amma radi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No change in atomic or mass numb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11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11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B  +     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0 </a:t>
            </a:r>
            <a:r>
              <a:rPr b="1" lang="en-US" sz="3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5                                 5                 0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boron atom in a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igh-energy sta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2666880" y="342900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Learning Chec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 predict the product, simply remember that the mass number and atomic number are conserve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identity of X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5"/>
              <p:cNvSpPr txBox="1"/>
              <p:nvPr/>
            </p:nvSpPr>
            <p:spPr>
              <a:xfrm>
                <a:off x="914400" y="2819520"/>
                <a:ext cx="7315200" cy="18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9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X </m:t>
                    </m:r>
                    <m:r>
                      <m:t xml:space="preserve">+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Learning Che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rite the nuclear equation for the beta emitter Co-60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Solu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6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6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i +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0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27                 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28                -1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2819520" y="4267080"/>
            <a:ext cx="1218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324480" y="2590920"/>
            <a:ext cx="8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93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6172200" y="2133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39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6613560" y="217476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Np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8"/>
              <p:cNvSpPr txBox="1"/>
              <p:nvPr/>
            </p:nvSpPr>
            <p:spPr>
              <a:xfrm>
                <a:off x="990720" y="2133720"/>
                <a:ext cx="358128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9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X </m:t>
                    </m:r>
                    <m:r>
                      <m:t xml:space="preserve">+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3. Producing Radioactive Isotop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ombardment of atoms produces radioisotop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= 60    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= 60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59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     +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56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n   +  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27                      0        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25                      2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= 27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= 27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obalt     neutron            manganese    alph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tom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radioisotope   particle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3276720" y="3352680"/>
            <a:ext cx="1218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radioactive isotope is produced in the following bombardment of bor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     +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?   +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5                   2      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               0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3429000" y="39625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radioactive isotope is produced in the following bombardment of bor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     +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+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5                   2      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      7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                      0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itroge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radioisotop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3429000" y="39625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4. Half-Life of a Radioisotop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im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or the radiation level to fall (decay) to one-half its initial valu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96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6" name="Picture 16" descr=""/>
          <p:cNvPicPr/>
          <p:nvPr/>
        </p:nvPicPr>
        <p:blipFill>
          <a:blip r:embed="rId1"/>
          <a:stretch/>
        </p:blipFill>
        <p:spPr>
          <a:xfrm>
            <a:off x="304920" y="2214720"/>
            <a:ext cx="8426160" cy="4414680"/>
          </a:xfrm>
          <a:prstGeom prst="rect">
            <a:avLst/>
          </a:prstGeom>
          <a:ln w="3240">
            <a:solidFill>
              <a:srgbClr val="ffff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3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Review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Rememb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tons: + char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utrons: neutral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lectrons: - charge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" name="Picture 10" descr="bd06978_"/>
          <p:cNvPicPr/>
          <p:nvPr/>
        </p:nvPicPr>
        <p:blipFill>
          <a:blip r:embed="rId1"/>
          <a:stretch/>
        </p:blipFill>
        <p:spPr>
          <a:xfrm>
            <a:off x="5791320" y="1523880"/>
            <a:ext cx="1793880" cy="1725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Object 12"/>
              <p:cNvSpPr txBox="1"/>
              <p:nvPr/>
            </p:nvSpPr>
            <p:spPr>
              <a:xfrm>
                <a:off x="3809880" y="3657600"/>
                <a:ext cx="190512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Line 13"/>
          <p:cNvSpPr/>
          <p:nvPr/>
        </p:nvSpPr>
        <p:spPr>
          <a:xfrm flipH="1" flipV="1">
            <a:off x="5486040" y="4495320"/>
            <a:ext cx="1066680" cy="3049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6251040" y="4791240"/>
            <a:ext cx="2593080" cy="581400"/>
          </a:xfrm>
          <a:prstGeom prst="rect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omic symbo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 flipV="1">
            <a:off x="3886200" y="5334120"/>
            <a:ext cx="380880" cy="4572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3276720" y="5772240"/>
            <a:ext cx="3733560" cy="10688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tomic numbe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umber of prot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Line 17"/>
          <p:cNvSpPr/>
          <p:nvPr/>
        </p:nvSpPr>
        <p:spPr>
          <a:xfrm>
            <a:off x="3276720" y="4114800"/>
            <a:ext cx="533160" cy="0"/>
          </a:xfrm>
          <a:prstGeom prst="line">
            <a:avLst/>
          </a:prstGeom>
          <a:ln w="190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762120" y="3747960"/>
            <a:ext cx="2514600" cy="2043720"/>
          </a:xfrm>
          <a:prstGeom prst="rect">
            <a:avLst/>
          </a:prstGeom>
          <a:noFill/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ass numb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number of protons and neutr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609480" y="3048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Nuclear Symbol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– notice mass number is on top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amples of Half-Lif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Isotope          Half lif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-1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.4 sec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a-22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.6 day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a-22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2 day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-12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0 day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-1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700 yea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-23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10 000 000 yea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half life of I-123 is 13 hr.  How much of a 64 mg sample of I-123 is left after 26 hours?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/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3 hrs     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6 hour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 x t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/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mount initial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64mg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mount remaining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 64 mg  x ½  x ½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 16 mg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7"/>
          <p:cNvSpPr/>
          <p:nvPr/>
        </p:nvSpPr>
        <p:spPr>
          <a:xfrm>
            <a:off x="6858000" y="2209680"/>
            <a:ext cx="2286000" cy="167652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5. Fission VS Fus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Fiss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large nuclei break up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235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U    +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 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39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  +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9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Kr + 3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  +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92                0                   56              36                 0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7543800" y="1295280"/>
            <a:ext cx="1600200" cy="3124440"/>
          </a:xfrm>
          <a:prstGeom prst="irregularSeal2">
            <a:avLst/>
          </a:prstGeom>
          <a:solidFill>
            <a:srgbClr val="ff66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2971800" y="3048120"/>
            <a:ext cx="60948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2" name="Picture 8" descr="in00420_"/>
          <p:cNvPicPr/>
          <p:nvPr/>
        </p:nvPicPr>
        <p:blipFill>
          <a:blip r:embed="rId1"/>
          <a:stretch/>
        </p:blipFill>
        <p:spPr>
          <a:xfrm>
            <a:off x="2133720" y="3886200"/>
            <a:ext cx="4800600" cy="2719440"/>
          </a:xfrm>
          <a:prstGeom prst="rect">
            <a:avLst/>
          </a:prstGeom>
          <a:ln w="0">
            <a:noFill/>
          </a:ln>
        </p:spPr>
      </p:pic>
      <p:sp>
        <p:nvSpPr>
          <p:cNvPr id="153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Fission of Uranium-235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380880" y="1066680"/>
            <a:ext cx="8534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Chain reac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– the reaction sustains itself by producing more neutr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2057400" y="2309760"/>
            <a:ext cx="5334120" cy="4467240"/>
          </a:xfrm>
          <a:prstGeom prst="rect">
            <a:avLst/>
          </a:prstGeom>
          <a:ln w="0">
            <a:noFill/>
          </a:ln>
        </p:spPr>
      </p:pic>
      <p:sp>
        <p:nvSpPr>
          <p:cNvPr id="15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5"/>
          <p:cNvSpPr/>
          <p:nvPr/>
        </p:nvSpPr>
        <p:spPr>
          <a:xfrm>
            <a:off x="6248520" y="1962000"/>
            <a:ext cx="2895480" cy="221004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Nuclear Fus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sion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mall nuclei combin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+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 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e    +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  +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                    1                        2                    0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ccurs in the sun and other star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7391520" y="1733400"/>
            <a:ext cx="1523880" cy="3124440"/>
          </a:xfrm>
          <a:prstGeom prst="irregularSeal2">
            <a:avLst/>
          </a:prstGeom>
          <a:solidFill>
            <a:srgbClr val="ff99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3048120" y="3962520"/>
            <a:ext cx="99036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0880" y="4876920"/>
            <a:ext cx="83822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cessive heat can not be containe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tempts at “cold” fusion have FAILED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t” fusion is difficult to contai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6248520" y="1809720"/>
            <a:ext cx="2895480" cy="220968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Learning Che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dicate if each of the following ar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issio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2) fus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ucleus split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Large amounts of energy release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mall nuclei form larger nuclei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ydrogen nuclei reac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7391520" y="1143000"/>
            <a:ext cx="1523880" cy="3124080"/>
          </a:xfrm>
          <a:prstGeom prst="irregularSeal2">
            <a:avLst/>
          </a:prstGeom>
          <a:solidFill>
            <a:srgbClr val="ff99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/>
          <p:cNvSpPr/>
          <p:nvPr/>
        </p:nvSpPr>
        <p:spPr>
          <a:xfrm>
            <a:off x="5867280" y="533520"/>
            <a:ext cx="2895840" cy="220968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Solu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dicate if each of the following ar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issio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2) fus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Nucleus split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 + 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Large amounts of energy release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Small nuclei form larger nuclei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Hydrogen nuclei reac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6934320" y="76320"/>
            <a:ext cx="1523880" cy="3124080"/>
          </a:xfrm>
          <a:prstGeom prst="irregularSeal2">
            <a:avLst/>
          </a:prstGeom>
          <a:solidFill>
            <a:srgbClr val="ff99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6. Uses &amp; Effec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diation - treatment of canc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uclear medicine - use of radioisotopes in diagnosi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cers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– small amounts of radioactive substances used as probes to study internal organ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uclear imaging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– medical techniques involving tracer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od Irradi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od - irradiated with g rays from 60Co or 137Cs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rradiated milk - shelf life of 3 mo. w/o cooling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DA - approved irradiation of meats and egg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304920" y="2971800"/>
            <a:ext cx="8381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8" name="Picture 7" descr=""/>
          <p:cNvPicPr/>
          <p:nvPr/>
        </p:nvPicPr>
        <p:blipFill>
          <a:blip r:embed="rId1"/>
          <a:srcRect l="49709" t="0" r="0" b="0"/>
          <a:stretch/>
        </p:blipFill>
        <p:spPr>
          <a:xfrm>
            <a:off x="1676520" y="4764240"/>
            <a:ext cx="2361960" cy="1741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"/>
          <p:cNvPicPr/>
          <p:nvPr/>
        </p:nvPicPr>
        <p:blipFill>
          <a:blip r:embed="rId2"/>
          <a:stretch/>
        </p:blipFill>
        <p:spPr>
          <a:xfrm>
            <a:off x="4952880" y="4789440"/>
            <a:ext cx="1905120" cy="1763640"/>
          </a:xfrm>
          <a:prstGeom prst="rect">
            <a:avLst/>
          </a:prstGeom>
          <a:ln w="0">
            <a:noFill/>
          </a:ln>
        </p:spPr>
      </p:pic>
      <p:sp>
        <p:nvSpPr>
          <p:cNvPr id="180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86800" cy="4056120"/>
          </a:xfrm>
          <a:prstGeom prst="rect">
            <a:avLst/>
          </a:prstGeom>
          <a:ln w="0">
            <a:noFill/>
          </a:ln>
        </p:spPr>
      </p:pic>
      <p:sp>
        <p:nvSpPr>
          <p:cNvPr id="18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. Nuclear Emiss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adiation comes from the nucleus of an atom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nstable nucleus emits a particle or energy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ph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et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amm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radioactive particle = neutr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>
            <a:off x="1143000" y="3505320"/>
            <a:ext cx="1066680" cy="1371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 flipV="1">
            <a:off x="1905120" y="3276720"/>
            <a:ext cx="2209680" cy="7617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2209680" y="4114800"/>
            <a:ext cx="1828800" cy="0"/>
          </a:xfrm>
          <a:prstGeom prst="line">
            <a:avLst/>
          </a:prstGeom>
          <a:ln w="349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1752480" y="4191120"/>
            <a:ext cx="2438640" cy="91440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7"/>
              <p:cNvSpPr txBox="1"/>
              <p:nvPr/>
            </p:nvSpPr>
            <p:spPr>
              <a:xfrm>
                <a:off x="6248520" y="5245200"/>
                <a:ext cx="9730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xposure Sourc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819000" y="6480"/>
            <a:ext cx="7506000" cy="6845040"/>
          </a:xfrm>
          <a:prstGeom prst="rect">
            <a:avLst/>
          </a:prstGeom>
          <a:ln w="0">
            <a:noFill/>
          </a:ln>
        </p:spPr>
      </p:pic>
      <p:sp>
        <p:nvSpPr>
          <p:cNvPr id="18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lpha Particle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ame as a helium nucleu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He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e    or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wo prot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wo neutr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219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eta Particle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 electron emitted from the nucleu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   or    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 neutron in the nucleus breaks dow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0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0                               1                -1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4191120" y="3429000"/>
            <a:ext cx="13716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2514600" y="5105520"/>
            <a:ext cx="9907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amma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adiatio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Pure radia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Like an X-ray but comes from the nucleu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3" name="Picture 7" descr="bd05670_"/>
          <p:cNvPicPr/>
          <p:nvPr/>
        </p:nvPicPr>
        <p:blipFill>
          <a:blip r:embed="rId1"/>
          <a:stretch/>
        </p:blipFill>
        <p:spPr>
          <a:xfrm>
            <a:off x="3505320" y="4191120"/>
            <a:ext cx="1996920" cy="1168200"/>
          </a:xfrm>
          <a:prstGeom prst="rect">
            <a:avLst/>
          </a:prstGeom>
          <a:ln w="0">
            <a:noFill/>
          </a:ln>
        </p:spPr>
      </p:pic>
      <p:sp>
        <p:nvSpPr>
          <p:cNvPr id="8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adiation Protectio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hielding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alpha – paper, clothing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beta – lab coat, glov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gamma- lead, thick concret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Limit time expose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Keep distance from sourc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7" name="Picture 4" descr="pe02421_"/>
          <p:cNvPicPr/>
          <p:nvPr/>
        </p:nvPicPr>
        <p:blipFill>
          <a:blip r:embed="rId1"/>
          <a:stretch/>
        </p:blipFill>
        <p:spPr>
          <a:xfrm>
            <a:off x="5791320" y="4114800"/>
            <a:ext cx="2895480" cy="2416320"/>
          </a:xfrm>
          <a:prstGeom prst="rect">
            <a:avLst/>
          </a:prstGeom>
          <a:ln w="0">
            <a:noFill/>
          </a:ln>
        </p:spPr>
      </p:pic>
      <p:sp>
        <p:nvSpPr>
          <p:cNvPr id="8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adiation Protectio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6"/>
          <p:cNvGraphicFramePr/>
          <p:nvPr/>
        </p:nvGraphicFramePr>
        <p:xfrm>
          <a:off x="685800" y="1981080"/>
          <a:ext cx="7335720" cy="437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33572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2.  Nuclear Equations</a:t>
            </a:r>
            <a:r>
              <a:rPr b="0" lang="en-US" sz="4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the reactants and produc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tomic numbers must bala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ss numbers must bala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0T20:48:09Z</dcterms:created>
  <dc:creator>Bill Timberlake</dc:creator>
  <dc:description/>
  <dc:language>en-US</dc:language>
  <cp:lastModifiedBy>LEGION</cp:lastModifiedBy>
  <cp:lastPrinted>1999-05-17T20:19:48Z</cp:lastPrinted>
  <dcterms:modified xsi:type="dcterms:W3CDTF">2018-04-03T08:55:06Z</dcterms:modified>
  <cp:revision>86</cp:revision>
  <dc:subject/>
  <dc:title>Chapter 6</dc:title>
</cp:coreProperties>
</file>