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47F1-AB31-4F38-93E8-B1D7ACE2D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2 Types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of Kine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ue represents the relative force necessary to keep an object moving at a constan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of Sta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ue represents the relative force necessary to make an object mo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2 Types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of Kine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ue represents the relative force necessary to keep an object moving at a constan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of Sta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ue represents the relative force necessary to make an object mo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Static Friction Between the Wood Desktop and the Plastic Battery is Described Algebraicall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58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1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.1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Static Friction Between the Wood Desktop and the Plastic Battery is Described Algebraicall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58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1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.1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Kinetic Friction Can be Found Using the Same Techn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Force Required to Move the Battery at a Constan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Kinetic Friction Can be Found Using the Same Techn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Force Required to Move the Battery at a Constan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s of Friction Between Various Surfaces Have Significant Impact on the Design and Construction of Mech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sign of Competitive Mechanisms with Wheels Requires Extensive Testing in Order to Optimize the Torque, Speed and Traction (Friction) of the Drive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s of Friction Between Various Surfaces Have Significant Impact on the Design and Construction of Mech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sign of Competitive Mechanisms with Wheels Requires Extensive Testing in Order to Optimize the Torque, Speed and Traction (Friction) of the Drive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al Force Resisting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Causing the Object to 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etic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    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al Force Resisting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Causing the Object to 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etic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    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al Forces Occur When Materials are in           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 = Force Causing Motion (Pull on Sc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 = Force of Static Friction (Resists Mo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Force Normal Holds 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= Weight of Object ( Mass x Grav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al Forces Occur When Materials are in           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 = Force Causing Motion (Pull on Sc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 = Force of Static Friction (Resists Mo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Force Normal Holds 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= Weight of Object ( Mass x Grav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 is a Force That Resists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nk Block M1 Will not Move Until the Force F (Pull on the scale ) Exceeds the Force of Static Friction  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 is a Force That Resists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nk Block M1 Will not Move Until the Force F (Pull on the scale ) Exceeds the Force of Static Friction  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Relative Force of  Static Friction Between 2 Objects is Expressed as the        Quotient of the Force (F) Required to               Move th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d by the Weight W of th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the 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Relative Force of  Static Friction Between 2 Objects is Expressed as the        Quotient of the Force (F) Required to               Move th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d by the Weight W of th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the 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Force Required to Cause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Weight of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 of Sta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Force Required to Cause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Weight of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 of Sta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Gears-IDS Battery to Calculate The         St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Gears-IDS Battery to Calculate The         St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Maximum Force (F)    (Before the Battery Begins to Mo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Force F = 110 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Maximum Force (F)    (Before the Battery Begins to Mo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Force F = 110 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Weight  (W ) of the Ba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Weight  (W ) of the Ba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0" y="563868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8" descr="C:\WINDOWS\Desktop\Table Top Robots\Logos\transparent image 2.gif"/>
          <p:cNvPicPr/>
          <p:nvPr/>
        </p:nvPicPr>
        <p:blipFill>
          <a:blip r:embed="rId2"/>
          <a:stretch/>
        </p:blipFill>
        <p:spPr>
          <a:xfrm>
            <a:off x="76320" y="6019920"/>
            <a:ext cx="1904760" cy="76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-228600" y="228600"/>
            <a:ext cx="944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Consider 2 Types of Fri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6"/>
              <p:cNvSpPr txBox="1"/>
              <p:nvPr/>
            </p:nvSpPr>
            <p:spPr>
              <a:xfrm>
                <a:off x="531720" y="930240"/>
                <a:ext cx="126216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" name="Text Box 7"/>
          <p:cNvSpPr/>
          <p:nvPr/>
        </p:nvSpPr>
        <p:spPr>
          <a:xfrm>
            <a:off x="2000160" y="3870360"/>
            <a:ext cx="699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orce of Kinetic Fri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533520" y="470844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This value represents the relative force necessary to keep an object moving at a constant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9"/>
              <p:cNvSpPr txBox="1"/>
              <p:nvPr/>
            </p:nvSpPr>
            <p:spPr>
              <a:xfrm>
                <a:off x="584280" y="3368520"/>
                <a:ext cx="1415880" cy="17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" name="Text Box 10"/>
          <p:cNvSpPr/>
          <p:nvPr/>
        </p:nvSpPr>
        <p:spPr>
          <a:xfrm>
            <a:off x="1924200" y="1600200"/>
            <a:ext cx="699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orce of Static Fri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609480" y="230184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This value represents the relative force necessary to make an object mo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228600" y="22860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he Coefficient of Static Friction Between the </a:t>
            </a:r>
            <a:r>
              <a:rPr b="1" lang="en-US" sz="3600" spc="-1" strike="noStrike">
                <a:solidFill>
                  <a:srgbClr val="c9935d"/>
                </a:solidFill>
                <a:latin typeface="Times New Roman"/>
              </a:rPr>
              <a:t>Wood Desktop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lastic Battery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is Described Algebraically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2514600" y="2160720"/>
                <a:ext cx="2743200" cy="20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Text Box 5"/>
          <p:cNvSpPr/>
          <p:nvPr/>
        </p:nvSpPr>
        <p:spPr>
          <a:xfrm>
            <a:off x="5334120" y="34894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580 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5334120" y="25192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110 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8"/>
              <p:cNvSpPr txBox="1"/>
              <p:nvPr/>
            </p:nvSpPr>
            <p:spPr>
              <a:xfrm>
                <a:off x="2514600" y="4343400"/>
                <a:ext cx="9842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5" name="Line 9"/>
          <p:cNvSpPr/>
          <p:nvPr/>
        </p:nvSpPr>
        <p:spPr>
          <a:xfrm>
            <a:off x="5334120" y="3352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3581280" y="4533840"/>
            <a:ext cx="358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.19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C:\WINDOWS\Desktop\Table Top Robots\curriculum\physical science\Forces\slide shows\pics and images\battery_coefficient_frictionrev2.jpg"/>
          <p:cNvPicPr/>
          <p:nvPr/>
        </p:nvPicPr>
        <p:blipFill>
          <a:blip r:embed="rId1"/>
          <a:stretch/>
        </p:blipFill>
        <p:spPr>
          <a:xfrm>
            <a:off x="1447920" y="1981080"/>
            <a:ext cx="6476760" cy="33418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08" name="Object 3"/>
              <p:cNvSpPr txBox="1"/>
              <p:nvPr/>
            </p:nvSpPr>
            <p:spPr>
              <a:xfrm>
                <a:off x="3936960" y="3745080"/>
                <a:ext cx="2184480" cy="15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" name="Text Box 4"/>
          <p:cNvSpPr/>
          <p:nvPr/>
        </p:nvSpPr>
        <p:spPr>
          <a:xfrm>
            <a:off x="76320" y="30492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The Coefficient of Kinetic Friction Can be Found Using the Same Techn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1371600" y="548640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cord the Force Required to Move the Battery at a Constant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533520" y="30492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efficients of Friction Between Various Surfaces Have Significant Impact on the Design and Construction of Mechanis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0" y="21337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Design of Competitive Mechanisms with Wheels Requires Extensive Testing in Order to Optimize the Torque, Speed and Traction (Friction) of the Drive System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Line 4"/>
          <p:cNvSpPr/>
          <p:nvPr/>
        </p:nvSpPr>
        <p:spPr>
          <a:xfrm>
            <a:off x="635040" y="2666880"/>
            <a:ext cx="4013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5"/>
          <p:cNvSpPr/>
          <p:nvPr/>
        </p:nvSpPr>
        <p:spPr>
          <a:xfrm>
            <a:off x="4648320" y="1752480"/>
            <a:ext cx="0" cy="3810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6"/>
          <p:cNvSpPr/>
          <p:nvPr/>
        </p:nvSpPr>
        <p:spPr>
          <a:xfrm flipV="1">
            <a:off x="1676520" y="2666880"/>
            <a:ext cx="2971800" cy="289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7"/>
          <p:cNvSpPr/>
          <p:nvPr/>
        </p:nvSpPr>
        <p:spPr>
          <a:xfrm>
            <a:off x="4648320" y="2247840"/>
            <a:ext cx="990360" cy="876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4648320" y="1371600"/>
            <a:ext cx="12952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5105520" y="2019240"/>
            <a:ext cx="129528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5105520" y="31240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1"/>
          <p:cNvSpPr/>
          <p:nvPr/>
        </p:nvSpPr>
        <p:spPr>
          <a:xfrm rot="16242000">
            <a:off x="-936000" y="390780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rictional Force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sisting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2209680" y="57913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Force Causing the Object to 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5105520" y="38703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inetic 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5"/>
          <p:cNvSpPr/>
          <p:nvPr/>
        </p:nvSpPr>
        <p:spPr>
          <a:xfrm>
            <a:off x="160020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6"/>
          <p:cNvSpPr/>
          <p:nvPr/>
        </p:nvSpPr>
        <p:spPr>
          <a:xfrm flipV="1">
            <a:off x="4533840" y="3962520"/>
            <a:ext cx="228600" cy="47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7"/>
          <p:cNvSpPr/>
          <p:nvPr/>
        </p:nvSpPr>
        <p:spPr>
          <a:xfrm>
            <a:off x="441972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8"/>
          <p:cNvSpPr/>
          <p:nvPr/>
        </p:nvSpPr>
        <p:spPr>
          <a:xfrm flipV="1">
            <a:off x="1600200" y="3916440"/>
            <a:ext cx="228600" cy="47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9"/>
          <p:cNvSpPr/>
          <p:nvPr/>
        </p:nvSpPr>
        <p:spPr>
          <a:xfrm>
            <a:off x="7543800" y="41911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1828800" y="391644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tic      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21"/>
              <p:cNvSpPr txBox="1"/>
              <p:nvPr/>
            </p:nvSpPr>
            <p:spPr>
              <a:xfrm>
                <a:off x="635040" y="1600200"/>
                <a:ext cx="88884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22"/>
              <p:cNvSpPr txBox="1"/>
              <p:nvPr/>
            </p:nvSpPr>
            <p:spPr>
              <a:xfrm>
                <a:off x="7378560" y="2529000"/>
                <a:ext cx="100332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0" name="Line 23"/>
          <p:cNvSpPr/>
          <p:nvPr/>
        </p:nvSpPr>
        <p:spPr>
          <a:xfrm flipV="1">
            <a:off x="1676520" y="1371600"/>
            <a:ext cx="0" cy="4191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24"/>
          <p:cNvSpPr/>
          <p:nvPr/>
        </p:nvSpPr>
        <p:spPr>
          <a:xfrm>
            <a:off x="1676520" y="5562720"/>
            <a:ext cx="6400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5"/>
          <p:cNvSpPr/>
          <p:nvPr/>
        </p:nvSpPr>
        <p:spPr>
          <a:xfrm>
            <a:off x="1828800" y="220968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26"/>
              <p:cNvSpPr txBox="1"/>
              <p:nvPr/>
            </p:nvSpPr>
            <p:spPr>
              <a:xfrm>
                <a:off x="4324320" y="3314880"/>
                <a:ext cx="4953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27"/>
              <p:cNvSpPr txBox="1"/>
              <p:nvPr/>
            </p:nvSpPr>
            <p:spPr>
              <a:xfrm>
                <a:off x="2286000" y="52560"/>
                <a:ext cx="4505400" cy="20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76320" y="76320"/>
            <a:ext cx="899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Frictional Forces Occur When Materials are in            Cont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"/>
          <p:cNvSpPr/>
          <p:nvPr/>
        </p:nvSpPr>
        <p:spPr>
          <a:xfrm>
            <a:off x="3048120" y="3581280"/>
            <a:ext cx="3962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4952880" y="2133720"/>
            <a:ext cx="1752840" cy="1447560"/>
          </a:xfrm>
          <a:prstGeom prst="rect">
            <a:avLst/>
          </a:prstGeom>
          <a:solidFill>
            <a:srgbClr val="fee6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590920" y="30481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048120" y="3581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7"/>
          <p:cNvSpPr/>
          <p:nvPr/>
        </p:nvSpPr>
        <p:spPr>
          <a:xfrm>
            <a:off x="3048120" y="388620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6019920" y="420516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9"/>
          <p:cNvSpPr/>
          <p:nvPr/>
        </p:nvSpPr>
        <p:spPr>
          <a:xfrm flipV="1">
            <a:off x="5867280" y="1112400"/>
            <a:ext cx="0" cy="1706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67057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1"/>
          <p:cNvSpPr/>
          <p:nvPr/>
        </p:nvSpPr>
        <p:spPr>
          <a:xfrm flipH="1">
            <a:off x="3581280" y="281952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2"/>
          <p:cNvSpPr/>
          <p:nvPr/>
        </p:nvSpPr>
        <p:spPr>
          <a:xfrm>
            <a:off x="5867280" y="2819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13"/>
          <p:cNvSpPr/>
          <p:nvPr/>
        </p:nvSpPr>
        <p:spPr>
          <a:xfrm>
            <a:off x="5715000" y="2705040"/>
            <a:ext cx="30492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7620120" y="2529000"/>
            <a:ext cx="99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cc66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2819520" y="2468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4952880" y="9144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7"/>
          <p:cNvSpPr/>
          <p:nvPr/>
        </p:nvSpPr>
        <p:spPr>
          <a:xfrm flipH="1">
            <a:off x="6781320" y="320040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8"/>
          <p:cNvSpPr/>
          <p:nvPr/>
        </p:nvSpPr>
        <p:spPr>
          <a:xfrm>
            <a:off x="7086600" y="3200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6934320" y="33973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urfaces in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1"/>
          <p:cNvSpPr/>
          <p:nvPr/>
        </p:nvSpPr>
        <p:spPr>
          <a:xfrm>
            <a:off x="4876920" y="29718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cc66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22"/>
          <p:cNvSpPr/>
          <p:nvPr/>
        </p:nvSpPr>
        <p:spPr>
          <a:xfrm>
            <a:off x="1143000" y="2362320"/>
            <a:ext cx="1371600" cy="135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3"/>
          <p:cNvSpPr/>
          <p:nvPr/>
        </p:nvSpPr>
        <p:spPr>
          <a:xfrm flipV="1">
            <a:off x="1752480" y="2529000"/>
            <a:ext cx="304920" cy="51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24"/>
          <p:cNvSpPr/>
          <p:nvPr/>
        </p:nvSpPr>
        <p:spPr>
          <a:xfrm flipH="1">
            <a:off x="533160" y="3048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5"/>
          <p:cNvSpPr/>
          <p:nvPr/>
        </p:nvSpPr>
        <p:spPr>
          <a:xfrm>
            <a:off x="304920" y="38098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6"/>
          <p:cNvSpPr/>
          <p:nvPr/>
        </p:nvSpPr>
        <p:spPr>
          <a:xfrm>
            <a:off x="2057400" y="478476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1"/>
          <p:cNvSpPr/>
          <p:nvPr/>
        </p:nvSpPr>
        <p:spPr>
          <a:xfrm>
            <a:off x="2133720" y="4800600"/>
            <a:ext cx="701028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F  = Force Causing Motion (Pull on Sca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cc6600"/>
                </a:solidFill>
                <a:latin typeface="Times New Roman"/>
              </a:rPr>
              <a:t>s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= Force of Static Friction (Resists Mo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= Force Normal Holds Surfaces in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 = Weight of Object ( Mass x Grav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04920" y="7632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Friction is a Force That Resists Mo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3"/>
          <p:cNvSpPr/>
          <p:nvPr/>
        </p:nvSpPr>
        <p:spPr>
          <a:xfrm>
            <a:off x="3200400" y="3581280"/>
            <a:ext cx="3962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5105520" y="2133720"/>
            <a:ext cx="1752480" cy="1447560"/>
          </a:xfrm>
          <a:prstGeom prst="rect">
            <a:avLst/>
          </a:prstGeom>
          <a:solidFill>
            <a:srgbClr val="fee6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2743200" y="30481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3200400" y="3581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3200400" y="3886200"/>
            <a:ext cx="3962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6172200" y="420516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28"/>
          <p:cNvSpPr/>
          <p:nvPr/>
        </p:nvSpPr>
        <p:spPr>
          <a:xfrm flipV="1">
            <a:off x="6019920" y="1112400"/>
            <a:ext cx="0" cy="1706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29"/>
          <p:cNvSpPr/>
          <p:nvPr/>
        </p:nvSpPr>
        <p:spPr>
          <a:xfrm>
            <a:off x="685800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30"/>
          <p:cNvSpPr/>
          <p:nvPr/>
        </p:nvSpPr>
        <p:spPr>
          <a:xfrm flipH="1">
            <a:off x="3733920" y="281952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31"/>
          <p:cNvSpPr/>
          <p:nvPr/>
        </p:nvSpPr>
        <p:spPr>
          <a:xfrm>
            <a:off x="6019920" y="2819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32"/>
          <p:cNvSpPr/>
          <p:nvPr/>
        </p:nvSpPr>
        <p:spPr>
          <a:xfrm>
            <a:off x="5867280" y="2705040"/>
            <a:ext cx="30492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3"/>
          <p:cNvSpPr/>
          <p:nvPr/>
        </p:nvSpPr>
        <p:spPr>
          <a:xfrm>
            <a:off x="7772400" y="2529000"/>
            <a:ext cx="990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cc66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4"/>
          <p:cNvSpPr/>
          <p:nvPr/>
        </p:nvSpPr>
        <p:spPr>
          <a:xfrm>
            <a:off x="2971800" y="2468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5"/>
          <p:cNvSpPr/>
          <p:nvPr/>
        </p:nvSpPr>
        <p:spPr>
          <a:xfrm>
            <a:off x="6019920" y="9907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38"/>
          <p:cNvSpPr/>
          <p:nvPr/>
        </p:nvSpPr>
        <p:spPr>
          <a:xfrm flipH="1">
            <a:off x="6934320" y="3200400"/>
            <a:ext cx="30456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39"/>
          <p:cNvSpPr/>
          <p:nvPr/>
        </p:nvSpPr>
        <p:spPr>
          <a:xfrm>
            <a:off x="7238880" y="3200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0"/>
          <p:cNvSpPr/>
          <p:nvPr/>
        </p:nvSpPr>
        <p:spPr>
          <a:xfrm>
            <a:off x="7086600" y="33973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urfaces in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1"/>
          <p:cNvSpPr/>
          <p:nvPr/>
        </p:nvSpPr>
        <p:spPr>
          <a:xfrm>
            <a:off x="2209680" y="5257800"/>
            <a:ext cx="6782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ink Block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cc66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ill not Move Until the Force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Pull on the scal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Exceeds the Force of Static Friction  </a:t>
            </a: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cc66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cc66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2"/>
          <p:cNvSpPr/>
          <p:nvPr/>
        </p:nvSpPr>
        <p:spPr>
          <a:xfrm>
            <a:off x="5029200" y="2971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cc66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44"/>
          <p:cNvSpPr/>
          <p:nvPr/>
        </p:nvSpPr>
        <p:spPr>
          <a:xfrm>
            <a:off x="1295280" y="2362320"/>
            <a:ext cx="1371600" cy="135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45"/>
          <p:cNvSpPr/>
          <p:nvPr/>
        </p:nvSpPr>
        <p:spPr>
          <a:xfrm flipV="1">
            <a:off x="1905120" y="2529000"/>
            <a:ext cx="304560" cy="51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46"/>
          <p:cNvSpPr/>
          <p:nvPr/>
        </p:nvSpPr>
        <p:spPr>
          <a:xfrm flipH="1">
            <a:off x="685440" y="3048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47"/>
          <p:cNvSpPr/>
          <p:nvPr/>
        </p:nvSpPr>
        <p:spPr>
          <a:xfrm>
            <a:off x="457200" y="3809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0" y="76320"/>
            <a:ext cx="9372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he  Relative Force of  Static Friction Between 2 Objects is Expressed as the        Quotient of the Force 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(F)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Required to               Move the Ob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3048120" y="3581280"/>
            <a:ext cx="3962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952880" y="2133720"/>
            <a:ext cx="1752840" cy="1447560"/>
          </a:xfrm>
          <a:prstGeom prst="rect">
            <a:avLst/>
          </a:prstGeom>
          <a:solidFill>
            <a:srgbClr val="fee6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2590920" y="30481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3048120" y="3581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3048120" y="388620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6019920" y="420516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0"/>
          <p:cNvSpPr/>
          <p:nvPr/>
        </p:nvSpPr>
        <p:spPr>
          <a:xfrm flipV="1">
            <a:off x="5867280" y="1112400"/>
            <a:ext cx="0" cy="1706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67057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2"/>
          <p:cNvSpPr/>
          <p:nvPr/>
        </p:nvSpPr>
        <p:spPr>
          <a:xfrm flipH="1">
            <a:off x="3581280" y="281952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5867280" y="2819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14"/>
          <p:cNvSpPr/>
          <p:nvPr/>
        </p:nvSpPr>
        <p:spPr>
          <a:xfrm>
            <a:off x="5715000" y="2705040"/>
            <a:ext cx="30492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7620120" y="2529000"/>
            <a:ext cx="99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cc66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2819520" y="2468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5638680" y="7621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8"/>
          <p:cNvSpPr/>
          <p:nvPr/>
        </p:nvSpPr>
        <p:spPr>
          <a:xfrm flipH="1">
            <a:off x="6781320" y="320040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7086600" y="3200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6934320" y="33973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urfaces in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2"/>
          <p:cNvSpPr/>
          <p:nvPr/>
        </p:nvSpPr>
        <p:spPr>
          <a:xfrm>
            <a:off x="4876920" y="29718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cc66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23"/>
          <p:cNvSpPr/>
          <p:nvPr/>
        </p:nvSpPr>
        <p:spPr>
          <a:xfrm>
            <a:off x="1143000" y="2362320"/>
            <a:ext cx="1371600" cy="135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24"/>
          <p:cNvSpPr/>
          <p:nvPr/>
        </p:nvSpPr>
        <p:spPr>
          <a:xfrm flipV="1">
            <a:off x="1752480" y="2529000"/>
            <a:ext cx="304920" cy="51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25"/>
          <p:cNvSpPr/>
          <p:nvPr/>
        </p:nvSpPr>
        <p:spPr>
          <a:xfrm flipH="1">
            <a:off x="533160" y="3048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304920" y="38098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7"/>
          <p:cNvSpPr/>
          <p:nvPr/>
        </p:nvSpPr>
        <p:spPr>
          <a:xfrm>
            <a:off x="228600" y="46483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ivided by the Weigh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f the Ob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8"/>
          <p:cNvSpPr/>
          <p:nvPr/>
        </p:nvSpPr>
        <p:spPr>
          <a:xfrm>
            <a:off x="1828800" y="55627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This is Called the Coefficient of Fri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3"/>
          <p:cNvSpPr/>
          <p:nvPr/>
        </p:nvSpPr>
        <p:spPr>
          <a:xfrm>
            <a:off x="3048120" y="3581280"/>
            <a:ext cx="3962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4952880" y="2133720"/>
            <a:ext cx="1752840" cy="1447560"/>
          </a:xfrm>
          <a:prstGeom prst="rect">
            <a:avLst/>
          </a:prstGeom>
          <a:solidFill>
            <a:srgbClr val="fee6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5"/>
          <p:cNvSpPr/>
          <p:nvPr/>
        </p:nvSpPr>
        <p:spPr>
          <a:xfrm>
            <a:off x="2590920" y="30481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3048120" y="3581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3048120" y="388620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6019920" y="420516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9"/>
          <p:cNvSpPr/>
          <p:nvPr/>
        </p:nvSpPr>
        <p:spPr>
          <a:xfrm flipV="1">
            <a:off x="5867280" y="1112400"/>
            <a:ext cx="0" cy="1706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67057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1"/>
          <p:cNvSpPr/>
          <p:nvPr/>
        </p:nvSpPr>
        <p:spPr>
          <a:xfrm flipH="1">
            <a:off x="3581280" y="281952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2"/>
          <p:cNvSpPr/>
          <p:nvPr/>
        </p:nvSpPr>
        <p:spPr>
          <a:xfrm>
            <a:off x="5867280" y="2819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13"/>
          <p:cNvSpPr/>
          <p:nvPr/>
        </p:nvSpPr>
        <p:spPr>
          <a:xfrm>
            <a:off x="5715000" y="2705040"/>
            <a:ext cx="30492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7620120" y="2529000"/>
            <a:ext cx="99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cc66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2819520" y="2468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5029200" y="9907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7"/>
          <p:cNvSpPr/>
          <p:nvPr/>
        </p:nvSpPr>
        <p:spPr>
          <a:xfrm flipH="1">
            <a:off x="6781320" y="320040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8"/>
          <p:cNvSpPr/>
          <p:nvPr/>
        </p:nvSpPr>
        <p:spPr>
          <a:xfrm>
            <a:off x="7086600" y="3200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9"/>
          <p:cNvSpPr/>
          <p:nvPr/>
        </p:nvSpPr>
        <p:spPr>
          <a:xfrm>
            <a:off x="6934320" y="33973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urfaces in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0"/>
          <p:cNvSpPr/>
          <p:nvPr/>
        </p:nvSpPr>
        <p:spPr>
          <a:xfrm>
            <a:off x="4876920" y="29718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cc66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21"/>
          <p:cNvSpPr/>
          <p:nvPr/>
        </p:nvSpPr>
        <p:spPr>
          <a:xfrm>
            <a:off x="1143000" y="2362320"/>
            <a:ext cx="1371600" cy="135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22"/>
          <p:cNvSpPr/>
          <p:nvPr/>
        </p:nvSpPr>
        <p:spPr>
          <a:xfrm flipV="1">
            <a:off x="1752480" y="2529000"/>
            <a:ext cx="304920" cy="51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3"/>
          <p:cNvSpPr/>
          <p:nvPr/>
        </p:nvSpPr>
        <p:spPr>
          <a:xfrm flipH="1">
            <a:off x="533160" y="3048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4"/>
          <p:cNvSpPr/>
          <p:nvPr/>
        </p:nvSpPr>
        <p:spPr>
          <a:xfrm>
            <a:off x="304920" y="38098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28"/>
              <p:cNvSpPr txBox="1"/>
              <p:nvPr/>
            </p:nvSpPr>
            <p:spPr>
              <a:xfrm>
                <a:off x="4495680" y="3346560"/>
                <a:ext cx="1526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38"/>
              <p:cNvSpPr txBox="1"/>
              <p:nvPr/>
            </p:nvSpPr>
            <p:spPr>
              <a:xfrm>
                <a:off x="2712960" y="4935600"/>
                <a:ext cx="56376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39"/>
              <p:cNvSpPr txBox="1"/>
              <p:nvPr/>
            </p:nvSpPr>
            <p:spPr>
              <a:xfrm>
                <a:off x="2712960" y="5621400"/>
                <a:ext cx="45900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0"/>
              <p:cNvSpPr txBox="1"/>
              <p:nvPr/>
            </p:nvSpPr>
            <p:spPr>
              <a:xfrm>
                <a:off x="2789280" y="6230880"/>
                <a:ext cx="3985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Text Box 41"/>
          <p:cNvSpPr/>
          <p:nvPr/>
        </p:nvSpPr>
        <p:spPr>
          <a:xfrm>
            <a:off x="3581280" y="56530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Force Required to Cause Mo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2"/>
          <p:cNvSpPr/>
          <p:nvPr/>
        </p:nvSpPr>
        <p:spPr>
          <a:xfrm>
            <a:off x="3581280" y="61102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Weight of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43"/>
          <p:cNvSpPr/>
          <p:nvPr/>
        </p:nvSpPr>
        <p:spPr>
          <a:xfrm>
            <a:off x="3581280" y="50436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Coefficient of Fr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45"/>
              <p:cNvSpPr txBox="1"/>
              <p:nvPr/>
            </p:nvSpPr>
            <p:spPr>
              <a:xfrm>
                <a:off x="228600" y="117360"/>
                <a:ext cx="2417760" cy="178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9" name="Text Box 46"/>
          <p:cNvSpPr/>
          <p:nvPr/>
        </p:nvSpPr>
        <p:spPr>
          <a:xfrm>
            <a:off x="2971800" y="244440"/>
            <a:ext cx="502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Coefficient of Static Fr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76320" y="76320"/>
            <a:ext cx="899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Using the Gears-IDS Battery to Calculate The         Sta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3" descr="C:\WINDOWS\Desktop\Table Top Robots\curriculum\physical science\Forces\slide shows\pics and images\battery_coefficient_frictionrev2.jpg"/>
          <p:cNvPicPr/>
          <p:nvPr/>
        </p:nvPicPr>
        <p:blipFill>
          <a:blip r:embed="rId1"/>
          <a:stretch/>
        </p:blipFill>
        <p:spPr>
          <a:xfrm>
            <a:off x="1371600" y="1981080"/>
            <a:ext cx="6477120" cy="33418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3962520" y="3745080"/>
                <a:ext cx="2133360" cy="15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Text Box 5"/>
          <p:cNvSpPr/>
          <p:nvPr/>
        </p:nvSpPr>
        <p:spPr>
          <a:xfrm>
            <a:off x="1828800" y="5532480"/>
            <a:ext cx="5867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oefficient of Fri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7"/>
              <p:cNvSpPr txBox="1"/>
              <p:nvPr/>
            </p:nvSpPr>
            <p:spPr>
              <a:xfrm>
                <a:off x="5111640" y="533520"/>
                <a:ext cx="9842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76320" y="168120"/>
            <a:ext cx="899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Record the Maximum Force 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(F)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(Before the Battery Begins to Mov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3" descr="C:\WINDOWS\Desktop\Table Top Robots\curriculum\physical science\Forces\slide shows\pics and images\battery_coefficient_frictionrev2.jpg"/>
          <p:cNvPicPr/>
          <p:nvPr/>
        </p:nvPicPr>
        <p:blipFill>
          <a:blip r:embed="rId1"/>
          <a:stretch/>
        </p:blipFill>
        <p:spPr>
          <a:xfrm>
            <a:off x="762120" y="1817640"/>
            <a:ext cx="7848360" cy="40496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3962520" y="4060800"/>
                <a:ext cx="2133360" cy="15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" name="Text Box 5"/>
          <p:cNvSpPr/>
          <p:nvPr/>
        </p:nvSpPr>
        <p:spPr>
          <a:xfrm>
            <a:off x="1981080" y="5638680"/>
            <a:ext cx="51055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1523880" y="21448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ximum Force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10 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7"/>
          <p:cNvSpPr/>
          <p:nvPr/>
        </p:nvSpPr>
        <p:spPr>
          <a:xfrm flipH="1">
            <a:off x="3962160" y="2786040"/>
            <a:ext cx="990360" cy="806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8"/>
          <p:cNvSpPr/>
          <p:nvPr/>
        </p:nvSpPr>
        <p:spPr>
          <a:xfrm>
            <a:off x="4952880" y="2786040"/>
            <a:ext cx="685800" cy="1274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152280" y="152280"/>
            <a:ext cx="5181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Record the Weight  (</a:t>
            </a: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W )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of the Batt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507960" y="1584360"/>
                <a:ext cx="2158920" cy="15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94" name="Picture 6" descr="C:\WINDOWS\Desktop\Table Top Robots\curriculum\physical science\Forces\slide shows\pics and images\weighing_battery.jpg"/>
          <p:cNvPicPr/>
          <p:nvPr/>
        </p:nvPicPr>
        <p:blipFill>
          <a:blip r:embed="rId1"/>
          <a:stretch/>
        </p:blipFill>
        <p:spPr>
          <a:xfrm>
            <a:off x="5630760" y="152280"/>
            <a:ext cx="3303720" cy="647712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sp>
        <p:nvSpPr>
          <p:cNvPr id="195" name="Line 7"/>
          <p:cNvSpPr/>
          <p:nvPr/>
        </p:nvSpPr>
        <p:spPr>
          <a:xfrm flipV="1">
            <a:off x="2666880" y="1980720"/>
            <a:ext cx="4191120" cy="68580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8" descr="C:\WINDOWS\Desktop\Table Top Robots\curriculum\physical science\Forces\slide shows\pics and images\scale_reading_coefficient.jpg"/>
          <p:cNvPicPr/>
          <p:nvPr/>
        </p:nvPicPr>
        <p:blipFill>
          <a:blip r:embed="rId2"/>
          <a:srcRect l="17828" t="29406" r="13741" b="13399"/>
          <a:stretch/>
        </p:blipFill>
        <p:spPr>
          <a:xfrm>
            <a:off x="2160720" y="3352680"/>
            <a:ext cx="3249360" cy="327348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sp>
        <p:nvSpPr>
          <p:cNvPr id="197" name="Line 9"/>
          <p:cNvSpPr/>
          <p:nvPr/>
        </p:nvSpPr>
        <p:spPr>
          <a:xfrm>
            <a:off x="2666880" y="2666880"/>
            <a:ext cx="1905120" cy="144792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0"/>
          <p:cNvSpPr/>
          <p:nvPr/>
        </p:nvSpPr>
        <p:spPr>
          <a:xfrm flipH="1">
            <a:off x="1295280" y="3181320"/>
            <a:ext cx="533520" cy="62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152280" y="4114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80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0T11:46:32Z</dcterms:created>
  <dc:creator>mymxfwcc4fmjxpffx4t6kwyg8</dc:creator>
  <dc:description/>
  <dc:language>en-US</dc:language>
  <cp:lastModifiedBy>LEGION</cp:lastModifiedBy>
  <dcterms:modified xsi:type="dcterms:W3CDTF">2018-04-03T08:58:39Z</dcterms:modified>
  <cp:revision>60</cp:revision>
  <dc:subject/>
  <dc:title>PowerPoint Presentation</dc:title>
</cp:coreProperties>
</file>