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9759-6E8A-49DB-9417-12D4B2855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4D45-4E5E-4685-AF32-3708E774360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BD4D-10B6-4C33-A8B8-0C0FDDFE9F1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29B2-0CF0-417D-AB67-35D4BA64F11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ACB0-C09A-472D-BF64-0FBFC63A800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57E3-A133-4A79-9FE3-4133320EC7C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06C0-0C88-4F56-BC12-51017EB4042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4E8A-AE8E-47D9-9B61-6D931784D60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56A8-9431-400E-87B3-D37F5B84C39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A3DE-3E1F-402A-B993-2C9DEA36A5E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1147-EB9A-46E0-983F-519EBC541BC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388F-A811-43CD-B6F5-ED3AFA70F4E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02CD-8303-40A6-90D3-076D69E5D24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A089-C99B-4FAB-B880-D5A69435798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153B-B5ED-4A68-8AE7-7988593E1F1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C8C5-E16C-41C8-AC80-6F076DF30EA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BA3F-B74F-4CE1-B05B-F0A4F453DD9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87F0-D43A-4E87-9F3E-AE73A981A72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4FD4-C72F-4514-8D27-346BE45E22C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B3A6-0035-4F4F-995F-4DF54DED595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A557-B995-4D7C-B537-6EA438B539A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D6AD-C34D-4490-947D-8AE6A1728F9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0DA3-2502-4CF6-BB1D-8E58AC2B7DA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16B8-9D19-48CE-B353-826874532F5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5E53-364B-4EA9-A56E-DD3E7C9FB1A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A9A3-9D57-40A1-958B-72A320E9A92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8535-8FB4-497F-B5A8-2835320253B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F4EE-EAB3-4CA1-A8BE-6F993D41CF3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6335-E218-4232-84C7-F3D773E440F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E18A-3BE4-4257-82A4-F27446B7137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7C11-B3D5-40F9-8B92-80B9F3460A2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F4B5-2C5F-4BE9-BD4D-E9A58B8DFC4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CEE9-7982-437D-8202-C913096C7DF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2F8F-3C2C-4661-9D3F-5FCEA50DB26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2D4B-4BA5-4F20-9D62-75DD4358B9A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4A51-81FA-419C-999C-F36D6BCB17B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7524-0A98-4A16-A34A-48358865311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0812-80D5-448F-92EF-3FFB9C61149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BC7D-EC0F-46DC-9E95-D1D86A6C4EF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3E4B-6023-4D84-AF7F-05357AF1F9D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7726-CC34-448C-A440-B2FCB2BEB90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7DBE-1073-41A1-A171-F81E202E60F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D1C-0A1A-413A-A5A1-A4138D52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C4A-D3CA-4F9D-A6AA-7396231C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3EF-C05A-4940-9E85-E0EBA288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5D8-4D01-4F40-AD5D-02F200D6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54A2-FE4D-49DC-A8ED-770A3500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E0D7-4313-442D-AA6F-E19EE6BB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3467-462F-41D0-8640-D7003934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B8DE-E0C8-4EBE-A027-10CACC96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8750-5CD2-4EC0-A6CC-654AB40C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FA17-F174-4718-81B7-555268B6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ABB7-6BCF-4E55-9304-E8CBEE86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991-4022-48FE-988A-90B24C4A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5217-5F8C-4698-A046-5ACD50D2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AEED-2B67-4BE3-A20C-5B43BA91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D4F6-A1F3-49FB-9703-AD236BBE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EA76-8FAB-4721-A102-67200710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583E-8F49-4119-A6B6-DA97E043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5E1-845B-4459-9850-6B2768E4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75F-E423-44CE-A776-0FFD8C29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6C1-5B1B-4445-BD62-CBDBD91C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694-EA9B-44DB-8326-12406532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632-2717-4514-8C63-9F479958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2A8-0C30-4366-A199-9BAF9C5F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803-35D9-464F-BF11-4EE06138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AF85-950A-40C6-A9B9-7655D16484A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FE24-A881-48C0-A72B-0FFADF29F5F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far as we know, humans have always been interested in the motions of objects in the sk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 only did early humans navigate by means of the sky, but the motions of objects in the sky predicted the changing of the seasons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Law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the orbits of the planets were not perfect circles, b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llips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ith the Sun at one foc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44" name="Oval 8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9" name="Нижний колонтитул 1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Second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a planet move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aster when ne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Sun, an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lower when f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Su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2" name="Group 1028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53" name="Oval 1029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Oval 1030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Oval 1031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Text Box 1032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Text Box 1033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8" name="Text Box 1034"/>
          <p:cNvSpPr/>
          <p:nvPr/>
        </p:nvSpPr>
        <p:spPr>
          <a:xfrm>
            <a:off x="1257480" y="4479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1035"/>
          <p:cNvSpPr/>
          <p:nvPr/>
        </p:nvSpPr>
        <p:spPr>
          <a:xfrm>
            <a:off x="2362320" y="4724280"/>
            <a:ext cx="38088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1036"/>
          <p:cNvSpPr/>
          <p:nvPr/>
        </p:nvSpPr>
        <p:spPr>
          <a:xfrm flipH="1" flipV="1">
            <a:off x="2666880" y="472428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1037"/>
          <p:cNvSpPr/>
          <p:nvPr/>
        </p:nvSpPr>
        <p:spPr>
          <a:xfrm flipH="1">
            <a:off x="2666880" y="480060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038"/>
          <p:cNvSpPr/>
          <p:nvPr/>
        </p:nvSpPr>
        <p:spPr>
          <a:xfrm>
            <a:off x="6498360" y="4327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ow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39"/>
          <p:cNvSpPr/>
          <p:nvPr/>
        </p:nvSpPr>
        <p:spPr>
          <a:xfrm flipH="1">
            <a:off x="6400440" y="4572000"/>
            <a:ext cx="2286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1040"/>
          <p:cNvSpPr/>
          <p:nvPr/>
        </p:nvSpPr>
        <p:spPr>
          <a:xfrm>
            <a:off x="6400800" y="4800600"/>
            <a:ext cx="76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1041"/>
          <p:cNvSpPr/>
          <p:nvPr/>
        </p:nvSpPr>
        <p:spPr>
          <a:xfrm flipV="1">
            <a:off x="6400800" y="47242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Нижний колонтитул 19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pler’s Laws provided a complet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kinematical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cription of planetary motion (including the motion of planetary satellites, like the Moon) - but </a:t>
            </a:r>
            <a:r>
              <a:rPr b="1" i="1" lang="en-US" sz="4800" spc="-1" strike="noStrike">
                <a:solidFill>
                  <a:srgbClr val="fcab4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id the planets move like tha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Apple &amp;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aac Newton realized that the motion of a falling apple and the motion of the Moon were both actuall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mo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caused b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-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438280" y="4287960"/>
            <a:ext cx="1906560" cy="203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562720" y="4254480"/>
            <a:ext cx="1371600" cy="207000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idea was that gravity wa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orce acting betwee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any two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7254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191120" y="2782800"/>
            <a:ext cx="1244520" cy="1290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85572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4038480" y="5375160"/>
            <a:ext cx="1371600" cy="1150920"/>
          </a:xfrm>
          <a:prstGeom prst="rect">
            <a:avLst/>
          </a:prstGeom>
          <a:ln w="0">
            <a:noFill/>
          </a:ln>
        </p:spPr>
      </p:pic>
      <p:cxnSp>
        <p:nvCxnSpPr>
          <p:cNvPr id="181" name="AutoShape 8"/>
          <p:cNvCxnSpPr/>
          <p:nvPr/>
        </p:nvCxnSpPr>
        <p:spPr>
          <a:xfrm>
            <a:off x="5334120" y="3809520"/>
            <a:ext cx="1219680" cy="114372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AutoShape 9"/>
          <p:cNvCxnSpPr/>
          <p:nvPr/>
        </p:nvCxnSpPr>
        <p:spPr>
          <a:xfrm flipH="1">
            <a:off x="2801160" y="3428640"/>
            <a:ext cx="1389960" cy="12200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10"/>
          <p:cNvCxnSpPr/>
          <p:nvPr/>
        </p:nvCxnSpPr>
        <p:spPr>
          <a:xfrm>
            <a:off x="4876560" y="4038120"/>
            <a:ext cx="1080" cy="13374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11"/>
          <p:cNvCxnSpPr/>
          <p:nvPr/>
        </p:nvCxnSpPr>
        <p:spPr>
          <a:xfrm>
            <a:off x="2858760" y="4610160"/>
            <a:ext cx="1027800" cy="12578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2"/>
          <p:cNvCxnSpPr/>
          <p:nvPr/>
        </p:nvCxnSpPr>
        <p:spPr>
          <a:xfrm flipH="1">
            <a:off x="5409360" y="4952880"/>
            <a:ext cx="1143720" cy="9990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AutoShape 14"/>
          <p:cNvCxnSpPr/>
          <p:nvPr/>
        </p:nvCxnSpPr>
        <p:spPr>
          <a:xfrm>
            <a:off x="2858760" y="4610160"/>
            <a:ext cx="3694680" cy="3434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7" name="Нижний колонтитул 1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t the Earth’s Surfa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 that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the apple equals the apple’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weight, mg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re 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85436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Line 5"/>
          <p:cNvSpPr/>
          <p:nvPr/>
        </p:nvSpPr>
        <p:spPr>
          <a:xfrm>
            <a:off x="5486400" y="4800600"/>
            <a:ext cx="0" cy="16002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477040" y="52578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 = m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reasoned that the centripetal force on the moon was also supplied by the Earth’s gravitational for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819520" y="3733920"/>
            <a:ext cx="2209680" cy="213336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4952880" y="472428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3809880" y="4724280"/>
            <a:ext cx="304920" cy="304920"/>
          </a:xfrm>
          <a:prstGeom prst="ellipse">
            <a:avLst/>
          </a:prstGeom>
          <a:solidFill>
            <a:srgbClr val="8fb8f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4266720" y="4876920"/>
            <a:ext cx="7621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148000" y="4189320"/>
            <a:ext cx="19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= m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827320" y="3930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4876920" y="4648320"/>
            <a:ext cx="36324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51444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13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calculations showed that the centripetal force needed for the Moon’s motion was about 1/360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Mg, however, where M is the mass of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4191120"/>
            <a:ext cx="1959120" cy="2057400"/>
          </a:xfrm>
          <a:prstGeom prst="rect">
            <a:avLst/>
          </a:prstGeom>
          <a:ln w="0">
            <a:noFill/>
          </a:ln>
        </p:spPr>
      </p:pic>
      <p:sp>
        <p:nvSpPr>
          <p:cNvPr id="20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, though, that the Moon was abo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60 times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center of the Earth than the app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6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= 36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m this, Newton reasoned that the strength of the gravitational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ot consta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in fact, the magnitude of the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ly proportional to the square of the dista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were many early attempts both to describe and explain the motions of stars and planets in the sk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were unsatisfactory, for one reason or ano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concluded that the gravitational force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mass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w of 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symbols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ewton’s Law of Universal Gravit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grav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re G is a constant of proportionali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 = 6.67 x 10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N m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301920" y="358128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352680" y="35812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e Square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Law of Universal Gravitation is often called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 square l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since the force is inversely proportional to the square of the dista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 Inverse-Square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9" descr="Fgrav_graph2"/>
          <p:cNvPicPr/>
          <p:nvPr/>
        </p:nvPicPr>
        <p:blipFill>
          <a:blip r:embed="rId1"/>
          <a:stretch/>
        </p:blipFill>
        <p:spPr>
          <a:xfrm>
            <a:off x="685800" y="144792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230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Law of Universal Gravitation allowe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extremely accurate prediction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orbi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avendi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asured gravitational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orces between human-scale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fore 1800.  His experiments were later simplified and improved by von Jo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ion at a Dist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Newton’s time, there was much discussion about HOW gravity worked - how does the Sun, for instance, reach across empty space, with no actual contact at all, to exert a force on the Eart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spooky notion was called “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ction at a distance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ring the 19th century, the notion of the “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 entered physics (via Michael Faraday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s with mass create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isible disturbance in the space around the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is felt by other massive objects - this i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, since the Sun is very massive, it creates an intense gravitational field around it, and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arth responds to the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No more “action at a distance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measure the strength of the gravitational field at any point, measure the gravitational force, F,  exerted on any “test mass”, 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 Strength, g = F/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ar the surface of the Earth, g = F/m = 9.8 N/k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general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 = GM/r</a:t>
            </a:r>
            <a:r>
              <a:rPr b="1" i="1" lang="en-US" sz="3200" spc="-1" strike="noStrike" baseline="30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here M is the mass of the object creating the field, r is the distance from the object’s center, and G = 6.67 x1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m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arth-Centered Uni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e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Earth-centered) solar system is often credited to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Ptolem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 Alexandrian Greek, although the idea is very 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Picture 1028" descr="Heraclides_SS"/>
          <p:cNvPicPr/>
          <p:nvPr/>
        </p:nvPicPr>
        <p:blipFill>
          <a:blip r:embed="rId1"/>
          <a:stretch/>
        </p:blipFill>
        <p:spPr>
          <a:xfrm>
            <a:off x="3886200" y="3276720"/>
            <a:ext cx="4572000" cy="289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29"/>
          <p:cNvSpPr/>
          <p:nvPr/>
        </p:nvSpPr>
        <p:spPr>
          <a:xfrm>
            <a:off x="3962520" y="63244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strength of the gravitational field at some point, then the gravitational force on an object of mass m at that point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</a:t>
            </a:r>
            <a:r>
              <a:rPr b="1" i="1" lang="en-US" sz="3200" spc="-1" strike="noStrike" baseline="-25000">
                <a:solidFill>
                  <a:srgbClr val="ccff33"/>
                </a:solidFill>
                <a:latin typeface="Arial"/>
              </a:rPr>
              <a:t>grav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= m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gravitational field strength at some point (in N/kg), then the free fall acceleration at that point is also g (in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are located a distance r from the center of a plan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pulls you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toward the center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of the plane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exerts </a:t>
            </a: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net gravitational for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you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blue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pulls you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toward point 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rey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oe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not pull you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5" descr="Untitled-2"/>
          <p:cNvPicPr/>
          <p:nvPr/>
        </p:nvPicPr>
        <p:blipFill>
          <a:blip r:embed="rId1"/>
          <a:stretch/>
        </p:blipFill>
        <p:spPr>
          <a:xfrm>
            <a:off x="5562720" y="19051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25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alf way to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g ha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one-half of its surface valu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t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 = 0 N/k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6" descr="g_inside_earth"/>
          <p:cNvPicPr/>
          <p:nvPr/>
        </p:nvPicPr>
        <p:blipFill>
          <a:blip r:embed="rId1"/>
          <a:stretch/>
        </p:blipFill>
        <p:spPr>
          <a:xfrm>
            <a:off x="1905120" y="2859120"/>
            <a:ext cx="6311880" cy="3998880"/>
          </a:xfrm>
          <a:prstGeom prst="rect">
            <a:avLst/>
          </a:prstGeom>
          <a:ln w="0">
            <a:noFill/>
          </a:ln>
        </p:spPr>
      </p:pic>
      <p:sp>
        <p:nvSpPr>
          <p:cNvPr id="262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 very massive star gets old and runs out of fusionable material, gravitational forces may cause it to collapse to a mathematical point -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ingular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All normal matter is crushed out of existence.  This is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black hol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Picture 4" descr="blackhole_gravity"/>
          <p:cNvPicPr/>
          <p:nvPr/>
        </p:nvPicPr>
        <p:blipFill>
          <a:blip r:embed="rId1"/>
          <a:stretch/>
        </p:blipFill>
        <p:spPr>
          <a:xfrm>
            <a:off x="1066680" y="1371600"/>
            <a:ext cx="8077320" cy="5110200"/>
          </a:xfrm>
          <a:prstGeom prst="rect">
            <a:avLst/>
          </a:prstGeom>
          <a:ln w="0">
            <a:noFill/>
          </a:ln>
        </p:spPr>
      </p:pic>
      <p:sp>
        <p:nvSpPr>
          <p:cNvPr id="269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ame as the original star’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distances greater than the star’s original radi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lack hole’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agically “suck things in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intense because you can get really, really close to i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th’s T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2 high tides and 2 low tides per d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tides follow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4" descr="tide_diagram"/>
          <p:cNvPicPr/>
          <p:nvPr/>
        </p:nvPicPr>
        <p:blipFill>
          <a:blip r:embed="rId1"/>
          <a:stretch/>
        </p:blipFill>
        <p:spPr>
          <a:xfrm>
            <a:off x="2438280" y="3657600"/>
            <a:ext cx="5410440" cy="2625840"/>
          </a:xfrm>
          <a:prstGeom prst="rect">
            <a:avLst/>
          </a:prstGeom>
          <a:ln w="0">
            <a:noFill/>
          </a:ln>
        </p:spPr>
      </p:pic>
      <p:sp>
        <p:nvSpPr>
          <p:cNvPr id="276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ides are caused by th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stretc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a pla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retching is caused by a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difference in forc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the two sides of an o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ravitational force depends on 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re is more gravitational force on the side of Earth closest to the Moon and less gravitational force on the side of Earth farther from the Mo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th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Picture 4" descr="tideforce"/>
          <p:cNvPicPr/>
          <p:nvPr/>
        </p:nvPicPr>
        <p:blipFill>
          <a:blip r:embed="rId1"/>
          <a:stretch/>
        </p:blipFill>
        <p:spPr>
          <a:xfrm>
            <a:off x="2133720" y="3405240"/>
            <a:ext cx="4854600" cy="1982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fgrav_eqn"/>
          <p:cNvPicPr/>
          <p:nvPr/>
        </p:nvPicPr>
        <p:blipFill>
          <a:blip r:embed="rId2"/>
          <a:stretch/>
        </p:blipFill>
        <p:spPr>
          <a:xfrm>
            <a:off x="4572000" y="1828800"/>
            <a:ext cx="2882880" cy="113508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tolemy’s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tolemy’s solar system could be made to fit the observational data pretty well, but only by becoming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mplica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4" descr="epicycle_deferent"/>
          <p:cNvPicPr/>
          <p:nvPr/>
        </p:nvPicPr>
        <p:blipFill>
          <a:blip r:embed="rId1"/>
          <a:stretch/>
        </p:blipFill>
        <p:spPr>
          <a:xfrm>
            <a:off x="2209680" y="3276720"/>
            <a:ext cx="4496040" cy="293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886200" y="6324480"/>
            <a:ext cx="525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n’s gravitational pull on Earth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larg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the Moon’s gravitational pull on Earth.  So why do the tides follow the Moon and not the Su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ce the Sun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Earth than the Moon, the difference in distance across Earth is much less significant for the Sun than the Moon, therefore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ifference in gravitational force on the two sides of Earth is less for the 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for the Moon (even though the Sun’s force on Earth is more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oes have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mall effec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Earth’s tides, but the major effect is due to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429000" y="23194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pernicus’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olish cleric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opernicu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roposed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eli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n centered) solar system in the 15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Picture 1028" descr="Aristarchus_SS"/>
          <p:cNvPicPr/>
          <p:nvPr/>
        </p:nvPicPr>
        <p:blipFill>
          <a:blip r:embed="rId1"/>
          <a:stretch/>
        </p:blipFill>
        <p:spPr>
          <a:xfrm>
            <a:off x="2819520" y="3352680"/>
            <a:ext cx="4647960" cy="3086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29"/>
          <p:cNvSpPr/>
          <p:nvPr/>
        </p:nvSpPr>
        <p:spPr>
          <a:xfrm>
            <a:off x="3832200" y="6553080"/>
            <a:ext cx="531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ons to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could Earth be moving at enormous speeds when we don’t feel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Copernicus didn’t know about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can’t we detect Earth’s motion against the background stars (stellar parallax)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pernicus’ model did </a:t>
            </a:r>
            <a:r>
              <a:rPr b="0" lang="en-US" sz="54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it the observational data very we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alileo &amp;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alileo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came convinced that Copernicus was correct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by observ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the Sun, Venus, and the moons of Jupiter using the newly-invented telesco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haps Galileo was motivated to understand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y his desire to understand and defend Copernicus’ id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late 1500’s, a Danish nobleman named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Tycho Brah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et out to make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most accurate measure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motions to date, in order to validate his own ideas of planetary mo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ycho’s data was successfully interpreted by the German mathematician and scientis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Johannes 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the early 16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9:59:40Z</dcterms:created>
  <dc:creator>Media Center</dc:creator>
  <dc:description/>
  <dc:language>en-US</dc:language>
  <cp:lastModifiedBy>Asus</cp:lastModifiedBy>
  <cp:lastPrinted>2002-01-31T07:45:58Z</cp:lastPrinted>
  <dcterms:modified xsi:type="dcterms:W3CDTF">2018-03-09T16:14:35Z</dcterms:modified>
  <cp:revision>71</cp:revision>
  <dc:subject/>
  <dc:title>PowerPoint Presentation  -</dc:title>
</cp:coreProperties>
</file>