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wmf" ContentType="image/x-wmf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76A4E-0879-4B65-8DC0-CC98EDFA93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52627-F858-47E9-81EC-70D9950B9766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0A379-7293-48D5-8294-17905A0DF2B1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6DF2D-D530-4A2C-B57F-C8A9E7198FF6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29555-12F1-4D69-9564-F6D4634D1423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3DF65-6C32-477F-BC5D-CBC77155C0C5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6C023-2DDB-4CF7-8BAB-5416657E0283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CA6F6-40B3-4EF4-9836-47280EE63C38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C2362-CE17-4A7A-B528-B0217B0A6795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5F763-80A6-49D8-BF68-D7D7C6492620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ADBA6-C284-43F7-874A-0BD3B57B6B6A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5B7BE-7069-4EDF-8BF2-D4E0C0C55C3B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60985-0D46-4E4C-96D5-30E734913792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93860-FCF7-4618-B700-D095A154C04E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C88A0-C02D-4213-AE27-9AA9122A9567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2ACD2-EF36-4285-A301-2AE052FD0A20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79AE8-D954-4359-BACA-4A5480428FE0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A7538-D623-49E7-82A8-CCA2324E37B7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7B6F5-4DA5-416A-9A55-C9195ADD2E50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F1267-B951-4A56-93D8-0C819EE4C33C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E8829-6D52-4AE4-9900-2164D3DD1398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5F718-E185-470D-B1B0-BBDA58CA7C0F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2A5C4-9674-42E5-B80C-0738F0ABEC38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78E23-1154-4288-BFBC-7F18B8260E71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7F5B8-AB18-473B-9153-416B5CA6833B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656C9-7C87-4A08-BBB7-BB4E41D531A3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BD43B-C771-4619-AEDA-D8A1A945C5EC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E4816-D608-4DB8-9360-EB63B59BB08B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1E2F1-9AB9-4A4F-8909-837A8E6A4ACB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3E971-F16A-4180-B691-8B9D46091CAF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77DB0-505D-4BAF-8EFE-BD8719B01D09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8A6A-26BE-4BDE-B525-68AEBC8CDBA5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2B44A-5900-42A4-95DB-6A925275F03C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C61DE-2C9A-422E-8906-9C49FAD98133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52648-BC09-4E40-B448-332336D56F68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5CD7F-28EE-451B-BBAC-C8A96F2B70AC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40630-C63B-4227-89BB-5C244F029329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24C92-1647-474F-A61B-E03CC702F361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8B79C-7282-4E0B-B446-A62B2AED60DF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34BBF-BB29-45D5-BFC5-F0A0DFF086B6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A2EF7-EDDC-4675-8986-2B01DC4B66C7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 12 No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FA8E1-7ED5-4930-A3C9-003DEB5157B1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AD20-D8E0-4513-A037-8B5DE6401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BEAD-24DB-4D41-BC8C-AC8499C8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C524-7E7B-4B08-9D33-EA72C10B8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9D6B-073B-4D14-B458-4A32C015E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1C858-03D5-41B1-8EFF-C656A9E2E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D73FD-FFD9-471A-9DE2-B398FFBBD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761E2-D8CB-47AB-8B75-F00CF2E5B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FEFA6-DA72-489F-88DE-0DDFAD28E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28E73-49C8-4CFF-B95A-1FD2662A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EE839-CFEC-4D11-924F-4DA0C4929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B5297-6729-41EA-AB85-0BC80133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2448-F957-444D-9F36-1C907E976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10DAA-78A7-4B77-8E39-E9DB6310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4B061-FBA2-4929-95C6-FF1035B2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F9178-ECBF-4A4A-B3E0-4987BECB1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B40DA-D9E4-4B28-833C-90AD4E3D0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1BDB7-FA91-455F-965F-C91388E12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A29F-8D02-4EF6-A0CD-62D91B0EB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9D6D-3A0F-47C0-B31A-BC4D4BC56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95EC-43C1-44F3-B5EC-B545B6A76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296A-633A-4DF2-BECD-9464EF322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34D6-0C04-459A-B418-5F26750B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F49A-AE32-499B-B878-DC4D2CC7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6A0F-80B4-45F7-8C52-183EE573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>
              <a:gd name="textAreaLeft" fmla="*/ 0 w 2268720"/>
              <a:gd name="textAreaRight" fmla="*/ 2269080 w 2268720"/>
              <a:gd name="textAreaTop" fmla="*/ 0 h 2709720"/>
              <a:gd name="textAreaBottom" fmla="*/ 2710080 h 2709720"/>
            </a:gdLst>
            <a:ahLst/>
            <a:rect l="textAreaLeft" t="textAreaTop" r="textAreaRight" b="textAreaBottom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>
              <a:gd name="textAreaLeft" fmla="*/ 0 w 838080"/>
              <a:gd name="textAreaRight" fmla="*/ 838440 w 838080"/>
              <a:gd name="textAreaTop" fmla="*/ 0 h 787320"/>
              <a:gd name="textAreaBottom" fmla="*/ 787680 h 787320"/>
            </a:gdLst>
            <a:ahLst/>
            <a:rect l="textAreaLeft" t="textAreaTop" r="textAreaRight" b="textAreaBottom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>
              <a:gd name="textAreaLeft" fmla="*/ 0 w 2266920"/>
              <a:gd name="textAreaRight" fmla="*/ 2267280 w 2266920"/>
              <a:gd name="textAreaTop" fmla="*/ 0 h 2270160"/>
              <a:gd name="textAreaBottom" fmla="*/ 2270520 h 227016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>
              <a:gd name="textAreaLeft" fmla="*/ 0 w 3670200"/>
              <a:gd name="textAreaRight" fmla="*/ 3670560 w 3670200"/>
              <a:gd name="textAreaTop" fmla="*/ 0 h 3671640"/>
              <a:gd name="textAreaBottom" fmla="*/ 3672000 h 36716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>
              <a:gd name="textAreaLeft" fmla="*/ 0 w 3417840"/>
              <a:gd name="textAreaRight" fmla="*/ 3418200 w 341784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>
              <a:gd name="textAreaLeft" fmla="*/ 0 w 2263680"/>
              <a:gd name="textAreaRight" fmla="*/ 2263680 w 2263680"/>
              <a:gd name="textAreaTop" fmla="*/ 0 h 2264040"/>
              <a:gd name="textAreaBottom" fmla="*/ 2264400 h 22640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>
              <a:gd name="textAreaLeft" fmla="*/ 0 w 2928960"/>
              <a:gd name="textAreaRight" fmla="*/ 2929320 w 2928960"/>
              <a:gd name="textAreaTop" fmla="*/ 0 h 2930400"/>
              <a:gd name="textAreaBottom" fmla="*/ 2930760 h 293040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3997080"/>
              <a:gd name="textAreaBottom" fmla="*/ 3997440 h 399708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Picture 10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C87CD-3958-4D10-A6B2-6AB84A0903F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>
              <a:gd name="textAreaLeft" fmla="*/ 0 w 2268720"/>
              <a:gd name="textAreaRight" fmla="*/ 2269080 w 2268720"/>
              <a:gd name="textAreaTop" fmla="*/ 0 h 2709720"/>
              <a:gd name="textAreaBottom" fmla="*/ 2710080 h 2709720"/>
            </a:gdLst>
            <a:ahLst/>
            <a:rect l="textAreaLeft" t="textAreaTop" r="textAreaRight" b="textAreaBottom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>
              <a:gd name="textAreaLeft" fmla="*/ 0 w 838080"/>
              <a:gd name="textAreaRight" fmla="*/ 838440 w 838080"/>
              <a:gd name="textAreaTop" fmla="*/ 0 h 787320"/>
              <a:gd name="textAreaBottom" fmla="*/ 787680 h 787320"/>
            </a:gdLst>
            <a:ahLst/>
            <a:rect l="textAreaLeft" t="textAreaTop" r="textAreaRight" b="textAreaBottom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>
              <a:gd name="textAreaLeft" fmla="*/ 0 w 2266920"/>
              <a:gd name="textAreaRight" fmla="*/ 2267280 w 2266920"/>
              <a:gd name="textAreaTop" fmla="*/ 0 h 2270160"/>
              <a:gd name="textAreaBottom" fmla="*/ 2270520 h 227016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>
              <a:gd name="textAreaLeft" fmla="*/ 0 w 3670200"/>
              <a:gd name="textAreaRight" fmla="*/ 3670560 w 3670200"/>
              <a:gd name="textAreaTop" fmla="*/ 0 h 3671640"/>
              <a:gd name="textAreaBottom" fmla="*/ 3672000 h 36716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>
              <a:gd name="textAreaLeft" fmla="*/ 0 w 3417840"/>
              <a:gd name="textAreaRight" fmla="*/ 3418200 w 341784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>
              <a:gd name="textAreaLeft" fmla="*/ 0 w 2263680"/>
              <a:gd name="textAreaRight" fmla="*/ 2263680 w 2263680"/>
              <a:gd name="textAreaTop" fmla="*/ 0 h 2264040"/>
              <a:gd name="textAreaBottom" fmla="*/ 2264400 h 22640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>
              <a:gd name="textAreaLeft" fmla="*/ 0 w 2928960"/>
              <a:gd name="textAreaRight" fmla="*/ 2929320 w 2928960"/>
              <a:gd name="textAreaTop" fmla="*/ 0 h 2930400"/>
              <a:gd name="textAreaBottom" fmla="*/ 2930760 h 293040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3997080"/>
              <a:gd name="textAreaBottom" fmla="*/ 3997440 h 399708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Freeform 10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>
              <a:gd name="textAreaLeft" fmla="*/ 0 w 1722600"/>
              <a:gd name="textAreaRight" fmla="*/ 1722960 w 172260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Picture 11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C82F9-26BE-4440-855C-08F8831644E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arly Astronom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 far as we know, humans have always been interested in the motions of objects in the sk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t only did early humans navigate by means of the sky, but the motions of objects in the sky predicted the changing of the seasons, etc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Kepler’s Law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Keple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determined that the orbits of the planets were not perfect circles, but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ellipse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with the Sun at one focu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43" name="Group 7"/>
          <p:cNvGrpSpPr/>
          <p:nvPr/>
        </p:nvGrpSpPr>
        <p:grpSpPr>
          <a:xfrm>
            <a:off x="2789280" y="3581280"/>
            <a:ext cx="3778560" cy="2438280"/>
            <a:chOff x="2789280" y="3581280"/>
            <a:chExt cx="3778560" cy="2438280"/>
          </a:xfrm>
        </p:grpSpPr>
        <p:sp>
          <p:nvSpPr>
            <p:cNvPr id="144" name="Oval 8"/>
            <p:cNvSpPr/>
            <p:nvPr/>
          </p:nvSpPr>
          <p:spPr>
            <a:xfrm>
              <a:off x="2789280" y="3809880"/>
              <a:ext cx="3580920" cy="2209680"/>
            </a:xfrm>
            <a:prstGeom prst="ellipse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" name="Oval 9"/>
            <p:cNvSpPr/>
            <p:nvPr/>
          </p:nvSpPr>
          <p:spPr>
            <a:xfrm>
              <a:off x="3474720" y="4724280"/>
              <a:ext cx="304560" cy="304560"/>
            </a:xfrm>
            <a:prstGeom prst="ellipse">
              <a:avLst/>
            </a:prstGeom>
            <a:solidFill>
              <a:srgbClr val="fcab4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5684400" y="3962160"/>
              <a:ext cx="228240" cy="228600"/>
            </a:xfrm>
            <a:prstGeom prst="ellipse">
              <a:avLst/>
            </a:prstGeom>
            <a:solidFill>
              <a:srgbClr val="b97c01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" name="Text Box 11"/>
            <p:cNvSpPr/>
            <p:nvPr/>
          </p:nvSpPr>
          <p:spPr>
            <a:xfrm>
              <a:off x="3287160" y="43430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Sun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" name="Text Box 12"/>
            <p:cNvSpPr/>
            <p:nvPr/>
          </p:nvSpPr>
          <p:spPr>
            <a:xfrm>
              <a:off x="5289840" y="3581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Planet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49" name="Нижний колонтитул 1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Kepler’s Second La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Keple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determined that a planet moves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faster when nea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the Sun, and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slower when fa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from the Su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52" name="Group 1028"/>
          <p:cNvGrpSpPr/>
          <p:nvPr/>
        </p:nvGrpSpPr>
        <p:grpSpPr>
          <a:xfrm>
            <a:off x="2789280" y="3581280"/>
            <a:ext cx="3778560" cy="2438280"/>
            <a:chOff x="2789280" y="3581280"/>
            <a:chExt cx="3778560" cy="2438280"/>
          </a:xfrm>
        </p:grpSpPr>
        <p:sp>
          <p:nvSpPr>
            <p:cNvPr id="153" name="Oval 1029"/>
            <p:cNvSpPr/>
            <p:nvPr/>
          </p:nvSpPr>
          <p:spPr>
            <a:xfrm>
              <a:off x="2789280" y="3809880"/>
              <a:ext cx="3580920" cy="2209680"/>
            </a:xfrm>
            <a:prstGeom prst="ellipse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" name="Oval 1030"/>
            <p:cNvSpPr/>
            <p:nvPr/>
          </p:nvSpPr>
          <p:spPr>
            <a:xfrm>
              <a:off x="3474720" y="4724280"/>
              <a:ext cx="304560" cy="304560"/>
            </a:xfrm>
            <a:prstGeom prst="ellipse">
              <a:avLst/>
            </a:prstGeom>
            <a:solidFill>
              <a:srgbClr val="fcab4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" name="Oval 1031"/>
            <p:cNvSpPr/>
            <p:nvPr/>
          </p:nvSpPr>
          <p:spPr>
            <a:xfrm>
              <a:off x="5684400" y="3962160"/>
              <a:ext cx="228240" cy="228600"/>
            </a:xfrm>
            <a:prstGeom prst="ellipse">
              <a:avLst/>
            </a:prstGeom>
            <a:solidFill>
              <a:srgbClr val="b97c01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" name="Text Box 1032"/>
            <p:cNvSpPr/>
            <p:nvPr/>
          </p:nvSpPr>
          <p:spPr>
            <a:xfrm>
              <a:off x="3287160" y="43430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Sun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" name="Text Box 1033"/>
            <p:cNvSpPr/>
            <p:nvPr/>
          </p:nvSpPr>
          <p:spPr>
            <a:xfrm>
              <a:off x="5289840" y="3581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Planet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58" name="Text Box 1034"/>
          <p:cNvSpPr/>
          <p:nvPr/>
        </p:nvSpPr>
        <p:spPr>
          <a:xfrm>
            <a:off x="1257480" y="44798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as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Line 1035"/>
          <p:cNvSpPr/>
          <p:nvPr/>
        </p:nvSpPr>
        <p:spPr>
          <a:xfrm>
            <a:off x="2362320" y="4724280"/>
            <a:ext cx="380880" cy="76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Line 1036"/>
          <p:cNvSpPr/>
          <p:nvPr/>
        </p:nvSpPr>
        <p:spPr>
          <a:xfrm flipH="1" flipV="1">
            <a:off x="2666880" y="4724280"/>
            <a:ext cx="76320" cy="76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Line 1037"/>
          <p:cNvSpPr/>
          <p:nvPr/>
        </p:nvSpPr>
        <p:spPr>
          <a:xfrm flipH="1">
            <a:off x="2666880" y="4800600"/>
            <a:ext cx="76320" cy="76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Text Box 1038"/>
          <p:cNvSpPr/>
          <p:nvPr/>
        </p:nvSpPr>
        <p:spPr>
          <a:xfrm>
            <a:off x="6498360" y="43275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low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Line 1039"/>
          <p:cNvSpPr/>
          <p:nvPr/>
        </p:nvSpPr>
        <p:spPr>
          <a:xfrm flipH="1">
            <a:off x="6400440" y="4572000"/>
            <a:ext cx="22860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Line 1040"/>
          <p:cNvSpPr/>
          <p:nvPr/>
        </p:nvSpPr>
        <p:spPr>
          <a:xfrm>
            <a:off x="6400800" y="4800600"/>
            <a:ext cx="763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Line 1041"/>
          <p:cNvSpPr/>
          <p:nvPr/>
        </p:nvSpPr>
        <p:spPr>
          <a:xfrm flipV="1">
            <a:off x="6400800" y="4724280"/>
            <a:ext cx="0" cy="76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Нижний колонтитул 19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epler’s Laws provided a complete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kinematical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cription of planetary motion (including the motion of planetary satellites, like the Moon) - but </a:t>
            </a:r>
            <a:r>
              <a:rPr b="1" i="1" lang="en-US" sz="4800" spc="-1" strike="noStrike">
                <a:solidFill>
                  <a:srgbClr val="fcab40"/>
                </a:solidFill>
                <a:latin typeface="Arial"/>
              </a:rPr>
              <a:t>why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did the planets move like that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9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Apple &amp; the Mo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saac Newton realized that the motion of a falling apple and the motion of the Moon were both actually the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same motio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caused by the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same forc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- the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gravitational forc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2" name="Picture 5" descr=""/>
          <p:cNvPicPr/>
          <p:nvPr/>
        </p:nvPicPr>
        <p:blipFill>
          <a:blip r:embed="rId1"/>
          <a:stretch/>
        </p:blipFill>
        <p:spPr>
          <a:xfrm>
            <a:off x="2438280" y="4287960"/>
            <a:ext cx="1906560" cy="20365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"/>
          <p:cNvPicPr/>
          <p:nvPr/>
        </p:nvPicPr>
        <p:blipFill>
          <a:blip r:embed="rId2"/>
          <a:stretch/>
        </p:blipFill>
        <p:spPr>
          <a:xfrm>
            <a:off x="5562720" y="4254480"/>
            <a:ext cx="1371600" cy="2070000"/>
          </a:xfrm>
          <a:prstGeom prst="rect">
            <a:avLst/>
          </a:prstGeom>
          <a:ln w="0">
            <a:noFill/>
          </a:ln>
        </p:spPr>
      </p:pic>
      <p:sp>
        <p:nvSpPr>
          <p:cNvPr id="174" name="Нижний колонтитул 7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Universal Gravi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wton’s idea was that gravity was a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universal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force acting between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any two object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2133720" y="4267080"/>
            <a:ext cx="725400" cy="6858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"/>
          <p:cNvPicPr/>
          <p:nvPr/>
        </p:nvPicPr>
        <p:blipFill>
          <a:blip r:embed="rId2"/>
          <a:stretch/>
        </p:blipFill>
        <p:spPr>
          <a:xfrm>
            <a:off x="4191120" y="2782800"/>
            <a:ext cx="1244520" cy="12906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6553080" y="4495680"/>
            <a:ext cx="855720" cy="914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4038480" y="5375160"/>
            <a:ext cx="1371600" cy="1150920"/>
          </a:xfrm>
          <a:prstGeom prst="rect">
            <a:avLst/>
          </a:prstGeom>
          <a:ln w="0">
            <a:noFill/>
          </a:ln>
        </p:spPr>
      </p:pic>
      <p:cxnSp>
        <p:nvCxnSpPr>
          <p:cNvPr id="181" name="AutoShape 8"/>
          <p:cNvCxnSpPr/>
          <p:nvPr/>
        </p:nvCxnSpPr>
        <p:spPr>
          <a:xfrm>
            <a:off x="5334120" y="3809520"/>
            <a:ext cx="1219680" cy="1143720"/>
          </a:xfrm>
          <a:prstGeom prst="straightConnector1">
            <a:avLst/>
          </a:prstGeom>
          <a:ln w="381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2" name="AutoShape 9"/>
          <p:cNvCxnSpPr/>
          <p:nvPr/>
        </p:nvCxnSpPr>
        <p:spPr>
          <a:xfrm flipH="1">
            <a:off x="2801160" y="3428640"/>
            <a:ext cx="1389960" cy="1220040"/>
          </a:xfrm>
          <a:prstGeom prst="straightConnector1">
            <a:avLst/>
          </a:prstGeom>
          <a:ln w="381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3" name="AutoShape 10"/>
          <p:cNvCxnSpPr/>
          <p:nvPr/>
        </p:nvCxnSpPr>
        <p:spPr>
          <a:xfrm>
            <a:off x="4876560" y="4038120"/>
            <a:ext cx="1080" cy="1337400"/>
          </a:xfrm>
          <a:prstGeom prst="straightConnector1">
            <a:avLst/>
          </a:prstGeom>
          <a:ln w="381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4" name="AutoShape 11"/>
          <p:cNvCxnSpPr/>
          <p:nvPr/>
        </p:nvCxnSpPr>
        <p:spPr>
          <a:xfrm>
            <a:off x="2858760" y="4610160"/>
            <a:ext cx="1027800" cy="1257840"/>
          </a:xfrm>
          <a:prstGeom prst="straightConnector1">
            <a:avLst/>
          </a:prstGeom>
          <a:ln w="381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5" name="AutoShape 12"/>
          <p:cNvCxnSpPr/>
          <p:nvPr/>
        </p:nvCxnSpPr>
        <p:spPr>
          <a:xfrm flipH="1">
            <a:off x="5409360" y="4952880"/>
            <a:ext cx="1143720" cy="999000"/>
          </a:xfrm>
          <a:prstGeom prst="straightConnector1">
            <a:avLst/>
          </a:prstGeom>
          <a:ln w="381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6" name="AutoShape 14"/>
          <p:cNvCxnSpPr/>
          <p:nvPr/>
        </p:nvCxnSpPr>
        <p:spPr>
          <a:xfrm>
            <a:off x="2858760" y="4610160"/>
            <a:ext cx="3694680" cy="343440"/>
          </a:xfrm>
          <a:prstGeom prst="straightConnector1">
            <a:avLst/>
          </a:prstGeom>
          <a:ln w="381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7" name="Нижний колонтитул 1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t the Earth’s Surfa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wton knew that the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gravitational forc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n the apple equals the apple’s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weight, mg,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ere g = 9.8 m/s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1854360" cy="1981080"/>
          </a:xfrm>
          <a:prstGeom prst="rect">
            <a:avLst/>
          </a:prstGeom>
          <a:ln w="0">
            <a:noFill/>
          </a:ln>
        </p:spPr>
      </p:pic>
      <p:sp>
        <p:nvSpPr>
          <p:cNvPr id="191" name="Line 5"/>
          <p:cNvSpPr/>
          <p:nvPr/>
        </p:nvSpPr>
        <p:spPr>
          <a:xfrm>
            <a:off x="5486400" y="4800600"/>
            <a:ext cx="0" cy="1600200"/>
          </a:xfrm>
          <a:prstGeom prst="line">
            <a:avLst/>
          </a:prstGeom>
          <a:ln w="572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5477040" y="525780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W = mg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Нижний колонтитул 8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eight of the Mo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wton reasoned that the centripetal force on the moon was also supplied by the Earth’s gravitational forc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Oval 4"/>
          <p:cNvSpPr/>
          <p:nvPr/>
        </p:nvSpPr>
        <p:spPr>
          <a:xfrm>
            <a:off x="2819520" y="3733920"/>
            <a:ext cx="2209680" cy="2133360"/>
          </a:xfrm>
          <a:prstGeom prst="ellipse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Oval 5"/>
          <p:cNvSpPr/>
          <p:nvPr/>
        </p:nvSpPr>
        <p:spPr>
          <a:xfrm>
            <a:off x="4952880" y="4724280"/>
            <a:ext cx="228600" cy="2286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Oval 6"/>
          <p:cNvSpPr/>
          <p:nvPr/>
        </p:nvSpPr>
        <p:spPr>
          <a:xfrm>
            <a:off x="3809880" y="4724280"/>
            <a:ext cx="304920" cy="304920"/>
          </a:xfrm>
          <a:prstGeom prst="ellipse">
            <a:avLst/>
          </a:prstGeom>
          <a:solidFill>
            <a:srgbClr val="8fb8f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Line 7"/>
          <p:cNvSpPr/>
          <p:nvPr/>
        </p:nvSpPr>
        <p:spPr>
          <a:xfrm flipH="1">
            <a:off x="4266720" y="4876920"/>
            <a:ext cx="76212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5148000" y="4189320"/>
            <a:ext cx="1985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F</a:t>
            </a:r>
            <a:r>
              <a:rPr b="0" lang="en-US" sz="3600" spc="-1" strike="noStrike" baseline="-25000">
                <a:solidFill>
                  <a:srgbClr val="eaeaea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 = mg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5827320" y="3930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2" name="Picture 11" descr=""/>
          <p:cNvPicPr/>
          <p:nvPr/>
        </p:nvPicPr>
        <p:blipFill>
          <a:blip r:embed="rId1"/>
          <a:stretch/>
        </p:blipFill>
        <p:spPr>
          <a:xfrm>
            <a:off x="4876920" y="4648320"/>
            <a:ext cx="363240" cy="3808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3" descr=""/>
          <p:cNvPicPr/>
          <p:nvPr/>
        </p:nvPicPr>
        <p:blipFill>
          <a:blip r:embed="rId2"/>
          <a:stretch/>
        </p:blipFill>
        <p:spPr>
          <a:xfrm>
            <a:off x="3657600" y="4572000"/>
            <a:ext cx="514440" cy="533520"/>
          </a:xfrm>
          <a:prstGeom prst="rect">
            <a:avLst/>
          </a:prstGeom>
          <a:ln w="0">
            <a:noFill/>
          </a:ln>
        </p:spPr>
      </p:pic>
      <p:sp>
        <p:nvSpPr>
          <p:cNvPr id="204" name="Нижний колонтитул 13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eight of the Mo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wton’s calculations showed that the centripetal force needed for the Moon’s motion was about 1/3600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f Mg, however, where M is the mass of the Mo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4572000" y="4191120"/>
            <a:ext cx="1959120" cy="2057400"/>
          </a:xfrm>
          <a:prstGeom prst="rect">
            <a:avLst/>
          </a:prstGeom>
          <a:ln w="0">
            <a:noFill/>
          </a:ln>
        </p:spPr>
      </p:pic>
      <p:sp>
        <p:nvSpPr>
          <p:cNvPr id="208" name="Нижний колонтитул 6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eight of the Mo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wton knew, though, that the Moon was about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60 times farthe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from the center of the Earth than the appl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nd 60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= 360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Universal Gravi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rom this, Newton reasoned that the strength of the gravitational force is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not constan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in fact, the magnitude of the force is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inversely proportional to the square of the distanc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between the object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4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arly Astronom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re were many early attempts both to describe and explain the motions of stars and planets in the sky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were unsatisfactory, for one reason or anoth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Universal Gravi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wton concluded that the gravitational force i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33"/>
                </a:solidFill>
                <a:latin typeface="Arial"/>
              </a:rPr>
              <a:t>Directly proportional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to the </a:t>
            </a:r>
            <a:r>
              <a:rPr b="1" i="1" lang="en-US" sz="2800" spc="-1" strike="noStrike">
                <a:solidFill>
                  <a:srgbClr val="ccff33"/>
                </a:solidFill>
                <a:latin typeface="Arial"/>
              </a:rPr>
              <a:t>masse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of </a:t>
            </a:r>
            <a:r>
              <a:rPr b="1" i="1" lang="en-US" sz="2800" spc="-1" strike="noStrike">
                <a:solidFill>
                  <a:srgbClr val="ccff33"/>
                </a:solidFill>
                <a:latin typeface="Arial"/>
              </a:rPr>
              <a:t>both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object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33"/>
                </a:solidFill>
                <a:latin typeface="Arial"/>
              </a:rPr>
              <a:t>Inversely proportional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to the </a:t>
            </a:r>
            <a:r>
              <a:rPr b="1" i="1" lang="en-US" sz="2800" spc="-1" strike="noStrike">
                <a:solidFill>
                  <a:srgbClr val="ccff33"/>
                </a:solidFill>
                <a:latin typeface="Arial"/>
              </a:rPr>
              <a:t>distanc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between the object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7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aw of Universal Gravi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 symbols,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Newton’s Law of Universal Gravitatio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Arial"/>
              </a:rPr>
              <a:t>grav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= 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here G is a constant of proportionalit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 = 6.67 x 10</a:t>
            </a:r>
            <a:r>
              <a:rPr b="0" lang="en-US" sz="2800" spc="-1" strike="noStrike" baseline="30000">
                <a:solidFill>
                  <a:srgbClr val="eaeaea"/>
                </a:solidFill>
                <a:latin typeface="Arial"/>
              </a:rPr>
              <a:t>-1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N m</a:t>
            </a:r>
            <a:r>
              <a:rPr b="0" lang="en-US" sz="28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/kg</a:t>
            </a:r>
            <a:r>
              <a:rPr b="0" lang="en-US" sz="28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3352680" y="304812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3301920" y="3581280"/>
            <a:ext cx="80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 </a:t>
            </a:r>
            <a:r>
              <a:rPr b="0" lang="en-US" sz="32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Line 6"/>
          <p:cNvSpPr/>
          <p:nvPr/>
        </p:nvSpPr>
        <p:spPr>
          <a:xfrm>
            <a:off x="3352680" y="3581280"/>
            <a:ext cx="9144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Нижний колонтитул 8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nverse Square La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wton’s Law of Universal Gravitation is often called an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inverse square law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since the force is inversely proportional to the square of the distanc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n Inverse-Square For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9" name="Picture 9" descr="Fgrav_graph2"/>
          <p:cNvPicPr/>
          <p:nvPr/>
        </p:nvPicPr>
        <p:blipFill>
          <a:blip r:embed="rId1"/>
          <a:stretch/>
        </p:blipFill>
        <p:spPr>
          <a:xfrm>
            <a:off x="685800" y="1447920"/>
            <a:ext cx="8610480" cy="5410080"/>
          </a:xfrm>
          <a:prstGeom prst="rect">
            <a:avLst/>
          </a:prstGeom>
          <a:ln w="0">
            <a:noFill/>
          </a:ln>
        </p:spPr>
      </p:pic>
      <p:sp>
        <p:nvSpPr>
          <p:cNvPr id="230" name="Нижний колонтитул 6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perimental Eviden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Law of Universal Gravitation allowed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extremely accurate prediction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f planetary orbit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Cavendish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measured gravitational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forces between human-scale object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before 1800.  His experiments were later simplified and improved by von Joll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ction at a Distan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 Newton’s time, there was much discussion about HOW gravity worked - how does the Sun, for instance, reach across empty space, with no actual contact at all, to exert a force on the Earth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s spooky notion was called “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action at a distance.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Gravitational Fiel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uring the 19th century, the notion of the “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fiel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” entered physics (via Michael Faraday)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bjects with mass create an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invisible disturbance in the space around them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that is felt by other massive objects - this is a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gravitational fiel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Gravitational Fiel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, since the Sun is very massive, it creates an intense gravitational field around it, and the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Earth responds to the fiel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 No more “action at a distance.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ravitational Field Strength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measure the strength of the gravitational field at any point, measure the gravitational force, F,  exerted on any “test mass”, m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Gravitational Field Strength, g = F/m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ravitational Field Strength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ar the surface of the Earth, g = F/m = 9.8 N/kg = 9.8 m/s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 general,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g = GM/r</a:t>
            </a:r>
            <a:r>
              <a:rPr b="1" i="1" lang="en-US" sz="3200" spc="-1" strike="noStrike" baseline="30000">
                <a:solidFill>
                  <a:srgbClr val="ccff33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where M is the mass of the object creating the field, r is the distance from the object’s center, and G = 6.67 x10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-1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m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/kg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Earth-Centered Univer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geocentric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(Earth-centered) solar system is often credited to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Ptolemy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an Alexandrian Greek, although the idea is very ol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6" name="Picture 1028" descr="Heraclides_SS"/>
          <p:cNvPicPr/>
          <p:nvPr/>
        </p:nvPicPr>
        <p:blipFill>
          <a:blip r:embed="rId1"/>
          <a:stretch/>
        </p:blipFill>
        <p:spPr>
          <a:xfrm>
            <a:off x="3886200" y="3276720"/>
            <a:ext cx="4572000" cy="28908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029"/>
          <p:cNvSpPr/>
          <p:nvPr/>
        </p:nvSpPr>
        <p:spPr>
          <a:xfrm>
            <a:off x="3962520" y="6324480"/>
            <a:ext cx="5181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Image from: http://abyss.uoregon.edu/~js/ast123/lectures/lec02.htm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Нижний колонтитул 7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ravitational For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f g is the strength of the gravitational field at some point, then the gravitational force on an object of mass m at that point is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F</a:t>
            </a:r>
            <a:r>
              <a:rPr b="1" i="1" lang="en-US" sz="3200" spc="-1" strike="noStrike" baseline="-25000">
                <a:solidFill>
                  <a:srgbClr val="ccff33"/>
                </a:solidFill>
                <a:latin typeface="Arial"/>
              </a:rPr>
              <a:t>grav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= mg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f g is the gravitational field strength at some point (in N/kg), then the free fall acceleration at that point is also g (in m/s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ravitational Field Inside a Plane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f you are located a distance r from the center of a planet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ll of the planet’s mass 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insid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a sphere of radius r 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pulls you </a:t>
            </a:r>
            <a:r>
              <a:rPr b="0" i="1" lang="en-US" sz="2800" spc="-1" strike="noStrike">
                <a:solidFill>
                  <a:srgbClr val="ccff33"/>
                </a:solidFill>
                <a:latin typeface="Arial"/>
              </a:rPr>
              <a:t>toward the center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 of the planet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ll of the planet’s mass 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outsid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a sphere of radius r exerts </a:t>
            </a:r>
            <a:r>
              <a:rPr b="1" i="1" lang="en-US" sz="2800" spc="-1" strike="noStrike" u="sng">
                <a:solidFill>
                  <a:srgbClr val="ccff33"/>
                </a:solidFill>
                <a:uFillTx/>
                <a:latin typeface="Arial"/>
              </a:rPr>
              <a:t>no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 net gravitational forc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on you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ravitational Field Inside a Plane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 blue-shade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part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f the planet pulls you</a:t>
            </a:r>
            <a:br>
              <a:rPr sz="3200"/>
            </a:b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toward point C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grey-shade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part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f the planet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does </a:t>
            </a:r>
            <a:br>
              <a:rPr sz="3200"/>
            </a:b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not pull you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at al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7" name="Picture 5" descr="Untitled-2"/>
          <p:cNvPicPr/>
          <p:nvPr/>
        </p:nvPicPr>
        <p:blipFill>
          <a:blip r:embed="rId1"/>
          <a:stretch/>
        </p:blipFill>
        <p:spPr>
          <a:xfrm>
            <a:off x="5562720" y="1905120"/>
            <a:ext cx="3276360" cy="3276360"/>
          </a:xfrm>
          <a:prstGeom prst="rect">
            <a:avLst/>
          </a:prstGeom>
          <a:ln w="0">
            <a:noFill/>
          </a:ln>
        </p:spPr>
      </p:pic>
      <p:sp>
        <p:nvSpPr>
          <p:cNvPr id="258" name="Нижний колонтитул 6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ravitational Field Inside a Plane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Half way to the cente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f the planet, g has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one-half of its surface valu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At the cente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f the planet,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g = 0 N/kg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1" name="Picture 6" descr="g_inside_earth"/>
          <p:cNvPicPr/>
          <p:nvPr/>
        </p:nvPicPr>
        <p:blipFill>
          <a:blip r:embed="rId1"/>
          <a:stretch/>
        </p:blipFill>
        <p:spPr>
          <a:xfrm>
            <a:off x="1905120" y="2859120"/>
            <a:ext cx="6311880" cy="3998880"/>
          </a:xfrm>
          <a:prstGeom prst="rect">
            <a:avLst/>
          </a:prstGeom>
          <a:ln w="0">
            <a:noFill/>
          </a:ln>
        </p:spPr>
      </p:pic>
      <p:sp>
        <p:nvSpPr>
          <p:cNvPr id="262" name="Нижний колонтитул 6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lack Hol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en a very massive star gets old and runs out of fusionable material, gravitational forces may cause it to collapse to a mathematical point - a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singularity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  All normal matter is crushed out of existence.  This is a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black hol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lack Hole Gravitational For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8" name="Picture 4" descr="blackhole_gravity"/>
          <p:cNvPicPr/>
          <p:nvPr/>
        </p:nvPicPr>
        <p:blipFill>
          <a:blip r:embed="rId1"/>
          <a:stretch/>
        </p:blipFill>
        <p:spPr>
          <a:xfrm>
            <a:off x="1066680" y="1371600"/>
            <a:ext cx="8077320" cy="5110200"/>
          </a:xfrm>
          <a:prstGeom prst="rect">
            <a:avLst/>
          </a:prstGeom>
          <a:ln w="0">
            <a:noFill/>
          </a:ln>
        </p:spPr>
      </p:pic>
      <p:sp>
        <p:nvSpPr>
          <p:cNvPr id="269" name="Нижний колонтитул 6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lack Hole Gravitational For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black hole’s gravity is the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same as the original star’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at distances greater than the star’s original radiu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lack hole’s </a:t>
            </a:r>
            <a:r>
              <a:rPr b="0" lang="en-US" sz="4000" spc="-1" strike="noStrike">
                <a:solidFill>
                  <a:srgbClr val="ccff33"/>
                </a:solidFill>
                <a:latin typeface="Arial"/>
              </a:rPr>
              <a:t>don’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magically “suck things in.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black hole’s gravity is intense because you can get really, really close to it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2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arth’s Tid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re are 2 high tides and 2 low tides per da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tides follow the Mo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5" name="Picture 4" descr="tide_diagram"/>
          <p:cNvPicPr/>
          <p:nvPr/>
        </p:nvPicPr>
        <p:blipFill>
          <a:blip r:embed="rId1"/>
          <a:stretch/>
        </p:blipFill>
        <p:spPr>
          <a:xfrm>
            <a:off x="2438280" y="3657600"/>
            <a:ext cx="5410440" cy="2625840"/>
          </a:xfrm>
          <a:prstGeom prst="rect">
            <a:avLst/>
          </a:prstGeom>
          <a:ln w="0">
            <a:noFill/>
          </a:ln>
        </p:spPr>
      </p:pic>
      <p:sp>
        <p:nvSpPr>
          <p:cNvPr id="276" name="Нижний колонтитул 6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hy </a:t>
            </a:r>
            <a:r>
              <a:rPr b="0" i="1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Two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Tides?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ides are caused by the 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stretching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of a plane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retching is caused by a 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difference in force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on the two sides of an objec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ince 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gravitational force depends on distanc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, there is more gravitational force on the side of Earth closest to the Moon and less gravitational force on the side of Earth farther from the Mo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hy </a:t>
            </a:r>
            <a:r>
              <a:rPr b="0" i="1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Two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Tides?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member that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2" name="Picture 4" descr="tideforce"/>
          <p:cNvPicPr/>
          <p:nvPr/>
        </p:nvPicPr>
        <p:blipFill>
          <a:blip r:embed="rId1"/>
          <a:stretch/>
        </p:blipFill>
        <p:spPr>
          <a:xfrm>
            <a:off x="2133720" y="3405240"/>
            <a:ext cx="4854600" cy="19828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6" descr="fgrav_eqn"/>
          <p:cNvPicPr/>
          <p:nvPr/>
        </p:nvPicPr>
        <p:blipFill>
          <a:blip r:embed="rId2"/>
          <a:stretch/>
        </p:blipFill>
        <p:spPr>
          <a:xfrm>
            <a:off x="4572000" y="1828800"/>
            <a:ext cx="2882880" cy="1135080"/>
          </a:xfrm>
          <a:prstGeom prst="rect">
            <a:avLst/>
          </a:prstGeom>
          <a:ln w="0">
            <a:noFill/>
          </a:ln>
        </p:spPr>
      </p:pic>
      <p:sp>
        <p:nvSpPr>
          <p:cNvPr id="284" name="Нижний колонтитул 7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tolemy’s Solar System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tolemy’s solar system could be made to fit the observational data pretty well, but only by becoming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very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omplicate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1" name="Picture 4" descr="epicycle_deferent"/>
          <p:cNvPicPr/>
          <p:nvPr/>
        </p:nvPicPr>
        <p:blipFill>
          <a:blip r:embed="rId1"/>
          <a:stretch/>
        </p:blipFill>
        <p:spPr>
          <a:xfrm>
            <a:off x="2209680" y="3276720"/>
            <a:ext cx="4496040" cy="29368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3886200" y="6324480"/>
            <a:ext cx="5257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Image from: http://abyss.uoregon.edu/~js/ast123/lectures/lec02.htm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Нижний колонтитул 7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hy the </a:t>
            </a:r>
            <a:r>
              <a:rPr b="0" i="1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Mo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Sun’s gravitational pull on Earth is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much large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than the Moon’s gravitational pull on Earth.  So why do the tides follow the Moon and not the Sun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hy the </a:t>
            </a:r>
            <a:r>
              <a:rPr b="0" i="1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Mo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nce the Sun is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much farthe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from Earth than the Moon, the difference in distance across Earth is much less significant for the Sun than the Moon, therefore the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difference in gravitational force on the two sides of Earth is less for the Su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than for the Moon (even though the Sun’s force on Earth is more)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hy the </a:t>
            </a:r>
            <a:r>
              <a:rPr b="0" i="1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Mo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Su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does have a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small effec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n Earth’s tides, but the major effect is due to the Mo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3429000" y="231948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4" name="Нижний колонтитул 6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pernicus’ Solar System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Polish cleric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Copernicu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proposed a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heliocentric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(Sun centered) solar system in the 1500’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6" name="Picture 1028" descr="Aristarchus_SS"/>
          <p:cNvPicPr/>
          <p:nvPr/>
        </p:nvPicPr>
        <p:blipFill>
          <a:blip r:embed="rId1"/>
          <a:stretch/>
        </p:blipFill>
        <p:spPr>
          <a:xfrm>
            <a:off x="2819520" y="3352680"/>
            <a:ext cx="4647960" cy="30862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029"/>
          <p:cNvSpPr/>
          <p:nvPr/>
        </p:nvSpPr>
        <p:spPr>
          <a:xfrm>
            <a:off x="3832200" y="6553080"/>
            <a:ext cx="5311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Image from: http://abyss.uoregon.edu/~js/ast123/lectures/lec02.htm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Нижний колонтитул 7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bjections to Copernicu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ow could Earth be moving at enormous speeds when we don’t feel it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(Copernicus didn’t know about </a:t>
            </a:r>
            <a:r>
              <a:rPr b="0" i="1" lang="en-US" sz="2800" spc="-1" strike="noStrike">
                <a:solidFill>
                  <a:srgbClr val="ccff33"/>
                </a:solidFill>
                <a:latin typeface="Arial"/>
              </a:rPr>
              <a:t>inertia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.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y can’t we detect Earth’s motion against the background stars (stellar parallax)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pernicus’ model did </a:t>
            </a:r>
            <a:r>
              <a:rPr b="0" lang="en-US" sz="5400" spc="-1" strike="noStrike">
                <a:solidFill>
                  <a:srgbClr val="ccff33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fit the observational data very wel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alileo &amp; Copernicu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Galileo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became convinced that Copernicus was correct 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by observation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of the Sun, Venus, and the moons of Jupiter using the newly-invented telescop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erhaps Galileo was motivated to understand 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inertia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by his desire to understand and defend Copernicus’ idea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cho and Kepl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 the late 1500’s, a Danish nobleman named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Tycho Brah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et out to make the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most accurate measurement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f planetary motions to date, in order to validate his own ideas of planetary mot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ycho’s data was successfully interpreted by the German mathematician and scientist </a:t>
            </a:r>
            <a:r>
              <a:rPr b="1" i="1" lang="en-US" sz="3200" spc="-1" strike="noStrike">
                <a:solidFill>
                  <a:srgbClr val="ccff33"/>
                </a:solidFill>
                <a:latin typeface="Arial"/>
              </a:rPr>
              <a:t>Johannes Keple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n the early 1600’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cho and Kepl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0" name="Нижний колонтитул 5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09:59:40Z</dcterms:created>
  <dc:creator>Media Center</dc:creator>
  <dc:description/>
  <dc:language>en-US</dc:language>
  <cp:lastModifiedBy>Asus</cp:lastModifiedBy>
  <cp:lastPrinted>2002-01-31T07:45:58Z</cp:lastPrinted>
  <dcterms:modified xsi:type="dcterms:W3CDTF">2018-03-09T16:14:35Z</dcterms:modified>
  <cp:revision>71</cp:revision>
  <dc:subject/>
  <dc:title>PowerPoint Presentation  -</dc:title>
</cp:coreProperties>
</file>