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FCBC-C178-445E-810C-098A5CB30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B696-1100-43B6-B37B-21D611420EC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9C15-1A66-462D-BC02-35229C440AA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5B2D-89B4-4CD1-8A65-E0243F411F8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1D25-6452-4810-9C35-941AB002E53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ABCC-032E-427D-A625-96DD4F2F9DF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2275-A3A2-41E5-8B83-1EC6442F96F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00C5-D904-45A6-BABC-6EC48792A99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3306-78A5-4F1F-8D0F-D28AF800563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8369-5EDD-4A94-B83E-1EE29705884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3464-06B4-49AD-90AA-63A47F9C7BD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2047-1987-493E-AE66-26FDC730E32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C892-DEB7-4852-90A3-71AC45BE1AC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D4B0-52F0-4829-B835-016DA1AD429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9A41-3A5E-4C15-B054-D6BA8C5EECC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6EB0-F44B-4567-BB16-3FF780B5798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B02D-6C52-4D40-9312-34708DE1679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95D5-FE86-42B0-A778-07B192FDD4D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BA85-1019-4917-BC38-F71E355EC56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EAE4-AA70-4FD9-AE0C-CE9CB2EB09B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9C81-FABC-4F62-AB5A-9651BA13412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AF9E-F012-463D-A9DF-7E132F6D515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BE2F-8201-42C7-B2FC-CE2F744462B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768F-5D33-489D-852F-8ABC56EBC5A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FEB8-B175-4DC5-BD9C-092E9312243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2262-2ABD-4289-ACDC-DAF81BD76D7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C283-6326-4667-A787-767994B7CE4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6B94-481B-4D5C-9128-6F23A568759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68F0-BE20-4534-BD2A-80533ED6078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3541-54D4-46F1-A5C6-06538414229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91B1-BA99-4DE6-92BB-6A7C8644A21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AEF2-4F73-4EBD-B302-D1213EC77D0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29EA-68B4-461E-90D7-5DE4E9298DB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72E1-188E-42DA-9BFF-F2388EE906E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F6AD-DCB8-4720-A645-1C309D81057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CB20-284A-42C3-99F3-231724A56CC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DBAA-B9F4-4678-9609-89095184693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52D1-774E-4016-9C7E-98BBDAF477A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37FC-BAE3-4D94-8180-C785F37062A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437C-6686-4A1B-914F-F153B5DBD5A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D444-CDEB-4FCE-80F0-8FC132261A0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1357-094B-4EAA-889C-3FC5894A570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16D-3612-4471-9A86-018E69CB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5BE-242A-4A6B-B60F-131E17FB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520-2DD6-4F5B-A94C-5BAF58D1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DB6-32C3-499E-8BF1-0F9C17FE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7E8E-59C4-4B7F-A3BB-D6BF3417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AA76-502E-4866-9950-A152CF15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B5AD-E44D-46A1-B1FB-34080538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C149-F116-4987-A761-BC1E8F7D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B016-A85F-4BFA-BBEC-95A9F89C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74D0-8E74-446B-9434-E72FD698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63A8-74A6-4DD7-9D9D-A5170DB1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BE2-D6D4-489B-8863-FC4357F2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24DB-2632-4EDA-A859-D5EE5275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FA7C-3D4E-4983-B1B4-BD43792F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01D0-FEA3-4B36-B4E0-A83EB6C6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BFBB-D221-472D-80C2-C8F7C016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A8BF-D988-4036-A51F-B185B851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0FC-8491-4C8E-8AF6-BA217CBE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683-72C1-4259-98BA-D8AE0FC3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68E-8FBB-449D-8C06-EDFB5E07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099-7D68-4EA5-993E-DBF71871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E98-9A8C-4083-A185-76EDCAF9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21F-D136-4D37-98AA-B22F5C13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6E0-41F3-47BE-8CAA-0B67EDCB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2873-CC42-4F33-879D-76D63E0382B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E93E-D9E9-4494-9D19-436460E5700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far as we know, humans have always been interested in the motions of objects in the sk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 only did early humans navigate by means of the sky, but the motions of objects in the sky predicted the changing of the seasons,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Law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the orbits of the planets were not perfect circles, b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llips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ith the Sun at one foc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44" name="Oval 8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9" name="Нижний колонтитул 1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Second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a planet move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aster when ne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Sun, an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lower when f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Su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2" name="Group 1028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53" name="Oval 1029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Oval 1030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Oval 1031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Text Box 1032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Text Box 1033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8" name="Text Box 1034"/>
          <p:cNvSpPr/>
          <p:nvPr/>
        </p:nvSpPr>
        <p:spPr>
          <a:xfrm>
            <a:off x="1257480" y="4479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a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Line 1035"/>
          <p:cNvSpPr/>
          <p:nvPr/>
        </p:nvSpPr>
        <p:spPr>
          <a:xfrm>
            <a:off x="2362320" y="4724280"/>
            <a:ext cx="38088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Line 1036"/>
          <p:cNvSpPr/>
          <p:nvPr/>
        </p:nvSpPr>
        <p:spPr>
          <a:xfrm flipH="1" flipV="1">
            <a:off x="2666880" y="472428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1037"/>
          <p:cNvSpPr/>
          <p:nvPr/>
        </p:nvSpPr>
        <p:spPr>
          <a:xfrm flipH="1">
            <a:off x="2666880" y="480060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038"/>
          <p:cNvSpPr/>
          <p:nvPr/>
        </p:nvSpPr>
        <p:spPr>
          <a:xfrm>
            <a:off x="6498360" y="4327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low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039"/>
          <p:cNvSpPr/>
          <p:nvPr/>
        </p:nvSpPr>
        <p:spPr>
          <a:xfrm flipH="1">
            <a:off x="6400440" y="4572000"/>
            <a:ext cx="2286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1040"/>
          <p:cNvSpPr/>
          <p:nvPr/>
        </p:nvSpPr>
        <p:spPr>
          <a:xfrm>
            <a:off x="6400800" y="4800600"/>
            <a:ext cx="76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1041"/>
          <p:cNvSpPr/>
          <p:nvPr/>
        </p:nvSpPr>
        <p:spPr>
          <a:xfrm flipV="1">
            <a:off x="6400800" y="472428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Нижний колонтитул 19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pler’s Laws provided a complet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kinematical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cription of planetary motion (including the motion of planetary satellites, like the Moon) - but </a:t>
            </a:r>
            <a:r>
              <a:rPr b="1" i="1" lang="en-US" sz="4800" spc="-1" strike="noStrike">
                <a:solidFill>
                  <a:srgbClr val="fcab40"/>
                </a:solidFill>
                <a:latin typeface="Arial"/>
              </a:rPr>
              <a:t>wh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id the planets move like tha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Apple &amp;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aac Newton realized that the motion of a falling apple and the motion of the Moon were both actuall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mo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caused b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-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438280" y="4287960"/>
            <a:ext cx="1906560" cy="2036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562720" y="4254480"/>
            <a:ext cx="1371600" cy="2070000"/>
          </a:xfrm>
          <a:prstGeom prst="rect">
            <a:avLst/>
          </a:prstGeom>
          <a:ln w="0">
            <a:noFill/>
          </a:ln>
        </p:spPr>
      </p:pic>
      <p:sp>
        <p:nvSpPr>
          <p:cNvPr id="17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idea was that gravity wa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universa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orce acting betwee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any two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72540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4191120" y="2782800"/>
            <a:ext cx="1244520" cy="1290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553080" y="4495680"/>
            <a:ext cx="85572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4038480" y="5375160"/>
            <a:ext cx="1371600" cy="1150920"/>
          </a:xfrm>
          <a:prstGeom prst="rect">
            <a:avLst/>
          </a:prstGeom>
          <a:ln w="0">
            <a:noFill/>
          </a:ln>
        </p:spPr>
      </p:pic>
      <p:cxnSp>
        <p:nvCxnSpPr>
          <p:cNvPr id="181" name="AutoShape 8"/>
          <p:cNvCxnSpPr/>
          <p:nvPr/>
        </p:nvCxnSpPr>
        <p:spPr>
          <a:xfrm>
            <a:off x="5334120" y="3809520"/>
            <a:ext cx="1219680" cy="114372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AutoShape 9"/>
          <p:cNvCxnSpPr/>
          <p:nvPr/>
        </p:nvCxnSpPr>
        <p:spPr>
          <a:xfrm flipH="1">
            <a:off x="2801160" y="3428640"/>
            <a:ext cx="1389960" cy="12200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10"/>
          <p:cNvCxnSpPr/>
          <p:nvPr/>
        </p:nvCxnSpPr>
        <p:spPr>
          <a:xfrm>
            <a:off x="4876560" y="4038120"/>
            <a:ext cx="1080" cy="13374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11"/>
          <p:cNvCxnSpPr/>
          <p:nvPr/>
        </p:nvCxnSpPr>
        <p:spPr>
          <a:xfrm>
            <a:off x="2858760" y="4610160"/>
            <a:ext cx="1027800" cy="12578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12"/>
          <p:cNvCxnSpPr/>
          <p:nvPr/>
        </p:nvCxnSpPr>
        <p:spPr>
          <a:xfrm flipH="1">
            <a:off x="5409360" y="4952880"/>
            <a:ext cx="1143720" cy="9990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AutoShape 14"/>
          <p:cNvCxnSpPr/>
          <p:nvPr/>
        </p:nvCxnSpPr>
        <p:spPr>
          <a:xfrm>
            <a:off x="2858760" y="4610160"/>
            <a:ext cx="3694680" cy="3434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7" name="Нижний колонтитул 1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t the Earth’s Surfa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 that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the apple equals the apple’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weight, mg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re 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85436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Line 5"/>
          <p:cNvSpPr/>
          <p:nvPr/>
        </p:nvSpPr>
        <p:spPr>
          <a:xfrm>
            <a:off x="5486400" y="4800600"/>
            <a:ext cx="0" cy="16002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477040" y="52578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 = m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reasoned that the centripetal force on the moon was also supplied by the Earth’s gravitational for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2819520" y="3733920"/>
            <a:ext cx="2209680" cy="213336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4952880" y="4724280"/>
            <a:ext cx="228600" cy="2286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3809880" y="4724280"/>
            <a:ext cx="304920" cy="304920"/>
          </a:xfrm>
          <a:prstGeom prst="ellipse">
            <a:avLst/>
          </a:prstGeom>
          <a:solidFill>
            <a:srgbClr val="8fb8f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4266720" y="4876920"/>
            <a:ext cx="7621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148000" y="4189320"/>
            <a:ext cx="198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= m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5827320" y="3930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1"/>
          <a:stretch/>
        </p:blipFill>
        <p:spPr>
          <a:xfrm>
            <a:off x="4876920" y="4648320"/>
            <a:ext cx="36324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51444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13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calculations showed that the centripetal force needed for the Moon’s motion was about 1/360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Mg, however, where M is the mass of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4191120"/>
            <a:ext cx="1959120" cy="2057400"/>
          </a:xfrm>
          <a:prstGeom prst="rect">
            <a:avLst/>
          </a:prstGeom>
          <a:ln w="0">
            <a:noFill/>
          </a:ln>
        </p:spPr>
      </p:pic>
      <p:sp>
        <p:nvSpPr>
          <p:cNvPr id="20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, though, that the Moon was abo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60 times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center of the Earth than the app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6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= 36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om this, Newton reasoned that the strength of the gravitational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ot constan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in fact, the magnitude of the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ly proportional to the square of the distan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were many early attempts both to describe and explain the motions of stars and planets in the sk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were unsatisfactory, for one reason or ano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concluded that the gravitational force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mass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w of 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symbols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ewton’s Law of Universal Gravit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grav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re G is a constant of proportionali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 = 6.67 x 10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N m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301920" y="358128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 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3352680" y="358128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rse Square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Law of Universal Gravitation is often called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 square law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since the force is inversely proportional to the square of the distan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 Inverse-Square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9" descr="Fgrav_graph2"/>
          <p:cNvPicPr/>
          <p:nvPr/>
        </p:nvPicPr>
        <p:blipFill>
          <a:blip r:embed="rId1"/>
          <a:stretch/>
        </p:blipFill>
        <p:spPr>
          <a:xfrm>
            <a:off x="685800" y="1447920"/>
            <a:ext cx="8610480" cy="5410080"/>
          </a:xfrm>
          <a:prstGeom prst="rect">
            <a:avLst/>
          </a:prstGeom>
          <a:ln w="0">
            <a:noFill/>
          </a:ln>
        </p:spPr>
      </p:pic>
      <p:sp>
        <p:nvSpPr>
          <p:cNvPr id="230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Law of Universal Gravitation allowe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extremely accurate prediction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orbi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avendis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easured gravitational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orces between human-scale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fore 1800.  His experiments were later simplified and improved by von Jo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tion at a Dista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Newton’s time, there was much discussion about HOW gravity worked - how does the Sun, for instance, reach across empty space, with no actual contact at all, to exert a force on the Eart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spooky notion was called “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ction at a distance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ring the 19th century, the notion of the “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 entered physics (via Michael Faraday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jects with mass create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isible disturbance in the space around the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t is felt by other massive objects - this i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, since the Sun is very massive, it creates an intense gravitational field around it, and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arth responds to the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No more “action at a distance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measure the strength of the gravitational field at any point, measure the gravitational force, F,  exerted on any “test mass”, 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 Strength, g = F/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ar the surface of the Earth, g = F/m = 9.8 N/k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general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 = GM/r</a:t>
            </a:r>
            <a:r>
              <a:rPr b="1" i="1" lang="en-US" sz="3200" spc="-1" strike="noStrike" baseline="30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here M is the mass of the object creating the field, r is the distance from the object’s center, and G = 6.67 x1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m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arth-Centered Univer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e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Earth-centered) solar system is often credited to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Ptolem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 Alexandrian Greek, although the idea is very 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Picture 1028" descr="Heraclides_SS"/>
          <p:cNvPicPr/>
          <p:nvPr/>
        </p:nvPicPr>
        <p:blipFill>
          <a:blip r:embed="rId1"/>
          <a:stretch/>
        </p:blipFill>
        <p:spPr>
          <a:xfrm>
            <a:off x="3886200" y="3276720"/>
            <a:ext cx="4572000" cy="2890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29"/>
          <p:cNvSpPr/>
          <p:nvPr/>
        </p:nvSpPr>
        <p:spPr>
          <a:xfrm>
            <a:off x="3962520" y="63244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strength of the gravitational field at some point, then the gravitational force on an object of mass m at that point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</a:t>
            </a:r>
            <a:r>
              <a:rPr b="1" i="1" lang="en-US" sz="3200" spc="-1" strike="noStrike" baseline="-25000">
                <a:solidFill>
                  <a:srgbClr val="ccff33"/>
                </a:solidFill>
                <a:latin typeface="Arial"/>
              </a:rPr>
              <a:t>grav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= m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gravitational field strength at some point (in N/kg), then the free fall acceleration at that point is also g (in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are located a distance r from the center of a plan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pulls you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toward the center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of the plane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exerts </a:t>
            </a: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net gravitational for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you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blue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pulls you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toward point 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rey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oes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not pull you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a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5" descr="Untitled-2"/>
          <p:cNvPicPr/>
          <p:nvPr/>
        </p:nvPicPr>
        <p:blipFill>
          <a:blip r:embed="rId1"/>
          <a:stretch/>
        </p:blipFill>
        <p:spPr>
          <a:xfrm>
            <a:off x="5562720" y="19051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25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alf way to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g ha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one-half of its surface valu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t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 = 0 N/k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6" descr="g_inside_earth"/>
          <p:cNvPicPr/>
          <p:nvPr/>
        </p:nvPicPr>
        <p:blipFill>
          <a:blip r:embed="rId1"/>
          <a:stretch/>
        </p:blipFill>
        <p:spPr>
          <a:xfrm>
            <a:off x="1905120" y="2859120"/>
            <a:ext cx="6311880" cy="3998880"/>
          </a:xfrm>
          <a:prstGeom prst="rect">
            <a:avLst/>
          </a:prstGeom>
          <a:ln w="0">
            <a:noFill/>
          </a:ln>
        </p:spPr>
      </p:pic>
      <p:sp>
        <p:nvSpPr>
          <p:cNvPr id="262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a very massive star gets old and runs out of fusionable material, gravitational forces may cause it to collapse to a mathematical point -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ingulari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All normal matter is crushed out of existence.  This is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black hol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Picture 4" descr="blackhole_gravity"/>
          <p:cNvPicPr/>
          <p:nvPr/>
        </p:nvPicPr>
        <p:blipFill>
          <a:blip r:embed="rId1"/>
          <a:stretch/>
        </p:blipFill>
        <p:spPr>
          <a:xfrm>
            <a:off x="1066680" y="1371600"/>
            <a:ext cx="8077320" cy="5110200"/>
          </a:xfrm>
          <a:prstGeom prst="rect">
            <a:avLst/>
          </a:prstGeom>
          <a:ln w="0">
            <a:noFill/>
          </a:ln>
        </p:spPr>
      </p:pic>
      <p:sp>
        <p:nvSpPr>
          <p:cNvPr id="269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ame as the original star’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distances greater than the star’s original radi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lack hole’s 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agically “suck things in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intense because you can get really, really close to i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th’s Ti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are 2 high tides and 2 low tides per d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tides follow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4" descr="tide_diagram"/>
          <p:cNvPicPr/>
          <p:nvPr/>
        </p:nvPicPr>
        <p:blipFill>
          <a:blip r:embed="rId1"/>
          <a:stretch/>
        </p:blipFill>
        <p:spPr>
          <a:xfrm>
            <a:off x="2438280" y="3657600"/>
            <a:ext cx="5410440" cy="2625840"/>
          </a:xfrm>
          <a:prstGeom prst="rect">
            <a:avLst/>
          </a:prstGeom>
          <a:ln w="0">
            <a:noFill/>
          </a:ln>
        </p:spPr>
      </p:pic>
      <p:sp>
        <p:nvSpPr>
          <p:cNvPr id="276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ides are caused by th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stretch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a plane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retching is caused by a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difference in forc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the two sides of an objec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ravitational force depends on 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there is more gravitational force on the side of Earth closest to the Moon and less gravitational force on the side of Earth farther from the Mo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ember th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Picture 4" descr="tideforce"/>
          <p:cNvPicPr/>
          <p:nvPr/>
        </p:nvPicPr>
        <p:blipFill>
          <a:blip r:embed="rId1"/>
          <a:stretch/>
        </p:blipFill>
        <p:spPr>
          <a:xfrm>
            <a:off x="2133720" y="3405240"/>
            <a:ext cx="4854600" cy="1982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fgrav_eqn"/>
          <p:cNvPicPr/>
          <p:nvPr/>
        </p:nvPicPr>
        <p:blipFill>
          <a:blip r:embed="rId2"/>
          <a:stretch/>
        </p:blipFill>
        <p:spPr>
          <a:xfrm>
            <a:off x="4572000" y="1828800"/>
            <a:ext cx="2882880" cy="113508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tolemy’s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tolemy’s solar system could be made to fit the observational data pretty well, but only by becoming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omplicat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4" descr="epicycle_deferent"/>
          <p:cNvPicPr/>
          <p:nvPr/>
        </p:nvPicPr>
        <p:blipFill>
          <a:blip r:embed="rId1"/>
          <a:stretch/>
        </p:blipFill>
        <p:spPr>
          <a:xfrm>
            <a:off x="2209680" y="3276720"/>
            <a:ext cx="4496040" cy="293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886200" y="6324480"/>
            <a:ext cx="525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n’s gravitational pull on Earth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larg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the Moon’s gravitational pull on Earth.  So why do the tides follow the Moon and not the Su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nce the Sun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Earth than the Moon, the difference in distance across Earth is much less significant for the Sun than the Moon, therefore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ifference in gravitational force on the two sides of Earth is less for the 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for the Moon (even though the Sun’s force on Earth is more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oes have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mall effec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Earth’s tides, but the major effect is due to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429000" y="23194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pernicus’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olish cleric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opernicu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roposed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eli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Sun centered) solar system in the 15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Picture 1028" descr="Aristarchus_SS"/>
          <p:cNvPicPr/>
          <p:nvPr/>
        </p:nvPicPr>
        <p:blipFill>
          <a:blip r:embed="rId1"/>
          <a:stretch/>
        </p:blipFill>
        <p:spPr>
          <a:xfrm>
            <a:off x="2819520" y="3352680"/>
            <a:ext cx="4647960" cy="3086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29"/>
          <p:cNvSpPr/>
          <p:nvPr/>
        </p:nvSpPr>
        <p:spPr>
          <a:xfrm>
            <a:off x="3832200" y="6553080"/>
            <a:ext cx="531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ons to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could Earth be moving at enormous speeds when we don’t feel i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Copernicus didn’t know about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can’t we detect Earth’s motion against the background stars (stellar parallax)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pernicus’ model did </a:t>
            </a:r>
            <a:r>
              <a:rPr b="0" lang="en-US" sz="54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it the observational data very we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alileo &amp;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alileo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came convinced that Copernicus was correct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by observatio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the Sun, Venus, and the moons of Jupiter using the newly-invented telescop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haps Galileo was motivated to understand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y his desire to understand and defend Copernicus’ ide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late 1500’s, a Danish nobleman named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Tycho Brah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et out to make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most accurate measuremen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motions to date, in order to validate his own ideas of planetary mo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ycho’s data was successfully interpreted by the German mathematician and scientis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Johannes 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the early 16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9:59:40Z</dcterms:created>
  <dc:creator>Media Center</dc:creator>
  <dc:description/>
  <dc:language>en-US</dc:language>
  <cp:lastModifiedBy>Asus</cp:lastModifiedBy>
  <cp:lastPrinted>2002-01-31T07:45:58Z</cp:lastPrinted>
  <dcterms:modified xsi:type="dcterms:W3CDTF">2018-03-09T16:14:35Z</dcterms:modified>
  <cp:revision>71</cp:revision>
  <dc:subject/>
  <dc:title>PowerPoint Presentation  -</dc:title>
</cp:coreProperties>
</file>