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F934-CD06-4E6A-9ED6-C4B4B564F1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are rubbish dumps thought to be a bad th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es recycling mea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rubbish dumps thought to be a bad th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recycling m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ses of plastics - Statis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s of plastics -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es of Plas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Pla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centage that can be recycl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out 7% of all household waste is plast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ually, 3 million tonnes of plastic rubbish are produc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7% of litter found on beaches is plast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2001 only 7% of all plastic was recycled. Is this the case in your househol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age that can be recyc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7% of all household waste is pla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ly, 3 million tonnes of plastic rubbish are produ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7% of litter found on beaches is pla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001 only 7% of all plastic was recycled. Is this the case in your househol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recycle plastic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ervation of non-renewable fossil fuels - Plastic production uses 8% of the world's oil produ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ed consumption of energy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ed amounts of solid waste going to landfill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ed emissions of carbon-dioxide (CO2), nitrogen-oxide (NO) and sulphur-dioxide (SO2)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recycle plasti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rvation of non-renewable fossil fuels - Plastic production uses 8% of the world's oil 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consumption of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amounts of solid waste going to landfi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emissions of carbon-dioxide (CO2), nitrogen-oxide (NO) and sulphur-dioxide (SO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are polymers recycl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chanical recycling of plastics refers to processes which involve the melting, shredding or granulation of waste plast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stics must be sorted prior to mechanical recycl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the moment in the UK most sorting for mechanical recycling is done by trained staff who manually sort the plastics into polymer type and/or colou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polymers recycl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recycling of plastics refers to processes which involve the melting, shredding or granulation of waste pla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tics must be sorted prior to mechanical recyc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moment in the UK most sorting for mechanical recycling is done by trained staff who manually sort the plastics into polymer type and/or colou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llowing sorting, the plastic is either melted down directly and moulded into a new shape, or melted down after being shredded into flakes and than processed into granules called regranula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sorting, the plastic is either melted down directly and moulded into a new shape, or melted down after being shredded into flakes and than processed into granules called regranul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increasing number of local authorities are now providing plastics collection services. Research by RECOUP has shown that local authorities can achieve cost-effective high-achieving plastics collection systems by integrating plastic bottle collection with other recyclable materials. For example, Daventry District Council introduced such a system in 1998 and has been able to increase recycling rates from 12% to nearly 50%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dur, West Sussex, and Milton Keynes in Buckinghamshire, plastic bottles and polystyrene are collected through 'blue box' schemes, where residents place recyclable materials in a separate box for sorting by the refuse collectors at the kerbside. Plastics and other materials are sorted into a compartmentalised vehicle, then taken to the Materials Reclamation Facility (MRF) for final sorting before transport to reprocessing pla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creasing number of local authorities are now providing plastics collection services. Research by RECOUP has shown that local authorities can achieve cost-effective high-achieving plastics collection systems by integrating plastic bottle collection with other recyclable materials. For example, Daventry District Council introduced such a system in 1998 and has been able to increase recycling rates from 12% to nearly 5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dur, West Sussex, and Milton Keynes in Buckinghamshire, plastic bottles and polystyrene are collected through 'blue box' schemes, where residents place recyclable materials in a separate box for sorting by the refuse collectors at the kerbside. Plastics and other materials are sorted into a compartmentalised vehicle, then taken to the Materials Reclamation Facility (MRF) for final sorting before transport to reprocessing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D44F-DC4E-4F8F-8388-DE5C77820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BE5B-B2CF-4E11-B687-D71E6AC0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B93F-22AF-4AB3-B89B-BE37137A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B5C8-5F44-4161-A1E4-5C1CE5854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0063-9AFB-4AFB-8A8A-8EBE121B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F027-3EDE-4B5F-A193-28DE9EC7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9CF8-A659-4E41-995E-EE2C64C2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87FB-B65C-4F03-BC92-057CD7D1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F187-3C3C-4670-94C6-68C3BBAC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7A4F-82D4-4BC5-8BF9-D482AD0F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EB38-96E9-4753-B540-E606AEFF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1888-E277-46A7-BFA8-3A2460E3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1440-574D-4E71-B8EA-5C559F30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161B-C34A-4B79-AB58-D94E3312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D7EC-A88B-45B0-832E-0BF01B78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295E-A62B-456B-8206-9E6DA1E5C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3E75-F49A-41FD-9CAD-F49137CB7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46A5-E834-4477-89C8-D5558FA4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16F2-10C6-43BF-8891-707C98B4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25D1-D3C1-42CD-ABB8-CEC8744A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D983-2C32-4BE4-8AB4-26AAF349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860F-F482-4F5F-B88C-B945B734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D7F0-ADDD-4C07-B4AC-C0E07AA2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E86A-6DEF-4961-980B-36450AB5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B78A-999C-4E85-9889-34C9E407C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32C6-0609-4502-939B-EB41517C32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b7"/>
                </a:solidFill>
                <a:latin typeface="Arial Black"/>
              </a:rPr>
              <a:t>Starter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are rubbish dumps thought to be a bad th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does recycling me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Uses of plastics - Statistic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Picture 6" descr="Uses of plastic as percentage"/>
          <p:cNvPicPr/>
          <p:nvPr/>
        </p:nvPicPr>
        <p:blipFill>
          <a:blip r:embed="rId1"/>
          <a:stretch/>
        </p:blipFill>
        <p:spPr>
          <a:xfrm>
            <a:off x="971640" y="1484280"/>
            <a:ext cx="748800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Types of Plastic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837720" y="1904760"/>
          <a:ext cx="8007480" cy="4190760"/>
        </p:xfrm>
        <a:graphic>
          <a:graphicData uri="http://schemas.openxmlformats.org/drawingml/2006/table"/>
        </a:graphic>
      </p:graphicFrame>
      <p:pic>
        <p:nvPicPr>
          <p:cNvPr id="111" name="Picture 12" descr="Recycling Logo"/>
          <p:cNvPicPr/>
          <p:nvPr/>
        </p:nvPicPr>
        <p:blipFill>
          <a:blip r:embed="rId1"/>
          <a:stretch/>
        </p:blipFill>
        <p:spPr>
          <a:xfrm>
            <a:off x="-571680" y="1260360"/>
            <a:ext cx="3337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Recycling Logo"/>
          <p:cNvPicPr/>
          <p:nvPr/>
        </p:nvPicPr>
        <p:blipFill>
          <a:blip r:embed="rId2"/>
          <a:stretch/>
        </p:blipFill>
        <p:spPr>
          <a:xfrm>
            <a:off x="-571680" y="1222200"/>
            <a:ext cx="343080" cy="314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Recycling Logo"/>
          <p:cNvPicPr/>
          <p:nvPr/>
        </p:nvPicPr>
        <p:blipFill>
          <a:blip r:embed="rId3"/>
          <a:stretch/>
        </p:blipFill>
        <p:spPr>
          <a:xfrm>
            <a:off x="-571680" y="1173240"/>
            <a:ext cx="343080" cy="314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Recycling Logo"/>
          <p:cNvPicPr/>
          <p:nvPr/>
        </p:nvPicPr>
        <p:blipFill>
          <a:blip r:embed="rId4"/>
          <a:stretch/>
        </p:blipFill>
        <p:spPr>
          <a:xfrm>
            <a:off x="-571680" y="1066680"/>
            <a:ext cx="343080" cy="314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Recycling Logo"/>
          <p:cNvPicPr/>
          <p:nvPr/>
        </p:nvPicPr>
        <p:blipFill>
          <a:blip r:embed="rId5"/>
          <a:stretch/>
        </p:blipFill>
        <p:spPr>
          <a:xfrm>
            <a:off x="-571680" y="1019160"/>
            <a:ext cx="333720" cy="314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Recycling Logo"/>
          <p:cNvPicPr/>
          <p:nvPr/>
        </p:nvPicPr>
        <p:blipFill>
          <a:blip r:embed="rId6"/>
          <a:stretch/>
        </p:blipFill>
        <p:spPr>
          <a:xfrm>
            <a:off x="-571680" y="969840"/>
            <a:ext cx="343080" cy="314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Recycling Logo"/>
          <p:cNvPicPr/>
          <p:nvPr/>
        </p:nvPicPr>
        <p:blipFill>
          <a:blip r:embed="rId7"/>
          <a:stretch/>
        </p:blipFill>
        <p:spPr>
          <a:xfrm>
            <a:off x="-571680" y="952560"/>
            <a:ext cx="343080" cy="3142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3"/>
          <p:cNvSpPr/>
          <p:nvPr/>
        </p:nvSpPr>
        <p:spPr>
          <a:xfrm>
            <a:off x="571680" y="219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18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26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30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8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979640" y="1700280"/>
          <a:ext cx="5133960" cy="4906800"/>
        </p:xfrm>
        <a:graphic>
          <a:graphicData uri="http://schemas.openxmlformats.org/drawingml/2006/table">
            <a:tbl>
              <a:tblPr/>
              <a:tblGrid>
                <a:gridCol w="615960"/>
                <a:gridCol w="860400"/>
                <a:gridCol w="3657600"/>
              </a:tblGrid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olyethylene terephthalat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Fizzy drink bottles and oven-ready meal tray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D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High-density polyethylen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Bottles for milk and washing-up liquid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V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olyvinyl chlorid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Food trays, cling film, bottles for squash, mineral water and shampo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D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Low density polyethylen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Carrier bags and bin liner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olypropylen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Margarine tubs, microwaveable meal tray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olystyren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Yoghurt pots, foam meat or fish trays, hamburger boxes and egg cartons, vending cups, plastic cutlery, protective packaging for electronic goods and toy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TH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ny other plastic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that do not fall into any of the above categories. - An example is melamine, which is often used in plastic plates and cup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Percentage that can be recycl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bout 7% of all household waste is plast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ually, 3 million tonnes of plastic rubbish are produ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7% of litter found on beaches is plast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 2001 only 7% of all plastic was recycled. Is this the case in your househol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Why recycle plastic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rvation of non-renewable fossil fuels - Plastic production uses 8% of the world's oil produ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consumption of energ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amounts of solid waste going to landfil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emissions of carbon-dioxide (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, nitrogen-oxide (NO) and sulphur-dioxide (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How are polymers recycled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cal recycling of plastics refers to processes which involve the melting, shredding or granulation of waste plastic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stics must be sorted prior to mechanical recycl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e moment in the UK most sorting for mechanical recycling is done by trained staff who manually sort the plastics into polymer type and/or colou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Mo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ing sorting, the plastic is either melted down directly and moulded into a new shape, or melted down after being shredded into flakes and than processed into granules called regranul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What can we do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n increasing number of local authorities are now providing plastics collection services. Research by RECOUP has shown that local authorities can achieve cost-effective high-achieving plastics collection systems by integrating plastic bottle collection with other recyclable materials. For example, Daventry District Council introduced such a system in 1998 and has been able to increase recycling rates from 12% to nearly 50%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n Adur, West Sussex, and Milton Keynes in Buckinghamshire, plastic bottles and polystyrene are collected through 'blue box' schemes, where residents place recyclable materials in a separate box for sorting by the refuse collectors at the kerbside. Plastics and other materials are sorted into a compartmentalised vehicle, then taken to the Materials Reclamation Facility (MRF) for final sorting before transport to reprocessing plant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20:09:29Z</dcterms:created>
  <dc:creator>EP School</dc:creator>
  <dc:description>Starter plastic recycling</dc:description>
  <cp:keywords>Starter plastic recycling</cp:keywords>
  <dc:language>en-US</dc:language>
  <cp:lastModifiedBy>RomaK</cp:lastModifiedBy>
  <dcterms:modified xsi:type="dcterms:W3CDTF">2015-09-02T06:00:44Z</dcterms:modified>
  <cp:revision>14</cp:revision>
  <dc:subject>Starter plastic recycling</dc:subject>
  <dc:title>Starter plastic recycling</dc:title>
</cp:coreProperties>
</file>