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D5B-AF29-4350-B50D-B67327F7D0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rubbish dumps thought to be a bad 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recycling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plastics -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age that can be recyc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% of all household waste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ly, 3 million tonnes of plastic rubbish are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% of litter found on beaches is pla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only 7% of all plastic was recycled. Is this the case in your househo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recycle plast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nsumption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amounts of solid waste going to landfi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emissions of carbon-dioxide (CO2), nitrogen-oxide (NO) and sulphur-dioxide (SO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polymers recyc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 must be sorted prior to mechanical recyc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7A7-0DD0-412E-83C5-E6B21493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E64-EF10-46EE-8310-33BDB888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B7B-CD6C-4443-BCB2-70730FFC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C16-6F7A-4097-8FC2-E5743F3E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2410-7261-41BD-9BBF-88A28769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354-C83A-434F-A76C-B1894596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BAB1-E7A3-427B-9062-36967C13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7DA9-AEE7-4B3A-9810-5D50708B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4B35-DDEA-4315-842D-0FE47F3A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8ED8-01DC-4A80-8AEA-F404F6B6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90AF-24C2-4669-B5E2-68F5A15B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86F-F63A-4525-80D3-E8D14668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2F6F-F39E-41E2-8889-00932CA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AD62-EAAD-420A-B28A-B3D6C92A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7C9E-0B7B-4172-A2CA-656C3222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200C-2275-4BC8-8A56-A2D2AF9F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43F-8C3C-4C79-915B-60632693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872-15A8-406A-8E4F-B6D99715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187B-1D7C-44BD-93F9-D504130A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2B7-886E-439A-9D63-9D65B950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F93-9276-4F2A-8DCC-18CF167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4BB-E272-4177-B839-3BDC06F2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CFA-7510-40FF-B6C5-2AE1335E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A2B-D5CD-42E0-8C3F-8C58281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887C-B74E-4FF0-A5A5-EB331940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7697-8825-426F-AC18-A9B53F4DA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Star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are rubbish dumps thought to be a bad th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es recycling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Uses of plastics - Stat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6" descr="Uses of plastic as percentage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ypes of Plast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7720" y="1904760"/>
          <a:ext cx="8007480" cy="4190760"/>
        </p:xfrm>
        <a:graphic>
          <a:graphicData uri="http://schemas.openxmlformats.org/drawingml/2006/table"/>
        </a:graphic>
      </p:graphicFrame>
      <p:pic>
        <p:nvPicPr>
          <p:cNvPr id="111" name="Picture 12" descr="Recycling Logo"/>
          <p:cNvPicPr/>
          <p:nvPr/>
        </p:nvPicPr>
        <p:blipFill>
          <a:blip r:embed="rId1"/>
          <a:stretch/>
        </p:blipFill>
        <p:spPr>
          <a:xfrm>
            <a:off x="-571680" y="1260360"/>
            <a:ext cx="3337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Recycling Logo"/>
          <p:cNvPicPr/>
          <p:nvPr/>
        </p:nvPicPr>
        <p:blipFill>
          <a:blip r:embed="rId2"/>
          <a:stretch/>
        </p:blipFill>
        <p:spPr>
          <a:xfrm>
            <a:off x="-571680" y="1222200"/>
            <a:ext cx="343080" cy="3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Recycling Logo"/>
          <p:cNvPicPr/>
          <p:nvPr/>
        </p:nvPicPr>
        <p:blipFill>
          <a:blip r:embed="rId3"/>
          <a:stretch/>
        </p:blipFill>
        <p:spPr>
          <a:xfrm>
            <a:off x="-571680" y="11732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ecycling Logo"/>
          <p:cNvPicPr/>
          <p:nvPr/>
        </p:nvPicPr>
        <p:blipFill>
          <a:blip r:embed="rId4"/>
          <a:stretch/>
        </p:blipFill>
        <p:spPr>
          <a:xfrm>
            <a:off x="-571680" y="106668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ecycling Logo"/>
          <p:cNvPicPr/>
          <p:nvPr/>
        </p:nvPicPr>
        <p:blipFill>
          <a:blip r:embed="rId5"/>
          <a:stretch/>
        </p:blipFill>
        <p:spPr>
          <a:xfrm>
            <a:off x="-571680" y="1019160"/>
            <a:ext cx="33372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ycling Logo"/>
          <p:cNvPicPr/>
          <p:nvPr/>
        </p:nvPicPr>
        <p:blipFill>
          <a:blip r:embed="rId6"/>
          <a:stretch/>
        </p:blipFill>
        <p:spPr>
          <a:xfrm>
            <a:off x="-571680" y="969840"/>
            <a:ext cx="34308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Recycling Logo"/>
          <p:cNvPicPr/>
          <p:nvPr/>
        </p:nvPicPr>
        <p:blipFill>
          <a:blip r:embed="rId7"/>
          <a:stretch/>
        </p:blipFill>
        <p:spPr>
          <a:xfrm>
            <a:off x="-571680" y="952560"/>
            <a:ext cx="343080" cy="314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571680" y="219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571680" y="2193840"/>
            <a:ext cx="5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79640" y="1700280"/>
          <a:ext cx="5133960" cy="4906800"/>
        </p:xfrm>
        <a:graphic>
          <a:graphicData uri="http://schemas.openxmlformats.org/drawingml/2006/table">
            <a:tbl>
              <a:tblPr/>
              <a:tblGrid>
                <a:gridCol w="615960"/>
                <a:gridCol w="860400"/>
                <a:gridCol w="365760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ethylene terephthalat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izzy drink bottles and oven-ready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High-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Bottles for milk and washing-up liquid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V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vinyl chlorid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Food trays, cling film, bottles for squash, mineral water and shampo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D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Low density polyeth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Carrier bags and bin lin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propyl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Margarine tubs, microwaveable meal tra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Polystyren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Yoghurt pots, foam meat or fish trays, hamburger boxes and egg cartons, vending cups, plastic cutlery, protective packaging for electronic goods and toy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y other plastic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t do not fall into any of the above categories. - An example is melamine, which is often used in plastic plates and cup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ercentage that can be recycl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out 7% of all household waste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ally, 3 million tonnes of plastic rubbish are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7% of litter found on beaches is pla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2001 only 7% of all plastic was recycled. Is this the case in your househo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y recycle plastic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ation of non-renewable fossil fuels - Plastic production uses 8% of the world's oil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consumption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amounts of solid waste going to landfi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emissions of carbon-dioxide (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nitrogen-oxide (NO) and sulphur-dioxide (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How are polymers recycl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recycling of plastics refers to processes which involve the melting, shredding or granulation of waste pla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tics must be sorted prior to mechanical recycl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moment in the UK most sorting for mechanical recycling is done by trained staff who manually sort the plastics into polymer type and/or colou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sorting, the plastic is either melted down directly and moulded into a new shape, or melted down after being shredded into flakes and than processed into granules called regranu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at can we d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 increasing number of local authorities are now providing plastics collection services. Research by RECOUP has shown that local authorities can achieve cost-effective high-achieving plastics collection systems by integrating plastic bottle collection with other recyclable materials. For example, Daventry District Council introduced such a system in 1998 and has been able to increase recycling rates from 12% to nearly 50%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 Adur, West Sussex, and Milton Keynes in Buckinghamshire, plastic bottles and polystyrene are collected through 'blue box' schemes, where residents place recyclable materials in a separate box for sorting by the refuse collectors at the kerbside. Plastics and other materials are sorted into a compartmentalised vehicle, then taken to the Materials Reclamation Facility (MRF) for final sorting before transport to reprocessing pla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20:09:29Z</dcterms:created>
  <dc:creator>EP School</dc:creator>
  <dc:description>Starter plastic recycling</dc:description>
  <cp:keywords>Starter plastic recycling</cp:keywords>
  <dc:language>en-US</dc:language>
  <cp:lastModifiedBy>RomaK</cp:lastModifiedBy>
  <dcterms:modified xsi:type="dcterms:W3CDTF">2015-09-02T06:00:44Z</dcterms:modified>
  <cp:revision>14</cp:revision>
  <dc:subject>Starter plastic recycling</dc:subject>
  <dc:title>Starter plastic recycling</dc:title>
</cp:coreProperties>
</file>