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38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4.png" ContentType="image/png"/>
  <Override PartName="/ppt/media/image27.jpeg" ContentType="image/jpeg"/>
  <Override PartName="/ppt/media/image13.jpeg" ContentType="image/jpeg"/>
  <Override PartName="/ppt/media/image30.jpeg" ContentType="image/jpeg"/>
  <Override PartName="/ppt/media/image18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10.png" ContentType="image/png"/>
  <Override PartName="/ppt/media/image35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F540-B2E7-4C75-9DE9-AE8BDE4C5FF4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BD2D-9956-41C6-A799-09E7CFC9A8CB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139B-C1A7-4421-9859-0BA3B48151F1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5D6E-DDB9-43E0-A7C1-828BF2D6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32D8-BA6F-48A2-8B67-C738592F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63EE-B06E-4A48-BC9F-0EC86628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2AFB-7367-4619-9235-31C671F4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2B36-80E5-45F9-87A6-AEFD17C3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D36F-EEE4-4A27-9DA5-9C4E7125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FE60-7A51-4278-BDFC-E6831345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5CA8-E6FC-4E83-945A-9F86D4BA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4D6-C589-454C-A316-F84E4DF6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B61D-0A97-46D9-9174-F973E6B6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D059-20FB-4050-BA27-574071A4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FA4-95EE-437A-9302-1CF542B4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03DD-8888-4DEB-9A53-A3FDA39DB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99"/>
                </a:solidFill>
                <a:latin typeface="Comic Sans MS"/>
              </a:rPr>
              <a:t>Madame Marie Cur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The Science of Radioacti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9-PIC"/>
          <p:cNvPicPr/>
          <p:nvPr/>
        </p:nvPicPr>
        <p:blipFill>
          <a:blip r:embed="rId1"/>
          <a:stretch/>
        </p:blipFill>
        <p:spPr>
          <a:xfrm>
            <a:off x="3505320" y="2895480"/>
            <a:ext cx="2101680" cy="2971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895480" y="6172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Comic Sans MS"/>
              </a:rPr>
              <a:t>By Claire Goels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981080" y="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olon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7" name="Picture 3" descr="D:\lalalala\17-M&amp;P.GIF"/>
          <p:cNvPicPr/>
          <p:nvPr/>
        </p:nvPicPr>
        <p:blipFill>
          <a:blip r:embed="rId1"/>
          <a:stretch/>
        </p:blipFill>
        <p:spPr>
          <a:xfrm>
            <a:off x="4800600" y="1143000"/>
            <a:ext cx="4084560" cy="533412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8" name="Text Box 4"/>
          <p:cNvSpPr/>
          <p:nvPr/>
        </p:nvSpPr>
        <p:spPr>
          <a:xfrm>
            <a:off x="228600" y="1447920"/>
            <a:ext cx="4419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ierre stopped his work on crystals to work with Mari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continued her work, but with a different substance, pitchblend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676520" y="228600"/>
            <a:ext cx="601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olonium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80880" y="434340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y called this new substance polonium in honor of Marie’s homel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114800" y="1143000"/>
            <a:ext cx="50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July 1898 they extracted a new element that was even more radioactive than uran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3200400" cy="295884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3571920" cy="251928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9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819520" y="3049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28600" y="1447920"/>
            <a:ext cx="4343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January of 1899 another new element was discovered that was over 1 million times more radioactive than uranium, it was named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8" name="Picture 4" descr="D:\lalalala\31-radium.jpg"/>
          <p:cNvPicPr/>
          <p:nvPr/>
        </p:nvPicPr>
        <p:blipFill>
          <a:blip r:embed="rId1"/>
          <a:stretch/>
        </p:blipFill>
        <p:spPr>
          <a:xfrm>
            <a:off x="4419720" y="1905120"/>
            <a:ext cx="4724280" cy="373212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600200" y="3049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Continued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19320" y="48769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10 Marie isolated pure radium meta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486400" y="205740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ajor studies showed that radium gave out light and heat, as well as being able to damage living flesh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143000" y="2362320"/>
            <a:ext cx="2971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914400" y="2362320"/>
            <a:ext cx="4495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5" name="Picture 17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952880" cy="277488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0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026"/>
          <p:cNvSpPr/>
          <p:nvPr/>
        </p:nvSpPr>
        <p:spPr>
          <a:xfrm>
            <a:off x="2057400" y="30492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Text Box 1027"/>
          <p:cNvSpPr/>
          <p:nvPr/>
        </p:nvSpPr>
        <p:spPr>
          <a:xfrm>
            <a:off x="762120" y="220968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Text Box 1028"/>
          <p:cNvSpPr/>
          <p:nvPr/>
        </p:nvSpPr>
        <p:spPr>
          <a:xfrm>
            <a:off x="533520" y="1273320"/>
            <a:ext cx="3200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order to obtain one decigram of pure radium chloride salt, Marie had to sift through hundreds of tons of pitchblend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0" name="Picture 1030" descr="D:\lalalala\pitchblende.jpg"/>
          <p:cNvPicPr/>
          <p:nvPr/>
        </p:nvPicPr>
        <p:blipFill>
          <a:blip r:embed="rId1"/>
          <a:stretch/>
        </p:blipFill>
        <p:spPr>
          <a:xfrm>
            <a:off x="3886200" y="2286000"/>
            <a:ext cx="4648320" cy="34146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1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828800" y="30492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roperties of Rad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267080" cy="327636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14" name="Text Box 5"/>
          <p:cNvSpPr/>
          <p:nvPr/>
        </p:nvSpPr>
        <p:spPr>
          <a:xfrm>
            <a:off x="380880" y="1295280"/>
            <a:ext cx="381024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adium is silver-white in colo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day it is used i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mall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mounts as a cancer treatment and in fluorescent pain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1676520" y="5335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ierre’s Death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447920" y="5118120"/>
            <a:ext cx="647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ierre Curie was killed tragically by a horse-drawn cart in 1906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114800" y="1600200"/>
            <a:ext cx="37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9" name="Picture 6" descr="D:\lalalala\18-pierre.gif"/>
          <p:cNvPicPr/>
          <p:nvPr/>
        </p:nvPicPr>
        <p:blipFill>
          <a:blip r:embed="rId1"/>
          <a:stretch/>
        </p:blipFill>
        <p:spPr>
          <a:xfrm>
            <a:off x="3276720" y="1523880"/>
            <a:ext cx="2670120" cy="34578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2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295280" y="0"/>
            <a:ext cx="518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Teaching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04920" y="1143000"/>
            <a:ext cx="449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t was decided that Marie should take over Pierre’s teaching job at the Sorbonne in 1906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952880" y="4019400"/>
            <a:ext cx="38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is made Marie the 1st woman professor at any French university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4" name="Picture 5" descr="D:\lalalala\37-PIC.JPG"/>
          <p:cNvPicPr/>
          <p:nvPr/>
        </p:nvPicPr>
        <p:blipFill>
          <a:blip r:embed="rId1"/>
          <a:srcRect l="4983" t="3321" r="4983" b="5399"/>
          <a:stretch/>
        </p:blipFill>
        <p:spPr>
          <a:xfrm>
            <a:off x="5105520" y="893880"/>
            <a:ext cx="3578040" cy="310356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304920" y="3956040"/>
            <a:ext cx="4267080" cy="290196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2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838080" y="30492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aris Radium Institut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28600" y="1523880"/>
            <a:ext cx="4114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07 Marie convinced the French government to fund a radium research institute, to be used mainly for medical research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9" name="Picture 6" descr="D:\lalalala\15-PIC.GIF"/>
          <p:cNvPicPr/>
          <p:nvPr/>
        </p:nvPicPr>
        <p:blipFill>
          <a:blip r:embed="rId1"/>
          <a:stretch/>
        </p:blipFill>
        <p:spPr>
          <a:xfrm>
            <a:off x="4267080" y="1828800"/>
            <a:ext cx="4015080" cy="43340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133720" y="38088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ealth Problem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57200" y="1517760"/>
            <a:ext cx="4038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believed that working with radium was not a danger to her health, however, doctors today have proven that she was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very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wrong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3" name="Picture 4" descr="D:\lalalala\3-PIC.GIF"/>
          <p:cNvPicPr/>
          <p:nvPr/>
        </p:nvPicPr>
        <p:blipFill>
          <a:blip r:embed="rId1"/>
          <a:stretch/>
        </p:blipFill>
        <p:spPr>
          <a:xfrm>
            <a:off x="4800600" y="1600200"/>
            <a:ext cx="3592440" cy="441972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57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Early Lif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28600" y="1523880"/>
            <a:ext cx="48769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orn on November 7, 1867 in Warsaw, Pol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iven name was Marya Sklodowska, but her family and friends called her “Little Manya”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5" name="Picture 6" descr="D:\lalalala\7PIC.BMP"/>
          <p:cNvPicPr/>
          <p:nvPr/>
        </p:nvPicPr>
        <p:blipFill>
          <a:blip r:embed="rId1"/>
          <a:stretch/>
        </p:blipFill>
        <p:spPr>
          <a:xfrm>
            <a:off x="5181480" y="838080"/>
            <a:ext cx="3719520" cy="56199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00200" y="38088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ealth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181480" y="1371600"/>
            <a:ext cx="3429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11 Marie collapsed from depression and severe kidney problems that were a result of her long-time exposure to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rcRect l="0" t="0" r="0" b="9599"/>
          <a:stretch/>
        </p:blipFill>
        <p:spPr>
          <a:xfrm>
            <a:off x="914400" y="1447920"/>
            <a:ext cx="3564000" cy="5110200"/>
          </a:xfrm>
          <a:prstGeom prst="rect">
            <a:avLst/>
          </a:prstGeom>
          <a:ln cap="rnd" w="4752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143000" y="38088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Institute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43000" y="51181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 August 1914 the Radium Institute was finished, and named after Marie’s deceased husb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1" name="Picture 5" descr="D:\lalalala\36-radium institute.jpg"/>
          <p:cNvPicPr/>
          <p:nvPr/>
        </p:nvPicPr>
        <p:blipFill>
          <a:blip r:embed="rId1"/>
          <a:srcRect l="4793" t="6803" r="4793" b="6803"/>
          <a:stretch/>
        </p:blipFill>
        <p:spPr>
          <a:xfrm>
            <a:off x="2508120" y="1670040"/>
            <a:ext cx="4813560" cy="32400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4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133720" y="3049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ld War II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33520" y="1547640"/>
            <a:ext cx="419076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ortly after the institute was finished, Germany invaded Franc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’s staff was cut short to two people, herself and her daughter Iren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rcRect l="0" t="0" r="0" b="8442"/>
          <a:stretch/>
        </p:blipFill>
        <p:spPr>
          <a:xfrm>
            <a:off x="5105520" y="1295280"/>
            <a:ext cx="3450960" cy="5110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66680" y="4572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ld War II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57200" y="167652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mmediately after the War broke out Marie donated all of her money to the War fund, and signed up to be a nur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Picture 4" descr="D:\lalalala\39-NURSE.JPG"/>
          <p:cNvPicPr/>
          <p:nvPr/>
        </p:nvPicPr>
        <p:blipFill>
          <a:blip r:embed="rId1"/>
          <a:srcRect l="6781" t="4990" r="6781" b="4990"/>
          <a:stretch/>
        </p:blipFill>
        <p:spPr>
          <a:xfrm>
            <a:off x="4951440" y="1598760"/>
            <a:ext cx="3440160" cy="48686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066680" y="38088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X-ray Mobile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05520" y="1905120"/>
            <a:ext cx="373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decided that there should be x-ray machines that the war doctors could use on the battle field for soldier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740040" cy="45054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523880" y="228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X-ray mobiles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762120" y="51181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created 20 mobile x-ray machines and over 200 stationary machin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Picture 5" descr="D:\lalalala\38-CAR.JPG"/>
          <p:cNvPicPr/>
          <p:nvPr/>
        </p:nvPicPr>
        <p:blipFill>
          <a:blip r:embed="rId1"/>
          <a:stretch/>
        </p:blipFill>
        <p:spPr>
          <a:xfrm>
            <a:off x="2133720" y="1371600"/>
            <a:ext cx="4975200" cy="35654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666880" y="53352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on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80880" y="243828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also invented tiny glass tubes that were filled with radon ( a radioactive gas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319200" cy="488628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745720" y="38088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on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33520" y="4876920"/>
            <a:ext cx="830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octors would insert the tubes in patients at spots where the radiation would destroy diseased tissu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572000" cy="30481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6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752480" y="106668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676520" y="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fter the War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38080" y="487692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fter the War ended in 1918 Marie spent a lot of time with her two daughters Irene and Eve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0" name="Picture 5" descr="D:\lalalala\11-m,I,E.jpg"/>
          <p:cNvPicPr/>
          <p:nvPr/>
        </p:nvPicPr>
        <p:blipFill>
          <a:blip r:embed="rId1"/>
          <a:stretch/>
        </p:blipFill>
        <p:spPr>
          <a:xfrm>
            <a:off x="2971800" y="914400"/>
            <a:ext cx="2901960" cy="3886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7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600200" y="38088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fter the War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4800600" y="1981080"/>
            <a:ext cx="396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fter two or three years with her daughters she resumed her work with radium at the Paris institu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Picture 5" descr="D:\lalalala\12-PIC.JPG"/>
          <p:cNvPicPr/>
          <p:nvPr/>
        </p:nvPicPr>
        <p:blipFill>
          <a:blip r:embed="rId1"/>
          <a:stretch/>
        </p:blipFill>
        <p:spPr>
          <a:xfrm>
            <a:off x="838080" y="1752480"/>
            <a:ext cx="3667320" cy="40579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905120" y="3049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Early Life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191120" y="1273320"/>
            <a:ext cx="464796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father was a professor of math and physic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other was a pianist, singer, and teache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other died of tuberculosis when Marya was 11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446640" cy="464832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057400" y="30492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Declining Health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295280" y="1981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8600" y="1828800"/>
            <a:ext cx="2666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had been working at the radium institute in good health for almost 12 year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6095880" y="1273320"/>
            <a:ext cx="2743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began to notice burns on her hands and her failing eyesight somewhere around 193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0" name="Picture 6" descr="D:\lalalala\28-PIC.GIF"/>
          <p:cNvPicPr/>
          <p:nvPr/>
        </p:nvPicPr>
        <p:blipFill>
          <a:blip r:embed="rId1"/>
          <a:stretch/>
        </p:blipFill>
        <p:spPr>
          <a:xfrm>
            <a:off x="2971800" y="1752480"/>
            <a:ext cx="2976480" cy="39625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8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905120" y="685800"/>
            <a:ext cx="58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666880" y="38088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ate Lif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457200" y="4294080"/>
            <a:ext cx="82296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’s blood had been weakened by her constant exposure to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is caused her to catch aplastic anemi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3352680" y="1371600"/>
            <a:ext cx="2606760" cy="2743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8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2362320" y="3049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ate Life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981080" y="251460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066680" y="487692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eventually contracted leukemia and died on July 14, 1934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800600" cy="325116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259092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ward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33520" y="1828800"/>
            <a:ext cx="373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was awarded numerous small awards during her life such as having her picture placed on a stamp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4" name="Picture 5" descr="D:\lalalala\26-STAMP.JPG"/>
          <p:cNvPicPr/>
          <p:nvPr/>
        </p:nvPicPr>
        <p:blipFill>
          <a:blip r:embed="rId1"/>
          <a:stretch/>
        </p:blipFill>
        <p:spPr>
          <a:xfrm>
            <a:off x="4495680" y="2133720"/>
            <a:ext cx="4419720" cy="29048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514600" y="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wards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4419720" y="990720"/>
            <a:ext cx="449568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was awarded the Nobel prize in physics in 1903 for her work with X-ray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was also awarded the Nobel prize in chemistry in 1911 for her work with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8" name="Picture 4" descr="D:\lalalala\33-PRIZE.JPG"/>
          <p:cNvPicPr/>
          <p:nvPr/>
        </p:nvPicPr>
        <p:blipFill>
          <a:blip r:embed="rId1"/>
          <a:stretch/>
        </p:blipFill>
        <p:spPr>
          <a:xfrm>
            <a:off x="457200" y="1828800"/>
            <a:ext cx="3657600" cy="36576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590920" y="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bout Me!!!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1" name="Picture 4" descr="D:\Claire's Pictures\Claire copy.JPG"/>
          <p:cNvPicPr/>
          <p:nvPr/>
        </p:nvPicPr>
        <p:blipFill>
          <a:blip r:embed="rId1"/>
          <a:srcRect l="0" t="0" r="24409" b="0"/>
          <a:stretch/>
        </p:blipFill>
        <p:spPr>
          <a:xfrm>
            <a:off x="5840280" y="762120"/>
            <a:ext cx="3303720" cy="3278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D:\Claire's Pictures\blacksilkie2.jpg"/>
          <p:cNvPicPr/>
          <p:nvPr/>
        </p:nvPicPr>
        <p:blipFill>
          <a:blip r:embed="rId2"/>
          <a:stretch/>
        </p:blipFill>
        <p:spPr>
          <a:xfrm>
            <a:off x="6858000" y="4362480"/>
            <a:ext cx="1965240" cy="2495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D:\Claire's Pictures\macaroni.jpg"/>
          <p:cNvPicPr/>
          <p:nvPr/>
        </p:nvPicPr>
        <p:blipFill>
          <a:blip r:embed="rId3"/>
          <a:srcRect l="8498" t="53654" r="0" b="5459"/>
          <a:stretch/>
        </p:blipFill>
        <p:spPr>
          <a:xfrm>
            <a:off x="609480" y="3352680"/>
            <a:ext cx="3048120" cy="20574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914400" y="917640"/>
            <a:ext cx="6019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i!I’m Claire! I like food-all kinds. And I like horses, chickens(yes a little odd I know), and talking!!!!!! I’m incredibly tall and I have red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ir!!!! I have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wo sisters and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brother,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are all older than me. I especially like Chinese food and Mac n’ chees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362320" y="30492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Schooling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029200" y="1219320"/>
            <a:ext cx="3809880" cy="52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raduated high school when she was 15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891 she enrolled at the Sorbonne in Paris as “Marie” and graduated in 1893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3" name="Picture 5" descr="D:\lalalala\32-sorbonne.jpg"/>
          <p:cNvPicPr/>
          <p:nvPr/>
        </p:nvPicPr>
        <p:blipFill>
          <a:blip r:embed="rId1"/>
          <a:stretch/>
        </p:blipFill>
        <p:spPr>
          <a:xfrm>
            <a:off x="304920" y="1295280"/>
            <a:ext cx="3887640" cy="495324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057400" y="3049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ierr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6" name="Picture 7" descr="D:\lalalala\23-M&amp;P.JPG"/>
          <p:cNvPicPr/>
          <p:nvPr/>
        </p:nvPicPr>
        <p:blipFill>
          <a:blip r:embed="rId1"/>
          <a:stretch/>
        </p:blipFill>
        <p:spPr>
          <a:xfrm>
            <a:off x="2666880" y="1676520"/>
            <a:ext cx="4038840" cy="40179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7" name="Text Box 8"/>
          <p:cNvSpPr/>
          <p:nvPr/>
        </p:nvSpPr>
        <p:spPr>
          <a:xfrm>
            <a:off x="304920" y="6019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married Pierre Curie in July 1895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5638680" y="3124080"/>
            <a:ext cx="99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752480" y="38088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Thesis Work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685800" y="1600200"/>
            <a:ext cx="4191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decided that her thesis for her doctorate would be on Henri Becquerel’s mysterious “x-rays”  that are given off by uran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071880" cy="43434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7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447920" y="228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k with Uran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5" name="Picture 3" descr="D:\lalalala\Uranium.jpg"/>
          <p:cNvPicPr/>
          <p:nvPr/>
        </p:nvPicPr>
        <p:blipFill>
          <a:blip r:embed="rId1"/>
          <a:stretch/>
        </p:blipFill>
        <p:spPr>
          <a:xfrm>
            <a:off x="2438280" y="1066680"/>
            <a:ext cx="4267440" cy="285444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76" name="Text Box 11"/>
          <p:cNvSpPr/>
          <p:nvPr/>
        </p:nvSpPr>
        <p:spPr>
          <a:xfrm>
            <a:off x="914400" y="401940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iscovered that if you have a certain amount of uranium, then you get a certain amount of ray intensity, no matter what you did to the materia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38088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Uranium Continued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9" name="Picture 3" descr="D:\lalalala\20-PIC.GIF"/>
          <p:cNvPicPr/>
          <p:nvPr/>
        </p:nvPicPr>
        <p:blipFill>
          <a:blip r:embed="rId1"/>
          <a:stretch/>
        </p:blipFill>
        <p:spPr>
          <a:xfrm>
            <a:off x="304920" y="1523880"/>
            <a:ext cx="3627360" cy="49341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0" name="Text Box 4"/>
          <p:cNvSpPr/>
          <p:nvPr/>
        </p:nvSpPr>
        <p:spPr>
          <a:xfrm>
            <a:off x="4191120" y="2286000"/>
            <a:ext cx="4952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discovered that there was something going on inside the atom that created the rays, she named this effect         “radioactivity”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04920" y="2133720"/>
            <a:ext cx="396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discovered that the only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known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lements that were radioactive were uranium and thor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905120" y="4572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oactivity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rcRect l="0" t="0" r="4006" b="4016"/>
          <a:stretch/>
        </p:blipFill>
        <p:spPr>
          <a:xfrm>
            <a:off x="4343400" y="2133720"/>
            <a:ext cx="4572000" cy="34257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4:49:54Z</dcterms:created>
  <dc:creator>Science Lab</dc:creator>
  <dc:description/>
  <dc:language>en-US</dc:language>
  <cp:lastModifiedBy>Asus</cp:lastModifiedBy>
  <dcterms:modified xsi:type="dcterms:W3CDTF">2018-03-09T16:18:07Z</dcterms:modified>
  <cp:revision>77</cp:revision>
  <dc:subject/>
  <dc:title>Madame Marie Curie</dc:title>
</cp:coreProperties>
</file>