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38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1.png" ContentType="image/png"/>
  <Override PartName="/ppt/media/image8.png" ContentType="image/png"/>
  <Override PartName="/ppt/media/image39.jpeg" ContentType="image/jpeg"/>
  <Override PartName="/ppt/media/image9.png" ContentType="image/png"/>
  <Override PartName="/ppt/media/image34.png" ContentType="image/png"/>
  <Override PartName="/ppt/media/image27.jpeg" ContentType="image/jpeg"/>
  <Override PartName="/ppt/media/image13.jpeg" ContentType="image/jpeg"/>
  <Override PartName="/ppt/media/image30.jpeg" ContentType="image/jpeg"/>
  <Override PartName="/ppt/media/image18.png" ContentType="image/png"/>
  <Override PartName="/ppt/media/image31.jpeg" ContentType="image/jpeg"/>
  <Override PartName="/ppt/media/image4.jpeg" ContentType="image/jpeg"/>
  <Override PartName="/ppt/media/image25.png" ContentType="image/png"/>
  <Override PartName="/ppt/media/image10.png" ContentType="image/png"/>
  <Override PartName="/ppt/media/image35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6.png" ContentType="image/png"/>
  <Override PartName="/ppt/media/image29.png" ContentType="image/png"/>
  <Override PartName="/ppt/media/image5.jpeg" ContentType="image/jpeg"/>
  <Override PartName="/ppt/media/image2.png" ContentType="image/png"/>
  <Override PartName="/ppt/media/image3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4DF3-26CE-4398-871B-70FD329DED92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0581-5CDC-462D-9941-C69A30577DAE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5B0E-3AEC-436F-8ACC-12E646029E20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8B47-9800-4B6B-9D90-B000A34B4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AA97-489F-4257-8AE5-DD3E0525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2DB3-5447-44BA-A314-62CE5D79B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4C75-BFE5-4193-AC0C-2FE999D52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3220-A0B2-4E69-8F83-15703A31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FAF4-75A0-424A-B45E-D0E87213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B070-C903-4E13-BDF2-1F12C982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73F8-C642-4F95-97AA-358A7BA7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7735-2AC3-4FA4-8500-E5F88173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D1F3-F6AC-4C1E-BB2B-1240D644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1A4E-D83C-430B-BF9B-D933E16A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1B87-4900-436C-9DB9-B724556D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866C-11A2-413A-85B0-8370B0CED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3399"/>
                </a:solidFill>
                <a:latin typeface="Comic Sans MS"/>
              </a:rPr>
              <a:t>Madame Marie Curi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&amp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The Science of Radioacti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9-PIC"/>
          <p:cNvPicPr/>
          <p:nvPr/>
        </p:nvPicPr>
        <p:blipFill>
          <a:blip r:embed="rId1"/>
          <a:stretch/>
        </p:blipFill>
        <p:spPr>
          <a:xfrm>
            <a:off x="3505320" y="2895480"/>
            <a:ext cx="2101680" cy="2971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2895480" y="61722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Comic Sans MS"/>
              </a:rPr>
              <a:t>By Claire Goels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981080" y="0"/>
            <a:ext cx="563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olonium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7" name="Picture 3" descr="D:\lalalala\17-M&amp;P.GIF"/>
          <p:cNvPicPr/>
          <p:nvPr/>
        </p:nvPicPr>
        <p:blipFill>
          <a:blip r:embed="rId1"/>
          <a:stretch/>
        </p:blipFill>
        <p:spPr>
          <a:xfrm>
            <a:off x="4800600" y="1143000"/>
            <a:ext cx="4084560" cy="533412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88" name="Text Box 4"/>
          <p:cNvSpPr/>
          <p:nvPr/>
        </p:nvSpPr>
        <p:spPr>
          <a:xfrm>
            <a:off x="228600" y="1447920"/>
            <a:ext cx="4419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ierre stopped his work on crystals to work with Mari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continued her work, but with a different substance, pitchblend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676520" y="228600"/>
            <a:ext cx="601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olonium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380880" y="4343400"/>
            <a:ext cx="464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ey called this new substance polonium in honor of Marie’s homelan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4114800" y="1143000"/>
            <a:ext cx="5029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July 1898 they extracted a new element that was even more radioactive than uran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3200400" cy="295884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5181480" y="4114800"/>
            <a:ext cx="3571920" cy="251928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9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819520" y="30492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ium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228600" y="1447920"/>
            <a:ext cx="4343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January of 1899 another new element was discovered that was over 1 million times more radioactive than uranium, it was named rad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8" name="Picture 4" descr="D:\lalalala\31-radium.jpg"/>
          <p:cNvPicPr/>
          <p:nvPr/>
        </p:nvPicPr>
        <p:blipFill>
          <a:blip r:embed="rId1"/>
          <a:stretch/>
        </p:blipFill>
        <p:spPr>
          <a:xfrm>
            <a:off x="4419720" y="1905120"/>
            <a:ext cx="4724280" cy="373212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9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600200" y="30492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ium Continued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219320" y="487692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1910 Marie isolated pure radium metal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486400" y="2057400"/>
            <a:ext cx="3657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er major studies showed that radium gave out light and heat, as well as being able to damage living flesh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143000" y="2362320"/>
            <a:ext cx="29718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914400" y="2362320"/>
            <a:ext cx="44956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5" name="Picture 17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4952880" cy="277488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06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026"/>
          <p:cNvSpPr/>
          <p:nvPr/>
        </p:nvSpPr>
        <p:spPr>
          <a:xfrm>
            <a:off x="2057400" y="30492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ium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Text Box 1027"/>
          <p:cNvSpPr/>
          <p:nvPr/>
        </p:nvSpPr>
        <p:spPr>
          <a:xfrm>
            <a:off x="762120" y="2209680"/>
            <a:ext cx="29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Text Box 1028"/>
          <p:cNvSpPr/>
          <p:nvPr/>
        </p:nvSpPr>
        <p:spPr>
          <a:xfrm>
            <a:off x="533520" y="1273320"/>
            <a:ext cx="3200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order to obtain one decigram of pure radium chloride salt, Marie had to sift through hundreds of tons of pitchblend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0" name="Picture 1030" descr="D:\lalalala\pitchblende.jpg"/>
          <p:cNvPicPr/>
          <p:nvPr/>
        </p:nvPicPr>
        <p:blipFill>
          <a:blip r:embed="rId1"/>
          <a:stretch/>
        </p:blipFill>
        <p:spPr>
          <a:xfrm>
            <a:off x="3886200" y="2286000"/>
            <a:ext cx="4648320" cy="341460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1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1828800" y="304920"/>
            <a:ext cx="617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roperties of Radium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4419720" y="2133720"/>
            <a:ext cx="4267080" cy="327636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14" name="Text Box 5"/>
          <p:cNvSpPr/>
          <p:nvPr/>
        </p:nvSpPr>
        <p:spPr>
          <a:xfrm>
            <a:off x="380880" y="1295280"/>
            <a:ext cx="3810240" cy="58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Radium is silver-white in color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oday it is used in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small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mounts as a cancer treatment and in fluorescent paint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1676520" y="5335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ierre’s Death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447920" y="5118120"/>
            <a:ext cx="6476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ierre Curie was killed tragically by a horse-drawn cart in 1906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114800" y="1600200"/>
            <a:ext cx="3733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9" name="Picture 6" descr="D:\lalalala\18-pierre.gif"/>
          <p:cNvPicPr/>
          <p:nvPr/>
        </p:nvPicPr>
        <p:blipFill>
          <a:blip r:embed="rId1"/>
          <a:stretch/>
        </p:blipFill>
        <p:spPr>
          <a:xfrm>
            <a:off x="3276720" y="1523880"/>
            <a:ext cx="2670120" cy="345780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2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295280" y="0"/>
            <a:ext cx="518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Teaching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04920" y="1143000"/>
            <a:ext cx="4495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t was decided that Marie should take over Pierre’s teaching job at the Sorbonne in 1906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4952880" y="4019400"/>
            <a:ext cx="3886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is made Marie the 1st woman professor at any French university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4" name="Picture 5" descr="D:\lalalala\37-PIC.JPG"/>
          <p:cNvPicPr/>
          <p:nvPr/>
        </p:nvPicPr>
        <p:blipFill>
          <a:blip r:embed="rId1"/>
          <a:srcRect l="4983" t="3321" r="4983" b="5399"/>
          <a:stretch/>
        </p:blipFill>
        <p:spPr>
          <a:xfrm>
            <a:off x="5105520" y="893880"/>
            <a:ext cx="3578040" cy="310356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>
            <a:off x="304920" y="3956040"/>
            <a:ext cx="4267080" cy="290196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26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838080" y="30492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aris Radium Institute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28600" y="1523880"/>
            <a:ext cx="4114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1907 Marie convinced the French government to fund a radium research institute, to be used mainly for medical research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9" name="Picture 6" descr="D:\lalalala\15-PIC.GIF"/>
          <p:cNvPicPr/>
          <p:nvPr/>
        </p:nvPicPr>
        <p:blipFill>
          <a:blip r:embed="rId1"/>
          <a:stretch/>
        </p:blipFill>
        <p:spPr>
          <a:xfrm>
            <a:off x="4267080" y="1828800"/>
            <a:ext cx="4015080" cy="433404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3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2133720" y="38088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Health Problem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457200" y="1517760"/>
            <a:ext cx="4038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believed that working with radium was not a danger to her health, however, doctors today have proven that she was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very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wrong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3" name="Picture 4" descr="D:\lalalala\3-PIC.GIF"/>
          <p:cNvPicPr/>
          <p:nvPr/>
        </p:nvPicPr>
        <p:blipFill>
          <a:blip r:embed="rId1"/>
          <a:stretch/>
        </p:blipFill>
        <p:spPr>
          <a:xfrm>
            <a:off x="4800600" y="1600200"/>
            <a:ext cx="3592440" cy="441972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3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57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Early Life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28600" y="1523880"/>
            <a:ext cx="48769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Born on November 7, 1867 in Warsaw, Polan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Given name was Marya Sklodowska, but her family and friends called her “Little Manya”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5" name="Picture 6" descr="D:\lalalala\7PIC.BMP"/>
          <p:cNvPicPr/>
          <p:nvPr/>
        </p:nvPicPr>
        <p:blipFill>
          <a:blip r:embed="rId1"/>
          <a:stretch/>
        </p:blipFill>
        <p:spPr>
          <a:xfrm>
            <a:off x="5181480" y="838080"/>
            <a:ext cx="3719520" cy="561996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5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600200" y="380880"/>
            <a:ext cx="601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Health cont. 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181480" y="1371600"/>
            <a:ext cx="3429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1911 Marie collapsed from depression and severe kidney problems that were a result of her long-time exposure to rad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rcRect l="0" t="0" r="0" b="9599"/>
          <a:stretch/>
        </p:blipFill>
        <p:spPr>
          <a:xfrm>
            <a:off x="914400" y="1447920"/>
            <a:ext cx="3564000" cy="5110200"/>
          </a:xfrm>
          <a:prstGeom prst="rect">
            <a:avLst/>
          </a:prstGeom>
          <a:ln cap="rnd" w="4752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3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1143000" y="38088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ium Institute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43000" y="51181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 August 1914 the Radium Institute was finished, and named after Marie’s deceased husban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1" name="Picture 5" descr="D:\lalalala\36-radium institute.jpg"/>
          <p:cNvPicPr/>
          <p:nvPr/>
        </p:nvPicPr>
        <p:blipFill>
          <a:blip r:embed="rId1"/>
          <a:srcRect l="4793" t="6803" r="4793" b="6803"/>
          <a:stretch/>
        </p:blipFill>
        <p:spPr>
          <a:xfrm>
            <a:off x="2508120" y="1670040"/>
            <a:ext cx="4813560" cy="32400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4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2133720" y="30492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World War II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533520" y="1547640"/>
            <a:ext cx="419076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ortly after the institute was finished, Germany invaded Franc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’s staff was cut short to two people, herself and her daughter Iren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rcRect l="0" t="0" r="0" b="8442"/>
          <a:stretch/>
        </p:blipFill>
        <p:spPr>
          <a:xfrm>
            <a:off x="5105520" y="1295280"/>
            <a:ext cx="3450960" cy="51102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4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066680" y="45720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World War II cont. 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457200" y="167652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mmediately after the War broke out Marie donated all of her money to the War fund, and signed up to be a nurs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9" name="Picture 4" descr="D:\lalalala\39-NURSE.JPG"/>
          <p:cNvPicPr/>
          <p:nvPr/>
        </p:nvPicPr>
        <p:blipFill>
          <a:blip r:embed="rId1"/>
          <a:srcRect l="6781" t="4990" r="6781" b="4990"/>
          <a:stretch/>
        </p:blipFill>
        <p:spPr>
          <a:xfrm>
            <a:off x="4951440" y="1598760"/>
            <a:ext cx="3440160" cy="486864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5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1066680" y="380880"/>
            <a:ext cx="678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X-ray Mobile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5105520" y="1905120"/>
            <a:ext cx="373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decided that there should be x-ray machines that the war doctors could use on the battle field for soldier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3740040" cy="45054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5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1523880" y="228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X-ray mobiles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762120" y="51181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created 20 mobile x-ray machines and over 200 stationary machine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7" name="Picture 5" descr="D:\lalalala\38-CAR.JPG"/>
          <p:cNvPicPr/>
          <p:nvPr/>
        </p:nvPicPr>
        <p:blipFill>
          <a:blip r:embed="rId1"/>
          <a:stretch/>
        </p:blipFill>
        <p:spPr>
          <a:xfrm>
            <a:off x="2133720" y="1371600"/>
            <a:ext cx="4975200" cy="356544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5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2666880" y="533520"/>
            <a:ext cx="358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on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380880" y="2438280"/>
            <a:ext cx="48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also invented tiny glass tubes that were filled with radon ( a radioactive gas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3319200" cy="488628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6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745720" y="380880"/>
            <a:ext cx="36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on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533520" y="4876920"/>
            <a:ext cx="830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Doctors would insert the tubes in patients at spots where the radiation would destroy diseased tissu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572000" cy="304812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6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752480" y="1066680"/>
            <a:ext cx="41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676520" y="0"/>
            <a:ext cx="556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fter the War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38080" y="487692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fter the War ended in 1918 Marie spent a lot of time with her two daughters Irene and Eve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0" name="Picture 5" descr="D:\lalalala\11-m,I,E.jpg"/>
          <p:cNvPicPr/>
          <p:nvPr/>
        </p:nvPicPr>
        <p:blipFill>
          <a:blip r:embed="rId1"/>
          <a:stretch/>
        </p:blipFill>
        <p:spPr>
          <a:xfrm>
            <a:off x="2971800" y="914400"/>
            <a:ext cx="2901960" cy="38862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7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600200" y="380880"/>
            <a:ext cx="601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fter the War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4800600" y="1981080"/>
            <a:ext cx="3962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fter two or three years with her daughters she resumed her work with radium at the Paris institut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4" name="Picture 5" descr="D:\lalalala\12-PIC.JPG"/>
          <p:cNvPicPr/>
          <p:nvPr/>
        </p:nvPicPr>
        <p:blipFill>
          <a:blip r:embed="rId1"/>
          <a:stretch/>
        </p:blipFill>
        <p:spPr>
          <a:xfrm>
            <a:off x="838080" y="1752480"/>
            <a:ext cx="3667320" cy="405792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905120" y="30492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Early Life cont. 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4191120" y="1273320"/>
            <a:ext cx="464796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er father was a professor of math and physic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er mother was a pianist, singer, and teacher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er mother died of tuberculosis when Marya was 11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3446640" cy="464832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2057400" y="304920"/>
            <a:ext cx="533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Declining Health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295280" y="19810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228600" y="1828800"/>
            <a:ext cx="2666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had been working at the radium institute in good health for almost 12 year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6095880" y="1273320"/>
            <a:ext cx="2743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e began to notice burns on her hands and her failing eyesight somewhere around 1932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0" name="Picture 6" descr="D:\lalalala\28-PIC.GIF"/>
          <p:cNvPicPr/>
          <p:nvPr/>
        </p:nvPicPr>
        <p:blipFill>
          <a:blip r:embed="rId1"/>
          <a:stretch/>
        </p:blipFill>
        <p:spPr>
          <a:xfrm>
            <a:off x="2971800" y="1752480"/>
            <a:ext cx="2976480" cy="396252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81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905120" y="685800"/>
            <a:ext cx="586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666880" y="380880"/>
            <a:ext cx="403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Late Life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457200" y="4294080"/>
            <a:ext cx="82296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’s blood had been weakened by her constant exposure to rad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is caused her to catch aplastic anemia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1"/>
          <a:stretch/>
        </p:blipFill>
        <p:spPr>
          <a:xfrm>
            <a:off x="3352680" y="1371600"/>
            <a:ext cx="2606760" cy="27432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8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2362320" y="30492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Late Life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981080" y="2514600"/>
            <a:ext cx="91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1066680" y="4876920"/>
            <a:ext cx="708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eventually contracted leukemia and died on July 14, 1934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0" name="Picture 6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4800600" cy="325116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9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2590920" y="38088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ward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533520" y="1828800"/>
            <a:ext cx="373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was awarded numerous small awards during her life such as having her picture placed on a stamp!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4" name="Picture 5" descr="D:\lalalala\26-STAMP.JPG"/>
          <p:cNvPicPr/>
          <p:nvPr/>
        </p:nvPicPr>
        <p:blipFill>
          <a:blip r:embed="rId1"/>
          <a:stretch/>
        </p:blipFill>
        <p:spPr>
          <a:xfrm>
            <a:off x="4495680" y="2133720"/>
            <a:ext cx="4419720" cy="290484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9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2514600" y="0"/>
            <a:ext cx="39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wards cont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4419720" y="990720"/>
            <a:ext cx="4495680" cy="58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was awarded the Nobel prize in physics in 1903 for her work with X-ray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e was also awarded the Nobel prize in chemistry in 1911 for her work with rad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8" name="Picture 4" descr="D:\lalalala\33-PRIZE.JPG"/>
          <p:cNvPicPr/>
          <p:nvPr/>
        </p:nvPicPr>
        <p:blipFill>
          <a:blip r:embed="rId1"/>
          <a:stretch/>
        </p:blipFill>
        <p:spPr>
          <a:xfrm>
            <a:off x="457200" y="1828800"/>
            <a:ext cx="3657600" cy="3657600"/>
          </a:xfrm>
          <a:prstGeom prst="rect">
            <a:avLst/>
          </a:prstGeom>
          <a:ln cap="rnd" w="442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19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2590920" y="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bout Me!!!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1" name="Picture 4" descr="D:\Claire's Pictures\Claire copy.JPG"/>
          <p:cNvPicPr/>
          <p:nvPr/>
        </p:nvPicPr>
        <p:blipFill>
          <a:blip r:embed="rId1"/>
          <a:srcRect l="0" t="0" r="24409" b="0"/>
          <a:stretch/>
        </p:blipFill>
        <p:spPr>
          <a:xfrm>
            <a:off x="5840280" y="762120"/>
            <a:ext cx="3303720" cy="32781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D:\Claire's Pictures\blacksilkie2.jpg"/>
          <p:cNvPicPr/>
          <p:nvPr/>
        </p:nvPicPr>
        <p:blipFill>
          <a:blip r:embed="rId2"/>
          <a:stretch/>
        </p:blipFill>
        <p:spPr>
          <a:xfrm>
            <a:off x="6858000" y="4362480"/>
            <a:ext cx="1965240" cy="2495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D:\Claire's Pictures\macaroni.jpg"/>
          <p:cNvPicPr/>
          <p:nvPr/>
        </p:nvPicPr>
        <p:blipFill>
          <a:blip r:embed="rId3"/>
          <a:srcRect l="8498" t="53654" r="0" b="5459"/>
          <a:stretch/>
        </p:blipFill>
        <p:spPr>
          <a:xfrm>
            <a:off x="609480" y="3352680"/>
            <a:ext cx="3048120" cy="20574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3"/>
          <p:cNvSpPr/>
          <p:nvPr/>
        </p:nvSpPr>
        <p:spPr>
          <a:xfrm>
            <a:off x="914400" y="917640"/>
            <a:ext cx="6019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i!I’m Claire! I like food-all kinds. And I like horses, chickens(yes a little odd I know), and talking!!!!!! I’m incredibly tall and I have red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air!!!! I have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wo sisters and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e brother,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y are all older than me. I especially like Chinese food and Mac n’ chees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2362320" y="304920"/>
            <a:ext cx="396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Schooling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5029200" y="1219320"/>
            <a:ext cx="3809880" cy="52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Graduated high school when she was 15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 1891 she enrolled at the Sorbonne in Paris as “Marie” and graduated in 1893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3" name="Picture 5" descr="D:\lalalala\32-sorbonne.jpg"/>
          <p:cNvPicPr/>
          <p:nvPr/>
        </p:nvPicPr>
        <p:blipFill>
          <a:blip r:embed="rId1"/>
          <a:stretch/>
        </p:blipFill>
        <p:spPr>
          <a:xfrm>
            <a:off x="304920" y="1295280"/>
            <a:ext cx="3887640" cy="495324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057400" y="30492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ierre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6" name="Picture 7" descr="D:\lalalala\23-M&amp;P.JPG"/>
          <p:cNvPicPr/>
          <p:nvPr/>
        </p:nvPicPr>
        <p:blipFill>
          <a:blip r:embed="rId1"/>
          <a:stretch/>
        </p:blipFill>
        <p:spPr>
          <a:xfrm>
            <a:off x="2666880" y="1676520"/>
            <a:ext cx="4038840" cy="401796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67" name="Text Box 8"/>
          <p:cNvSpPr/>
          <p:nvPr/>
        </p:nvSpPr>
        <p:spPr>
          <a:xfrm>
            <a:off x="304920" y="601992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e married Pierre Curie in July 1895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5638680" y="3124080"/>
            <a:ext cx="99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752480" y="380880"/>
            <a:ext cx="563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Thesis Work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685800" y="1600200"/>
            <a:ext cx="4191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e decided that her thesis for her doctorate would be on Henri Becquerel’s mysterious “x-rays”  that are given off by uran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5410080" y="1828800"/>
            <a:ext cx="3071880" cy="4343400"/>
          </a:xfrm>
          <a:prstGeom prst="rect">
            <a:avLst/>
          </a:prstGeom>
          <a:ln cap="rnd" w="3816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7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1447920" y="228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Work with Uranium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5" name="Picture 3" descr="D:\lalalala\Uranium.jpg"/>
          <p:cNvPicPr/>
          <p:nvPr/>
        </p:nvPicPr>
        <p:blipFill>
          <a:blip r:embed="rId1"/>
          <a:stretch/>
        </p:blipFill>
        <p:spPr>
          <a:xfrm>
            <a:off x="2438280" y="1066680"/>
            <a:ext cx="4267440" cy="285444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76" name="Text Box 11"/>
          <p:cNvSpPr/>
          <p:nvPr/>
        </p:nvSpPr>
        <p:spPr>
          <a:xfrm>
            <a:off x="914400" y="4019400"/>
            <a:ext cx="754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Discovered that if you have a certain amount of uranium, then you get a certain amount of ray intensity, no matter what you did to the material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447920" y="38088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Uranium Continued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9" name="Picture 3" descr="D:\lalalala\20-PIC.GIF"/>
          <p:cNvPicPr/>
          <p:nvPr/>
        </p:nvPicPr>
        <p:blipFill>
          <a:blip r:embed="rId1"/>
          <a:stretch/>
        </p:blipFill>
        <p:spPr>
          <a:xfrm>
            <a:off x="304920" y="1523880"/>
            <a:ext cx="3627360" cy="493416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80" name="Text Box 4"/>
          <p:cNvSpPr/>
          <p:nvPr/>
        </p:nvSpPr>
        <p:spPr>
          <a:xfrm>
            <a:off x="4191120" y="2286000"/>
            <a:ext cx="4952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arie discovered that there was something going on inside the atom that created the rays, she named this effect         “radioactivity”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304920" y="2133720"/>
            <a:ext cx="3962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he discovered that the only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known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lements that were radioactive were uranium and thoriu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905120" y="45720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adioactivity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rcRect l="0" t="0" r="4006" b="4016"/>
          <a:stretch/>
        </p:blipFill>
        <p:spPr>
          <a:xfrm>
            <a:off x="4343400" y="2133720"/>
            <a:ext cx="4572000" cy="3425760"/>
          </a:xfrm>
          <a:prstGeom prst="rect">
            <a:avLst/>
          </a:prstGeom>
          <a:ln cap="rnd" w="31680">
            <a:solidFill>
              <a:srgbClr val="ccccff"/>
            </a:solidFill>
            <a:custDash>
              <a:ds d="100000" sp="1000"/>
            </a:custDash>
            <a:miter/>
          </a:ln>
        </p:spPr>
      </p:pic>
      <p:sp>
        <p:nvSpPr>
          <p:cNvPr id="8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3T14:49:54Z</dcterms:created>
  <dc:creator>Science Lab</dc:creator>
  <dc:description/>
  <dc:language>en-US</dc:language>
  <cp:lastModifiedBy>Asus</cp:lastModifiedBy>
  <dcterms:modified xsi:type="dcterms:W3CDTF">2018-03-09T16:18:07Z</dcterms:modified>
  <cp:revision>77</cp:revision>
  <dc:subject/>
  <dc:title>Madame Marie Curie</dc:title>
</cp:coreProperties>
</file>