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997A-B16B-47B5-B763-BA828599829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5A98-0303-43C8-8815-4B196A26C3A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5CBE-304A-4E16-982F-E002850AEAB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3CF4-63A6-4788-8777-DF2E4D66658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610D-6EED-4568-A36D-8E102A3DC79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A2AB-9601-44DD-8D61-00C8CC47621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12600" rIns="12600" tIns="12600" bIns="12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D064-2E77-4DDE-A864-1A0F7BEEB6EF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B758-026C-4BE7-97C8-65A04BB62F4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AFEB-A73F-4189-A40F-FEC0A2BAC79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0000"/>
              </a:solidFill>
              <a:latin typeface="Gill Sans"/>
              <a:ea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5A67-EA44-4340-880D-FD48E498277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46E3-86D3-46D6-8765-98496687AA7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a0b11"/>
                </a:solidFill>
                <a:latin typeface="Gill Sans"/>
              </a:rPr>
              <a:t>MAGNETIC FIELD USES SOUND WAVES TO IGNITE SUN'S RING OF FIRE</a:t>
            </a:r>
            <a:endParaRPr b="0" lang="en-US" sz="4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-91080" y="5762160"/>
            <a:ext cx="1305396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Stuart Jefferies, University of Hawaii, H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iggo Hansteen, University of Oslo, Norwa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Scott McIntosh, Southwest Research Institute, Boulder, 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Bart De Pontieu, Lockheed Martin Solar &amp; Astrophysics Lab, Palo Alto, C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928080" y="4190760"/>
            <a:ext cx="11188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“</a:t>
            </a: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cientists discover what molds the Sun’s Ring of Fire”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066680" y="533520"/>
            <a:ext cx="11049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unding Credit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85800" y="3429000"/>
            <a:ext cx="1173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earch presented was supported by the National Aeronautics and Space Adminstration (NNG05GM75G, NNG06GG79G, NNG06GC89G), the National Science Foundation (ANT-0338251, ATM-0541567) and by the Research Council of Norway through grant 146467/420 and grants of computing time from the Programme for Supercomputing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771280" y="345600"/>
            <a:ext cx="746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at is the Sun’s Ring of Fire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-138960" y="7848360"/>
            <a:ext cx="1323972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Solar Chromosphere: 20,000 F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andwiched between surface (10,000 F) and corona (2 million F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Gill Sans"/>
                <a:ea typeface="Gill Sans"/>
              </a:rPr>
              <a:t>Produces UV radiation that may influence Earth’s climate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4" descr="TSE2005-125w"/>
          <p:cNvPicPr/>
          <p:nvPr/>
        </p:nvPicPr>
        <p:blipFill>
          <a:blip r:embed="rId1"/>
          <a:stretch/>
        </p:blipFill>
        <p:spPr>
          <a:xfrm>
            <a:off x="1600200" y="1295280"/>
            <a:ext cx="9526680" cy="635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575800" y="345600"/>
            <a:ext cx="7914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 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0" name="STEREO_EUVI_304.mov" descr="Tarkus:Users:mcintosh:Desktop:Notes:SSU Stuff:nasa_press1:STEREO_EUVI_304.mov"/>
          <p:cNvPicPr/>
          <p:nvPr/>
        </p:nvPicPr>
        <p:blipFill>
          <a:blip r:embed="rId1"/>
          <a:stretch/>
        </p:blipFill>
        <p:spPr>
          <a:xfrm>
            <a:off x="3124080" y="1066680"/>
            <a:ext cx="7086600" cy="7086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732960" y="8510760"/>
            <a:ext cx="113392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NASA’s STEREO A spacecraft in EUV ligh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Note the jets at the limb and the flickering on the disk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269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334880" y="345600"/>
            <a:ext cx="1040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 &amp; Barbed 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91200" y="7772400"/>
            <a:ext cx="98733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NASA/ESA’s SOHO spacecraft in EUV ligh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Zoomed in 3x on the South polar limb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4" name="SOHO_EIT_SLess_Zoom.mp" descr="Tarkus:Users:mcintosh:Desktop:Notes:SSU Stuff:movies:SOHO_EIT_SLess_Zoom.mp"/>
          <p:cNvPicPr/>
          <p:nvPr/>
        </p:nvPicPr>
        <p:blipFill>
          <a:blip r:embed="rId1"/>
          <a:stretch/>
        </p:blipFill>
        <p:spPr>
          <a:xfrm>
            <a:off x="1143000" y="1828800"/>
            <a:ext cx="1051560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04920" y="6750720"/>
            <a:ext cx="124203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Solar Optical Telescope (NASA/JAXA) onboard Japanese Hinode satelli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The Chromosphere is dominated by thin (100-500 mile wide) jets 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hooting up and down with velocities of order 10-50 miles/s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traversing 3,000 miles in a few minutes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6" name="SOT_ca_061120_0715.mpg" descr="Tarkus:Users:mcintosh:Desktop:Notes:SSU Stuff:nasa_press1:SOT_ca_061120_0715.mpg"/>
          <p:cNvPicPr/>
          <p:nvPr/>
        </p:nvPicPr>
        <p:blipFill>
          <a:blip r:embed="rId1"/>
          <a:stretch/>
        </p:blipFill>
        <p:spPr>
          <a:xfrm>
            <a:off x="457200" y="1106640"/>
            <a:ext cx="12265200" cy="6132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299160" y="274320"/>
            <a:ext cx="12727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, Barbed &amp; Dynamic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1940040" y="228240"/>
            <a:ext cx="9159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at Forges the Sun’s “Ring of Fire”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09480" y="1295280"/>
            <a:ext cx="11734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14400" y="8305920"/>
            <a:ext cx="11125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333399"/>
                </a:solidFill>
                <a:latin typeface="Gill Sans"/>
                <a:ea typeface="Gill Sans"/>
              </a:rPr>
              <a:t>Magnetic field concentrations that are inclined from the vertical provide “portals” for the trapped waves to leak out and travel upwards.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1" name="Picture 15" descr="Spicule_m"/>
          <p:cNvPicPr/>
          <p:nvPr/>
        </p:nvPicPr>
        <p:blipFill>
          <a:blip r:embed="rId1"/>
          <a:stretch/>
        </p:blipFill>
        <p:spPr>
          <a:xfrm>
            <a:off x="990720" y="914400"/>
            <a:ext cx="10972800" cy="6896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6"/>
          <p:cNvSpPr/>
          <p:nvPr/>
        </p:nvSpPr>
        <p:spPr>
          <a:xfrm>
            <a:off x="2971800" y="77724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Illustration by Zina Deretsky, National Science Found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753200" y="228240"/>
            <a:ext cx="9527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aves leak out of interior of the Sun…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73120" y="7696800"/>
            <a:ext cx="119235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The dynamic magnetic field (jostled by convection) forms temporary “cracks” (twinkling) for the low frequency waves to pass through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6320" y="7238880"/>
            <a:ext cx="128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Movie from MOTH (Magneto-Optical filters at Two Heights - NSF, Office of Polar Program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6" name="MOTH_Evo_3mHz_SM_CB.mo" descr="Tarkus:Users:mcintosh:Desktop:MOTH_Evo_3mHz_SM_CB.mo"/>
          <p:cNvPicPr/>
          <p:nvPr/>
        </p:nvPicPr>
        <p:blipFill>
          <a:blip r:embed="rId1"/>
          <a:stretch/>
        </p:blipFill>
        <p:spPr>
          <a:xfrm>
            <a:off x="1447920" y="990720"/>
            <a:ext cx="10134360" cy="61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08360" y="228240"/>
            <a:ext cx="12871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…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Leaking sound waves form strong Shock Waves…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7923960"/>
            <a:ext cx="12268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hromospheric Movie from Swedish Solar Telescope (Spa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ourtesy Luc Rouppe van der Voort, Michiel van Noo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9" name="halpha_04oct05_cut.mov" descr="Tarkus:Users:mcintosh:Desktop:Notes:SSU Stuff:nasa_press1:halpha_04oct05_cut.mov"/>
          <p:cNvPicPr/>
          <p:nvPr/>
        </p:nvPicPr>
        <p:blipFill>
          <a:blip r:embed="rId1"/>
          <a:stretch/>
        </p:blipFill>
        <p:spPr>
          <a:xfrm>
            <a:off x="2971800" y="990720"/>
            <a:ext cx="6865920" cy="6886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-434520" y="8793000"/>
            <a:ext cx="13977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Continuously driving fountains of plasma upwards at supersonic speeds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165920" y="45720"/>
            <a:ext cx="5598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omputer Simul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2" name="spic_uztg.mov" descr="Tarkus:Users:mcintosh:Desktop:Notes:SSU Stuff:nasa_press1:spic_uztg.mov"/>
          <p:cNvPicPr/>
          <p:nvPr/>
        </p:nvPicPr>
        <p:blipFill>
          <a:blip r:embed="rId1"/>
          <a:stretch/>
        </p:blipFill>
        <p:spPr>
          <a:xfrm>
            <a:off x="1676520" y="790560"/>
            <a:ext cx="9612360" cy="7210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 rot="16200000">
            <a:off x="-916560" y="2293560"/>
            <a:ext cx="3466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empera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8"/>
          <p:cNvSpPr/>
          <p:nvPr/>
        </p:nvSpPr>
        <p:spPr>
          <a:xfrm rot="16200000">
            <a:off x="-277920" y="5472360"/>
            <a:ext cx="211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Veloc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09480" y="7924320"/>
            <a:ext cx="1226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ourtesy of Institute of Theoretical Astrophysics, University of Oslo, Norw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380880" y="8305920"/>
            <a:ext cx="12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Dynamic interplay of magnetic field and waves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form jets that are very similar to those observ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72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Asus</cp:lastModifiedBy>
  <dcterms:modified xsi:type="dcterms:W3CDTF">2018-03-09T16:18:58Z</dcterms:modified>
  <cp:revision>80</cp:revision>
  <dc:subject/>
  <dc:title>MAGNETIC FIELD USES SOUND WAVES TO IGNITE SUN'S RING OF FIRE</dc:title>
</cp:coreProperties>
</file>