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28.jpeg" ContentType="image/jpeg"/>
  <Override PartName="/ppt/media/image36.jpeg" ContentType="image/jpeg"/>
  <Override PartName="/ppt/media/image10.wmf" ContentType="image/x-wmf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34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38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4145040" y="70956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684000" y="245880"/>
            <a:ext cx="2933640" cy="21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4145040" y="1420560"/>
            <a:ext cx="3170160" cy="479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45040" y="205056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7129F73-2D14-4EB6-B333-9DB9A22C7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E1A71BD-93EA-4A6E-9223-3141C5A1D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CB8DF95-149E-42EB-B05E-159D5FC9D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C90A49F-F3DE-42F1-9C37-1F861D6D6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7385792-A792-4250-A956-AA047760B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1C13056-5DBF-43C3-9C4B-97181F764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2C198CA-E22D-4ABB-BC50-EFA9B5D8A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59E4A7C-1C47-4818-AD37-E12E49805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68410A4-60CC-4AA6-B48C-38B1C58FB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E25197F-FCE0-4267-8E1A-FA2468061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410346B-741B-4D7E-B85E-1A30C4DC1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40447F9-97C7-4E42-ABB5-D1A900F84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B8FCD55-9BD2-491F-85E9-5E4DDF8FC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392D3FA-5F23-4CBA-BF66-C9A647C43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E4851B9-A24B-48C7-8938-4EBC5D247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F4100FA-4848-4B3A-A70E-77908E434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34F7D4F-B5C8-45F7-A241-C08A2DD2B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F9AA5E5-DF4A-4D9D-A20D-CDDBB149B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C16188E-7F7A-4D1B-9C60-92D5EC801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DBA5F64-FC8D-4A72-A3F6-BFC41518A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03DDC4F-8633-4797-ADE1-25005878F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6A0A28C-D8E1-4E03-8A52-91F33018A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6EEB30C-6542-4E5B-B7BC-873E15007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97A3275-B3B5-4836-94C0-8E61081DE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EB0A3F1-1C50-4A18-8B52-082808ABD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248A82E-CEFF-4ECB-A20F-B623FA252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8AB7070-D2D3-48E3-AC0C-8D6E7D8A5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F95C772-C1CA-4E0B-80CF-CADC03E8C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D56A444-7F07-4CAF-847B-9FACEC9A2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3CF3D60-55BE-458A-AD1C-2BC9196C5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84391FD-04C6-4C97-ABB8-3D34EA056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7F6ADDC-40DE-4882-800D-1310823CC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A00782B-7538-40F3-9E21-4D7F41369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4176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0E6F-D73A-4334-A31D-B6EC31B8875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4" name="Picture 10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8491680" y="5578560"/>
            <a:ext cx="66492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6727680" y="2190600"/>
            <a:ext cx="242892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7253-D3ED-428B-A655-562F823A3C0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1000" y="1599840"/>
            <a:ext cx="76705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first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secon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thir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Frictional for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law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Circular Mo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51200" y="48639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Isaac Newton’s work represents one of the greatest contributions to science ever made by an individual.</a:t>
            </a:r>
            <a:endParaRPr b="1" lang="en-US" sz="1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2" name="Picture 6" descr="newton"/>
          <p:cNvPicPr/>
          <p:nvPr/>
        </p:nvPicPr>
        <p:blipFill>
          <a:blip r:embed="rId1"/>
          <a:stretch/>
        </p:blipFill>
        <p:spPr>
          <a:xfrm>
            <a:off x="5702400" y="1752480"/>
            <a:ext cx="2333520" cy="312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53D9-329D-49CA-8080-7ADC85EE98A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ine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3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kinetic friction acts when the object is in mo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though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an vary with speed, we shall neglect any such varia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5" name="Picture 4" descr="0516b"/>
          <p:cNvPicPr/>
          <p:nvPr/>
        </p:nvPicPr>
        <p:blipFill>
          <a:blip r:embed="rId1"/>
          <a:stretch/>
        </p:blipFill>
        <p:spPr>
          <a:xfrm>
            <a:off x="5084640" y="1447920"/>
            <a:ext cx="3165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97EF-6431-4BA9-AA6E-389648190DD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plore Forces of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ary the applied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the value of the friction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pare the val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what happens when the can starts to mov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9" name="Picture 4" descr="0516"/>
          <p:cNvPicPr/>
          <p:nvPr/>
        </p:nvPicPr>
        <p:blipFill>
          <a:blip r:embed="rId1"/>
          <a:stretch/>
        </p:blipFill>
        <p:spPr>
          <a:xfrm>
            <a:off x="5032440" y="1447920"/>
            <a:ext cx="32684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37F2-83F5-479B-B605-7B4E11337408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Hints for 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8720" y="1231920"/>
            <a:ext cx="833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Read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problem carefully at least onc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picture of the system, identify the object of primary interest, and  indicate forces with arrow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each force in the picture in a way that will bring to mind what physical quantity the label stands for (e.g., T for ten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a free-body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diagra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of the object of interest, based on the labeled picture. If additional objects are involved, draw separate free-body diagram for th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Choose a convenient coordinate syste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for each objec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Apply Newton’s second law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x- and y-components of Newton second law should be taken from the vector equation and written individually. This often results in two equations and two unknow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Solve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for the desired unknown quantity, and substitute the numb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54280" y="5346720"/>
                <a:ext cx="1612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838760" y="5343480"/>
                <a:ext cx="1676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33B1-3B86-43B7-8502-D7B99F29DDB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Object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in Equilibriu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1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Objects that are either at rest or moving with constant velocity are said to be in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quilibriu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celeration of an object can be modeled as zero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: 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thematically, the net force acting on the object is zer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Equivalent to the set of component equations given b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3701880" y="3808440"/>
                <a:ext cx="1155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133720" y="2851200"/>
                <a:ext cx="939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2927520" y="5016600"/>
                <a:ext cx="1268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6"/>
              <p:cNvSpPr txBox="1"/>
              <p:nvPr/>
            </p:nvSpPr>
            <p:spPr>
              <a:xfrm>
                <a:off x="5119560" y="5013360"/>
                <a:ext cx="13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6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0351-3734-45D8-BCF7-9ECD3E9297F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46120" y="1409760"/>
            <a:ext cx="8140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What is the smallest value of the force F such that the 2.0-kg block will not slide down the wall? The coefficient of static friction between the block and the wall is 0.2. ?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Equilibrium, Example 1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6127920" y="3292560"/>
            <a:ext cx="1949400" cy="2171520"/>
            <a:chOff x="6127920" y="3292560"/>
            <a:chExt cx="1949400" cy="2171520"/>
          </a:xfrm>
        </p:grpSpPr>
        <p:sp>
          <p:nvSpPr>
            <p:cNvPr id="186" name="Line 10"/>
            <p:cNvSpPr/>
            <p:nvPr/>
          </p:nvSpPr>
          <p:spPr>
            <a:xfrm>
              <a:off x="8077320" y="3292560"/>
              <a:ext cx="0" cy="21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320240" y="3872880"/>
              <a:ext cx="724680" cy="1085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6127920" y="4453200"/>
              <a:ext cx="120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6192720" y="38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pSp>
        <p:nvGrpSpPr>
          <p:cNvPr id="190" name="Group 81"/>
          <p:cNvGrpSpPr/>
          <p:nvPr/>
        </p:nvGrpSpPr>
        <p:grpSpPr>
          <a:xfrm>
            <a:off x="1765440" y="3381480"/>
            <a:ext cx="2388600" cy="2244600"/>
            <a:chOff x="1765440" y="3381480"/>
            <a:chExt cx="2388600" cy="2244600"/>
          </a:xfrm>
        </p:grpSpPr>
        <p:grpSp>
          <p:nvGrpSpPr>
            <p:cNvPr id="191" name="Group 70"/>
            <p:cNvGrpSpPr/>
            <p:nvPr/>
          </p:nvGrpSpPr>
          <p:grpSpPr>
            <a:xfrm>
              <a:off x="1765440" y="3381480"/>
              <a:ext cx="2388600" cy="2237760"/>
              <a:chOff x="1765440" y="3381480"/>
              <a:chExt cx="2388600" cy="2237760"/>
            </a:xfrm>
          </p:grpSpPr>
          <p:sp>
            <p:nvSpPr>
              <p:cNvPr id="192" name="Line 71"/>
              <p:cNvSpPr/>
              <p:nvPr/>
            </p:nvSpPr>
            <p:spPr>
              <a:xfrm>
                <a:off x="3321000" y="3381480"/>
                <a:ext cx="0" cy="217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3" name="Rectangle 72"/>
              <p:cNvSpPr/>
              <p:nvPr/>
            </p:nvSpPr>
            <p:spPr>
              <a:xfrm>
                <a:off x="2563920" y="3962520"/>
                <a:ext cx="725040" cy="108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4" name="Text Box 73"/>
              <p:cNvSpPr/>
              <p:nvPr/>
            </p:nvSpPr>
            <p:spPr>
              <a:xfrm>
                <a:off x="2290320" y="515952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mg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5" name="Line 74"/>
              <p:cNvSpPr/>
              <p:nvPr/>
            </p:nvSpPr>
            <p:spPr>
              <a:xfrm>
                <a:off x="1765440" y="4503600"/>
                <a:ext cx="1207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6" name="Text Box 75"/>
              <p:cNvSpPr/>
              <p:nvPr/>
            </p:nvSpPr>
            <p:spPr>
              <a:xfrm>
                <a:off x="1787760" y="3914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7" name="Text Box 76"/>
              <p:cNvSpPr/>
              <p:nvPr/>
            </p:nvSpPr>
            <p:spPr>
              <a:xfrm>
                <a:off x="2468160" y="3381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8" name="Line 77"/>
              <p:cNvSpPr/>
              <p:nvPr/>
            </p:nvSpPr>
            <p:spPr>
              <a:xfrm>
                <a:off x="2978280" y="3390840"/>
                <a:ext cx="0" cy="1130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9" name="Line 78"/>
              <p:cNvSpPr/>
              <p:nvPr/>
            </p:nvSpPr>
            <p:spPr>
              <a:xfrm>
                <a:off x="2946240" y="4503600"/>
                <a:ext cx="12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200" name="Text Box 79"/>
              <p:cNvSpPr/>
              <p:nvPr/>
            </p:nvSpPr>
            <p:spPr>
              <a:xfrm>
                <a:off x="3633480" y="3927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80"/>
            <p:cNvSpPr/>
            <p:nvPr/>
          </p:nvSpPr>
          <p:spPr>
            <a:xfrm>
              <a:off x="2978280" y="4495680"/>
              <a:ext cx="0" cy="11304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36A0-A756-4811-949B-FBC88129F10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ccelerating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f an object that can be modeled as a particle experiences an acceleration, there must be a nonzero net force acting on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aw a free-body diagra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pply Newton’s Second Law in component for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40000" y="3922560"/>
                <a:ext cx="1911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1585800" y="4876920"/>
                <a:ext cx="1919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4332240" y="4835520"/>
                <a:ext cx="2024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E801-218C-476B-B400-7BC1CC63751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40910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uppose a block with a mass of 2.50 kg is resting on a ramp. If the coefficient of static friction between the block and ramp is 0.350, what maximum angle can the ramp make with the horizontal before the block starts to slip down?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1" name="Picture 4" descr="0518"/>
          <p:cNvPicPr/>
          <p:nvPr/>
        </p:nvPicPr>
        <p:blipFill>
          <a:blip r:embed="rId1"/>
          <a:stretch/>
        </p:blipFill>
        <p:spPr>
          <a:xfrm>
            <a:off x="4794120" y="1474920"/>
            <a:ext cx="41594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388C-351C-4A94-A022-CA50C3C9A55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Newton 2nd law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Then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4" name="Picture 4" descr="0518"/>
          <p:cNvPicPr/>
          <p:nvPr/>
        </p:nvPicPr>
        <p:blipFill>
          <a:blip r:embed="rId1"/>
          <a:stretch/>
        </p:blipFill>
        <p:spPr>
          <a:xfrm>
            <a:off x="4678200" y="965160"/>
            <a:ext cx="4313520" cy="3444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816120" y="2055960"/>
                <a:ext cx="33717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1898640" y="3378240"/>
                <a:ext cx="179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752400" y="3860640"/>
                <a:ext cx="4037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565280" y="4570560"/>
                <a:ext cx="2408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1204920" y="5141880"/>
                <a:ext cx="3103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6F7C-9167-45CF-984C-D8E2C8F1236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79000" y="3603240"/>
            <a:ext cx="84582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block of mass m1 on a rough, horizontal surface is connected to a ball of mass m2 by a lightweight cord over a lightweight, frictionless pulley as shown in figure. A force of magnitude F at an angle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1" i="1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with the horizontal is applied to the block as shown and the block slides to the right. The coefficient of kinetic friction between the block and surface is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μ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k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  <a:ea typeface="宋体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Find the magnitude of acceleration of the two object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Picture 4" descr="0520"/>
          <p:cNvPicPr/>
          <p:nvPr/>
        </p:nvPicPr>
        <p:blipFill>
          <a:blip r:embed="rId1"/>
          <a:stretch/>
        </p:blipFill>
        <p:spPr>
          <a:xfrm>
            <a:off x="1522440" y="1028880"/>
            <a:ext cx="563076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B96E-43C8-471F-8414-302506F354E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7" name="Picture 4" descr="0520"/>
          <p:cNvPicPr/>
          <p:nvPr/>
        </p:nvPicPr>
        <p:blipFill>
          <a:blip r:embed="rId1"/>
          <a:stretch/>
        </p:blipFill>
        <p:spPr>
          <a:xfrm>
            <a:off x="5046840" y="1665360"/>
            <a:ext cx="3805200" cy="1658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8680" y="1345680"/>
            <a:ext cx="370836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517760" y="2573280"/>
                <a:ext cx="3444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557360" y="1467000"/>
                <a:ext cx="4049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644480" y="3624120"/>
                <a:ext cx="2048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1539720" y="4044960"/>
                <a:ext cx="3375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1238400" y="4680000"/>
                <a:ext cx="509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1"/>
              <p:cNvSpPr txBox="1"/>
              <p:nvPr/>
            </p:nvSpPr>
            <p:spPr>
              <a:xfrm>
                <a:off x="1446120" y="5207040"/>
                <a:ext cx="437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1712880" y="3166920"/>
                <a:ext cx="1630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8179-E4FF-4E7C-A770-E554EBCAB34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77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52560" y="3124080"/>
            <a:ext cx="7291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f no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cts on a body, then the body’s velocity cannot chang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a body is equal to the product of the body’s mass and accelera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When two bodies interact,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the bodies from each other are always equal in magnitude and opposite in direc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6" name="Picture 4" descr="newton"/>
          <p:cNvPicPr/>
          <p:nvPr/>
        </p:nvPicPr>
        <p:blipFill>
          <a:blip r:embed="rId1"/>
          <a:stretch/>
        </p:blipFill>
        <p:spPr>
          <a:xfrm>
            <a:off x="0" y="0"/>
            <a:ext cx="2300400" cy="2995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124080" y="0"/>
            <a:ext cx="5791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Force is a vector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Unit of force in S.I.: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340080" y="1219320"/>
            <a:ext cx="2355840" cy="93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B275-2D58-4B23-8C2F-FE0C528BBEC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37" name="Picture 2" descr="0602"/>
          <p:cNvPicPr/>
          <p:nvPr/>
        </p:nvPicPr>
        <p:blipFill>
          <a:blip r:embed="rId1"/>
          <a:stretch/>
        </p:blipFill>
        <p:spPr>
          <a:xfrm>
            <a:off x="5202360" y="1260360"/>
            <a:ext cx="2913120" cy="3346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194560" y="403848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niform circular mo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-27360" y="495288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speed, or,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magnitude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3440" y="4572000"/>
            <a:ext cx="1524240" cy="0"/>
          </a:xfrm>
          <a:prstGeom prst="line">
            <a:avLst/>
          </a:prstGeom>
          <a:ln w="57240">
            <a:solidFill>
              <a:srgbClr val="dc0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H="1">
            <a:off x="2462040" y="4572000"/>
            <a:ext cx="152640" cy="304920"/>
          </a:xfrm>
          <a:prstGeom prst="line">
            <a:avLst/>
          </a:prstGeom>
          <a:ln w="936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859200" y="45720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638680" y="45720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717440" y="4952880"/>
            <a:ext cx="44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tion along a circle: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nging direction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45" name="Picture 10" descr="0601"/>
          <p:cNvPicPr/>
          <p:nvPr/>
        </p:nvPicPr>
        <p:blipFill>
          <a:blip r:embed="rId2"/>
          <a:stretch/>
        </p:blipFill>
        <p:spPr>
          <a:xfrm>
            <a:off x="1122480" y="1244520"/>
            <a:ext cx="2859120" cy="2873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366840" y="96840"/>
            <a:ext cx="848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Defini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6616800" y="1765440"/>
            <a:ext cx="1041480" cy="8762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7658280" y="1765440"/>
            <a:ext cx="45720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F62D-BBAA-4381-90A5-8CD8F01AF73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287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Observat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49120" y="1387440"/>
            <a:ext cx="50612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ject moving along a curved path with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onstant speed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Magnitud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 of velocity: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same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Direction of velocity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Velocity    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Acceleration is NOT zero!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Net force acting on an object is NOT zer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Centripetal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”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52" name="Picture 4" descr="FG06_12"/>
          <p:cNvPicPr/>
          <p:nvPr/>
        </p:nvPicPr>
        <p:blipFill>
          <a:blip r:embed="rId1"/>
          <a:stretch/>
        </p:blipFill>
        <p:spPr>
          <a:xfrm>
            <a:off x="5410080" y="1544760"/>
            <a:ext cx="3508560" cy="321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5956200" y="5038560"/>
                <a:ext cx="2198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197080" y="3568680"/>
                <a:ext cx="353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5BC5-0835-4C3E-8747-C9FE45E8670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03280" y="1374840"/>
            <a:ext cx="47815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entripetal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46160" y="133200"/>
            <a:ext cx="8778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Uniform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ircular Mo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23840" y="2649600"/>
                <a:ext cx="289728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so,   </m:t>
                        </m:r>
                        <m:r>
                          <m:t xml:space="preserve">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6388200" y="1785960"/>
            <a:ext cx="9360" cy="7542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5373720" y="6219720"/>
            <a:ext cx="57456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5386320" y="6602400"/>
            <a:ext cx="57312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4853160" y="2957400"/>
            <a:ext cx="3078000" cy="2908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V="1">
            <a:off x="6399360" y="2655360"/>
            <a:ext cx="0" cy="341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681440" y="4417920"/>
            <a:ext cx="375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5580000" y="2779560"/>
            <a:ext cx="57456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7211880" y="3147840"/>
            <a:ext cx="57492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6354720" y="4375080"/>
            <a:ext cx="57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8093160" y="4522680"/>
            <a:ext cx="530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399360" y="2455920"/>
            <a:ext cx="809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5586480" y="363204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945480" y="33559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 flipH="1" flipV="1">
            <a:off x="5578560" y="3143160"/>
            <a:ext cx="822240" cy="1270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145120" y="26622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7095960" y="257004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552780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711828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5472000" y="240048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6388200" y="3187800"/>
            <a:ext cx="787320" cy="121896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6792840" y="368316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7377120" y="278136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5600880" y="3174840"/>
            <a:ext cx="1549080" cy="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6132600" y="318780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573880" y="14605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5624640" y="219708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5" name="Text Box 31"/>
          <p:cNvSpPr/>
          <p:nvPr/>
        </p:nvSpPr>
        <p:spPr>
          <a:xfrm>
            <a:off x="6475320" y="1841400"/>
            <a:ext cx="1881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 =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2"/>
              <p:cNvSpPr txBox="1"/>
              <p:nvPr/>
            </p:nvSpPr>
            <p:spPr>
              <a:xfrm>
                <a:off x="2811600" y="1855800"/>
                <a:ext cx="1861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3"/>
              <p:cNvSpPr txBox="1"/>
              <p:nvPr/>
            </p:nvSpPr>
            <p:spPr>
              <a:xfrm>
                <a:off x="1031760" y="2089080"/>
                <a:ext cx="1255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2362 -0.15 E">
                                      <p:cBhvr>
                                        <p:cTn id="161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37 L -0.15695 -0.14259 E">
                                      <p:cBhvr>
                                        <p:cTn id="16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44CE-7A7D-4B77-8609-7A9C31050C5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Uniform Circular Mo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9440" y="1206360"/>
            <a:ext cx="5295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elocity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constant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direction of the velocity is tangent to the cir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ed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riod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ime interval required for one complete revolution of the parti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3225960" y="28288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5370480" y="5229360"/>
                <a:ext cx="10954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602136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D60E-717D-46BD-9B5D-410FB154C79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Centripetal Forc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9440" y="1206000"/>
            <a:ext cx="541044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rc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rt from Newton’s 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Law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3314880" y="12286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3095640" y="3708360"/>
                <a:ext cx="1252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588168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2895480" y="4361040"/>
                <a:ext cx="208764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Line 10"/>
          <p:cNvSpPr/>
          <p:nvPr/>
        </p:nvSpPr>
        <p:spPr>
          <a:xfrm flipV="1">
            <a:off x="6858000" y="3565080"/>
            <a:ext cx="38088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7086600" y="3718080"/>
          <a:ext cx="679320" cy="59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718080"/>
                    <a:ext cx="6793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Line 12"/>
          <p:cNvSpPr/>
          <p:nvPr/>
        </p:nvSpPr>
        <p:spPr>
          <a:xfrm>
            <a:off x="6832440" y="2282760"/>
            <a:ext cx="38124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6451560" y="2587680"/>
          <a:ext cx="67932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51560" y="25876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14"/>
          <p:cNvSpPr/>
          <p:nvPr/>
        </p:nvSpPr>
        <p:spPr>
          <a:xfrm flipH="1">
            <a:off x="7709040" y="3286080"/>
            <a:ext cx="799920" cy="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12" name="Object 15"/>
          <p:cNvGraphicFramePr/>
          <p:nvPr/>
        </p:nvGraphicFramePr>
        <p:xfrm>
          <a:off x="7632720" y="2600280"/>
          <a:ext cx="679320" cy="59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720" y="26002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4" name="Object 16"/>
              <p:cNvSpPr txBox="1"/>
              <p:nvPr/>
            </p:nvSpPr>
            <p:spPr>
              <a:xfrm>
                <a:off x="7080120" y="1355760"/>
                <a:ext cx="1282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6397560" y="5126040"/>
                <a:ext cx="1251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D0E8-631F-4DE2-8491-0DFA7A09667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9440" y="12700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not a new kind of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refers to any force that keeps an object following a circular pat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a combination of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ravitational forc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 downward to the groun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rmal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perpendicular to the surfa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ension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along the cord and away from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force: 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0" i="1" lang="en-US" sz="2400" spc="-1" strike="noStrike" baseline="30000">
                <a:solidFill>
                  <a:srgbClr val="0000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  <a:ea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6472080" y="2278080"/>
                <a:ext cx="194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5F17-EE58-450F-9F6B-EE4567532F4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6170760" y="4368960"/>
            <a:ext cx="3571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1353960" y="4265640"/>
                <a:ext cx="18939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5045040" y="1647720"/>
                <a:ext cx="30034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5" name="Group 6"/>
          <p:cNvGrpSpPr/>
          <p:nvPr/>
        </p:nvGrpSpPr>
        <p:grpSpPr>
          <a:xfrm>
            <a:off x="5219280" y="2209320"/>
            <a:ext cx="2838600" cy="3189240"/>
            <a:chOff x="5219280" y="2209320"/>
            <a:chExt cx="2838600" cy="3189240"/>
          </a:xfrm>
        </p:grpSpPr>
        <p:sp>
          <p:nvSpPr>
            <p:cNvPr id="326" name="AutoShape 7"/>
            <p:cNvSpPr/>
            <p:nvPr/>
          </p:nvSpPr>
          <p:spPr>
            <a:xfrm rot="10800000">
              <a:off x="5219280" y="2209320"/>
              <a:ext cx="2838600" cy="3189240"/>
            </a:xfrm>
            <a:custGeom>
              <a:avLst/>
              <a:gdLst>
                <a:gd name="textAreaLeft" fmla="*/ 50760 w 2838600"/>
                <a:gd name="textAreaRight" fmla="*/ 2787840 w 2838600"/>
                <a:gd name="textAreaTop" fmla="*/ 0 h 3189240"/>
                <a:gd name="textAreaBottom" fmla="*/ 1954080 h 318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9" y="10620"/>
                  </a:moveTo>
                  <a:cubicBezTo>
                    <a:pt x="1727" y="5625"/>
                    <a:pt x="5804" y="1628"/>
                    <a:pt x="10800" y="1628"/>
                  </a:cubicBezTo>
                  <a:cubicBezTo>
                    <a:pt x="15795" y="1628"/>
                    <a:pt x="19872" y="5625"/>
                    <a:pt x="19970" y="10620"/>
                  </a:cubicBezTo>
                  <a:lnTo>
                    <a:pt x="21597" y="10588"/>
                  </a:lnTo>
                  <a:cubicBezTo>
                    <a:pt x="21482" y="4707"/>
                    <a:pt x="16682" y="0"/>
                    <a:pt x="10799" y="0"/>
                  </a:cubicBezTo>
                  <a:cubicBezTo>
                    <a:pt x="4917" y="0"/>
                    <a:pt x="117" y="4707"/>
                    <a:pt x="2" y="10588"/>
                  </a:cubicBezTo>
                  <a:lnTo>
                    <a:pt x="1629" y="1062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6553080" y="50036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28" name="Line 9"/>
          <p:cNvSpPr/>
          <p:nvPr/>
        </p:nvSpPr>
        <p:spPr>
          <a:xfrm>
            <a:off x="6629400" y="5092560"/>
            <a:ext cx="0" cy="77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780240" y="543564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g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 flipV="1">
            <a:off x="6629400" y="4368960"/>
            <a:ext cx="12600" cy="7286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742080" y="3898800"/>
            <a:ext cx="420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 flipV="1">
            <a:off x="6502320" y="4280040"/>
            <a:ext cx="0" cy="660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33" name="Picture 14" descr="0601"/>
          <p:cNvPicPr/>
          <p:nvPr/>
        </p:nvPicPr>
        <p:blipFill>
          <a:blip r:embed="rId1"/>
          <a:stretch/>
        </p:blipFill>
        <p:spPr>
          <a:xfrm>
            <a:off x="1065240" y="1434960"/>
            <a:ext cx="2530440" cy="254484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"/>
          <p:cNvGrpSpPr/>
          <p:nvPr/>
        </p:nvGrpSpPr>
        <p:grpSpPr>
          <a:xfrm>
            <a:off x="6642000" y="4541760"/>
            <a:ext cx="533520" cy="530280"/>
            <a:chOff x="6642000" y="4541760"/>
            <a:chExt cx="533520" cy="530280"/>
          </a:xfrm>
        </p:grpSpPr>
        <p:sp>
          <p:nvSpPr>
            <p:cNvPr id="335" name="Line 11"/>
            <p:cNvSpPr/>
            <p:nvPr/>
          </p:nvSpPr>
          <p:spPr>
            <a:xfrm>
              <a:off x="6642000" y="5072040"/>
              <a:ext cx="533520" cy="0"/>
            </a:xfrm>
            <a:prstGeom prst="line">
              <a:avLst/>
            </a:prstGeom>
            <a:ln w="38160">
              <a:solidFill>
                <a:srgbClr val="5c5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36" name="Text Box 2"/>
            <p:cNvSpPr/>
            <p:nvPr/>
          </p:nvSpPr>
          <p:spPr>
            <a:xfrm>
              <a:off x="6766560" y="4541760"/>
              <a:ext cx="357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endParaRPr b="1" lang="en-US" sz="28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37" name="Line 11"/>
          <p:cNvSpPr/>
          <p:nvPr/>
        </p:nvSpPr>
        <p:spPr>
          <a:xfrm flipV="1">
            <a:off x="6629400" y="3898800"/>
            <a:ext cx="0" cy="11858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70CB-ABC6-4A4A-B4F6-70415F714D4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lem Solving Strateg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raw a free body diagra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showing and labeling all the forces acting on the object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oose a coordinate syste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that has one axis perpendicular to the circular path and the other axis tangent to the circular pa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nd the net force toward the center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circular path (this is the force that causes the centripetal acceleration, F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Use Newton’s second la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directions will be radial, normal, and tangenti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acceleration in the radial direction will be the centripetal acceler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olve for the unknown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CB68-7C19-4081-A50F-664855FE0208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42" name="Picture 2" descr="0603b"/>
          <p:cNvPicPr/>
          <p:nvPr/>
        </p:nvPicPr>
        <p:blipFill>
          <a:blip r:embed="rId1"/>
          <a:srcRect l="0" t="0" r="0" b="12947"/>
          <a:stretch/>
        </p:blipFill>
        <p:spPr>
          <a:xfrm>
            <a:off x="3505320" y="2922480"/>
            <a:ext cx="1666800" cy="3138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small ball of mas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kg is suspended from a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tring of length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m.  The ball revolves with constant spee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in a horizontal circle of radiu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2 m. Find an expression for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851040" y="3581280"/>
            <a:ext cx="1752480" cy="1815840"/>
            <a:chOff x="851040" y="3581280"/>
            <a:chExt cx="1752480" cy="1815840"/>
          </a:xfrm>
        </p:grpSpPr>
        <p:sp>
          <p:nvSpPr>
            <p:cNvPr id="346" name="Oval 6"/>
            <p:cNvSpPr/>
            <p:nvPr/>
          </p:nvSpPr>
          <p:spPr>
            <a:xfrm>
              <a:off x="1028880" y="4749480"/>
              <a:ext cx="1574640" cy="647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257480" y="3581280"/>
              <a:ext cx="113040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851040" y="4927320"/>
              <a:ext cx="330120" cy="330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 flipH="1">
              <a:off x="1091880" y="3784320"/>
              <a:ext cx="736920" cy="116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50" name="Line 10"/>
          <p:cNvSpPr/>
          <p:nvPr/>
        </p:nvSpPr>
        <p:spPr>
          <a:xfrm>
            <a:off x="1015920" y="5105520"/>
            <a:ext cx="0" cy="635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1015920" y="4470120"/>
            <a:ext cx="39384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65000" y="5603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052640" y="409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1816200" y="3772080"/>
            <a:ext cx="0" cy="1295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1519560" y="4008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C22D-EDE6-4430-93F4-0E4A4509B4A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57" name="Picture 2" descr="0603b"/>
          <p:cNvPicPr/>
          <p:nvPr/>
        </p:nvPicPr>
        <p:blipFill>
          <a:blip r:embed="rId1"/>
          <a:stretch/>
        </p:blipFill>
        <p:spPr>
          <a:xfrm>
            <a:off x="457200" y="1969920"/>
            <a:ext cx="1666800" cy="3605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382840" y="1905120"/>
                <a:ext cx="300996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5641920" y="1836720"/>
                <a:ext cx="306252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m/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Text Box 6"/>
          <p:cNvSpPr/>
          <p:nvPr/>
        </p:nvSpPr>
        <p:spPr>
          <a:xfrm>
            <a:off x="593640" y="127800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nd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0745-6D62-4302-86EE-46728282889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37000" y="3200400"/>
            <a:ext cx="2057400" cy="122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orc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280" y="1447920"/>
            <a:ext cx="466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he measure of interaction betwee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wo objec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ector quantity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: has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magnitude and direc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y be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ct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r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eld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Particular forc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Gravita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Frict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ens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Norm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Spring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823000" y="4165560"/>
            <a:ext cx="293364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7715160" y="190440"/>
            <a:ext cx="142884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ongi"/>
          <p:cNvPicPr/>
          <p:nvPr/>
        </p:nvPicPr>
        <p:blipFill>
          <a:blip r:embed="rId4"/>
          <a:stretch/>
        </p:blipFill>
        <p:spPr>
          <a:xfrm>
            <a:off x="6121440" y="2251080"/>
            <a:ext cx="2211480" cy="17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N00332_"/>
          <p:cNvPicPr/>
          <p:nvPr/>
        </p:nvPicPr>
        <p:blipFill>
          <a:blip r:embed="rId5"/>
          <a:stretch/>
        </p:blipFill>
        <p:spPr>
          <a:xfrm>
            <a:off x="76320" y="763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07" name="Line 9"/>
          <p:cNvSpPr/>
          <p:nvPr/>
        </p:nvSpPr>
        <p:spPr>
          <a:xfrm>
            <a:off x="7448400" y="2832120"/>
            <a:ext cx="0" cy="76212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22440" y="111744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536840" y="96516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6"/>
          <a:stretch/>
        </p:blipFill>
        <p:spPr>
          <a:xfrm>
            <a:off x="3606840" y="4559400"/>
            <a:ext cx="1887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9094-31BB-4BF1-AD7B-5B3D93359CA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60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1500 kg car moving on a flat, horizontal road negotiates a curve as shown. If the radius of the curve is 35.0 m and the coefficient of static friction between the tires and dry pavement is 0.523, find the maximum speed the car can have and still make the turn successfully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6222960" y="3598920"/>
            <a:ext cx="2052720" cy="248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0604a"/>
          <p:cNvPicPr/>
          <p:nvPr/>
        </p:nvPicPr>
        <p:blipFill>
          <a:blip r:embed="rId2"/>
          <a:stretch/>
        </p:blipFill>
        <p:spPr>
          <a:xfrm>
            <a:off x="5958000" y="1249200"/>
            <a:ext cx="290988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80DE-714D-422C-9270-EED28F185A5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static friction directed toward the center of the curve keeps the car moving in a circular path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5969160" y="2989440"/>
            <a:ext cx="2278080" cy="275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965160" y="2884320"/>
                <a:ext cx="458460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mg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6D2F-2F5D-4A1C-BDB0-98B6DC498C8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257480"/>
            <a:ext cx="47451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car moving at the designated speed can negotiate the curve. Such a ramp is usually banked, which means that the roadway is tilted toward the inside of the curve. Suppose the designated speed for the ramp is to be 13.4 m/s and the radius of the curve is 35.0 m. At what angle should the curve be banke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E691-8108-4EEF-97EB-8C8B231788A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716040" y="1822320"/>
                <a:ext cx="421632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m/s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m/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093F-6555-48A7-89CA-108A8FFED97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vitational Forc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46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Gravitational force is a vect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magnitude of the gravitational force acting on an object of mass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ar the Earth’s surface is called the weight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w = 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vertically downwar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ongi"/>
          <p:cNvPicPr/>
          <p:nvPr/>
        </p:nvPicPr>
        <p:blipFill>
          <a:blip r:embed="rId2"/>
          <a:stretch/>
        </p:blipFill>
        <p:spPr>
          <a:xfrm>
            <a:off x="5861160" y="3638520"/>
            <a:ext cx="273204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7518240" y="4368960"/>
            <a:ext cx="0" cy="1282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725480" y="4429080"/>
            <a:ext cx="1979640" cy="161460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2705040" y="4673520"/>
            <a:ext cx="0" cy="1371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916080" y="4503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m: Mass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741840" y="5138640"/>
            <a:ext cx="18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g = 9.8 m/s</a:t>
            </a:r>
            <a:r>
              <a:rPr b="1" lang="en-US" sz="24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6800760" y="1911240"/>
                <a:ext cx="1649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4BC9-1B13-4789-82FC-D4A277D5059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Normal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Force from a solid surface which keeps object from falling throug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perpendicular to the surfa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not necessary to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261120" y="2451240"/>
                <a:ext cx="8128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827600" y="1293840"/>
            <a:ext cx="3171960" cy="278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478480" y="4206960"/>
                <a:ext cx="191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5732640" y="5365800"/>
                <a:ext cx="1155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5462640" y="4753080"/>
                <a:ext cx="20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5F55-1F78-438E-BC2A-7A5A81223E6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48240" y="1324080"/>
            <a:ext cx="4606920" cy="1644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Tension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520" y="1447920"/>
            <a:ext cx="44575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 taut rope exerts forces on whatever holds its end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along the cord (rope, cable, string ……) and away from the objec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depend on situ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629320" y="2881440"/>
            <a:ext cx="2838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708440" y="3789360"/>
            <a:ext cx="3544920" cy="2289240"/>
          </a:xfrm>
          <a:prstGeom prst="rect">
            <a:avLst/>
          </a:prstGeom>
          <a:ln w="0">
            <a:noFill/>
          </a:ln>
        </p:spPr>
      </p:pic>
      <p:sp>
        <p:nvSpPr>
          <p:cNvPr id="136" name="Line 7"/>
          <p:cNvSpPr/>
          <p:nvPr/>
        </p:nvSpPr>
        <p:spPr>
          <a:xfrm flipH="1" flipV="1">
            <a:off x="5753160" y="4140000"/>
            <a:ext cx="596880" cy="36828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5359320" y="4419360"/>
            <a:ext cx="0" cy="63972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853600" y="3774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837320" y="45752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167600" y="4295880"/>
            <a:ext cx="17460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 = T = 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DADF-D5EA-43EA-A704-995D12F2DC4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83920" y="1397160"/>
            <a:ext cx="789948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hen an object is in motion on a surface or through a viscous medium, there will be a resistance to the mo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s resistance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force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This is du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 the interactions between the object and its environ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e will be concerned with two types of fric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sta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kine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opposite the direction of the intended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moving: in direction opposite the velo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stationary, in direction of the vector sum of other forc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757920" y="1886040"/>
            <a:ext cx="2386080" cy="2462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friction"/>
          <p:cNvPicPr/>
          <p:nvPr/>
        </p:nvPicPr>
        <p:blipFill>
          <a:blip r:embed="rId2"/>
          <a:stretch/>
        </p:blipFill>
        <p:spPr>
          <a:xfrm>
            <a:off x="5122800" y="1878120"/>
            <a:ext cx="1849680" cy="24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66F1-4610-4528-8A08-C5D512594A8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480" y="1359000"/>
            <a:ext cx="477504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iction is proportional to the norm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Sta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F </a:t>
            </a:r>
            <a:r>
              <a:rPr b="0" i="1" lang="en-US" sz="2400" spc="-1" strike="noStrike">
                <a:solidFill>
                  <a:srgbClr val="dc0c3e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s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Kine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k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is th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coefficient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coefficients of friction are nearly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dependent of the area of contact (why?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agnitu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Picture 4" descr="05T1"/>
          <p:cNvPicPr/>
          <p:nvPr/>
        </p:nvPicPr>
        <p:blipFill>
          <a:blip r:embed="rId1"/>
          <a:stretch/>
        </p:blipFill>
        <p:spPr>
          <a:xfrm>
            <a:off x="4767120" y="1380960"/>
            <a:ext cx="4351320" cy="41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9353-EF33-4F3D-A0C3-F31CE3CD4A8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ta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acts to keep the object from mov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Remember, the equality holds when the surfaces are on the verge of slipping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65320" y="2163600"/>
          <a:ext cx="2379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163600"/>
                    <a:ext cx="2379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"/>
          <p:cNvGraphicFramePr/>
          <p:nvPr/>
        </p:nvGraphicFramePr>
        <p:xfrm>
          <a:off x="1181160" y="2557440"/>
          <a:ext cx="2379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557440"/>
                    <a:ext cx="237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3962520" y="2149560"/>
          <a:ext cx="3794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49560"/>
                    <a:ext cx="379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4013280" y="2581200"/>
          <a:ext cx="357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3280" y="2581200"/>
                    <a:ext cx="357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8" descr="0516a"/>
          <p:cNvPicPr/>
          <p:nvPr/>
        </p:nvPicPr>
        <p:blipFill>
          <a:blip r:embed="rId9"/>
          <a:stretch/>
        </p:blipFill>
        <p:spPr>
          <a:xfrm>
            <a:off x="5562720" y="1608120"/>
            <a:ext cx="2889000" cy="37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38:32Z</dcterms:created>
  <dc:creator>Gary</dc:creator>
  <dc:description/>
  <dc:language>en-US</dc:language>
  <cp:lastModifiedBy>Asus</cp:lastModifiedBy>
  <dcterms:modified xsi:type="dcterms:W3CDTF">2018-03-09T16:21:03Z</dcterms:modified>
  <cp:revision>346</cp:revision>
  <dc:subject/>
  <dc:title>PowerPoint Presentation</dc:title>
</cp:coreProperties>
</file>