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0.jpeg" ContentType="image/jpeg"/>
  <Override PartName="/ppt/media/image21.wmf" ContentType="image/x-wmf"/>
  <Override PartName="/ppt/media/image18.png" ContentType="image/png"/>
  <Override PartName="/ppt/media/image28.jpeg" ContentType="image/jpeg"/>
  <Override PartName="/ppt/media/image36.jpeg" ContentType="image/jpeg"/>
  <Override PartName="/ppt/media/image10.wmf" ContentType="image/x-wmf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34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35.jpeg" ContentType="image/jpeg"/>
  <Override PartName="/ppt/media/image3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4145040" y="70956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684000" y="245880"/>
            <a:ext cx="2933640" cy="21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4145040" y="1420560"/>
            <a:ext cx="3170160" cy="479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4145040" y="205056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FB0BE58-A8FE-4F6D-B9E7-4C032F07F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5F446D5-679D-40A8-90C2-96137EC8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FD821C8-5E7E-4197-8D3C-86C639DE3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E0BCE60-2093-47F6-8D02-52AEA65B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EAF5EA5-D887-4D14-8BC5-ACF38FFF2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1F09DBA-DBC9-40C3-A65F-6DC01EDA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58DC84B-7F37-4B5F-87D1-3A96120F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B152FD7-A749-43D2-B16F-EA359CCE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46F88C-D7A8-4A38-A434-D1F4EDDB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6BEA715-4FD1-4B33-B533-7D4EC7075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E2BBCCE-9A63-412F-84AD-5DFE13C72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BBA95E-B185-4922-A6DC-C4FEBDD3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46DBB4B-DD47-4F5A-85E3-2D74F813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0B266E2-E0B5-4FA0-8124-5AB6C054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4C89540-EC4D-4FEB-AF63-758F13156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2EF724B-8063-44A4-8ED9-187C0CF4C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C42AEEC-B0B4-485E-A3FB-6D778B3B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E28E5A3-3AEE-4BFB-9E54-C81864EB3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9612D47-3CE4-4B46-B448-726B63FC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A59D441-33A2-435D-B1FD-F21270CDB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6D78BDA-7CF5-4344-A553-33AD78D0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7F0B613-8118-4E06-B674-88929DA6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886327-6FAB-4684-9DCC-D717E5D85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2CAA5D2-DBDC-4A47-A957-C48782BA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7C3FC29-7E57-48F0-8917-1F0CE54F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D15CBB7-64CB-46C1-8DA1-E17E334B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BCCAF51-5389-4F91-A6AD-8AB4E010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1FA4F6-BF0B-46E3-B40D-247B5FC9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9B1BA6B-F3B2-4141-8776-6720B6DF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9EDC44-7408-49D5-BF67-A13E8F05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AD9D93A-055E-4AA4-8890-6E9EBEAB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E83AE59-6A2D-453C-8C6A-8C58D3B76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5040" y="205092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706E10E-3E61-458C-9B6D-8AF24813E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684360" y="246240"/>
            <a:ext cx="2933640" cy="2199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239400" y="2762280"/>
            <a:ext cx="6770520" cy="64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4176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4BF1-A830-42ED-ABB5-448F53F8FA2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4" name="Picture 10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8491680" y="5578560"/>
            <a:ext cx="664920" cy="12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Physics_at_NJIT"/>
          <p:cNvPicPr/>
          <p:nvPr/>
        </p:nvPicPr>
        <p:blipFill>
          <a:blip r:embed="rId2"/>
          <a:stretch/>
        </p:blipFill>
        <p:spPr>
          <a:xfrm>
            <a:off x="0" y="6095880"/>
            <a:ext cx="918684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sun2"/>
          <p:cNvPicPr/>
          <p:nvPr/>
        </p:nvPicPr>
        <p:blipFill>
          <a:blip r:embed="rId3"/>
          <a:srcRect l="0" t="0" r="5900" b="0"/>
          <a:stretch/>
        </p:blipFill>
        <p:spPr>
          <a:xfrm>
            <a:off x="6727680" y="2190600"/>
            <a:ext cx="2428920" cy="466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90DB-C960-45A6-BCEC-19ECAA63C16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1000" y="1599840"/>
            <a:ext cx="76705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first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secon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third law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Frictional for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Applications of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Newton’s law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  <a:ea typeface="宋体"/>
              </a:rPr>
              <a:t>Circular Mo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51200" y="48639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Monotype Corsiva"/>
              </a:rPr>
              <a:t>Isaac Newton’s work represents one of the greatest contributions to science ever made by an individual.</a:t>
            </a:r>
            <a:endParaRPr b="1" lang="en-US" sz="1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2" name="Picture 6" descr="newton"/>
          <p:cNvPicPr/>
          <p:nvPr/>
        </p:nvPicPr>
        <p:blipFill>
          <a:blip r:embed="rId1"/>
          <a:stretch/>
        </p:blipFill>
        <p:spPr>
          <a:xfrm>
            <a:off x="5702400" y="1752480"/>
            <a:ext cx="2333520" cy="312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336D-F691-4241-927A-F0494923BF3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Kine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3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kinetic friction acts when the object is in mo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though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an vary with speed, we shall neglect any such varia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5" name="Picture 4" descr="0516b"/>
          <p:cNvPicPr/>
          <p:nvPr/>
        </p:nvPicPr>
        <p:blipFill>
          <a:blip r:embed="rId1"/>
          <a:stretch/>
        </p:blipFill>
        <p:spPr>
          <a:xfrm>
            <a:off x="5084640" y="1447920"/>
            <a:ext cx="3165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92FF-C531-459A-A107-BBB9489DA766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plore Forces of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ary the applied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the value of the friction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pare the val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te what happens when the can starts to mov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9" name="Picture 4" descr="0516"/>
          <p:cNvPicPr/>
          <p:nvPr/>
        </p:nvPicPr>
        <p:blipFill>
          <a:blip r:embed="rId1"/>
          <a:stretch/>
        </p:blipFill>
        <p:spPr>
          <a:xfrm>
            <a:off x="5032440" y="1447920"/>
            <a:ext cx="326844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1090-C717-4EC5-95ED-F7363D34BB20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Hints for 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8720" y="1231920"/>
            <a:ext cx="833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Read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problem carefully at least onc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picture of the system, identify the object of primary interest, and  indicate forces with arrow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Label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each force in the picture in a way that will bring to mind what physical quantity the label stands for (e.g., T for ten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Draw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a free-body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diagra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of the object of interest, based on the labeled picture. If additional objects are involved, draw separate free-body diagram for th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hoose a convenient coordinate system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for each objec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Apply Newton’s second law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The x- and y-components of Newton second law should be taken from the vector equation and written individually. This often results in two equations and two unknow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Solve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 for the desired unknown quantity, and substitute the numb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54280" y="5346720"/>
                <a:ext cx="16128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838760" y="5343480"/>
                <a:ext cx="1676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089-1C79-4FFB-8E8A-7F3F161FCF6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Object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in Equilibrium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1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Objects that are either at rest or moving with constant velocity are said to be in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equilibriu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celeration of an object can be modeled as zero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: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thematically, the net force acting on the object is zer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Equivalent to the set of component equations given b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3701880" y="3808440"/>
                <a:ext cx="1155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133720" y="2851200"/>
                <a:ext cx="939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2927520" y="5016600"/>
                <a:ext cx="1268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6"/>
              <p:cNvSpPr txBox="1"/>
              <p:nvPr/>
            </p:nvSpPr>
            <p:spPr>
              <a:xfrm>
                <a:off x="5119560" y="5013360"/>
                <a:ext cx="1317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6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16A5-CCC7-4600-A8BC-19AD1E17384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546120" y="1409760"/>
            <a:ext cx="814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What is the smallest value of the force F such that the 2.0-kg block will not slide down the wall? The coefficient of static friction between the block and the wall is 0.2. ?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Equilibrium, Example 1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85" name="Group 9"/>
          <p:cNvGrpSpPr/>
          <p:nvPr/>
        </p:nvGrpSpPr>
        <p:grpSpPr>
          <a:xfrm>
            <a:off x="6127920" y="3292560"/>
            <a:ext cx="1949400" cy="2171520"/>
            <a:chOff x="6127920" y="3292560"/>
            <a:chExt cx="1949400" cy="2171520"/>
          </a:xfrm>
        </p:grpSpPr>
        <p:sp>
          <p:nvSpPr>
            <p:cNvPr id="186" name="Line 10"/>
            <p:cNvSpPr/>
            <p:nvPr/>
          </p:nvSpPr>
          <p:spPr>
            <a:xfrm>
              <a:off x="8077320" y="3292560"/>
              <a:ext cx="0" cy="21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320240" y="3872880"/>
              <a:ext cx="724680" cy="1085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6127920" y="4453200"/>
              <a:ext cx="120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6192720" y="38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pSp>
        <p:nvGrpSpPr>
          <p:cNvPr id="190" name="Group 81"/>
          <p:cNvGrpSpPr/>
          <p:nvPr/>
        </p:nvGrpSpPr>
        <p:grpSpPr>
          <a:xfrm>
            <a:off x="1765440" y="3381480"/>
            <a:ext cx="2388600" cy="2244600"/>
            <a:chOff x="1765440" y="3381480"/>
            <a:chExt cx="2388600" cy="2244600"/>
          </a:xfrm>
        </p:grpSpPr>
        <p:grpSp>
          <p:nvGrpSpPr>
            <p:cNvPr id="191" name="Group 70"/>
            <p:cNvGrpSpPr/>
            <p:nvPr/>
          </p:nvGrpSpPr>
          <p:grpSpPr>
            <a:xfrm>
              <a:off x="1765440" y="3381480"/>
              <a:ext cx="2388600" cy="2237760"/>
              <a:chOff x="1765440" y="3381480"/>
              <a:chExt cx="2388600" cy="2237760"/>
            </a:xfrm>
          </p:grpSpPr>
          <p:sp>
            <p:nvSpPr>
              <p:cNvPr id="192" name="Line 71"/>
              <p:cNvSpPr/>
              <p:nvPr/>
            </p:nvSpPr>
            <p:spPr>
              <a:xfrm>
                <a:off x="3321000" y="3381480"/>
                <a:ext cx="0" cy="21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3" name="Rectangle 72"/>
              <p:cNvSpPr/>
              <p:nvPr/>
            </p:nvSpPr>
            <p:spPr>
              <a:xfrm>
                <a:off x="2563920" y="3962520"/>
                <a:ext cx="725040" cy="1085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4" name="Text Box 73"/>
              <p:cNvSpPr/>
              <p:nvPr/>
            </p:nvSpPr>
            <p:spPr>
              <a:xfrm>
                <a:off x="2290320" y="515952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mg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5" name="Line 74"/>
              <p:cNvSpPr/>
              <p:nvPr/>
            </p:nvSpPr>
            <p:spPr>
              <a:xfrm>
                <a:off x="1765440" y="4503600"/>
                <a:ext cx="120780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6" name="Text Box 75"/>
              <p:cNvSpPr/>
              <p:nvPr/>
            </p:nvSpPr>
            <p:spPr>
              <a:xfrm>
                <a:off x="1787760" y="391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N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7" name="Text Box 76"/>
              <p:cNvSpPr/>
              <p:nvPr/>
            </p:nvSpPr>
            <p:spPr>
              <a:xfrm>
                <a:off x="2468160" y="33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8" name="Line 77"/>
              <p:cNvSpPr/>
              <p:nvPr/>
            </p:nvSpPr>
            <p:spPr>
              <a:xfrm>
                <a:off x="2978280" y="3390840"/>
                <a:ext cx="0" cy="1130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199" name="Line 78"/>
              <p:cNvSpPr/>
              <p:nvPr/>
            </p:nvSpPr>
            <p:spPr>
              <a:xfrm>
                <a:off x="2946240" y="4503600"/>
                <a:ext cx="120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  <p:sp>
            <p:nvSpPr>
              <p:cNvPr id="200" name="Text Box 79"/>
              <p:cNvSpPr/>
              <p:nvPr/>
            </p:nvSpPr>
            <p:spPr>
              <a:xfrm>
                <a:off x="363348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F</a:t>
                </a:r>
                <a:endParaRPr b="1" lang="en-US" sz="2400" spc="-1" strike="noStrike">
                  <a:solidFill>
                    <a:srgbClr val="ff66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Line 80"/>
            <p:cNvSpPr/>
            <p:nvPr/>
          </p:nvSpPr>
          <p:spPr>
            <a:xfrm>
              <a:off x="2978280" y="4495680"/>
              <a:ext cx="0" cy="11304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894C-0DA6-4819-AC15-FD3306B8FE7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Accelerating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f an object that can be modeled as a particle experiences an acceleration, there must be a nonzero net force acting on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aw a free-body diagra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pply Newton’s Second Law in component for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240000" y="3922560"/>
                <a:ext cx="1911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1585800" y="4876920"/>
                <a:ext cx="19195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4332240" y="4835520"/>
                <a:ext cx="2024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A9C-0116-4C9C-851B-B9E8B4A4B0C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40910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uppose a block with a mass of 2.50 kg is resting on a ramp. If the coefficient of static friction between the block and ramp is 0.350, what maximum angle can the ramp make with the horizontal before the block starts to slip down?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1" name="Picture 4" descr="0518"/>
          <p:cNvPicPr/>
          <p:nvPr/>
        </p:nvPicPr>
        <p:blipFill>
          <a:blip r:embed="rId1"/>
          <a:stretch/>
        </p:blipFill>
        <p:spPr>
          <a:xfrm>
            <a:off x="4794120" y="1474920"/>
            <a:ext cx="415944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CC5A-03CD-4570-81B2-3966CCFC8C5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Newton 2nd law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Then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So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14" name="Picture 4" descr="0518"/>
          <p:cNvPicPr/>
          <p:nvPr/>
        </p:nvPicPr>
        <p:blipFill>
          <a:blip r:embed="rId1"/>
          <a:stretch/>
        </p:blipFill>
        <p:spPr>
          <a:xfrm>
            <a:off x="4678200" y="965160"/>
            <a:ext cx="4313520" cy="3444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816120" y="2055960"/>
                <a:ext cx="3371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1898640" y="3378240"/>
                <a:ext cx="1792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8"/>
              <p:cNvSpPr txBox="1"/>
              <p:nvPr/>
            </p:nvSpPr>
            <p:spPr>
              <a:xfrm>
                <a:off x="752400" y="3860640"/>
                <a:ext cx="4037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565280" y="4570560"/>
                <a:ext cx="24084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1204920" y="5141880"/>
                <a:ext cx="3103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Inclined Pla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E40-2533-4230-82AA-56AD4B98790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79000" y="3603240"/>
            <a:ext cx="84582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block of mass m1 on a rough, horizontal surface is connected to a ball of mass m2 by a lightweight cord over a lightweight, frictionless pulley as shown in figure. A force of magnitude F at an angle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with the horizontal is applied to the block as shown and the block slides to the right. The coefficient of kinetic friction between the block and surface is </a:t>
            </a:r>
            <a:r>
              <a:rPr b="0" i="1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μ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k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  <a:ea typeface="宋体"/>
              </a:rPr>
              <a:t>. 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  <a:ea typeface="宋体"/>
              </a:rPr>
              <a:t>Find the magnitude of acceleration of the two object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Picture 4" descr="0520"/>
          <p:cNvPicPr/>
          <p:nvPr/>
        </p:nvPicPr>
        <p:blipFill>
          <a:blip r:embed="rId1"/>
          <a:stretch/>
        </p:blipFill>
        <p:spPr>
          <a:xfrm>
            <a:off x="1522440" y="1028880"/>
            <a:ext cx="563076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28C4-21BD-4B1D-ADC7-CD8957731B2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Multiple Objec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7" name="Picture 4" descr="0520"/>
          <p:cNvPicPr/>
          <p:nvPr/>
        </p:nvPicPr>
        <p:blipFill>
          <a:blip r:embed="rId1"/>
          <a:stretch/>
        </p:blipFill>
        <p:spPr>
          <a:xfrm>
            <a:off x="5046840" y="1665360"/>
            <a:ext cx="3805200" cy="1658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8680" y="1345680"/>
            <a:ext cx="370836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m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Tahom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Tahoma"/>
                <a:ea typeface="宋体"/>
              </a:rPr>
              <a:t>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517760" y="2573280"/>
                <a:ext cx="3444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557360" y="1467000"/>
                <a:ext cx="40496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1644480" y="3624120"/>
                <a:ext cx="2048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1539720" y="4044960"/>
                <a:ext cx="3375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0"/>
              <p:cNvSpPr txBox="1"/>
              <p:nvPr/>
            </p:nvSpPr>
            <p:spPr>
              <a:xfrm>
                <a:off x="1238400" y="4680000"/>
                <a:ext cx="509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1"/>
              <p:cNvSpPr txBox="1"/>
              <p:nvPr/>
            </p:nvSpPr>
            <p:spPr>
              <a:xfrm>
                <a:off x="1446120" y="5207040"/>
                <a:ext cx="4375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2"/>
              <p:cNvSpPr txBox="1"/>
              <p:nvPr/>
            </p:nvSpPr>
            <p:spPr>
              <a:xfrm>
                <a:off x="1712880" y="3166920"/>
                <a:ext cx="1630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4C95-A8A1-4E6A-AAF0-014785858D8C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77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Newton’s Law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52560" y="3124080"/>
            <a:ext cx="7291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If no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cts on a body, then the body’s velocity cannot chang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a body is equal to the product of the body’s mass and accelera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When two bodies interact,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c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on the bodies from each other are always equal in magnitude and opposite in directio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6" name="Picture 4" descr="newton"/>
          <p:cNvPicPr/>
          <p:nvPr/>
        </p:nvPicPr>
        <p:blipFill>
          <a:blip r:embed="rId1"/>
          <a:stretch/>
        </p:blipFill>
        <p:spPr>
          <a:xfrm>
            <a:off x="0" y="0"/>
            <a:ext cx="2300400" cy="29955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0"/>
            <a:ext cx="5791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Force is a vector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Unit of force in S.I.: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3340080" y="1219320"/>
            <a:ext cx="2355840" cy="93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2CAE-0941-46AD-81D0-E03D56B533F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37" name="Picture 2" descr="0602"/>
          <p:cNvPicPr/>
          <p:nvPr/>
        </p:nvPicPr>
        <p:blipFill>
          <a:blip r:embed="rId1"/>
          <a:stretch/>
        </p:blipFill>
        <p:spPr>
          <a:xfrm>
            <a:off x="5202360" y="1260360"/>
            <a:ext cx="2913120" cy="33465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2194560" y="403848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niform circular mo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-27360" y="495288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speed, or,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Comic Sans MS"/>
              </a:rPr>
              <a:t>constant magnitude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3440" y="4572000"/>
            <a:ext cx="1524240" cy="0"/>
          </a:xfrm>
          <a:prstGeom prst="line">
            <a:avLst/>
          </a:prstGeom>
          <a:ln w="57240">
            <a:solidFill>
              <a:srgbClr val="dc0c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H="1">
            <a:off x="2462040" y="4572000"/>
            <a:ext cx="152640" cy="304920"/>
          </a:xfrm>
          <a:prstGeom prst="line">
            <a:avLst/>
          </a:prstGeom>
          <a:ln w="936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859200" y="457200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638680" y="457200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4717440" y="4952880"/>
            <a:ext cx="44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tion along a circle: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ging direction of velocity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45" name="Picture 10" descr="0601"/>
          <p:cNvPicPr/>
          <p:nvPr/>
        </p:nvPicPr>
        <p:blipFill>
          <a:blip r:embed="rId2"/>
          <a:stretch/>
        </p:blipFill>
        <p:spPr>
          <a:xfrm>
            <a:off x="1122480" y="1244520"/>
            <a:ext cx="2859120" cy="2873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1"/>
          <p:cNvSpPr/>
          <p:nvPr/>
        </p:nvSpPr>
        <p:spPr>
          <a:xfrm>
            <a:off x="366840" y="96840"/>
            <a:ext cx="848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Defini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 flipV="1">
            <a:off x="6616800" y="1765440"/>
            <a:ext cx="1041480" cy="87624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7658280" y="1765440"/>
            <a:ext cx="457200" cy="533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E2A8-965D-48B8-99E9-F82529CAE2A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287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Uniform Circular Motion: Observations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9120" y="1387440"/>
            <a:ext cx="50612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ject moving along a curved path with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onstant speed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Magnitud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 of velocity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same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Direction of velocity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Velocity    : changin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Acceleration is NOT zero!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Net force acting on an object is NOT zer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Centripetal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굴림"/>
              </a:rPr>
              <a:t>” 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252" name="Picture 4" descr="FG06_12"/>
          <p:cNvPicPr/>
          <p:nvPr/>
        </p:nvPicPr>
        <p:blipFill>
          <a:blip r:embed="rId1"/>
          <a:stretch/>
        </p:blipFill>
        <p:spPr>
          <a:xfrm>
            <a:off x="5410080" y="1544760"/>
            <a:ext cx="3508560" cy="321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5956200" y="5038560"/>
                <a:ext cx="2198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2197080" y="3568680"/>
                <a:ext cx="353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559-337A-464A-93D7-FB31A5E069FA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03280" y="1374840"/>
            <a:ext cx="47815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entripetal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46160" y="133200"/>
            <a:ext cx="87786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Uniform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Circular Motion</a:t>
            </a:r>
            <a:endParaRPr b="1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23840" y="2649600"/>
                <a:ext cx="289728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o,  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Δ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r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Δv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6388200" y="1785960"/>
            <a:ext cx="9360" cy="7542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 flipV="1">
            <a:off x="5373720" y="6219720"/>
            <a:ext cx="57456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5386320" y="6602400"/>
            <a:ext cx="573120" cy="370080"/>
          </a:xfrm>
          <a:prstGeom prst="line">
            <a:avLst/>
          </a:prstGeom>
          <a:ln w="34920">
            <a:solidFill>
              <a:srgbClr val="ff0000"/>
            </a:solidFill>
            <a:miter/>
            <a:headEnd len="sm" type="oval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4853160" y="2957400"/>
            <a:ext cx="3078000" cy="2908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6399360" y="2655360"/>
            <a:ext cx="0" cy="341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4681440" y="4417920"/>
            <a:ext cx="375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5580000" y="2779560"/>
            <a:ext cx="57456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7211880" y="3147840"/>
            <a:ext cx="574920" cy="370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6354720" y="4375080"/>
            <a:ext cx="574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8093160" y="4522680"/>
            <a:ext cx="530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6399360" y="2455920"/>
            <a:ext cx="80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5586480" y="363204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945480" y="33559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 flipH="1" flipV="1">
            <a:off x="5578560" y="3143160"/>
            <a:ext cx="822240" cy="1270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5145120" y="26622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7095960" y="257004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552780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7118280" y="3079800"/>
            <a:ext cx="128520" cy="131760"/>
          </a:xfrm>
          <a:prstGeom prst="ellipse">
            <a:avLst/>
          </a:prstGeom>
          <a:solidFill>
            <a:srgbClr val="0099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472000" y="240048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6388200" y="3187800"/>
            <a:ext cx="787320" cy="121896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6792840" y="3683160"/>
            <a:ext cx="47160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9900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7377120" y="2781360"/>
            <a:ext cx="471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>
            <a:off x="5600880" y="3174840"/>
            <a:ext cx="1549080" cy="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6132600" y="318780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5573880" y="146052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5624640" y="2197080"/>
            <a:ext cx="471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f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6475320" y="1841400"/>
            <a:ext cx="1881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 =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2"/>
              <p:cNvSpPr txBox="1"/>
              <p:nvPr/>
            </p:nvSpPr>
            <p:spPr>
              <a:xfrm>
                <a:off x="2811600" y="1855800"/>
                <a:ext cx="1861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3"/>
              <p:cNvSpPr txBox="1"/>
              <p:nvPr/>
            </p:nvSpPr>
            <p:spPr>
              <a:xfrm>
                <a:off x="1031760" y="2089080"/>
                <a:ext cx="1255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2362 -0.15 E">
                                      <p:cBhvr>
                                        <p:cTn id="161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37 L -0.15695 -0.14259 E">
                                      <p:cBhvr>
                                        <p:cTn id="16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BD2-A168-4869-B744-492307A2F5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Uniform Circular Mo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9440" y="1206360"/>
            <a:ext cx="5295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elocity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constant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direction of the velocity is tangent to the cir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ed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riod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ime interval required for one complete revolution of the partic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2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3225960" y="28288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5370480" y="5229360"/>
                <a:ext cx="10954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r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8"/>
              <p:cNvSpPr txBox="1"/>
              <p:nvPr/>
            </p:nvSpPr>
            <p:spPr>
              <a:xfrm>
                <a:off x="602136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AA2-8D23-4E53-AA6F-931763C1B03F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Centripetal For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9440" y="1206000"/>
            <a:ext cx="54104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leration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rc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rt from Newton’s 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Law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gnitu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rection:  toward the center of the circle of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6419880" y="2362320"/>
                <a:ext cx="495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00" name="Picture 5" descr="F04_18"/>
          <p:cNvPicPr/>
          <p:nvPr/>
        </p:nvPicPr>
        <p:blipFill>
          <a:blip r:embed="rId1"/>
          <a:stretch/>
        </p:blipFill>
        <p:spPr>
          <a:xfrm>
            <a:off x="5489640" y="1523880"/>
            <a:ext cx="3311640" cy="359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3314880" y="1228680"/>
                <a:ext cx="1015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3095640" y="3708360"/>
                <a:ext cx="1252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8"/>
              <p:cNvSpPr txBox="1"/>
              <p:nvPr/>
            </p:nvSpPr>
            <p:spPr>
              <a:xfrm>
                <a:off x="5881680" y="1398600"/>
                <a:ext cx="1063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2895480" y="4361040"/>
                <a:ext cx="20876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Line 10"/>
          <p:cNvSpPr/>
          <p:nvPr/>
        </p:nvSpPr>
        <p:spPr>
          <a:xfrm flipV="1">
            <a:off x="6858000" y="3565080"/>
            <a:ext cx="38088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6" name="Object 11"/>
          <p:cNvGraphicFramePr/>
          <p:nvPr/>
        </p:nvGraphicFramePr>
        <p:xfrm>
          <a:off x="7086600" y="3718080"/>
          <a:ext cx="679320" cy="59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3718080"/>
                    <a:ext cx="67932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Line 12"/>
          <p:cNvSpPr/>
          <p:nvPr/>
        </p:nvSpPr>
        <p:spPr>
          <a:xfrm>
            <a:off x="6832440" y="2282760"/>
            <a:ext cx="381240" cy="68580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09" name="Object 13"/>
          <p:cNvGraphicFramePr/>
          <p:nvPr/>
        </p:nvGraphicFramePr>
        <p:xfrm>
          <a:off x="6451560" y="2587680"/>
          <a:ext cx="67932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51560" y="25876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Line 14"/>
          <p:cNvSpPr/>
          <p:nvPr/>
        </p:nvSpPr>
        <p:spPr>
          <a:xfrm flipH="1">
            <a:off x="7709040" y="3286080"/>
            <a:ext cx="799920" cy="0"/>
          </a:xfrm>
          <a:prstGeom prst="line">
            <a:avLst/>
          </a:prstGeom>
          <a:ln w="57240">
            <a:solidFill>
              <a:srgbClr val="dc0c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graphicFrame>
        <p:nvGraphicFramePr>
          <p:cNvPr id="312" name="Object 15"/>
          <p:cNvGraphicFramePr/>
          <p:nvPr/>
        </p:nvGraphicFramePr>
        <p:xfrm>
          <a:off x="7632720" y="2600280"/>
          <a:ext cx="679320" cy="5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32720" y="2600280"/>
                    <a:ext cx="679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4" name="Object 16"/>
              <p:cNvSpPr txBox="1"/>
              <p:nvPr/>
            </p:nvSpPr>
            <p:spPr>
              <a:xfrm>
                <a:off x="7080120" y="1355760"/>
                <a:ext cx="1282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7"/>
              <p:cNvSpPr txBox="1"/>
              <p:nvPr/>
            </p:nvSpPr>
            <p:spPr>
              <a:xfrm>
                <a:off x="6397560" y="5126040"/>
                <a:ext cx="1251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E3A-09D2-4283-8860-619E13D921E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9440" y="12700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not a new kind of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refers to any force that keeps an object following a circular pat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entripetal force is a combination of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ravitational forc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 downward to the grou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rmal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perpendicular to the surfa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ension forc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along the cord and away from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force: 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imes New Roman"/>
                <a:ea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6472080" y="2278080"/>
                <a:ext cx="19432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978-16DC-45FF-9902-F6422802CE6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6170760" y="4368960"/>
            <a:ext cx="3571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What provides Centripetal Force ?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1353960" y="4265640"/>
                <a:ext cx="189396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5045040" y="1647720"/>
                <a:ext cx="30034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5" name="Group 6"/>
          <p:cNvGrpSpPr/>
          <p:nvPr/>
        </p:nvGrpSpPr>
        <p:grpSpPr>
          <a:xfrm>
            <a:off x="5219280" y="2209320"/>
            <a:ext cx="2838600" cy="3189240"/>
            <a:chOff x="5219280" y="2209320"/>
            <a:chExt cx="2838600" cy="3189240"/>
          </a:xfrm>
        </p:grpSpPr>
        <p:sp>
          <p:nvSpPr>
            <p:cNvPr id="326" name="AutoShape 7"/>
            <p:cNvSpPr/>
            <p:nvPr/>
          </p:nvSpPr>
          <p:spPr>
            <a:xfrm rot="10800000">
              <a:off x="5219280" y="2209320"/>
              <a:ext cx="2838600" cy="3189240"/>
            </a:xfrm>
            <a:custGeom>
              <a:avLst/>
              <a:gdLst>
                <a:gd name="textAreaLeft" fmla="*/ 50760 w 2838600"/>
                <a:gd name="textAreaRight" fmla="*/ 2787840 w 2838600"/>
                <a:gd name="textAreaTop" fmla="*/ 0 h 3189240"/>
                <a:gd name="textAreaBottom" fmla="*/ 1954080 h 318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9" y="10620"/>
                  </a:moveTo>
                  <a:cubicBezTo>
                    <a:pt x="1727" y="5625"/>
                    <a:pt x="5804" y="1628"/>
                    <a:pt x="10800" y="1628"/>
                  </a:cubicBezTo>
                  <a:cubicBezTo>
                    <a:pt x="15795" y="1628"/>
                    <a:pt x="19872" y="5625"/>
                    <a:pt x="19970" y="10620"/>
                  </a:cubicBezTo>
                  <a:lnTo>
                    <a:pt x="21597" y="10588"/>
                  </a:lnTo>
                  <a:cubicBezTo>
                    <a:pt x="21482" y="4707"/>
                    <a:pt x="16682" y="0"/>
                    <a:pt x="10799" y="0"/>
                  </a:cubicBezTo>
                  <a:cubicBezTo>
                    <a:pt x="4917" y="0"/>
                    <a:pt x="117" y="4707"/>
                    <a:pt x="2" y="10588"/>
                  </a:cubicBezTo>
                  <a:lnTo>
                    <a:pt x="1629" y="1062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6553080" y="500364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28" name="Line 9"/>
          <p:cNvSpPr/>
          <p:nvPr/>
        </p:nvSpPr>
        <p:spPr>
          <a:xfrm>
            <a:off x="6629400" y="5092560"/>
            <a:ext cx="0" cy="77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780240" y="5435640"/>
            <a:ext cx="674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g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 flipV="1">
            <a:off x="6629400" y="4368960"/>
            <a:ext cx="12600" cy="7286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6742080" y="3898800"/>
            <a:ext cx="4208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 flipV="1">
            <a:off x="6502320" y="4280040"/>
            <a:ext cx="0" cy="660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33" name="Picture 14" descr="0601"/>
          <p:cNvPicPr/>
          <p:nvPr/>
        </p:nvPicPr>
        <p:blipFill>
          <a:blip r:embed="rId1"/>
          <a:stretch/>
        </p:blipFill>
        <p:spPr>
          <a:xfrm>
            <a:off x="1065240" y="1434960"/>
            <a:ext cx="2530440" cy="254484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"/>
          <p:cNvGrpSpPr/>
          <p:nvPr/>
        </p:nvGrpSpPr>
        <p:grpSpPr>
          <a:xfrm>
            <a:off x="6642000" y="4541760"/>
            <a:ext cx="533520" cy="530280"/>
            <a:chOff x="6642000" y="4541760"/>
            <a:chExt cx="533520" cy="530280"/>
          </a:xfrm>
        </p:grpSpPr>
        <p:sp>
          <p:nvSpPr>
            <p:cNvPr id="335" name="Line 11"/>
            <p:cNvSpPr/>
            <p:nvPr/>
          </p:nvSpPr>
          <p:spPr>
            <a:xfrm>
              <a:off x="6642000" y="5072040"/>
              <a:ext cx="533520" cy="0"/>
            </a:xfrm>
            <a:prstGeom prst="line">
              <a:avLst/>
            </a:prstGeom>
            <a:ln w="38160">
              <a:solidFill>
                <a:srgbClr val="5c5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36" name="Text Box 2"/>
            <p:cNvSpPr/>
            <p:nvPr/>
          </p:nvSpPr>
          <p:spPr>
            <a:xfrm>
              <a:off x="6766560" y="4541760"/>
              <a:ext cx="357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endParaRPr b="1" lang="en-US" sz="28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37" name="Line 11"/>
          <p:cNvSpPr/>
          <p:nvPr/>
        </p:nvSpPr>
        <p:spPr>
          <a:xfrm flipV="1">
            <a:off x="6629400" y="3898800"/>
            <a:ext cx="0" cy="1185840"/>
          </a:xfrm>
          <a:prstGeom prst="line">
            <a:avLst/>
          </a:prstGeom>
          <a:ln w="63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0D9B-35BB-4AD2-A943-7811EFC78D6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17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blem Solving Strateg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raw a free body diagra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showing and labeling all the forces acting on the object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oose a coordinate syste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that has one axis perpendicular to the circular path and the other axis tangent to the circular pa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nd the net force toward the center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circular path (this is the force that causes the centripetal acceleration, F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se Newton’s second la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directions will be radial, normal, and tangenti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acceleration in the radial direction will be the centripetal acceler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ve for the unknown(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83D3-2667-4437-961B-7DAE722FF38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42" name="Picture 2" descr="0603b"/>
          <p:cNvPicPr/>
          <p:nvPr/>
        </p:nvPicPr>
        <p:blipFill>
          <a:blip r:embed="rId1"/>
          <a:srcRect l="0" t="0" r="0" b="12947"/>
          <a:stretch/>
        </p:blipFill>
        <p:spPr>
          <a:xfrm>
            <a:off x="3505320" y="2922480"/>
            <a:ext cx="1666800" cy="3138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972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small ball of mas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kg is suspended from a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tring of length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5 m.  The ball revolves with constant spe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in a horizontal circle of radiu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= 2 m. Find an expression for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851040" y="3581280"/>
            <a:ext cx="1752480" cy="1815840"/>
            <a:chOff x="851040" y="3581280"/>
            <a:chExt cx="1752480" cy="1815840"/>
          </a:xfrm>
        </p:grpSpPr>
        <p:sp>
          <p:nvSpPr>
            <p:cNvPr id="346" name="Oval 6"/>
            <p:cNvSpPr/>
            <p:nvPr/>
          </p:nvSpPr>
          <p:spPr>
            <a:xfrm>
              <a:off x="1028880" y="4749480"/>
              <a:ext cx="1574640" cy="64764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257480" y="3581280"/>
              <a:ext cx="1130400" cy="203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851040" y="4927320"/>
              <a:ext cx="330120" cy="330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 flipH="1">
              <a:off x="1091880" y="3784320"/>
              <a:ext cx="736920" cy="1168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6600"/>
                </a:solidFill>
                <a:latin typeface="Times New Roman"/>
              </a:endParaRPr>
            </a:p>
          </p:txBody>
        </p:sp>
      </p:grpSp>
      <p:sp>
        <p:nvSpPr>
          <p:cNvPr id="350" name="Line 10"/>
          <p:cNvSpPr/>
          <p:nvPr/>
        </p:nvSpPr>
        <p:spPr>
          <a:xfrm>
            <a:off x="1015920" y="5105520"/>
            <a:ext cx="0" cy="635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1015920" y="4470120"/>
            <a:ext cx="39384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65000" y="5603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1052640" y="4092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>
            <a:off x="1816200" y="3772080"/>
            <a:ext cx="0" cy="1295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1519560" y="40086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AAD-EFF6-431D-80F7-A64A75C2337E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357" name="Picture 2" descr="0603b"/>
          <p:cNvPicPr/>
          <p:nvPr/>
        </p:nvPicPr>
        <p:blipFill>
          <a:blip r:embed="rId1"/>
          <a:stretch/>
        </p:blipFill>
        <p:spPr>
          <a:xfrm>
            <a:off x="457200" y="1969920"/>
            <a:ext cx="1666800" cy="3605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  <a:ea typeface="宋体"/>
              </a:rPr>
              <a:t>The Conical Pendulum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2382840" y="1905120"/>
                <a:ext cx="300996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5641920" y="1836720"/>
                <a:ext cx="306252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m/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Text Box 6"/>
          <p:cNvSpPr/>
          <p:nvPr/>
        </p:nvSpPr>
        <p:spPr>
          <a:xfrm>
            <a:off x="593640" y="1278000"/>
            <a:ext cx="31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3C93-61B4-46CC-9F5F-E3CBACA8266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537000" y="3200400"/>
            <a:ext cx="2057400" cy="122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280" y="1447920"/>
            <a:ext cx="46609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he measure of interaction betwee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two objec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Vector quantity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: has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굴림"/>
              </a:rPr>
              <a:t>magnitude and direc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y be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ct force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 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field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Particular forc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Gravita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Frict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ension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Norm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Spring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823000" y="4165560"/>
            <a:ext cx="2933640" cy="1781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7715160" y="190440"/>
            <a:ext cx="142884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bongi"/>
          <p:cNvPicPr/>
          <p:nvPr/>
        </p:nvPicPr>
        <p:blipFill>
          <a:blip r:embed="rId4"/>
          <a:stretch/>
        </p:blipFill>
        <p:spPr>
          <a:xfrm>
            <a:off x="6121440" y="2251080"/>
            <a:ext cx="2211480" cy="1735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TN00332_"/>
          <p:cNvPicPr/>
          <p:nvPr/>
        </p:nvPicPr>
        <p:blipFill>
          <a:blip r:embed="rId5"/>
          <a:stretch/>
        </p:blipFill>
        <p:spPr>
          <a:xfrm>
            <a:off x="76320" y="763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Line 9"/>
          <p:cNvSpPr/>
          <p:nvPr/>
        </p:nvSpPr>
        <p:spPr>
          <a:xfrm>
            <a:off x="7448400" y="2832120"/>
            <a:ext cx="0" cy="76212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22440" y="1117440"/>
            <a:ext cx="609480" cy="152640"/>
          </a:xfrm>
          <a:prstGeom prst="rightArrow">
            <a:avLst>
              <a:gd name="adj1" fmla="val 50000"/>
              <a:gd name="adj2" fmla="val 99823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1536840" y="965160"/>
            <a:ext cx="976320" cy="304920"/>
          </a:xfrm>
          <a:prstGeom prst="leftArrow">
            <a:avLst>
              <a:gd name="adj1" fmla="val 50000"/>
              <a:gd name="adj2" fmla="val 8004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6"/>
          <a:stretch/>
        </p:blipFill>
        <p:spPr>
          <a:xfrm>
            <a:off x="3606840" y="4559400"/>
            <a:ext cx="188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5A23-9165-4B85-BDAE-141BBA84E63D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60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 1500 kg car moving on a flat, horizontal road negotiates a curve as shown. If the radius of the curve is 35.0 m and the coefficient of static friction between the tires and dry pavement is 0.523, find the maximum speed the car can have and still make the turn successfully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6222960" y="3598920"/>
            <a:ext cx="2052720" cy="24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0604a"/>
          <p:cNvPicPr/>
          <p:nvPr/>
        </p:nvPicPr>
        <p:blipFill>
          <a:blip r:embed="rId2"/>
          <a:stretch/>
        </p:blipFill>
        <p:spPr>
          <a:xfrm>
            <a:off x="5958000" y="1249200"/>
            <a:ext cx="2909880" cy="23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67A0-0AAE-46FB-8DDC-81D9681DEAD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evel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force of static friction directed toward the center of the curve keeps the car moving in a circular path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76520" y="5562720"/>
                <a:ext cx="15238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5969160" y="2989440"/>
            <a:ext cx="2278080" cy="275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965160" y="2884320"/>
                <a:ext cx="458460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mg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D11-3031-441E-AA41-4C58110271EB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257480"/>
            <a:ext cx="47451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A car moving at the designated speed can negotiate the curve. Such a ramp is usually banked, which means that the roadway is tilted toward the inside of the curve. Suppose the designated speed for the ramp is to be 13.4 m/s and the radius of the curve is 35.0 m. At what angle should the curve be banked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Date Placeholder 3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B148-2378-413D-BFE0-939CC0AEBE1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anked Curv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140440" y="3263760"/>
            <a:ext cx="3762360" cy="2521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5267160" y="1457280"/>
            <a:ext cx="3272040" cy="15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5"/>
              <p:cNvSpPr txBox="1"/>
              <p:nvPr/>
            </p:nvSpPr>
            <p:spPr>
              <a:xfrm>
                <a:off x="716040" y="1822320"/>
                <a:ext cx="4216320" cy="37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m/s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g</m:t>
                            </m:r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m/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4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E968-3964-4B24-97F1-781FC057A794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vitational Force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6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Gravitational force is a vect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 magnitude of the gravitational force acting on an object of mass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ar the Earth’s surface is called the weight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f the objec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            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w = 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vertically downw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ngi"/>
          <p:cNvPicPr/>
          <p:nvPr/>
        </p:nvPicPr>
        <p:blipFill>
          <a:blip r:embed="rId2"/>
          <a:stretch/>
        </p:blipFill>
        <p:spPr>
          <a:xfrm>
            <a:off x="5861160" y="3638520"/>
            <a:ext cx="273204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Line 6"/>
          <p:cNvSpPr/>
          <p:nvPr/>
        </p:nvSpPr>
        <p:spPr>
          <a:xfrm>
            <a:off x="7518240" y="4368960"/>
            <a:ext cx="0" cy="12826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725480" y="4429080"/>
            <a:ext cx="1979640" cy="1614600"/>
          </a:xfrm>
          <a:prstGeom prst="rect">
            <a:avLst/>
          </a:prstGeom>
          <a:ln w="0">
            <a:noFill/>
          </a:ln>
        </p:spPr>
      </p:pic>
      <p:sp>
        <p:nvSpPr>
          <p:cNvPr id="118" name="Line 8"/>
          <p:cNvSpPr/>
          <p:nvPr/>
        </p:nvSpPr>
        <p:spPr>
          <a:xfrm>
            <a:off x="2705040" y="4673520"/>
            <a:ext cx="0" cy="1371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916080" y="4503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m: Mass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741840" y="5138640"/>
            <a:ext cx="18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g = 9.8 m/s</a:t>
            </a:r>
            <a:r>
              <a:rPr b="1" lang="en-US" sz="24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6800760" y="1911240"/>
                <a:ext cx="1649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3AE-F7D8-43A5-9E33-C8AF35DAFF51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Normal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Force from a solid surface which keeps object from falling through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perpendicular to the surfa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not necessary to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6261120" y="2451240"/>
                <a:ext cx="8128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827600" y="1293840"/>
            <a:ext cx="3171960" cy="278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478480" y="4206960"/>
                <a:ext cx="19191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5732640" y="5365800"/>
                <a:ext cx="1155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462640" y="4753080"/>
                <a:ext cx="2001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80C-AC6F-484A-A3BA-FE897D6DE1E2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48240" y="1324080"/>
            <a:ext cx="4606920" cy="164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Tension Force: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520" y="1447920"/>
            <a:ext cx="44575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A taut rope exerts forces on whatever holds its end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Direction: always </a:t>
            </a:r>
            <a:r>
              <a:rPr b="0" lang="en-US" sz="2800" spc="-1" strike="noStrike">
                <a:solidFill>
                  <a:srgbClr val="dc0c3e"/>
                </a:solidFill>
                <a:latin typeface="Tahoma"/>
                <a:ea typeface="宋体"/>
              </a:rPr>
              <a:t>along the cord (rope, cable, string ……) and away from the objec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depend on situ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629320" y="2881440"/>
            <a:ext cx="283824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4708440" y="3789360"/>
            <a:ext cx="3544920" cy="2289240"/>
          </a:xfrm>
          <a:prstGeom prst="rect">
            <a:avLst/>
          </a:prstGeom>
          <a:ln w="0">
            <a:noFill/>
          </a:ln>
        </p:spPr>
      </p:pic>
      <p:sp>
        <p:nvSpPr>
          <p:cNvPr id="136" name="Line 7"/>
          <p:cNvSpPr/>
          <p:nvPr/>
        </p:nvSpPr>
        <p:spPr>
          <a:xfrm flipH="1" flipV="1">
            <a:off x="5753160" y="4140000"/>
            <a:ext cx="596880" cy="368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5359320" y="4419360"/>
            <a:ext cx="0" cy="6397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853600" y="37749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837320" y="45752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167600" y="4295880"/>
            <a:ext cx="1746000" cy="45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1 = T = T2</a:t>
            </a:r>
            <a:endParaRPr b="1" lang="en-US" sz="24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4B1-DA53-4EE1-8153-FC9C08EC3B0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83920" y="1397160"/>
            <a:ext cx="789948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hen an object is in motion on a surface or through a viscous medium, there will be a resistance to the motio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s resistance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force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This is due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o the interactions between the object and its environ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e will be concerned with two types of frictional for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sta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宋体"/>
              </a:rPr>
              <a:t>Force of kinetic friction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Direction: opposite the direction of the intended mo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moving: in direction opposite the velocit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c3e"/>
                </a:solidFill>
                <a:latin typeface="Tahoma"/>
                <a:ea typeface="宋体"/>
              </a:rPr>
              <a:t>If stationary, in direction of the vector sum of other forc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f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757920" y="1886040"/>
            <a:ext cx="2386080" cy="2462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friction"/>
          <p:cNvPicPr/>
          <p:nvPr/>
        </p:nvPicPr>
        <p:blipFill>
          <a:blip r:embed="rId2"/>
          <a:stretch/>
        </p:blipFill>
        <p:spPr>
          <a:xfrm>
            <a:off x="5122800" y="1878120"/>
            <a:ext cx="1849680" cy="24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E5BB-5840-44BD-87F9-AF134F9AC2D5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4480" y="1359000"/>
            <a:ext cx="47750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Magnitude: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iction is proportional to the normal forc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Sta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F </a:t>
            </a:r>
            <a:r>
              <a:rPr b="0" i="1" lang="en-US" sz="2400" spc="-1" strike="noStrike">
                <a:solidFill>
                  <a:srgbClr val="dc0c3e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s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c3e"/>
                </a:solidFill>
                <a:latin typeface="Tahoma"/>
                <a:ea typeface="宋体"/>
              </a:rPr>
              <a:t>Kinetic friction: 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f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 = </a:t>
            </a: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i="1" lang="en-US" sz="2400" spc="-1" strike="noStrike" baseline="-25000">
                <a:solidFill>
                  <a:srgbClr val="dc0c3e"/>
                </a:solidFill>
                <a:latin typeface="Times New Roman"/>
                <a:ea typeface="宋体"/>
              </a:rPr>
              <a:t>k</a:t>
            </a:r>
            <a:r>
              <a:rPr b="0" i="1" lang="en-US" sz="2400" spc="-1" strike="noStrike">
                <a:solidFill>
                  <a:srgbClr val="dc0c3e"/>
                </a:solidFill>
                <a:latin typeface="Times New Roman"/>
                <a:ea typeface="宋体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dc0c3e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 is the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oefficient of fric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coefficients of friction are nearly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dependent of the area of contact (why?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  <a:ea typeface="宋体"/>
              </a:rPr>
              <a:t>Forces of Friction: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Magnitu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Picture 4" descr="05T1"/>
          <p:cNvPicPr/>
          <p:nvPr/>
        </p:nvPicPr>
        <p:blipFill>
          <a:blip r:embed="rId1"/>
          <a:stretch/>
        </p:blipFill>
        <p:spPr>
          <a:xfrm>
            <a:off x="4767120" y="1380960"/>
            <a:ext cx="435132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5"/>
          <p:cNvSpPr/>
          <p:nvPr/>
        </p:nvSpPr>
        <p:spPr>
          <a:xfrm>
            <a:off x="6342120" y="6146640"/>
            <a:ext cx="2133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737-F000-4731-8E12-5B5BDA9EF127}" type="datetime3"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July 29, 2026</a:t>
            </a:fld>
            <a:endParaRPr b="1" lang="en-US" sz="1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tatic Fri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tatic friction acts to keep the object from mov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creases, so do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ƒ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µ</a:t>
            </a:r>
            <a:r>
              <a:rPr b="0" i="1" lang="en-US" sz="2400" spc="-1" strike="noStrike" baseline="-25000">
                <a:solidFill>
                  <a:srgbClr val="000066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Remember, the equality holds when the surfaces are on the verge of slipping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165320" y="2163600"/>
          <a:ext cx="2379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63600"/>
                    <a:ext cx="2379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5"/>
          <p:cNvGraphicFramePr/>
          <p:nvPr/>
        </p:nvGraphicFramePr>
        <p:xfrm>
          <a:off x="1181160" y="2557440"/>
          <a:ext cx="23796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557440"/>
                    <a:ext cx="2379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3962520" y="2149560"/>
          <a:ext cx="3794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49560"/>
                    <a:ext cx="379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4013280" y="2581200"/>
          <a:ext cx="357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3280" y="2581200"/>
                    <a:ext cx="357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8" descr="0516a"/>
          <p:cNvPicPr/>
          <p:nvPr/>
        </p:nvPicPr>
        <p:blipFill>
          <a:blip r:embed="rId9"/>
          <a:stretch/>
        </p:blipFill>
        <p:spPr>
          <a:xfrm>
            <a:off x="5562720" y="1608120"/>
            <a:ext cx="2889000" cy="37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23:38:32Z</dcterms:created>
  <dc:creator>Gary</dc:creator>
  <dc:description/>
  <dc:language>en-US</dc:language>
  <cp:lastModifiedBy>Asus</cp:lastModifiedBy>
  <dcterms:modified xsi:type="dcterms:W3CDTF">2018-03-09T16:21:03Z</dcterms:modified>
  <cp:revision>346</cp:revision>
  <dc:subject/>
  <dc:title>PowerPoint Presentation</dc:title>
</cp:coreProperties>
</file>