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3.png" ContentType="image/png"/>
  <Override PartName="/ppt/media/image8.wmf" ContentType="image/x-wmf"/>
  <Override PartName="/ppt/media/image40.png" ContentType="image/png"/>
  <Override PartName="/ppt/media/image38.png" ContentType="image/png"/>
  <Override PartName="/ppt/media/image4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9.png" ContentType="image/png"/>
  <Override PartName="/ppt/media/image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0.png" ContentType="image/png"/>
  <Override PartName="/ppt/media/image28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19B9-9CB8-4113-9E0B-DE69834E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F1E4-E6C0-4ECE-9567-D7A682AB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3077-E334-4B23-A0A0-14B9F3B76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A77A-0CF5-4AD9-BCCB-A0D0BF804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DB66-0C19-41CD-A40F-F875DB7A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1873-2A79-4BDF-892D-3823FDB8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3622-2ADE-4378-98E1-34D56617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C59D-797A-41EF-A7FD-9633914B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3573-0DF2-4C16-B25E-AC4488C0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3E97-FDF2-4838-8C9E-82989D73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D9EF-953A-4795-8F4D-0DA8DC6A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FE13-3396-4415-86D5-F4B5FA3F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7349-03B5-47CE-97F6-5FC73742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AF45-CE0E-4460-AB17-AC3A689C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A1CD-726D-40EB-9DF1-17BDF738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F9E5-D812-4710-ABC4-69DFF619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C6D2-EEB8-45D2-99EE-F40FA2553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D61DB-A21E-4E44-B6B7-F14BAA25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32995-5D11-4745-9A36-ECA29C73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B1684-5673-4843-8D6E-1F91F368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4D5FE-804D-4F4D-99A5-7B2CB816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973CE-9428-4313-8564-4A86B125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EFD0-BDA6-4F12-A7F9-E7475BAA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0411C-D59D-4D95-AA4C-D643D9EE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CC19B-E250-423F-8247-C5C7BCC3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8C62B-E3BD-4E39-9748-F0F20162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02D34-6EE7-472D-BEA2-91F7B15D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D2794-0F0F-499F-A354-22F10CCC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D8DC6-5A04-4105-9E54-4BD5B95E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0B4E4-1B3B-4C37-8F6D-0857FB2C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82B9A-10B1-43CF-98F0-CAE83DEA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77BC1-0BB2-47A1-9840-E58A4DEA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9AC90-5297-477A-8F72-B65B36DF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CB79-8836-4D11-A9F2-B3069210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7DB1C-CBE4-47FF-AC1D-63FAD3DF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A1121-17CD-42F4-9425-732EACA0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11153-72B3-491C-BA53-B0A2B826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84167-4A49-444C-A395-AC1699F7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FBB8A-E846-455F-A4A9-231B6F3F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EAFF4-8767-44E1-9BC8-BD8756B7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5E46E-2E9A-453C-83CB-F2DAFBAD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597AD-410D-4A6E-8943-A63ADDD6B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38D69-3E09-49D0-92AB-516C352B3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2C7E9-F147-4D31-9FB8-13372BC2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62E3-51C7-43A2-B54C-203920E6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96625-0F13-4454-955F-2D9C0320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D5A28-F1D2-4C32-A0A5-960D38A8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1D5A3-8F70-4F52-A9FB-12582282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ACC13-CD1E-4DE1-B1F9-C334DED1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2AF81-B29E-4A58-A2A6-1F99DFD9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C3EC2-048A-42A0-AE8F-6CF52434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401C0-2D44-400E-825C-722AC6DA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5F64D-4668-4B40-B46C-1F3CF2FC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620F0-1437-4F65-B438-CA867558E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08542-E719-48B3-9F50-2584E049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8858-D43E-45E3-89B5-1C0B71C9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635BB-0EE2-435C-A9C7-4FFAC476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83037-5E66-4DA5-88CA-2F75514E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8718C-4F19-45B2-B139-716918EC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882AC-4958-4C89-84D3-B9EFEDEF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C9EE2-D323-4BEF-AB38-9F3333696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1E166-2289-4506-BCE5-DC780E2B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0C124-FAEC-492E-9421-73DF5D62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BDD0C-B033-44D8-8E86-65B4E6F7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A2527-9B26-451D-8F21-4E5E174B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6A00A-53C1-4FFC-8FD8-BA74EB0EF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8A71-8469-4143-8DDD-9C39FCB3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B7B20-40FA-4FDA-8A3F-3320DB56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2FE50-B4FE-4708-92A9-D81F3C3C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5319B-5DC3-4A54-9D9F-37288321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671DC-C635-42A3-9C3E-9FECEA74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7CE6E-DA41-4423-8603-4163D47B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F098E-D694-4FA0-B6EF-08335008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7DD3E-CBA4-41C9-B700-4D1DECC3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1F0C2-4CE5-4B98-A364-02C6383F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8941E-6B52-4E21-A1AF-B1CC8F40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028FB-5C3D-4FC1-A11B-8EF0593D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01CA-686F-4E8C-9A51-3DA2C087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470C2-2FDA-489F-B15C-31E0B443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748B8-5BBD-48E3-9573-C8D2607A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0C90B-FF62-4AAB-98F0-1B71706C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73C2C-C5DD-4097-9C02-7CC17A66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8158E-0C2A-4E54-BFB8-7DC777D9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95096-D749-4D3E-BA33-DDCB96E5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CE790-0F7C-48A9-AC7D-FD050CA9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768B7-E548-4DE2-AA82-22D73709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40309-50AE-4E91-B538-17464519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38B6D-E581-4EC9-919C-A1C9FCE1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89A5-81D2-47B4-B8C6-425A7D17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24566-D87A-4FC7-9413-387C574F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86B19-BD38-4C1D-8758-DA3F7312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573E2-3CAD-450C-84A7-02D1C152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EBFE3-E0B5-4142-89EF-68960595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C976C-785D-49C5-863C-401B3828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371F8-3A02-4186-B639-A8BBAD4C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E34EE-03A1-4261-AC88-E12F1F2D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DEE9-6BFF-407D-BE10-57D19C23ACA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E8E9-5FA9-4466-AC5E-2C1035945E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CBEF-1B8F-430E-9649-1229A7CB2846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B5B5-9A21-488C-910D-06D6E5D3804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A067-FBAB-4032-866E-00A74C7DCE2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F2AD-7ED4-4436-95B6-D4D242231F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C4B7-3091-474D-8D54-BCCDE5E22EA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0E4B-764C-461D-A384-DA55A750DE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3DCA-7E31-4138-9CCE-39D3A0884BA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BD50-44AD-47B5-B9EA-8A2F189914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2F70-7BD3-4230-A359-083F0D0F8BD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AF10-277E-47F8-80BF-B0F9A1004B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B59D-23CA-4BF0-A17E-158481173C4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07B9-D1C8-41CC-81FB-7EB31D52AC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6A66-A9AB-48C7-82C0-345E7189A167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4A9B-FE8B-4C98-A961-C5916AC846E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Desktop/Newton_s_First_Law_of_Motion.asf" TargetMode="External"/><Relationship Id="rId2" Type="http://schemas.openxmlformats.org/officeDocument/2006/relationships/image" Target="../media/image21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1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1.png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slide" Target="slide27.xml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1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that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“motion”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s any object that is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that we describe motion in 3 way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HOW it mov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DIRECTIO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it mov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PEED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it mov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Program Files\Microsoft Office\MEDIA\CAGCAT10\j0212957.wmf"/>
          <p:cNvPicPr/>
          <p:nvPr/>
        </p:nvPicPr>
        <p:blipFill>
          <a:blip r:embed="rId2"/>
          <a:stretch/>
        </p:blipFill>
        <p:spPr>
          <a:xfrm>
            <a:off x="1447920" y="4114800"/>
            <a:ext cx="4039920" cy="1758960"/>
          </a:xfrm>
          <a:prstGeom prst="rect">
            <a:avLst/>
          </a:prstGeom>
          <a:ln w="0">
            <a:noFill/>
          </a:ln>
        </p:spPr>
      </p:pic>
      <p:sp>
        <p:nvSpPr>
          <p:cNvPr id="373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8487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have a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ockey pu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not moving, it is at re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get the puck to move, you have to do something to the puck lik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it i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 This is the for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thout the force, it will stay in the same spot and be at re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tch this to learn more!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..\Desktop\Newton_s_First_Law_of_Motion.as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Action Button: Forward or Next 3">
            <a:hlinkClick r:id="" action="ppaction://hlinkshowjump?jump=nextslide"/>
            <a:hlinkClick r:id="rId3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An object at rest remains at rest unless acted on by another force.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stay at rest or “look still” until you do something to make it move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oy car stays at the starting lin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t rest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til you push i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pply a forc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ockey puck sits on the ic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t rest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til you push it with the stick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pply a forc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18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924680" y="57913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60" h="21600">
                <a:moveTo>
                  <a:pt x="6374" y="3794"/>
                </a:moveTo>
                <a:lnTo>
                  <a:pt x="20387" y="10800"/>
                </a:lnTo>
                <a:lnTo>
                  <a:pt x="637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of a train-that train drives down a straight track and stays going in a straight dir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oct611es5.gif"/>
          <p:cNvPicPr/>
          <p:nvPr/>
        </p:nvPicPr>
        <p:blipFill>
          <a:blip r:embed="rId2"/>
          <a:stretch/>
        </p:blipFill>
        <p:spPr>
          <a:xfrm>
            <a:off x="2133720" y="3200400"/>
            <a:ext cx="4329000" cy="3057480"/>
          </a:xfrm>
          <a:prstGeom prst="rect">
            <a:avLst/>
          </a:prstGeom>
          <a:ln w="0">
            <a:noFill/>
          </a:ln>
        </p:spPr>
      </p:pic>
      <p:sp>
        <p:nvSpPr>
          <p:cNvPr id="423" name="Action Button: Forward or Next 7">
            <a:hlinkClick r:id="" action="ppaction://hlinkshowjump?jump=nextslide"/>
            <a:hlinkClick r:id="rId3"/>
          </p:cNvPr>
          <p:cNvSpPr/>
          <p:nvPr/>
        </p:nvSpPr>
        <p:spPr>
          <a:xfrm>
            <a:off x="7620120" y="5486400"/>
            <a:ext cx="1218960" cy="1143000"/>
          </a:xfrm>
          <a:custGeom>
            <a:avLst/>
            <a:gdLst>
              <a:gd name="textAreaLeft" fmla="*/ 73800 w 1218960"/>
              <a:gd name="textAreaRight" fmla="*/ 1145160 w 12189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35" h="21600">
                <a:moveTo>
                  <a:pt x="0" y="0"/>
                </a:moveTo>
                <a:lnTo>
                  <a:pt x="23035" y="0"/>
                </a:lnTo>
                <a:lnTo>
                  <a:pt x="23035" y="21600"/>
                </a:lnTo>
                <a:lnTo>
                  <a:pt x="0" y="21600"/>
                </a:lnTo>
                <a:close/>
              </a:path>
              <a:path fill="lightenLess" w="23035" h="21600">
                <a:moveTo>
                  <a:pt x="0" y="0"/>
                </a:moveTo>
                <a:lnTo>
                  <a:pt x="23035" y="0"/>
                </a:lnTo>
                <a:lnTo>
                  <a:pt x="21635" y="1400"/>
                </a:lnTo>
                <a:lnTo>
                  <a:pt x="1400" y="1400"/>
                </a:lnTo>
                <a:close/>
              </a:path>
              <a:path fill="darken" w="23035" h="21600">
                <a:moveTo>
                  <a:pt x="23035" y="0"/>
                </a:moveTo>
                <a:lnTo>
                  <a:pt x="23035" y="21600"/>
                </a:lnTo>
                <a:lnTo>
                  <a:pt x="21635" y="20200"/>
                </a:lnTo>
                <a:lnTo>
                  <a:pt x="21635" y="1400"/>
                </a:lnTo>
                <a:close/>
              </a:path>
              <a:path fill="darkenLess" w="23035" h="21600">
                <a:moveTo>
                  <a:pt x="23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5" y="20200"/>
                </a:lnTo>
                <a:close/>
              </a:path>
              <a:path fill="lighten" w="23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5" h="21600">
                <a:moveTo>
                  <a:pt x="4511" y="3794"/>
                </a:moveTo>
                <a:lnTo>
                  <a:pt x="18524" y="10800"/>
                </a:lnTo>
                <a:lnTo>
                  <a:pt x="4511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happens when the track curves left or righ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rain turns and goes left or righ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Content Placeholder 3" descr="Xmas 2008 065.jpg"/>
          <p:cNvPicPr/>
          <p:nvPr/>
        </p:nvPicPr>
        <p:blipFill>
          <a:blip r:embed="rId2"/>
          <a:stretch/>
        </p:blipFill>
        <p:spPr>
          <a:xfrm>
            <a:off x="1828800" y="2971800"/>
            <a:ext cx="4044960" cy="3352680"/>
          </a:xfrm>
          <a:prstGeom prst="rect">
            <a:avLst/>
          </a:prstGeom>
          <a:ln w="0">
            <a:noFill/>
          </a:ln>
        </p:spPr>
      </p:pic>
      <p:sp>
        <p:nvSpPr>
          <p:cNvPr id="428" name="Action Button: Forward or Next 7">
            <a:hlinkClick r:id="" action="ppaction://hlinkshowjump?jump=nextslide"/>
            <a:hlinkClick r:id="rId3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Нижний колонтитул 8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An object in motion in a straight line tends to say in motion in a straight line unless acted upon by another force.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go straight until a force makes it go another dir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r paper airplane flies straight until gravity pushes it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mas drives straight until the driver makes i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“turn”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th the tra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32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6201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’s see what we’ve learned so far about motion!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ive this quiz a try and test your motion knowledge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C:\Program Files\Microsoft Office\MEDIA\CAGCAT10\j0299125.wmf"/>
          <p:cNvPicPr/>
          <p:nvPr/>
        </p:nvPicPr>
        <p:blipFill>
          <a:blip r:embed="rId2"/>
          <a:stretch/>
        </p:blipFill>
        <p:spPr>
          <a:xfrm>
            <a:off x="3352680" y="3429000"/>
            <a:ext cx="1812960" cy="2209680"/>
          </a:xfrm>
          <a:prstGeom prst="rect">
            <a:avLst/>
          </a:prstGeom>
          <a:ln w="0">
            <a:noFill/>
          </a:ln>
        </p:spPr>
      </p:pic>
      <p:sp>
        <p:nvSpPr>
          <p:cNvPr id="437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68580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Any object that is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Any object that f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Any object that drives on the ro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Any object this is sitting sti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Title 1" descr=""/>
          <p:cNvPicPr/>
          <p:nvPr/>
        </p:nvPicPr>
        <p:blipFill>
          <a:blip r:embed="rId5"/>
          <a:stretch/>
        </p:blipFill>
        <p:spPr>
          <a:xfrm>
            <a:off x="353880" y="268200"/>
            <a:ext cx="8339400" cy="1158840"/>
          </a:xfrm>
          <a:prstGeom prst="rect">
            <a:avLst/>
          </a:prstGeom>
          <a:ln w="0">
            <a:noFill/>
          </a:ln>
        </p:spPr>
      </p:pic>
      <p:sp>
        <p:nvSpPr>
          <p:cNvPr id="441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re right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otion is described as any object that is moving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44" name="j0214098.wav" descr=""/>
          <p:cNvPicPr/>
          <p:nvPr/>
        </p:nvPicPr>
        <p:blipFill>
          <a:blip r:embed="rId2"/>
          <a:stretch/>
        </p:blipFill>
        <p:spPr>
          <a:xfrm>
            <a:off x="380880" y="5257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5" name="Action Button: Forward or Next 4">
            <a:hlinkClick r:id="rId3" action="ppaction://hlinksldjump"/>
          </p:cNvPr>
          <p:cNvSpPr/>
          <p:nvPr/>
        </p:nvSpPr>
        <p:spPr>
          <a:xfrm>
            <a:off x="411480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4745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ything that is moving is in mo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can say motion is any object that is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the question again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49" name="Action Button: Back or Previous 3">
            <a:hlinkClick r:id="rId2" action="ppaction://hlinksldjump"/>
          </p:cNvPr>
          <p:cNvSpPr/>
          <p:nvPr/>
        </p:nvSpPr>
        <p:spPr>
          <a:xfrm>
            <a:off x="4191120" y="4724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717040" cy="13413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A pu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Turning the ke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Throwing 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5" action="ppaction://hlinksldjump"/>
              </a:rPr>
              <a:t>A pus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move something, a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“force”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s to hap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C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a push or a pu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get a toy car to move,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ce of pushing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s applied as we push it across the flo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16M6CAHI18S4CA3BI0J4CAUQTTBNCANJR63ICAV45870CAP41RV2CAHUIXAXCATE6W1DCARDO1D5CA8S200HCA4ATM2FCABGSRLBCAFSFFMDCADCZTS4CA8W8BMGCA0F4LYNCAS1E5GFCAO7M3YJCAE9Z80D.jpg"/>
          <p:cNvPicPr/>
          <p:nvPr/>
        </p:nvPicPr>
        <p:blipFill>
          <a:blip r:embed="rId2"/>
          <a:stretch/>
        </p:blipFill>
        <p:spPr>
          <a:xfrm>
            <a:off x="2590920" y="3505320"/>
            <a:ext cx="3214440" cy="2057400"/>
          </a:xfrm>
          <a:prstGeom prst="rect">
            <a:avLst/>
          </a:prstGeom>
          <a:ln w="0">
            <a:noFill/>
          </a:ln>
        </p:spPr>
      </p:pic>
      <p:sp>
        <p:nvSpPr>
          <p:cNvPr id="378" name="Action Button: Forward or Next 5">
            <a:hlinkClick r:id="" action="ppaction://hlinkshowjump?jump=nextslide"/>
            <a:hlinkClick r:id="rId3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ижний колонтитул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 have to “push” the toy car to put it into motio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ve really been paying attention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6" name="j0214098.wav" descr=""/>
          <p:cNvPicPr/>
          <p:nvPr/>
        </p:nvPicPr>
        <p:blipFill>
          <a:blip r:embed="rId2"/>
          <a:stretch/>
        </p:blipFill>
        <p:spPr>
          <a:xfrm>
            <a:off x="304920" y="5257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57" name="Action Button: Forward or Next 4">
            <a:hlinkClick r:id="rId3" action="ppaction://hlinksldjump"/>
          </p:cNvPr>
          <p:cNvSpPr/>
          <p:nvPr/>
        </p:nvSpPr>
        <p:spPr>
          <a:xfrm>
            <a:off x="4114800" y="4724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4745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about what we have to do to get that toy car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won’t move by itself, we have to do something to get it to mo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ces are push and pul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which one will make the car move forward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back and try it again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61" name="Action Button: Back or Previous 3">
            <a:hlinkClick r:id="rId2" action="ppaction://hlinksldjump"/>
          </p:cNvPr>
          <p:cNvSpPr/>
          <p:nvPr/>
        </p:nvSpPr>
        <p:spPr>
          <a:xfrm>
            <a:off x="45720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Speed, how fast, and how f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Speed or how fast or slow an object mov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At rest or not at rest and the dire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Speed, direction, and how it is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4" name="Title 2" descr=""/>
          <p:cNvPicPr/>
          <p:nvPr/>
        </p:nvPicPr>
        <p:blipFill>
          <a:blip r:embed="rId5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65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 describe an object’s motion by saying how fast or slow it goes, the direction it goes in, and by saying “how” it is movin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ry another questio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68" name="j0214098.wav" descr=""/>
          <p:cNvPicPr/>
          <p:nvPr/>
        </p:nvPicPr>
        <p:blipFill>
          <a:blip r:embed="rId2"/>
          <a:stretch/>
        </p:blipFill>
        <p:spPr>
          <a:xfrm>
            <a:off x="38088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9" name="Action Button: Forward or Next 9">
            <a:hlinkClick r:id="rId3" action="ppaction://hlinksldjump"/>
          </p:cNvPr>
          <p:cNvSpPr/>
          <p:nvPr/>
        </p:nvSpPr>
        <p:spPr>
          <a:xfrm>
            <a:off x="4038480" y="5257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4745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an object is moving, we describe “how” it is moving, how fast or slow it is going, and the direction is it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the question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73" name="Action Button: Back or Previous 3">
            <a:hlinkClick r:id="rId2" action="ppaction://hlinksldjump"/>
          </p:cNvPr>
          <p:cNvSpPr/>
          <p:nvPr/>
        </p:nvSpPr>
        <p:spPr>
          <a:xfrm>
            <a:off x="4267080" y="4648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When 2 objects rub together causing it to slow down or st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A type of gen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A force that makes things m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A story you would wri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6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7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riction is when 2 things rub together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riction is one reason why things stop or slow dow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ay to go!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80" name="j0214098.wav" descr=""/>
          <p:cNvPicPr/>
          <p:nvPr/>
        </p:nvPicPr>
        <p:blipFill>
          <a:blip r:embed="rId2"/>
          <a:stretch/>
        </p:blipFill>
        <p:spPr>
          <a:xfrm>
            <a:off x="1522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1" name="Action Button: Forward or Next 4">
            <a:hlinkClick r:id="rId3" action="ppaction://hlinksldjump"/>
          </p:cNvPr>
          <p:cNvSpPr/>
          <p:nvPr/>
        </p:nvSpPr>
        <p:spPr>
          <a:xfrm>
            <a:off x="4038480" y="5410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4745" fill="hold"/>
                                        <p:tgtEl>
                                          <p:spTgt spid="4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is why you slide on your sock feet in the dance studio or slide on i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is why the marbles would spin in space, but not on the carpe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is 2 things rubbing toge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it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85" name="Action Button: Back or Previous 3">
            <a:hlinkClick r:id="rId2" action="ppaction://hlinksldjump"/>
          </p:cNvPr>
          <p:cNvSpPr/>
          <p:nvPr/>
        </p:nvSpPr>
        <p:spPr>
          <a:xfrm>
            <a:off x="4038480" y="5257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main at rest until a force acts on it or something makes it m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rt moving by itsel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ush or pull itsel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 out of energ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89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re Right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 object at rest will stay that way until a force acts on it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r hockey puck stays still until you hit it with the stick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et’s do another one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92" name="j0214098.wav" descr=""/>
          <p:cNvPicPr/>
          <p:nvPr/>
        </p:nvPicPr>
        <p:blipFill>
          <a:blip r:embed="rId2"/>
          <a:stretch/>
        </p:blipFill>
        <p:spPr>
          <a:xfrm>
            <a:off x="3808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3" name="Action Button: Forward or Next 4"/>
          <p:cNvSpPr/>
          <p:nvPr/>
        </p:nvSpPr>
        <p:spPr>
          <a:xfrm>
            <a:off x="44956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4745" fill="hold"/>
                                        <p:tgtEl>
                                          <p:spTgt spid="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can get it to move, but now how do we get it to stop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stop when it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loses speed or “momentum.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stop when a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“force” act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d stops 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toy car stops when it runs into the wa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else makes something stop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2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of your hockey pu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it is sitting on the ice, is it moving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es it move by itself or do you have to hit it with your stick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back and try the question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97" name="Action Button: Back or Previous 3"/>
          <p:cNvSpPr/>
          <p:nvPr/>
        </p:nvSpPr>
        <p:spPr>
          <a:xfrm>
            <a:off x="4114800" y="4876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wi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or desig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0" name="Title 2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661600" cy="1341360"/>
          </a:xfrm>
          <a:prstGeom prst="rect">
            <a:avLst/>
          </a:prstGeom>
          <a:ln w="0">
            <a:noFill/>
          </a:ln>
        </p:spPr>
      </p:pic>
      <p:sp>
        <p:nvSpPr>
          <p:cNvPr id="501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ES!  The airplane lands because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is pushing it dow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Keep at it!  You’re doing a great job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04" name="j0214098.wav" descr=""/>
          <p:cNvPicPr/>
          <p:nvPr/>
        </p:nvPicPr>
        <p:blipFill>
          <a:blip r:embed="rId2"/>
          <a:stretch/>
        </p:blipFill>
        <p:spPr>
          <a:xfrm>
            <a:off x="22860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05" name="Action Button: Forward or Next 4"/>
          <p:cNvSpPr/>
          <p:nvPr/>
        </p:nvSpPr>
        <p:spPr>
          <a:xfrm>
            <a:off x="41911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4745" fill="hold"/>
                                        <p:tgtEl>
                                          <p:spTgt spid="5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is the force that pulls everything down to Eart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will act on the paper airplane and push it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the question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9" name="Action Button: Back or Previous 3"/>
          <p:cNvSpPr/>
          <p:nvPr/>
        </p:nvSpPr>
        <p:spPr>
          <a:xfrm>
            <a:off x="419112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fa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stops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other force acts on the object and changes the dir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2" name="Title 2" descr=""/>
          <p:cNvPicPr/>
          <p:nvPr/>
        </p:nvPicPr>
        <p:blipFill>
          <a:blip r:embed="rId1"/>
          <a:stretch/>
        </p:blipFill>
        <p:spPr>
          <a:xfrm>
            <a:off x="444600" y="23760"/>
            <a:ext cx="8400960" cy="1433520"/>
          </a:xfrm>
          <a:prstGeom prst="rect">
            <a:avLst/>
          </a:prstGeom>
          <a:ln w="0">
            <a:noFill/>
          </a:ln>
        </p:spPr>
      </p:pic>
      <p:sp>
        <p:nvSpPr>
          <p:cNvPr id="513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ve really got it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omas stays straight until the driver turns him (force would be pushing) to curve with the track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16" name="j0214098.wav" descr=""/>
          <p:cNvPicPr/>
          <p:nvPr/>
        </p:nvPicPr>
        <p:blipFill>
          <a:blip r:embed="rId2"/>
          <a:stretch/>
        </p:blipFill>
        <p:spPr>
          <a:xfrm>
            <a:off x="22860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7" name="Action Button: Forward or Next 4"/>
          <p:cNvSpPr/>
          <p:nvPr/>
        </p:nvSpPr>
        <p:spPr>
          <a:xfrm>
            <a:off x="419112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6" dur="4745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mas the Train moves down the straight railroad tra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 doesn’t turn to match the track on his 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force is applied (the driver turning him) and makes him curve with the tra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back and try it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1" name="Action Button: Back or Previous 3"/>
          <p:cNvSpPr/>
          <p:nvPr/>
        </p:nvSpPr>
        <p:spPr>
          <a:xfrm>
            <a:off x="41148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DID IT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really know your stuff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made it through with flying colors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doubt you’ll do great on your paper assessment too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25" name="MSj04379040000[1].wav" descr=""/>
          <p:cNvPicPr/>
          <p:nvPr/>
        </p:nvPicPr>
        <p:blipFill>
          <a:blip r:embed="rId2"/>
          <a:stretch/>
        </p:blipFill>
        <p:spPr>
          <a:xfrm>
            <a:off x="304920" y="5410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26" name="Action Button: Forward or Next 4">
            <a:hlinkClick r:id="" action="ppaction://hlinkshowjump?jump=nextslide"/>
          </p:cNvPr>
          <p:cNvSpPr/>
          <p:nvPr/>
        </p:nvSpPr>
        <p:spPr>
          <a:xfrm>
            <a:off x="396252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2" dur="17270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 know that friction can help objects stop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Friction is when 2 objects rub together. 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4674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ca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elp yo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tennis shoes on the gym floor so you have grip and won’t fall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untitledwwsk4.bmp"/>
          <p:cNvPicPr/>
          <p:nvPr/>
        </p:nvPicPr>
        <p:blipFill>
          <a:blip r:embed="rId2"/>
          <a:stretch/>
        </p:blipFill>
        <p:spPr>
          <a:xfrm>
            <a:off x="3581280" y="2819520"/>
            <a:ext cx="2286000" cy="2563560"/>
          </a:xfrm>
          <a:prstGeom prst="rect">
            <a:avLst/>
          </a:prstGeom>
          <a:ln w="0">
            <a:noFill/>
          </a:ln>
        </p:spPr>
      </p:pic>
      <p:sp>
        <p:nvSpPr>
          <p:cNvPr id="391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6960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ca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urt yo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sock feet on the dance floor and you slide into a wa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friction from the carpet and wheels on the toy car help it lose speed, slow down, and st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friction_uses-bear.jpg"/>
          <p:cNvPicPr/>
          <p:nvPr/>
        </p:nvPicPr>
        <p:blipFill>
          <a:blip r:embed="rId2"/>
          <a:stretch/>
        </p:blipFill>
        <p:spPr>
          <a:xfrm>
            <a:off x="2590920" y="2438280"/>
            <a:ext cx="3886200" cy="2194200"/>
          </a:xfrm>
          <a:prstGeom prst="rect">
            <a:avLst/>
          </a:prstGeom>
          <a:ln w="0">
            <a:noFill/>
          </a:ln>
        </p:spPr>
      </p:pic>
      <p:sp>
        <p:nvSpPr>
          <p:cNvPr id="396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620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is at rest when it i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stil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force is still acting on the object to keep it still and keep it in pla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00" name="Action Button: Forward or Next 4">
            <a:hlinkClick r:id="" action="ppaction://hlinkshowjump?jump=nextslide"/>
            <a:hlinkClick r:id="rId2"/>
          </p:cNvPr>
          <p:cNvSpPr/>
          <p:nvPr/>
        </p:nvSpPr>
        <p:spPr>
          <a:xfrm>
            <a:off x="75438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Xmas 2008 001.jpg"/>
          <p:cNvPicPr/>
          <p:nvPr/>
        </p:nvPicPr>
        <p:blipFill>
          <a:blip r:embed="rId3"/>
          <a:stretch/>
        </p:blipFill>
        <p:spPr>
          <a:xfrm>
            <a:off x="2133720" y="3124080"/>
            <a:ext cx="4190760" cy="3143520"/>
          </a:xfrm>
          <a:prstGeom prst="rect">
            <a:avLst/>
          </a:prstGeom>
          <a:ln w="0">
            <a:noFill/>
          </a:ln>
        </p:spPr>
      </p:pic>
      <p:sp>
        <p:nvSpPr>
          <p:cNvPr id="402" name="Нижний колонтитул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pulls objects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is what keeps you in your seat, brings your ball back down, and you back down after you jum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C:\Program Files\Microsoft Office\MEDIA\CAGCAT10\j0301480.wmf"/>
          <p:cNvPicPr/>
          <p:nvPr/>
        </p:nvPicPr>
        <p:blipFill>
          <a:blip r:embed="rId2"/>
          <a:stretch/>
        </p:blipFill>
        <p:spPr>
          <a:xfrm>
            <a:off x="2743200" y="4038480"/>
            <a:ext cx="2819520" cy="1338480"/>
          </a:xfrm>
          <a:prstGeom prst="rect">
            <a:avLst/>
          </a:prstGeom>
          <a:ln w="0">
            <a:noFill/>
          </a:ln>
        </p:spPr>
      </p:pic>
      <p:sp>
        <p:nvSpPr>
          <p:cNvPr id="406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62012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how something moves and how something sto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that a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force is a push or pull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at makes things mo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friction is 2 objects rubbing toge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gravity pulls/pushes everything back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’s more to motion-Let’s find out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0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7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7:35:21Z</dcterms:created>
  <dc:creator>User</dc:creator>
  <dc:description/>
  <dc:language>en-US</dc:language>
  <cp:lastModifiedBy>Asus</cp:lastModifiedBy>
  <dcterms:modified xsi:type="dcterms:W3CDTF">2018-03-09T16:22:00Z</dcterms:modified>
  <cp:revision>34</cp:revision>
  <dc:subject/>
  <dc:title>MOTION</dc:title>
</cp:coreProperties>
</file>