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6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13.png" ContentType="image/png"/>
  <Override PartName="/ppt/media/image8.wmf" ContentType="image/x-wmf"/>
  <Override PartName="/ppt/media/image40.png" ContentType="image/png"/>
  <Override PartName="/ppt/media/image38.png" ContentType="image/png"/>
  <Override PartName="/ppt/media/image41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9.png" ContentType="image/png"/>
  <Override PartName="/ppt/media/image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0.png" ContentType="image/png"/>
  <Override PartName="/ppt/media/image28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2EE3-A1B2-4095-BCBE-737E6DFFB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8CE1-34D3-4EE1-9C00-9789DF9B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F15F-8CEA-4F89-86C8-FEEF0F328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FA26-8409-4BD3-8B37-0A4A86615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FBD0-FD8C-420E-9CD3-7AA90B876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C82A-F22B-4513-8D6F-C7D43E98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6EF0-B9FC-472E-AA49-D2E800D3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673F-1CCE-4879-AD5C-70439537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6345-9541-4215-A784-9E75F5AF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5737-626E-42CF-85F6-C4CEC40B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28CD-C45C-4EB6-91B6-B417A9CD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DDDC-5605-40A7-9062-BE2B6726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6B67-951D-4CB8-B79C-57848A03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DA5D-46F1-439F-AF39-8A98FCAD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6662-A082-4393-9536-81F755C8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0D3C-4E11-425B-A501-1B48A3352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9E77-C8EA-4A65-92FA-6741DF85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D2B37-3D8B-4790-BEC1-B0EE01CF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207C3-40FB-47DC-8826-5EB8BB03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35B38-BCA7-4436-B7B8-DCC5C771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D2E46-6591-4785-A23A-EB7BC101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99990-5243-4284-B145-964CDE74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4835-4444-4297-8573-0760C385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27BAA-484D-47FD-9DA5-CCB31878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79B4F-E731-414A-BB9F-9A884093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43F84-448B-47E3-91BB-85973EA3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760E6-E080-4E3A-A105-00142CA3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7F4BA-423D-436F-A42B-F4386372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F8289-7AA6-4113-9B96-AC53E7DF8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1FC57-2A76-4398-BDA2-BC19F6624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39B8F-9A68-4CDC-883C-028D74C4E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48AEE-DFF8-4E78-9871-3B6298D2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30071-6D92-4C5E-8CD6-A68DEC8F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2128-7BD0-45E1-9C9E-8F66EAE6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D9D87-52CB-4B07-94B3-9DEDA715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2C60F-ABDD-4899-A1D6-CD1DDF65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C271E-DA6B-4226-ACCB-10E73EF2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55F42-2804-4AF9-92FC-041F3DC4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D5F04-6EC8-45F6-BBA5-9DB8C3CF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E426B-CBFE-429E-9CE4-2D852776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272D1-5F4B-4700-93F8-504233A4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128DE-407B-4152-8971-8A305DD6F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9562D-77A6-4373-BF1E-D0781496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6FA1C-8964-4F69-9FFA-2626D2FA0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EC6D-7059-4C56-B650-9D89D3AC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7F6D5-391B-4CBA-BBA1-AD7515DB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3D7A9-CD0B-4BB2-BC99-F5005B4C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35BCD-9D63-4651-91EB-313D8F4B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56E48-6CE3-46E3-8E29-B1993D93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2E25B-08FE-40ED-B180-24F299DE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98972-0826-4D90-A533-7DCE6C5C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45953-CCBC-45B0-B06A-C501D0C2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0ACAB-97B2-4C9C-8E1C-760A0AC4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DBF97-94E4-48A8-B2DF-14B92A4D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F5723-95F4-414E-B65B-616223607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B699-1589-44F7-ABF6-BBA9DB1F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1B30C-C68C-4CD8-A511-F092E211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94063-9675-4BD9-9F0A-FB6C0AFF7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0290E-75A3-4C6B-89B0-4E4A67E8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9C17E-9241-43CD-899D-ACCE63E6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FADAD-0236-41BC-AD8A-505EA982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C352F-7212-4CAF-8A10-79D12D41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F1531-8C13-4FFB-95E8-BFE53273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B2CA1-0AC9-4DB3-AD91-2F894FA3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3F078-DB34-4E9E-9E1A-46FAA0E2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94C6A-8DB7-465D-AF16-5FB29C23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19F5-1A32-4B69-A7F0-04E2896B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A5243-6818-410B-9452-F2D14AA9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6E003-71AE-4710-94B2-C0576B375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E47BC-72AE-4539-8257-93D3131E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A4946-88B7-40A3-8F86-E7BC095BA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4CA73-6211-45F0-AC55-9992CDB2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6A41A-812D-4BDB-A3F4-03627C9B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5D330-78AE-41C7-BA8A-3052872C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2BEF3-16DD-4530-A663-C3E1790F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D5875-7AA0-465E-ACDD-A010BA38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0FE27-EC54-41B5-B18E-A6D0854A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359F-A5AB-457F-B03E-5F7A7F1B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3DAF7-2A0F-4112-8C0F-85370FD1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C8067-82E7-45D0-898C-C395DB63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C6406-DE2F-4BB5-8A91-4D7854E1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8E77E-BD4C-4892-97CE-AD917CE25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239D6-81FD-463A-9611-F1E05AFC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0EDD8-1AD1-4312-B521-D81327F4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F9A14-207D-4B17-AA00-7F70533F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A6CAB-624B-410C-A0C2-D23239AB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1A21D-F046-42D0-81D1-F43A4ABF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164A2-44D0-4BA0-B4C9-E68CBDA2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3867-9C5A-4BAE-8AE6-C466449A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DCF26-3020-47D1-9568-2D79D769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40FF8-FF65-412A-8DC7-C3F25B17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C75C5-824F-46B9-BF2D-C0C63C6C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5F7EE-4626-4E5A-BB27-E16AE241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43E76-65BE-44D3-ADDC-D6CBA840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569D0-18AC-4B3D-B980-E2FD7717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D4AAC-CE60-422B-9B3A-7741795D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CBFA-28AE-4FB9-9A3E-D1C5C9A17A6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E01E-72FE-44DA-BB27-35BD210A87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047F-2487-4A3C-926D-1CF3E1CA2FA8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414E-3319-4258-B988-F6793CA2D14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4903-BA5B-499C-A92B-7564F99F221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9FF2-F1E6-418B-88EC-46BB9C7F43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BBDA-4899-42D6-B0D3-3824B8CE452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3E3A-F99E-4703-BCD7-9012E3E32F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0926-AA33-4CEA-8EDD-A464D06CF7A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DC41-055B-413B-A56D-1A74ED1E5A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6014-CD66-4922-9FCE-3ED4D533C7F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68C9-DB0F-4B13-8DCF-D330A7C1A5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102F-01D6-45A4-9531-C67186258EE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C35A-C4E9-4634-B544-252FA6BBCC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312A-49EB-4D7E-B000-05F2127CBCAF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C5C9-EC2A-46E4-A8CC-7BDBFAF4933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Desktop/Newton_s_First_Law_of_Motion.asf" TargetMode="External"/><Relationship Id="rId2" Type="http://schemas.openxmlformats.org/officeDocument/2006/relationships/image" Target="../media/image21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1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3.xml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1.png"/><Relationship Id="rId3" Type="http://schemas.openxmlformats.org/officeDocument/2006/relationships/slide" Target="slide25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slide" Target="slide27.xml"/><Relationship Id="rId4" Type="http://schemas.openxmlformats.org/officeDocument/2006/relationships/slide" Target="slide27.xml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1.png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25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that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“motion”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s any object that is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that we describe motion in 3 way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HOW it mov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DIRECTION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it mov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PEED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it mov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C:\Program Files\Microsoft Office\MEDIA\CAGCAT10\j0212957.wmf"/>
          <p:cNvPicPr/>
          <p:nvPr/>
        </p:nvPicPr>
        <p:blipFill>
          <a:blip r:embed="rId2"/>
          <a:stretch/>
        </p:blipFill>
        <p:spPr>
          <a:xfrm>
            <a:off x="1447920" y="4114800"/>
            <a:ext cx="4039920" cy="1758960"/>
          </a:xfrm>
          <a:prstGeom prst="rect">
            <a:avLst/>
          </a:prstGeom>
          <a:ln w="0">
            <a:noFill/>
          </a:ln>
        </p:spPr>
      </p:pic>
      <p:sp>
        <p:nvSpPr>
          <p:cNvPr id="373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78487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have a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ockey puc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not moving, it is at re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get the puck to move, you have to do something to the puck lik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it i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 This is the for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thout the force, it will stay in the same spot and be at re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tch this to learn more!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..\Desktop\Newton_s_First_Law_of_Motion.asf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4" name="Action Button: Forward or Next 3">
            <a:hlinkClick r:id="" action="ppaction://hlinkshowjump?jump=nextslide"/>
            <a:hlinkClick r:id="rId3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An object at rest remains at rest unless acted on by another force.”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will stay at rest or “look still” until you do something to make it move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toy car stays at the starting lin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at rest)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til you push i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apply a forc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hockey puck sits on the ic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at rest)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til you push it with the stick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apply a forc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18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924680" y="5791320"/>
            <a:ext cx="914400" cy="73800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26760" h="21600">
                <a:moveTo>
                  <a:pt x="0" y="0"/>
                </a:moveTo>
                <a:lnTo>
                  <a:pt x="26760" y="0"/>
                </a:lnTo>
                <a:lnTo>
                  <a:pt x="26760" y="21600"/>
                </a:lnTo>
                <a:lnTo>
                  <a:pt x="0" y="21600"/>
                </a:lnTo>
                <a:close/>
              </a:path>
              <a:path fill="lightenLess" w="26760" h="21600">
                <a:moveTo>
                  <a:pt x="0" y="0"/>
                </a:moveTo>
                <a:lnTo>
                  <a:pt x="26760" y="0"/>
                </a:lnTo>
                <a:lnTo>
                  <a:pt x="25360" y="1400"/>
                </a:lnTo>
                <a:lnTo>
                  <a:pt x="1400" y="1400"/>
                </a:lnTo>
                <a:close/>
              </a:path>
              <a:path fill="darken" w="26760" h="21600">
                <a:moveTo>
                  <a:pt x="26760" y="0"/>
                </a:moveTo>
                <a:lnTo>
                  <a:pt x="26760" y="21600"/>
                </a:lnTo>
                <a:lnTo>
                  <a:pt x="25360" y="20200"/>
                </a:lnTo>
                <a:lnTo>
                  <a:pt x="25360" y="1400"/>
                </a:lnTo>
                <a:close/>
              </a:path>
              <a:path fill="darkenLess" w="26760" h="21600">
                <a:moveTo>
                  <a:pt x="26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60" y="20200"/>
                </a:lnTo>
                <a:close/>
              </a:path>
              <a:path fill="lighten" w="26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60" h="21600">
                <a:moveTo>
                  <a:pt x="6374" y="3794"/>
                </a:moveTo>
                <a:lnTo>
                  <a:pt x="20387" y="10800"/>
                </a:lnTo>
                <a:lnTo>
                  <a:pt x="637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6000"/>
                            </p:stCondLst>
                            <p:childTnLst>
                              <p:par>
                                <p:cTn id="35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nk of a train-that train drives down a straight track and stays going in a straight dire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oct611es5.gif"/>
          <p:cNvPicPr/>
          <p:nvPr/>
        </p:nvPicPr>
        <p:blipFill>
          <a:blip r:embed="rId2"/>
          <a:stretch/>
        </p:blipFill>
        <p:spPr>
          <a:xfrm>
            <a:off x="2133720" y="3200400"/>
            <a:ext cx="4329000" cy="3057480"/>
          </a:xfrm>
          <a:prstGeom prst="rect">
            <a:avLst/>
          </a:prstGeom>
          <a:ln w="0">
            <a:noFill/>
          </a:ln>
        </p:spPr>
      </p:pic>
      <p:sp>
        <p:nvSpPr>
          <p:cNvPr id="423" name="Action Button: Forward or Next 7">
            <a:hlinkClick r:id="" action="ppaction://hlinkshowjump?jump=nextslide"/>
            <a:hlinkClick r:id="rId3"/>
          </p:cNvPr>
          <p:cNvSpPr/>
          <p:nvPr/>
        </p:nvSpPr>
        <p:spPr>
          <a:xfrm>
            <a:off x="7620120" y="5486400"/>
            <a:ext cx="1218960" cy="1143000"/>
          </a:xfrm>
          <a:custGeom>
            <a:avLst/>
            <a:gdLst>
              <a:gd name="textAreaLeft" fmla="*/ 73800 w 1218960"/>
              <a:gd name="textAreaRight" fmla="*/ 1145160 w 12189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35" h="21600">
                <a:moveTo>
                  <a:pt x="0" y="0"/>
                </a:moveTo>
                <a:lnTo>
                  <a:pt x="23035" y="0"/>
                </a:lnTo>
                <a:lnTo>
                  <a:pt x="23035" y="21600"/>
                </a:lnTo>
                <a:lnTo>
                  <a:pt x="0" y="21600"/>
                </a:lnTo>
                <a:close/>
              </a:path>
              <a:path fill="lightenLess" w="23035" h="21600">
                <a:moveTo>
                  <a:pt x="0" y="0"/>
                </a:moveTo>
                <a:lnTo>
                  <a:pt x="23035" y="0"/>
                </a:lnTo>
                <a:lnTo>
                  <a:pt x="21635" y="1400"/>
                </a:lnTo>
                <a:lnTo>
                  <a:pt x="1400" y="1400"/>
                </a:lnTo>
                <a:close/>
              </a:path>
              <a:path fill="darken" w="23035" h="21600">
                <a:moveTo>
                  <a:pt x="23035" y="0"/>
                </a:moveTo>
                <a:lnTo>
                  <a:pt x="23035" y="21600"/>
                </a:lnTo>
                <a:lnTo>
                  <a:pt x="21635" y="20200"/>
                </a:lnTo>
                <a:lnTo>
                  <a:pt x="21635" y="1400"/>
                </a:lnTo>
                <a:close/>
              </a:path>
              <a:path fill="darkenLess" w="23035" h="21600">
                <a:moveTo>
                  <a:pt x="23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35" y="20200"/>
                </a:lnTo>
                <a:close/>
              </a:path>
              <a:path fill="lighten" w="23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35" h="21600">
                <a:moveTo>
                  <a:pt x="4511" y="3794"/>
                </a:moveTo>
                <a:lnTo>
                  <a:pt x="18524" y="10800"/>
                </a:lnTo>
                <a:lnTo>
                  <a:pt x="4511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happens when the track curves left or righ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train turns and goes left or righ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Content Placeholder 3" descr="Xmas 2008 065.jpg"/>
          <p:cNvPicPr/>
          <p:nvPr/>
        </p:nvPicPr>
        <p:blipFill>
          <a:blip r:embed="rId2"/>
          <a:stretch/>
        </p:blipFill>
        <p:spPr>
          <a:xfrm>
            <a:off x="1828800" y="2971800"/>
            <a:ext cx="4044960" cy="3352680"/>
          </a:xfrm>
          <a:prstGeom prst="rect">
            <a:avLst/>
          </a:prstGeom>
          <a:ln w="0">
            <a:noFill/>
          </a:ln>
        </p:spPr>
      </p:pic>
      <p:sp>
        <p:nvSpPr>
          <p:cNvPr id="428" name="Action Button: Forward or Next 7">
            <a:hlinkClick r:id="" action="ppaction://hlinkshowjump?jump=nextslide"/>
            <a:hlinkClick r:id="rId3"/>
          </p:cNvPr>
          <p:cNvSpPr/>
          <p:nvPr/>
        </p:nvSpPr>
        <p:spPr>
          <a:xfrm>
            <a:off x="75438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Нижний колонтитул 8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An object in motion in a straight line tends to say in motion in a straight line unless acted upon by another force.”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will go straight until a force makes it go another dire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r paper airplane flies straight until gravity pushes it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omas drives straight until the driver makes i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“turn”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th the trac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32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6201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t’s see what we’ve learned so far about motion!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ive this quiz a try and test your motion knowledge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C:\Program Files\Microsoft Office\MEDIA\CAGCAT10\j0299125.wmf"/>
          <p:cNvPicPr/>
          <p:nvPr/>
        </p:nvPicPr>
        <p:blipFill>
          <a:blip r:embed="rId2"/>
          <a:stretch/>
        </p:blipFill>
        <p:spPr>
          <a:xfrm>
            <a:off x="3352680" y="3429000"/>
            <a:ext cx="1812960" cy="2209680"/>
          </a:xfrm>
          <a:prstGeom prst="rect">
            <a:avLst/>
          </a:prstGeom>
          <a:ln w="0">
            <a:noFill/>
          </a:ln>
        </p:spPr>
      </p:pic>
      <p:sp>
        <p:nvSpPr>
          <p:cNvPr id="437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685800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Any object that is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Any object that fl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Any object that drives on the roa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Any object this is sitting sti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Title 1" descr=""/>
          <p:cNvPicPr/>
          <p:nvPr/>
        </p:nvPicPr>
        <p:blipFill>
          <a:blip r:embed="rId5"/>
          <a:stretch/>
        </p:blipFill>
        <p:spPr>
          <a:xfrm>
            <a:off x="353880" y="268200"/>
            <a:ext cx="8339400" cy="1158840"/>
          </a:xfrm>
          <a:prstGeom prst="rect">
            <a:avLst/>
          </a:prstGeom>
          <a:ln w="0">
            <a:noFill/>
          </a:ln>
        </p:spPr>
      </p:pic>
      <p:sp>
        <p:nvSpPr>
          <p:cNvPr id="441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’re right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otion is described as any object that is moving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44" name="j0214098.wav" descr=""/>
          <p:cNvPicPr/>
          <p:nvPr/>
        </p:nvPicPr>
        <p:blipFill>
          <a:blip r:embed="rId2"/>
          <a:stretch/>
        </p:blipFill>
        <p:spPr>
          <a:xfrm>
            <a:off x="380880" y="5257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5" name="Action Button: Forward or Next 4">
            <a:hlinkClick r:id="rId3" action="ppaction://hlinksldjump"/>
          </p:cNvPr>
          <p:cNvSpPr/>
          <p:nvPr/>
        </p:nvSpPr>
        <p:spPr>
          <a:xfrm>
            <a:off x="411480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0" dur="4745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ything that is moving is in mo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can say motion is any object that is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y the question again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8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49" name="Action Button: Back or Previous 3">
            <a:hlinkClick r:id="rId2" action="ppaction://hlinksldjump"/>
          </p:cNvPr>
          <p:cNvSpPr/>
          <p:nvPr/>
        </p:nvSpPr>
        <p:spPr>
          <a:xfrm>
            <a:off x="4191120" y="4724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717040" cy="13413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A pul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Turning the ke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Throwing 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5" action="ppaction://hlinksldjump"/>
              </a:rPr>
              <a:t>A pus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move something, a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“force”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s to hap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ORC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s a push or a pul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get a toy car to move, 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orce of pushing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s applied as we push it across the floo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16M6CAHI18S4CA3BI0J4CAUQTTBNCANJR63ICAV45870CAP41RV2CAHUIXAXCATE6W1DCARDO1D5CA8S200HCA4ATM2FCABGSRLBCAFSFFMDCADCZTS4CA8W8BMGCA0F4LYNCAS1E5GFCAO7M3YJCAE9Z80D.jpg"/>
          <p:cNvPicPr/>
          <p:nvPr/>
        </p:nvPicPr>
        <p:blipFill>
          <a:blip r:embed="rId2"/>
          <a:stretch/>
        </p:blipFill>
        <p:spPr>
          <a:xfrm>
            <a:off x="2590920" y="3505320"/>
            <a:ext cx="3214440" cy="2057400"/>
          </a:xfrm>
          <a:prstGeom prst="rect">
            <a:avLst/>
          </a:prstGeom>
          <a:ln w="0">
            <a:noFill/>
          </a:ln>
        </p:spPr>
      </p:pic>
      <p:sp>
        <p:nvSpPr>
          <p:cNvPr id="378" name="Action Button: Forward or Next 5">
            <a:hlinkClick r:id="" action="ppaction://hlinkshowjump?jump=nextslide"/>
            <a:hlinkClick r:id="rId3"/>
          </p:cNvPr>
          <p:cNvSpPr/>
          <p:nvPr/>
        </p:nvSpPr>
        <p:spPr>
          <a:xfrm>
            <a:off x="75438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Нижний колонтитул 6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 have to “push” the toy car to put it into motio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’ve really been paying attention!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6" name="j0214098.wav" descr=""/>
          <p:cNvPicPr/>
          <p:nvPr/>
        </p:nvPicPr>
        <p:blipFill>
          <a:blip r:embed="rId2"/>
          <a:stretch/>
        </p:blipFill>
        <p:spPr>
          <a:xfrm>
            <a:off x="304920" y="52578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57" name="Action Button: Forward or Next 4">
            <a:hlinkClick r:id="rId3" action="ppaction://hlinksldjump"/>
          </p:cNvPr>
          <p:cNvSpPr/>
          <p:nvPr/>
        </p:nvSpPr>
        <p:spPr>
          <a:xfrm>
            <a:off x="4114800" y="4724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6" dur="4745" fill="hold"/>
                                        <p:tgtEl>
                                          <p:spTgt spid="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nk about what we have to do to get that toy car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won’t move by itself, we have to do something to get it to mov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ur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orces are push and pul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which one will make the car move forward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 back and try it again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61" name="Action Button: Back or Previous 3">
            <a:hlinkClick r:id="rId2" action="ppaction://hlinksldjump"/>
          </p:cNvPr>
          <p:cNvSpPr/>
          <p:nvPr/>
        </p:nvSpPr>
        <p:spPr>
          <a:xfrm>
            <a:off x="45720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Speed, how fast, and how f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Speed or how fast or slow an object mov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At rest or not at rest and the dire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Speed, direction, and how it is mov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4" name="Title 2" descr=""/>
          <p:cNvPicPr/>
          <p:nvPr/>
        </p:nvPicPr>
        <p:blipFill>
          <a:blip r:embed="rId5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65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 describe an object’s motion by saying how fast or slow it goes, the direction it goes in, and by saying “how” it is moving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ry another questio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68" name="j0214098.wav" descr=""/>
          <p:cNvPicPr/>
          <p:nvPr/>
        </p:nvPicPr>
        <p:blipFill>
          <a:blip r:embed="rId2"/>
          <a:stretch/>
        </p:blipFill>
        <p:spPr>
          <a:xfrm>
            <a:off x="380880" y="5334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9" name="Action Button: Forward or Next 9">
            <a:hlinkClick r:id="rId3" action="ppaction://hlinksldjump"/>
          </p:cNvPr>
          <p:cNvSpPr/>
          <p:nvPr/>
        </p:nvSpPr>
        <p:spPr>
          <a:xfrm>
            <a:off x="4038480" y="5257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" dur="4745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an object is moving, we describe “how” it is moving, how fast or slow it is going, and the direction is it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y the question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2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73" name="Action Button: Back or Previous 3">
            <a:hlinkClick r:id="rId2" action="ppaction://hlinksldjump"/>
          </p:cNvPr>
          <p:cNvSpPr/>
          <p:nvPr/>
        </p:nvSpPr>
        <p:spPr>
          <a:xfrm>
            <a:off x="4267080" y="4648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When 2 objects rub together causing it to slow down or sto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A type of gen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A force that makes things mo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A story you would wri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6" name="Title 2" descr=""/>
          <p:cNvPicPr/>
          <p:nvPr/>
        </p:nvPicPr>
        <p:blipFill>
          <a:blip r:embed="rId5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7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riction is when 2 things rub together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riction is one reason why things stop or slow dow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ay to go!!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80" name="j0214098.wav" descr=""/>
          <p:cNvPicPr/>
          <p:nvPr/>
        </p:nvPicPr>
        <p:blipFill>
          <a:blip r:embed="rId2"/>
          <a:stretch/>
        </p:blipFill>
        <p:spPr>
          <a:xfrm>
            <a:off x="15228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1" name="Action Button: Forward or Next 4">
            <a:hlinkClick r:id="rId3" action="ppaction://hlinksldjump"/>
          </p:cNvPr>
          <p:cNvSpPr/>
          <p:nvPr/>
        </p:nvSpPr>
        <p:spPr>
          <a:xfrm>
            <a:off x="4038480" y="54100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4745" fill="hold"/>
                                        <p:tgtEl>
                                          <p:spTgt spid="4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is why you slide on your sock feet in the dance studio or slide on i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is why the marbles would spin in space, but not on the carpe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is 2 things rubbing togeth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y it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85" name="Action Button: Back or Previous 3">
            <a:hlinkClick r:id="rId2" action="ppaction://hlinksldjump"/>
          </p:cNvPr>
          <p:cNvSpPr/>
          <p:nvPr/>
        </p:nvSpPr>
        <p:spPr>
          <a:xfrm>
            <a:off x="4038480" y="5257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main at rest until a force acts on it or something makes it mo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rt moving by itself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ush or pull itself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 out of energ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89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’re Right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n object at rest will stay that way until a force acts on it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r hockey puck stays still until you hit it with the stick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et’s do another one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1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92" name="j0214098.wav" descr=""/>
          <p:cNvPicPr/>
          <p:nvPr/>
        </p:nvPicPr>
        <p:blipFill>
          <a:blip r:embed="rId2"/>
          <a:stretch/>
        </p:blipFill>
        <p:spPr>
          <a:xfrm>
            <a:off x="38088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93" name="Action Button: Forward or Next 4"/>
          <p:cNvSpPr/>
          <p:nvPr/>
        </p:nvSpPr>
        <p:spPr>
          <a:xfrm>
            <a:off x="44956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4745" fill="hold"/>
                                        <p:tgtEl>
                                          <p:spTgt spid="4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can get it to move, but now how do we get it to stop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will stop when it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loses speed or “momentum.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will stop when a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“force” act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d stops i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ur toy car stops when it runs into the wa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else makes something stop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2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5438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nk of your hockey puc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it is sitting on the ice, is it moving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es it move by itself or do you have to hit it with your stick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 back and try the question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6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97" name="Action Button: Back or Previous 3"/>
          <p:cNvSpPr/>
          <p:nvPr/>
        </p:nvSpPr>
        <p:spPr>
          <a:xfrm>
            <a:off x="4114800" y="4876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 wi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or desig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0" name="Title 2" descr=""/>
          <p:cNvPicPr/>
          <p:nvPr/>
        </p:nvPicPr>
        <p:blipFill>
          <a:blip r:embed="rId1"/>
          <a:stretch/>
        </p:blipFill>
        <p:spPr>
          <a:xfrm>
            <a:off x="244440" y="122400"/>
            <a:ext cx="8661600" cy="1341360"/>
          </a:xfrm>
          <a:prstGeom prst="rect">
            <a:avLst/>
          </a:prstGeom>
          <a:ln w="0">
            <a:noFill/>
          </a:ln>
        </p:spPr>
      </p:pic>
      <p:sp>
        <p:nvSpPr>
          <p:cNvPr id="501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ES!  The airplane lands because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gravity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is pushing it dow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Keep at it!  You’re doing a great job!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04" name="j0214098.wav" descr=""/>
          <p:cNvPicPr/>
          <p:nvPr/>
        </p:nvPicPr>
        <p:blipFill>
          <a:blip r:embed="rId2"/>
          <a:stretch/>
        </p:blipFill>
        <p:spPr>
          <a:xfrm>
            <a:off x="228600" y="5334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05" name="Action Button: Forward or Next 4"/>
          <p:cNvSpPr/>
          <p:nvPr/>
        </p:nvSpPr>
        <p:spPr>
          <a:xfrm>
            <a:off x="419112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0" dur="4745" fill="hold"/>
                                        <p:tgtEl>
                                          <p:spTgt spid="5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 is the force that pulls everything down to Earth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 will act on the paper airplane and push it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y the question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8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9" name="Action Button: Back or Previous 3"/>
          <p:cNvSpPr/>
          <p:nvPr/>
        </p:nvSpPr>
        <p:spPr>
          <a:xfrm>
            <a:off x="4191120" y="5105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fal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stops mov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other force acts on the object and changes the dire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2" name="Title 2" descr=""/>
          <p:cNvPicPr/>
          <p:nvPr/>
        </p:nvPicPr>
        <p:blipFill>
          <a:blip r:embed="rId1"/>
          <a:stretch/>
        </p:blipFill>
        <p:spPr>
          <a:xfrm>
            <a:off x="444600" y="23760"/>
            <a:ext cx="8400960" cy="1433520"/>
          </a:xfrm>
          <a:prstGeom prst="rect">
            <a:avLst/>
          </a:prstGeom>
          <a:ln w="0">
            <a:noFill/>
          </a:ln>
        </p:spPr>
      </p:pic>
      <p:sp>
        <p:nvSpPr>
          <p:cNvPr id="513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’ve really got it!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omas stays straight until the driver turns him (force would be pushing) to curve with the track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16" name="j0214098.wav" descr=""/>
          <p:cNvPicPr/>
          <p:nvPr/>
        </p:nvPicPr>
        <p:blipFill>
          <a:blip r:embed="rId2"/>
          <a:stretch/>
        </p:blipFill>
        <p:spPr>
          <a:xfrm>
            <a:off x="22860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7" name="Action Button: Forward or Next 4"/>
          <p:cNvSpPr/>
          <p:nvPr/>
        </p:nvSpPr>
        <p:spPr>
          <a:xfrm>
            <a:off x="419112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6" dur="4745" fill="hold"/>
                                        <p:tgtEl>
                                          <p:spTgt spid="5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omas the Train moves down the straight railroad trac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 doesn’t turn to match the track on his 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force is applied (the driver turning him) and makes him curve with the trac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 back and try it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21" name="Action Button: Back or Previous 3"/>
          <p:cNvSpPr/>
          <p:nvPr/>
        </p:nvSpPr>
        <p:spPr>
          <a:xfrm>
            <a:off x="411480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DID IT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really know your stuff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made it through with flying colors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 doubt you’ll do great on your paper assessment too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25" name="MSj04379040000[1].wav" descr=""/>
          <p:cNvPicPr/>
          <p:nvPr/>
        </p:nvPicPr>
        <p:blipFill>
          <a:blip r:embed="rId2"/>
          <a:stretch/>
        </p:blipFill>
        <p:spPr>
          <a:xfrm>
            <a:off x="304920" y="5410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26" name="Action Button: Forward or Next 4">
            <a:hlinkClick r:id="" action="ppaction://hlinkshowjump?jump=nextslide"/>
          </p:cNvPr>
          <p:cNvSpPr/>
          <p:nvPr/>
        </p:nvSpPr>
        <p:spPr>
          <a:xfrm>
            <a:off x="396252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2" dur="17270" fill="hold"/>
                                        <p:tgtEl>
                                          <p:spTgt spid="5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 know that friction can help objects stop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Friction is when 2 objects rub together. 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6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4674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ca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help you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tennis shoes on the gym floor so you have grip and won’t fall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untitledwwsk4.bmp"/>
          <p:cNvPicPr/>
          <p:nvPr/>
        </p:nvPicPr>
        <p:blipFill>
          <a:blip r:embed="rId2"/>
          <a:stretch/>
        </p:blipFill>
        <p:spPr>
          <a:xfrm>
            <a:off x="3581280" y="2819520"/>
            <a:ext cx="2286000" cy="2563560"/>
          </a:xfrm>
          <a:prstGeom prst="rect">
            <a:avLst/>
          </a:prstGeom>
          <a:ln w="0">
            <a:noFill/>
          </a:ln>
        </p:spPr>
      </p:pic>
      <p:sp>
        <p:nvSpPr>
          <p:cNvPr id="391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76960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ca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hurt you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sock feet on the dance floor and you slide into a wa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friction from the carpet and wheels on the toy car help it lose speed, slow down, and sto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friction_uses-bear.jpg"/>
          <p:cNvPicPr/>
          <p:nvPr/>
        </p:nvPicPr>
        <p:blipFill>
          <a:blip r:embed="rId2"/>
          <a:stretch/>
        </p:blipFill>
        <p:spPr>
          <a:xfrm>
            <a:off x="2590920" y="2438280"/>
            <a:ext cx="3886200" cy="2194200"/>
          </a:xfrm>
          <a:prstGeom prst="rect">
            <a:avLst/>
          </a:prstGeom>
          <a:ln w="0">
            <a:noFill/>
          </a:ln>
        </p:spPr>
      </p:pic>
      <p:sp>
        <p:nvSpPr>
          <p:cNvPr id="396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76201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is at rest when it is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stil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force is still acting on the object to keep it still and keep it in pla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00" name="Action Button: Forward or Next 4">
            <a:hlinkClick r:id="" action="ppaction://hlinkshowjump?jump=nextslide"/>
            <a:hlinkClick r:id="rId2"/>
          </p:cNvPr>
          <p:cNvSpPr/>
          <p:nvPr/>
        </p:nvSpPr>
        <p:spPr>
          <a:xfrm>
            <a:off x="754380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5" descr="Xmas 2008 001.jpg"/>
          <p:cNvPicPr/>
          <p:nvPr/>
        </p:nvPicPr>
        <p:blipFill>
          <a:blip r:embed="rId3"/>
          <a:stretch/>
        </p:blipFill>
        <p:spPr>
          <a:xfrm>
            <a:off x="2133720" y="3124080"/>
            <a:ext cx="4190760" cy="3143520"/>
          </a:xfrm>
          <a:prstGeom prst="rect">
            <a:avLst/>
          </a:prstGeom>
          <a:ln w="0">
            <a:noFill/>
          </a:ln>
        </p:spPr>
      </p:pic>
      <p:sp>
        <p:nvSpPr>
          <p:cNvPr id="402" name="Нижний колонтитул 6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GRAVIT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 pulls objects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 is what keeps you in your seat, brings your ball back down, and you back down after you jum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" descr="C:\Program Files\Microsoft Office\MEDIA\CAGCAT10\j0301480.wmf"/>
          <p:cNvPicPr/>
          <p:nvPr/>
        </p:nvPicPr>
        <p:blipFill>
          <a:blip r:embed="rId2"/>
          <a:stretch/>
        </p:blipFill>
        <p:spPr>
          <a:xfrm>
            <a:off x="2743200" y="4038480"/>
            <a:ext cx="2819520" cy="1338480"/>
          </a:xfrm>
          <a:prstGeom prst="rect">
            <a:avLst/>
          </a:prstGeom>
          <a:ln w="0">
            <a:noFill/>
          </a:ln>
        </p:spPr>
      </p:pic>
      <p:sp>
        <p:nvSpPr>
          <p:cNvPr id="406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762012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how something moves and how something stop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that a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force is a push or pull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at makes things mov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friction is 2 objects rubbing togeth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gravity pulls/pushes everything back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’s more to motion-Let’s find out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0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7724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8000"/>
                            </p:stCondLst>
                            <p:childTnLst>
                              <p:par>
                                <p:cTn id="27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7:35:21Z</dcterms:created>
  <dc:creator>User</dc:creator>
  <dc:description/>
  <dc:language>en-US</dc:language>
  <cp:lastModifiedBy>Asus</cp:lastModifiedBy>
  <dcterms:modified xsi:type="dcterms:W3CDTF">2018-03-09T16:22:00Z</dcterms:modified>
  <cp:revision>34</cp:revision>
  <dc:subject/>
  <dc:title>MOTION</dc:title>
</cp:coreProperties>
</file>