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9C9-BAF7-4B65-8AE6-944C331D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EC0-4D5A-4AFA-8F95-E31F9335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141-1D07-4D0E-8223-9D6E0195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20E-91CF-4AB2-9666-ED7E01A6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9ED1-B05E-4CBD-A597-13839C02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3546-A89F-4C3E-95A5-4B9E33C6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8F1F-71C8-47D3-BA6A-242AD39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BD2B-E466-4126-B597-E5B86F18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3215-7C96-4FE3-B2E7-3FC60AC6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CE77-1E36-45CD-895F-DE4F69D4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37ED-E9EF-498A-869A-3F1AEDFE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9BF-7CD3-4862-912C-1520F44E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C1E8-DA95-4A47-B12F-45557DFB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F770-BF96-4F73-A9C8-554855F9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3ECF-DFF4-4849-BD9F-8AAE0670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7F03-3873-4ACC-BE2D-30E47D5B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B260-15C4-4FE0-AABB-C499DDAB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AE512-EFEC-43B1-BBB1-509ED71F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02F4-491F-4774-AE54-2BF31D5E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9465-1DEC-4A99-980B-750A4C36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EA627-A4BA-4957-A4EC-31FE1D19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FD1A-E423-449F-8771-941AF5B6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E7B-2FBE-46AD-801A-9CC5D824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1AC5C-20D0-4994-A2D0-F3161437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4A050-D969-4F6A-995D-9616B9E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5E3D-3A68-4095-841E-0FC79931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63AAF-A422-4F4A-AE54-332CF556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AA98-16BE-4261-8E8A-A09BE1B1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7125-265F-433C-A139-7F944A5E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DAEE-75FA-4216-8DD9-22900773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139F8-226A-4715-B022-B3F324B7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C1E92-7510-47A5-A953-C8FAE766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7B83-D649-4791-8EE7-4AF6EF62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358-AA1B-4508-B79F-9D528F8B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5092-DFB9-4D5F-A7EC-6962976E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9BFF-4117-4141-8837-A16373AC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B59BF-CCEC-4B83-B5DB-71163B96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E57B-CF84-432F-8139-A4C25766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E61B5-BDD9-40AA-A02A-A23928AD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C4B66-4FAA-43B0-A0D2-5D3CDBAB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A10B-50BF-423B-AD96-4E673689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0E528-F278-47D8-83A1-8523C540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AE59-A322-4573-813E-DA99C76A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82493-ED3E-40DC-8E55-3ECF45FB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77F-63AD-48E9-BD80-D4F88C7B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92E9D-8AB7-4669-BA21-F0D25A2D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A0B99-9A5A-49C3-B3D7-558EFF58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93C2-F903-434F-8667-1CB9CD73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B9DD1-4048-4571-A714-9C72793F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8182-7F36-4975-BB75-E2E10A93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E23A-9595-40C3-AAED-39E3C7A1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047F4-351A-4497-9F9E-388352AF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6EE06-CC48-4E9C-88FF-F07DDF49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AC1AC-3EB8-442A-B36A-71EAD65B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679A6-2B50-4C91-A3C9-CCE485A3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749-8F80-48B9-9846-C6101FCF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16F3-36B7-4154-BC97-606FED1C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93C61-3B65-44EF-9273-7C9B89C7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E93D8-0971-4758-8C81-FEFC4627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6DE81-D25D-4E1A-B671-198D2CEF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22CEF-0454-4045-A15E-F7977FA8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60F60-1E0F-4DF4-A1B0-88846C6B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A2575-0E32-4CDD-B867-99DC797B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07FA3-F680-4992-9925-E01560C3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D8B9E-2F97-4C63-AFAD-04288D71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8C0E8-0251-4D0A-BFAD-49398B6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3A8-65E6-4AB5-BBAA-92CA5C34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5977A-5830-4D7F-9CDD-87A537BB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06050-1B41-479A-AD8E-A49857FA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9B342-BFBC-449C-AD62-0CE28205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92D47-71AE-4551-8B55-48740F47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E55C8-F823-4E4E-85CF-2F6B8A1D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7625A-DAB0-4755-812A-BECBA511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554D4-A594-4FFD-BD8A-16B4AC6A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A7B19-900E-40D4-A5E4-C1336A49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6E4E9-95DE-4803-AA47-12D9E310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1E7B5-98E1-4DF2-9FD7-36306E28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7C5-CAA1-4891-928E-A2883D97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6CC36-4E04-4D0A-9E1B-3487A3DF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54974-43FC-470C-8D5A-4B98896C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7A58B-3FA6-480F-855F-7BDEBCBC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26A18-008A-42DF-B3E6-96582739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EE7FD-8D13-46D2-A6B0-56DCDAE1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7B81A-691C-44AD-9928-82C62D94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0598F-6EA8-4C6A-BD01-86C34638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8905-94E9-477A-BCF9-2CEDA0A5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DA8F4-3D8C-4A3E-BFBF-91D36BFC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9E395-F880-4741-8F12-BAE41A57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554-3B25-48A0-83B6-039F0E05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F28DC-BD16-45FD-A11A-DA2E4E94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C1BFF-D444-470C-9455-080A753A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D5144-D6D6-4101-A936-4F2950BE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3CDA2-D4A4-41B4-964E-FD772F4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C91C7-FB3C-4C99-9792-8A7A1F8A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80AAE-A09F-47C2-8558-BA3A9B86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7421E-B8A6-4AB4-8827-CC80E19C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74A0-F9B0-41A7-AF3C-D50A4044A89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2F55-8EAC-4AE9-A6CE-14F2830510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68D9-90F7-489C-A1B0-E935C9339B6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5E64-4AA3-4F32-99D7-BF192CD69C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7E45-9233-4EDA-BF86-E18DDE34184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FD36-2961-46A9-84AC-C2BCF0EDC0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C6A6-FFEA-4F3A-94FD-1DE5BA149C9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9B46-E01F-4E28-B225-BCC6F2EAD9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AED4-16B9-42DD-AF09-4A66183632F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D4AE-3931-4581-8112-3B7C12EAC9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02B4-601E-4D9D-9C78-2DA962775E7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636C-268F-49BF-A763-1151F077A3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532D-EE9E-4AA8-B7F7-271947B81CE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0CF5-E01F-4F0D-976F-11FA96CEFD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1697-DBE2-4C38-99C0-5A58246DF8A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B514-C7CF-45AA-8719-F9083A51D7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Desktop/Newton_s_First_Law_of_Motion.asf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motio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we describe motion in 3 w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HOW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PEE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447920" y="4114800"/>
            <a:ext cx="4039920" cy="1758960"/>
          </a:xfrm>
          <a:prstGeom prst="rect">
            <a:avLst/>
          </a:prstGeom>
          <a:ln w="0">
            <a:noFill/>
          </a:ln>
        </p:spPr>
      </p:pic>
      <p:sp>
        <p:nvSpPr>
          <p:cNvPr id="373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have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moving, it is at 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the puck to move, you have to do something to the puck lik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t 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This is the 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out the force, it will stay in the same spot and be at 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ch this to learn more!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..\Desktop\Newton_s_First_Law_of_Motion.as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Action Button: Forward or Next 3">
            <a:hlinkClick r:id="" action="ppaction://hlinkshowjump?jump=nextslide"/>
            <a:hlinkClick r:id="rId3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at rest remains at rest unless acted 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ay at rest or “look still” until you do something to make it mov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y car stays at the starting li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ckey puck sits on the ic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with the st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8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60" h="21600">
                <a:moveTo>
                  <a:pt x="6374" y="3794"/>
                </a:moveTo>
                <a:lnTo>
                  <a:pt x="20387" y="10800"/>
                </a:lnTo>
                <a:lnTo>
                  <a:pt x="637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a train-that train drives down a straight track and stays going in a straight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oct611es5.gif"/>
          <p:cNvPicPr/>
          <p:nvPr/>
        </p:nvPicPr>
        <p:blipFill>
          <a:blip r:embed="rId2"/>
          <a:stretch/>
        </p:blipFill>
        <p:spPr>
          <a:xfrm>
            <a:off x="2133720" y="3200400"/>
            <a:ext cx="4329000" cy="3057480"/>
          </a:xfrm>
          <a:prstGeom prst="rect">
            <a:avLst/>
          </a:prstGeom>
          <a:ln w="0">
            <a:noFill/>
          </a:ln>
        </p:spPr>
      </p:pic>
      <p:sp>
        <p:nvSpPr>
          <p:cNvPr id="423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4864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happens when the track curves left or righ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n turns and goes left or 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Content Placeholder 3" descr="Xmas 2008 065.jpg"/>
          <p:cNvPicPr/>
          <p:nvPr/>
        </p:nvPicPr>
        <p:blipFill>
          <a:blip r:embed="rId2"/>
          <a:stretch/>
        </p:blipFill>
        <p:spPr>
          <a:xfrm>
            <a:off x="1828800" y="2971800"/>
            <a:ext cx="404496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ижний колонтитул 8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in motion in a straight line tends to say in motion in a straight line unless acted up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go straight until a force makes it go another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paper airplane flies straight until gravity pushes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drives straight until the driver makes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tur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see what we’ve learned so far about motion!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 this quiz a try and test your motion knowledg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3352680" y="3429000"/>
            <a:ext cx="1812960" cy="2209680"/>
          </a:xfrm>
          <a:prstGeom prst="rect">
            <a:avLst/>
          </a:prstGeom>
          <a:ln w="0">
            <a:noFill/>
          </a:ln>
        </p:spPr>
      </p:pic>
      <p:sp>
        <p:nvSpPr>
          <p:cNvPr id="437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ny object that f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ny object that drives on the r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ny object this is sitting sti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5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tion is described as any object that is moving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j0214098.wav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Action Button: Forward or Next 4">
            <a:hlinkClick r:id="rId3" action="ppaction://hlinksldjump"/>
          </p:cNvPr>
          <p:cNvSpPr/>
          <p:nvPr/>
        </p:nvSpPr>
        <p:spPr>
          <a:xfrm>
            <a:off x="41148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thing that is moving is in mo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say motion 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Action Button: Back or Previous 3">
            <a:hlinkClick r:id="rId2" action="ppaction://hlinksldjump"/>
          </p:cNvPr>
          <p:cNvSpPr/>
          <p:nvPr/>
        </p:nvSpPr>
        <p:spPr>
          <a:xfrm>
            <a:off x="41911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Turning the k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Throw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A pu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ove something,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“force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o hap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push or 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 toy car to move,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 of push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pplied as we push it across the fl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16M6CAHI18S4CA3BI0J4CAUQTTBNCANJR63ICAV45870CAP41RV2CAHUIXAXCATE6W1DCARDO1D5CA8S200HCA4ATM2FCABGSRLBCAFSFFMDCADCZTS4CA8W8BMGCA0F4LYNCAS1E5GFCAO7M3YJCAE9Z80D.jpg"/>
          <p:cNvPicPr/>
          <p:nvPr/>
        </p:nvPicPr>
        <p:blipFill>
          <a:blip r:embed="rId2"/>
          <a:stretch/>
        </p:blipFill>
        <p:spPr>
          <a:xfrm>
            <a:off x="2590920" y="3505320"/>
            <a:ext cx="3214440" cy="2057400"/>
          </a:xfrm>
          <a:prstGeom prst="rect">
            <a:avLst/>
          </a:prstGeom>
          <a:ln w="0">
            <a:noFill/>
          </a:ln>
        </p:spPr>
      </p:pic>
      <p:sp>
        <p:nvSpPr>
          <p:cNvPr id="378" name="Action Button: Forward or Next 5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have to “push” the toy car to put it into mo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been paying attention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6" name="j0214098.wav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Action Button: Forward or Next 4">
            <a:hlinkClick r:id="rId3" action="ppaction://hlinksldjump"/>
          </p:cNvPr>
          <p:cNvSpPr/>
          <p:nvPr/>
        </p:nvSpPr>
        <p:spPr>
          <a:xfrm>
            <a:off x="41148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about what we have to do to get that toy car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on’t move by itself, we have to do something to get it to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s are push and pu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hich one will make the car move forwar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Action Button: Back or Previous 3">
            <a:hlinkClick r:id="rId2" action="ppaction://hlinksldjump"/>
          </p:cNvPr>
          <p:cNvSpPr/>
          <p:nvPr/>
        </p:nvSpPr>
        <p:spPr>
          <a:xfrm>
            <a:off x="45720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Speed, how fast, and how f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Speed or how fast or slow an object mo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t rest or not at rest and the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Speed, direction, and how it i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5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describe an object’s motion by saying how fast or slow it goes, the direction it goes in, and by saying “how” it is mov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ry another ques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8" name="j0214098.wav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Action Button: Forward or Next 9">
            <a:hlinkClick r:id="rId3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an object is moving, we describe “how” it is moving, how fast or slow it is going, and the direction is it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Action Button: Back or Previous 3">
            <a:hlinkClick r:id="rId2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When 2 objects rub together causing it to slow down or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type of gen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 force that makes things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 story you would wr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when 2 things rub togeth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one reason why things stop or slow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y to go!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j0214098.wav" descr=""/>
          <p:cNvPicPr/>
          <p:nvPr/>
        </p:nvPicPr>
        <p:blipFill>
          <a:blip r:embed="rId2"/>
          <a:stretch/>
        </p:blipFill>
        <p:spPr>
          <a:xfrm>
            <a:off x="152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Action Button: Forward or Next 4">
            <a:hlinkClick r:id="rId3" action="ppaction://hlinksldjump"/>
          </p:cNvPr>
          <p:cNvSpPr/>
          <p:nvPr/>
        </p:nvSpPr>
        <p:spPr>
          <a:xfrm>
            <a:off x="4038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you slide on your sock feet in the dance studio or slide on 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the marbles would spin in space, but not on the carp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2 thing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5" name="Action Button: Back or Previous 3">
            <a:hlinkClick r:id="rId2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 at rest until a force acts on it or something makes it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 moving by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sh or pull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 out of ener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object at rest will stay that way until a force acts on i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r hockey puck stays still until you hit it with the sti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et’s do another one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2" name="j0214098.wav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3" name="Action Button: Forward or Next 4"/>
          <p:cNvSpPr/>
          <p:nvPr/>
        </p:nvSpPr>
        <p:spPr>
          <a:xfrm>
            <a:off x="4495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745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get it to move, but now how do we get it to sto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i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loses speed or “momentu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a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force” ac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stops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toy car stops when it runs into the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lse makes something stop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your 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it is sitting on the ice, is it mov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it move by itself or do you have to hit it with your stic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7" name="Action Button: Back or Previous 3"/>
          <p:cNvSpPr/>
          <p:nvPr/>
        </p:nvSpPr>
        <p:spPr>
          <a:xfrm>
            <a:off x="41148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661600" cy="1341360"/>
          </a:xfrm>
          <a:prstGeom prst="rect">
            <a:avLst/>
          </a:prstGeom>
          <a:ln w="0">
            <a:noFill/>
          </a:ln>
        </p:spPr>
      </p:pic>
      <p:sp>
        <p:nvSpPr>
          <p:cNvPr id="50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ES!  The airplane lands becaus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pushing it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Keep at it!  You’re doing a great job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j0214098.wav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5" name="Action Button: Forward or Next 4"/>
          <p:cNvSpPr/>
          <p:nvPr/>
        </p:nvSpPr>
        <p:spPr>
          <a:xfrm>
            <a:off x="4191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the force that pulls everything down to Eart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will act on the paper airplane and push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9" name="Action Button: Back or Previous 3"/>
          <p:cNvSpPr/>
          <p:nvPr/>
        </p:nvSpPr>
        <p:spPr>
          <a:xfrm>
            <a:off x="4191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fa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top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force acts on the object and changes the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Title 2" descr=""/>
          <p:cNvPicPr/>
          <p:nvPr/>
        </p:nvPicPr>
        <p:blipFill>
          <a:blip r:embed="rId1"/>
          <a:stretch/>
        </p:blipFill>
        <p:spPr>
          <a:xfrm>
            <a:off x="444600" y="23760"/>
            <a:ext cx="8400960" cy="143352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got it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omas stays straight until the driver turns him (force would be pushing) to curve with the tra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6" name="j0214098.wav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Action Button: Forward or Next 4"/>
          <p:cNvSpPr/>
          <p:nvPr/>
        </p:nvSpPr>
        <p:spPr>
          <a:xfrm>
            <a:off x="4191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4745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the Train moves down the straight railroad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doesn’t turn to match the track on his 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applied (the driver turning him) and makes him curve 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Action Button: Back or Previous 3"/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DID IT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really know your stuff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ade it through with flying colo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oubt you’ll do great on your paper assessment too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MSj04379040000[1].wav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Action Button: Forward or Next 4">
            <a:hlinkClick r:id="" action="ppaction://hlinkshowjump?jump=nextslide"/>
          </p:cNvPr>
          <p:cNvSpPr/>
          <p:nvPr/>
        </p:nvSpPr>
        <p:spPr>
          <a:xfrm>
            <a:off x="39625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7270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know that friction can help objects sto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riction is when 2 objects rub together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4674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lp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ennis shoes on the gym floor so you have grip and won’t fall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untitledwwsk4.bmp"/>
          <p:cNvPicPr/>
          <p:nvPr/>
        </p:nvPicPr>
        <p:blipFill>
          <a:blip r:embed="rId2"/>
          <a:stretch/>
        </p:blipFill>
        <p:spPr>
          <a:xfrm>
            <a:off x="3581280" y="2819520"/>
            <a:ext cx="2286000" cy="2563560"/>
          </a:xfrm>
          <a:prstGeom prst="rect">
            <a:avLst/>
          </a:prstGeom>
          <a:ln w="0">
            <a:noFill/>
          </a:ln>
        </p:spPr>
      </p:pic>
      <p:sp>
        <p:nvSpPr>
          <p:cNvPr id="391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urt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ock feet on the dance floor and you slide into a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riction from the carpet and wheels on the toy car help it lose speed, slow down, and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riction_uses-bear.jpg"/>
          <p:cNvPicPr/>
          <p:nvPr/>
        </p:nvPicPr>
        <p:blipFill>
          <a:blip r:embed="rId2"/>
          <a:stretch/>
        </p:blipFill>
        <p:spPr>
          <a:xfrm>
            <a:off x="2590920" y="2438280"/>
            <a:ext cx="3886200" cy="2194200"/>
          </a:xfrm>
          <a:prstGeom prst="rect">
            <a:avLst/>
          </a:prstGeom>
          <a:ln w="0">
            <a:noFill/>
          </a:ln>
        </p:spPr>
      </p:pic>
      <p:sp>
        <p:nvSpPr>
          <p:cNvPr id="39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is at rest when it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still acting on the object to keep it still and keep it in pla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0" name="Action Button: Forward or Next 4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Xmas 2008 001.jpg"/>
          <p:cNvPicPr/>
          <p:nvPr/>
        </p:nvPicPr>
        <p:blipFill>
          <a:blip r:embed="rId3"/>
          <a:stretch/>
        </p:blipFill>
        <p:spPr>
          <a:xfrm>
            <a:off x="2133720" y="31240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02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pulls objects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what keeps you in your seat, brings your ball back down, and you back down after you jum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Program Files\Microsoft Office\MEDIA\CAGCAT10\j0301480.wmf"/>
          <p:cNvPicPr/>
          <p:nvPr/>
        </p:nvPicPr>
        <p:blipFill>
          <a:blip r:embed="rId2"/>
          <a:stretch/>
        </p:blipFill>
        <p:spPr>
          <a:xfrm>
            <a:off x="2743200" y="4038480"/>
            <a:ext cx="2819520" cy="1338480"/>
          </a:xfrm>
          <a:prstGeom prst="rect">
            <a:avLst/>
          </a:prstGeom>
          <a:ln w="0">
            <a:noFill/>
          </a:ln>
        </p:spPr>
      </p:pic>
      <p:sp>
        <p:nvSpPr>
          <p:cNvPr id="40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how something moves and how something st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orce is a push or pul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makes things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riction is 2 object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gravity pulls/pushes everything back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’s more to motion-Let’s find out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35:21Z</dcterms:created>
  <dc:creator>User</dc:creator>
  <dc:description/>
  <dc:language>en-US</dc:language>
  <cp:lastModifiedBy>Asus</cp:lastModifiedBy>
  <dcterms:modified xsi:type="dcterms:W3CDTF">2018-03-09T16:22:00Z</dcterms:modified>
  <cp:revision>34</cp:revision>
  <dc:subject/>
  <dc:title>MOTION</dc:title>
</cp:coreProperties>
</file>