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C0C-7CC0-4B52-B4DE-27D88F8A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043-2E0C-40FD-AD64-00556BA9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F85-DFA8-4801-B42B-C92895B9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114-376A-482D-BA22-862EE330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0627-F879-4E84-A885-6FD6639F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D12C-C980-4F89-AC22-E12F8D76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6EC7-76D2-4F36-A92B-09631AA2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C029-9834-4F0E-A0F1-F33C9855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78D4-EB15-427A-88D4-1213036B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DB17-A37C-42EA-9929-9E85790B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D60F-A2F4-47F0-ABA7-F92CAA56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652-85A8-467E-BE13-84B30AF7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EBBF-8B6F-413B-9E40-B63C74C7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F731-AEE6-4B31-90EB-B92DE854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0897-AFB0-479F-A234-F080BD5F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ED0D-D210-4F46-8A34-9BC5E259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3508-CA32-4984-8DFE-59C76374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EC70-9CBF-4319-B3B6-6E0CC810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A1BA-7793-44C7-AB4F-316DD7C1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E09F-D397-4018-A8EF-99403D55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D8C0E-53DC-4FF4-9528-DACDE06A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414D8-10B7-4DCF-ACC1-EFD61A25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EFE-A8CE-406A-A75B-79A7C7AD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39CD0-4C10-4439-BA19-501D6CD7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2684-955E-4FD9-B223-656EEEB8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5E71-751A-4557-AE42-2BDA4531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21592-5460-4397-84E7-CDCA1968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A088B-CF09-4627-9051-D53B5D89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7EF38-0165-44ED-B44F-2096C065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5AAA4-AB24-430A-A34E-056DB719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A8F5A-FA81-4A3D-9F30-92F578A5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4EA07-8CB8-4777-BFC6-41F5BD41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5506A-49E8-463D-912E-C8F22AE5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282-93E1-4133-BFEC-1D3FE23F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C5A56-DE2A-4FE8-8FF8-8FA01265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C7320-9FD6-4EA5-90BF-211500D9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81D5-7FB4-4E0D-879F-1A4EF008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B63ED-56EB-4BC6-A809-0065DEF0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D6DF6-5924-464E-AF1F-B56C205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22FC-5CD8-49FE-BAFD-9041CDA3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3C3A7-FEF5-4D1E-B38E-CB3D562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D931B-CF02-4CC5-A97C-C42DF205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057E-9663-425F-A5F7-B51C04DC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9A1BF-2A84-46F9-9483-BC643368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5C2-F9B4-4048-9B3B-C0849A9A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64815-2DF5-4EC9-9866-2986869C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65BDB-23EF-441A-A2EA-1FD91020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F9486-CFA2-4D80-BCEF-3B92991B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EF8EB-4357-4444-94AE-680E7E95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C89CD-F23B-4DAB-BA81-34E286D8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4FFCB-AE90-4B58-A4FB-8DC6F711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96FAC-1203-4D92-AFEA-78C15A35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8DD39-A6DC-4B03-B1F4-0ACB09E5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01658-67EF-45AD-B5A2-5E5727F0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D1891-B674-41D4-9DB1-9324265C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E1D-F01D-423C-869A-E59D87CA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F180-9F73-43BB-9BFB-E521D58A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D33E9-6E24-4BE7-8B97-A18DB136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F88B6-154C-49EA-BDB7-8B268AAB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FD40D-DB6A-4354-8387-3B169882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C21EB-BEC1-4426-96E3-E6E37662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58BBA-45F1-42DF-8EB8-BC72B796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D91BE-ED39-4DF4-9E45-6DC414A0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8C280-A94B-4B82-9F29-6CB7C3CF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1879B-8874-4246-8E54-B8758FAC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72B70-0467-4A2D-AC43-9B242E63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691-3DA9-48B3-AE1D-FFB8FB4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F8754-B155-48C9-85ED-3DA070C5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B2473-9666-4A61-B6F9-561ACFA0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5A3DE-2EE2-4567-92F5-64F3C08F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77C47-59A7-415E-9C7B-24ABF4CA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5188A-17D3-4100-A7A0-C268F147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D6503-2E8C-4602-8775-534E700E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4B258-7417-419B-9649-A82EA18A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34B86-A8F2-4690-9078-29AD34CC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C43B-4C0A-4E87-A97D-D2242F52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E7DCA-944E-46EF-A1A3-FDB34D0F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44D-B087-4FD6-B928-5977C930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C8C19-821B-480F-A64E-9D2D7EF0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49730-8221-49A5-A13B-4E413818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58EB7-D647-47A4-B8F5-01713DB1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1A29F-0FF6-4400-81D5-8A4D763A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D5867-677D-4662-809B-739F7D40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5C978-6590-4B7B-AFAF-E0B05BBD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8810F-79C0-44CF-8E32-4191FA5E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0CD96-499F-425D-AF13-9D3D5F6B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ABACF-A27A-4CCA-9608-07D60FB8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CC2C4-331E-4DFD-B490-F7269B26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767-925F-4CFA-A265-69E6393B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D8701-2728-46FD-8BEF-4EFB59E1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42860-0E3D-4639-9D58-E3EA3B43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1A11F-0D7D-4E06-99D1-36DDD60F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EFAC8-3483-4BD8-B0E4-B18E5BC3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06348-EB25-4A90-837B-EED52F0B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F0402-891A-49DC-AA7F-386DEB01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29BD6-4A97-48BF-A58F-C7C0A661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AAD8-C932-4734-B10A-8D767541DE2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2D11-CD77-4F37-82D1-204F94909D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5C2E-FE04-4549-AE3C-93FEEC8D0AB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6822-B334-44A3-8951-19FFFAD8B2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EA5A-D5EA-48F2-8BA0-A89108DAC87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8133-A80A-42DB-9BA8-B68FD5BEED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E668-D0B9-4B35-AA1E-C238C901770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4D71-7981-4D31-BBC7-36CB24F61B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37CE-DE62-49DA-896A-543B5360322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1975-6DFB-45F5-94B5-7ACF745A13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B2F8-B924-4E0C-A9F1-0E534E10100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8DA7-087B-417A-8363-A8C17E65B3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7C8D-988C-4824-A71A-DECAEA440F0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3552-F14B-4AF5-89DF-B793714983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B554-F9BE-4BE3-A1BE-8B02E03D242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A359-9086-454F-A906-29FE5CE689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Desktop/Newton_s_First_Law_of_Motion.asf" TargetMode="External"/><Relationship Id="rId2" Type="http://schemas.openxmlformats.org/officeDocument/2006/relationships/image" Target="../media/image2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motio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we describe motion in 3 way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HOW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REC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PEE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1447920" y="4114800"/>
            <a:ext cx="4039920" cy="1758960"/>
          </a:xfrm>
          <a:prstGeom prst="rect">
            <a:avLst/>
          </a:prstGeom>
          <a:ln w="0">
            <a:noFill/>
          </a:ln>
        </p:spPr>
      </p:pic>
      <p:sp>
        <p:nvSpPr>
          <p:cNvPr id="373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have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moving, it is at r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the puck to move, you have to do something to the puck lik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t 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 This is the for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out the force, it will stay in the same spot and be at r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ch this to learn more!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..\Desktop\Newton_s_First_Law_of_Motion.as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Action Button: Forward or Next 3">
            <a:hlinkClick r:id="" action="ppaction://hlinkshowjump?jump=nextslide"/>
            <a:hlinkClick r:id="rId3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at rest remains at rest unless acted 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ay at rest or “look still” until you do something to make it mov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y car stays at the starting lin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ckey puck sits on the ic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with the st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18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9246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60" h="21600">
                <a:moveTo>
                  <a:pt x="6374" y="3794"/>
                </a:moveTo>
                <a:lnTo>
                  <a:pt x="20387" y="10800"/>
                </a:lnTo>
                <a:lnTo>
                  <a:pt x="637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a train-that train drives down a straight track and stays going in a straight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oct611es5.gif"/>
          <p:cNvPicPr/>
          <p:nvPr/>
        </p:nvPicPr>
        <p:blipFill>
          <a:blip r:embed="rId2"/>
          <a:stretch/>
        </p:blipFill>
        <p:spPr>
          <a:xfrm>
            <a:off x="2133720" y="3200400"/>
            <a:ext cx="4329000" cy="3057480"/>
          </a:xfrm>
          <a:prstGeom prst="rect">
            <a:avLst/>
          </a:prstGeom>
          <a:ln w="0">
            <a:noFill/>
          </a:ln>
        </p:spPr>
      </p:pic>
      <p:sp>
        <p:nvSpPr>
          <p:cNvPr id="423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4864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happens when the track curves left or righ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n turns and goes left or r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Content Placeholder 3" descr="Xmas 2008 065.jpg"/>
          <p:cNvPicPr/>
          <p:nvPr/>
        </p:nvPicPr>
        <p:blipFill>
          <a:blip r:embed="rId2"/>
          <a:stretch/>
        </p:blipFill>
        <p:spPr>
          <a:xfrm>
            <a:off x="1828800" y="2971800"/>
            <a:ext cx="404496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ижний колонтитул 8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in motion in a straight line tends to say in motion in a straight line unless acted up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go straight until a force makes it go another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paper airplane flies straight until gravity pushes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drives straight until the driver makes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“tur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3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see what we’ve learned so far about motion!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 this quiz a try and test your motion knowledg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3352680" y="3429000"/>
            <a:ext cx="1812960" cy="2209680"/>
          </a:xfrm>
          <a:prstGeom prst="rect">
            <a:avLst/>
          </a:prstGeom>
          <a:ln w="0">
            <a:noFill/>
          </a:ln>
        </p:spPr>
      </p:pic>
      <p:sp>
        <p:nvSpPr>
          <p:cNvPr id="437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ny object that f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ny object that drives on the r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ny object this is sitting sti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5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tion is described as any object that is moving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j0214098.wav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5" name="Action Button: Forward or Next 4">
            <a:hlinkClick r:id="rId3" action="ppaction://hlinksldjump"/>
          </p:cNvPr>
          <p:cNvSpPr/>
          <p:nvPr/>
        </p:nvSpPr>
        <p:spPr>
          <a:xfrm>
            <a:off x="41148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45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thing that is moving is in mo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say motion 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Action Button: Back or Previous 3">
            <a:hlinkClick r:id="rId2" action="ppaction://hlinksldjump"/>
          </p:cNvPr>
          <p:cNvSpPr/>
          <p:nvPr/>
        </p:nvSpPr>
        <p:spPr>
          <a:xfrm>
            <a:off x="41911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17040" cy="1341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Turning the k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Throwing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A pus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ove something,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“force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s to hap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push or 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a toy car to move,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 of push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pplied as we push it across the fl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16M6CAHI18S4CA3BI0J4CAUQTTBNCANJR63ICAV45870CAP41RV2CAHUIXAXCATE6W1DCARDO1D5CA8S200HCA4ATM2FCABGSRLBCAFSFFMDCADCZTS4CA8W8BMGCA0F4LYNCAS1E5GFCAO7M3YJCAE9Z80D.jpg"/>
          <p:cNvPicPr/>
          <p:nvPr/>
        </p:nvPicPr>
        <p:blipFill>
          <a:blip r:embed="rId2"/>
          <a:stretch/>
        </p:blipFill>
        <p:spPr>
          <a:xfrm>
            <a:off x="2590920" y="3505320"/>
            <a:ext cx="3214440" cy="2057400"/>
          </a:xfrm>
          <a:prstGeom prst="rect">
            <a:avLst/>
          </a:prstGeom>
          <a:ln w="0">
            <a:noFill/>
          </a:ln>
        </p:spPr>
      </p:pic>
      <p:sp>
        <p:nvSpPr>
          <p:cNvPr id="378" name="Action Button: Forward or Next 5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have to “push” the toy car to put it into mo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been paying attention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6" name="j0214098.wav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Action Button: Forward or Next 4">
            <a:hlinkClick r:id="rId3" action="ppaction://hlinksldjump"/>
          </p:cNvPr>
          <p:cNvSpPr/>
          <p:nvPr/>
        </p:nvSpPr>
        <p:spPr>
          <a:xfrm>
            <a:off x="411480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about what we have to do to get that toy car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won’t move by itself, we have to do something to get it to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s are push and pu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which one will make the car move forwar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Action Button: Back or Previous 3">
            <a:hlinkClick r:id="rId2" action="ppaction://hlinksldjump"/>
          </p:cNvPr>
          <p:cNvSpPr/>
          <p:nvPr/>
        </p:nvSpPr>
        <p:spPr>
          <a:xfrm>
            <a:off x="45720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Speed, how fast, and how f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Speed or how fast or slow an object mo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t rest or not at rest and the dir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Speed, direction, and how it i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Title 2" descr=""/>
          <p:cNvPicPr/>
          <p:nvPr/>
        </p:nvPicPr>
        <p:blipFill>
          <a:blip r:embed="rId5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describe an object’s motion by saying how fast or slow it goes, the direction it goes in, and by saying “how” it is mov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ry another ques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8" name="j0214098.wav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Action Button: Forward or Next 9">
            <a:hlinkClick r:id="rId3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an object is moving, we describe “how” it is moving, how fast or slow it is going, and the direction is it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3" name="Action Button: Back or Previous 3">
            <a:hlinkClick r:id="rId2" action="ppaction://hlinksldjump"/>
          </p:cNvPr>
          <p:cNvSpPr/>
          <p:nvPr/>
        </p:nvSpPr>
        <p:spPr>
          <a:xfrm>
            <a:off x="4267080" y="4648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When 2 objects rub together causing it to slow down or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type of gen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 force that makes things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 story you would wr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7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when 2 things rub togeth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one reason why things stop or slow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ay to go!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0" name="j0214098.wav" descr=""/>
          <p:cNvPicPr/>
          <p:nvPr/>
        </p:nvPicPr>
        <p:blipFill>
          <a:blip r:embed="rId2"/>
          <a:stretch/>
        </p:blipFill>
        <p:spPr>
          <a:xfrm>
            <a:off x="1522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Action Button: Forward or Next 4">
            <a:hlinkClick r:id="rId3" action="ppaction://hlinksldjump"/>
          </p:cNvPr>
          <p:cNvSpPr/>
          <p:nvPr/>
        </p:nvSpPr>
        <p:spPr>
          <a:xfrm>
            <a:off x="4038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4745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you slide on your sock feet in the dance studio or slide on 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the marbles would spin in space, but not on the carp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2 thing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5" name="Action Button: Back or Previous 3">
            <a:hlinkClick r:id="rId2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main at rest until a force acts on it or something makes it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 moving by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sh or pull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 out of ener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89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object at rest will stay that way until a force acts on i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r hockey puck stays still until you hit it with the sti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et’s do another one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92" name="j0214098.wav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3" name="Action Button: Forward or Next 4"/>
          <p:cNvSpPr/>
          <p:nvPr/>
        </p:nvSpPr>
        <p:spPr>
          <a:xfrm>
            <a:off x="4495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4745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get it to move, but now how do we get it to sto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it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loses speed or “momentum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a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force” act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stops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toy car stops when it runs into the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lse makes something stop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your 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it is sitting on the ice, is it mov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it move by itself or do you have to hit it with your stic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7" name="Action Button: Back or Previous 3"/>
          <p:cNvSpPr/>
          <p:nvPr/>
        </p:nvSpPr>
        <p:spPr>
          <a:xfrm>
            <a:off x="41148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wi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or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661600" cy="1341360"/>
          </a:xfrm>
          <a:prstGeom prst="rect">
            <a:avLst/>
          </a:prstGeom>
          <a:ln w="0">
            <a:noFill/>
          </a:ln>
        </p:spPr>
      </p:pic>
      <p:sp>
        <p:nvSpPr>
          <p:cNvPr id="50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ES!  The airplane lands becaus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pushing it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Keep at it!  You’re doing a great job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4" name="j0214098.wav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5" name="Action Button: Forward or Next 4"/>
          <p:cNvSpPr/>
          <p:nvPr/>
        </p:nvSpPr>
        <p:spPr>
          <a:xfrm>
            <a:off x="41911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4745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the force that pulls everything down to Eart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will act on the paper airplane and push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9" name="Action Button: Back or Previous 3"/>
          <p:cNvSpPr/>
          <p:nvPr/>
        </p:nvSpPr>
        <p:spPr>
          <a:xfrm>
            <a:off x="41911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fa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stop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force acts on the object and changes the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Title 2" descr=""/>
          <p:cNvPicPr/>
          <p:nvPr/>
        </p:nvPicPr>
        <p:blipFill>
          <a:blip r:embed="rId1"/>
          <a:stretch/>
        </p:blipFill>
        <p:spPr>
          <a:xfrm>
            <a:off x="444600" y="23760"/>
            <a:ext cx="8400960" cy="143352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got it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omas stays straight until the driver turns him (force would be pushing) to curve with the tra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16" name="j0214098.wav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Action Button: Forward or Next 4"/>
          <p:cNvSpPr/>
          <p:nvPr/>
        </p:nvSpPr>
        <p:spPr>
          <a:xfrm>
            <a:off x="41911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4745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the Train moves down the straight railroad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doesn’t turn to match the track on his 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applied (the driver turning him) and makes him curve 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Action Button: Back or Previous 3"/>
          <p:cNvSpPr/>
          <p:nvPr/>
        </p:nvSpPr>
        <p:spPr>
          <a:xfrm>
            <a:off x="4114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DID IT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really know your stuff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ade it through with flying color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doubt you’ll do great on your paper assessment too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5" name="MSj04379040000[1].wav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6" name="Action Button: Forward or Next 4">
            <a:hlinkClick r:id="" action="ppaction://hlinkshowjump?jump=nextslide"/>
          </p:cNvPr>
          <p:cNvSpPr/>
          <p:nvPr/>
        </p:nvSpPr>
        <p:spPr>
          <a:xfrm>
            <a:off x="39625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17270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know that friction can help objects sto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Friction is when 2 objects rub together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4674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lp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tennis shoes on the gym floor so you have grip and won’t fall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untitledwwsk4.bmp"/>
          <p:cNvPicPr/>
          <p:nvPr/>
        </p:nvPicPr>
        <p:blipFill>
          <a:blip r:embed="rId2"/>
          <a:stretch/>
        </p:blipFill>
        <p:spPr>
          <a:xfrm>
            <a:off x="3581280" y="2819520"/>
            <a:ext cx="2286000" cy="2563560"/>
          </a:xfrm>
          <a:prstGeom prst="rect">
            <a:avLst/>
          </a:prstGeom>
          <a:ln w="0">
            <a:noFill/>
          </a:ln>
        </p:spPr>
      </p:pic>
      <p:sp>
        <p:nvSpPr>
          <p:cNvPr id="391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urt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ock feet on the dance floor and you slide into a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riction from the carpet and wheels on the toy car help it lose speed, slow down, and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riction_uses-bear.jpg"/>
          <p:cNvPicPr/>
          <p:nvPr/>
        </p:nvPicPr>
        <p:blipFill>
          <a:blip r:embed="rId2"/>
          <a:stretch/>
        </p:blipFill>
        <p:spPr>
          <a:xfrm>
            <a:off x="2590920" y="2438280"/>
            <a:ext cx="3886200" cy="2194200"/>
          </a:xfrm>
          <a:prstGeom prst="rect">
            <a:avLst/>
          </a:prstGeom>
          <a:ln w="0">
            <a:noFill/>
          </a:ln>
        </p:spPr>
      </p:pic>
      <p:sp>
        <p:nvSpPr>
          <p:cNvPr id="39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is at rest when it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still acting on the object to keep it still and keep it in pla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00" name="Action Button: Forward or Next 4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Xmas 2008 001.jpg"/>
          <p:cNvPicPr/>
          <p:nvPr/>
        </p:nvPicPr>
        <p:blipFill>
          <a:blip r:embed="rId3"/>
          <a:stretch/>
        </p:blipFill>
        <p:spPr>
          <a:xfrm>
            <a:off x="2133720" y="31240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402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pulls objects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what keeps you in your seat, brings your ball back down, and you back down after you jum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Program Files\Microsoft Office\MEDIA\CAGCAT10\j0301480.wmf"/>
          <p:cNvPicPr/>
          <p:nvPr/>
        </p:nvPicPr>
        <p:blipFill>
          <a:blip r:embed="rId2"/>
          <a:stretch/>
        </p:blipFill>
        <p:spPr>
          <a:xfrm>
            <a:off x="2743200" y="4038480"/>
            <a:ext cx="2819520" cy="1338480"/>
          </a:xfrm>
          <a:prstGeom prst="rect">
            <a:avLst/>
          </a:prstGeom>
          <a:ln w="0">
            <a:noFill/>
          </a:ln>
        </p:spPr>
      </p:pic>
      <p:sp>
        <p:nvSpPr>
          <p:cNvPr id="40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how something moves and how something st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orce is a push or pul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t makes things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riction is 2 object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gravity pulls/pushes everything back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’s more to motion-Let’s find out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35:21Z</dcterms:created>
  <dc:creator>User</dc:creator>
  <dc:description/>
  <dc:language>en-US</dc:language>
  <cp:lastModifiedBy>Asus</cp:lastModifiedBy>
  <dcterms:modified xsi:type="dcterms:W3CDTF">2018-03-09T16:22:00Z</dcterms:modified>
  <cp:revision>34</cp:revision>
  <dc:subject/>
  <dc:title>MOTION</dc:title>
</cp:coreProperties>
</file>