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6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13.png" ContentType="image/png"/>
  <Override PartName="/ppt/media/image8.wmf" ContentType="image/x-wmf"/>
  <Override PartName="/ppt/media/image40.png" ContentType="image/png"/>
  <Override PartName="/ppt/media/image38.png" ContentType="image/png"/>
  <Override PartName="/ppt/media/image41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36.png" ContentType="image/png"/>
  <Override PartName="/ppt/media/image39.png" ContentType="image/png"/>
  <Override PartName="/ppt/media/image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837D-C7B7-42CC-B138-D04DD936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8433-7BBC-47EC-B1AB-BF69E990A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0369-07CE-4A35-9E8A-BE8556E29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10D0-A06B-41DF-BC18-422F1F7C4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44172-E19C-453C-8BDA-3515FF722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43BE0-43DC-4E51-9E17-0E91AF32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7A59-B98E-4AF9-9299-F46F9369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4E44C-21CE-4BB7-9453-67C1F766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985C-22A0-4C94-8091-C19FFFF4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0410A-A8BA-432E-9FBB-A5E9D484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3F32-0F04-464B-A959-8CC350CD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52D-51BD-40BC-94A7-4C092A033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49A2-C4F8-4E1F-BBE3-021B47CB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0FBAA-6E23-4643-B0C8-A99726C9D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24644-63A6-4E90-A786-D1557E781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2DE35-B7A1-4CE9-973A-9DAB2727A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1D3B7-AE39-4822-BDC3-CD93D74BC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564F0-A981-462A-BBDF-2D8CDAEB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8B205-5DA5-4977-AFD6-B519B90E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36688-9BE3-41EF-AAA3-998435A5A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3A7E2-B68F-430C-A7AC-3B8CAA744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4B795-8E3B-4326-95B4-6931DA23C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05668-5C4E-4496-A9E0-BF5A3DE4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6C595-B81C-4096-984D-30299DD4F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ED704-21DD-420D-A5BB-FFD9B84F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60506-DDA1-49E1-B240-CC057250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3B1E3-9741-4393-ACC8-3CA358E6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A41C4-9FE1-4DD9-A36B-181426BB4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C397E-B599-479D-B440-2EB6D2C4D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56467-DD45-442B-8D7A-DB682388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6498F-2AD9-4382-B554-4F458761A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30344-B07C-4DBD-804B-8D1F86A4D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989BF-1C27-4567-9EC3-41C9D7C7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2769-7919-449A-BC59-BD3BC88A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A7685-58DA-4269-9C45-D4BFC006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5CC3BA-2564-4B03-A4C0-6D2E1EA0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74840-46F0-41CA-957C-059F87308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4CFDE-2230-46D6-8FDA-02AD0300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A72BD-3311-497D-B3DB-4515FDE4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5DB41-A6CB-423F-8635-D3F9959F8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4719E-CF5B-4DB9-B28A-89C5B180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5ECA4-8206-4295-B518-653338AB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796BC-F209-4EAD-B346-2246DC8A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160B1-BC02-4A5D-9B3F-01939AB1A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37BC-F2FF-4BCA-96D1-793C9835E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8A17E3-310D-4F59-B45F-ECF1DA45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0077D-4BC6-467D-AD75-42274A7B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151A3-61E7-4683-A409-7DA7B243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829880-12CC-4B44-85D1-7BB19952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19AA4-5E3D-477E-826C-7F546DBD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5699A-E4FC-400E-A67D-EED9F120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BDF65-2511-4FA5-BBC7-0271FFA0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062D6-A628-427B-BC0C-60949110F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2F630-58D3-463B-A332-558FD2E3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B5DA0-011A-436B-B386-68181DDE4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B5C-AC3B-4A2F-B29E-771B301D3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607A5-0D4B-4127-B24F-264F7F4BD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4D30E2-E72E-4554-8989-0A4947E95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7BDDF-B29A-480E-BDDC-20A94E1E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10D21-6828-43FB-AFB3-EB169CD9F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C80353-B25D-43E9-A3CA-996BA0CA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674EC8-856D-48D9-9F47-099A97234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6A41C5-ABF9-415E-BCF3-D539B87C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27CA8-6C4B-46B7-A4BB-EE659D0B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5B7F59-AFD7-4D22-B017-696FDC0E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92BB7-3C6A-439A-B288-5DD22782C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9C96-9D8D-4E5D-858D-944548C4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D2E313-3D79-4ABA-AD44-948765CB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50DCAF-5B59-477A-86DA-B19259091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3B75B-8D7C-4597-A472-FBEF8689B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B1CEDE-FFCD-430C-9A10-C2803B195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C362B-7460-4724-A0E2-429204BF5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59953F-886E-41A6-874E-732E1FECD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F8CBEA-4642-429C-8BCD-6582073E1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8E0D47-77D3-483C-A81E-543946839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37F12F-9E9B-4C49-9D4D-0A18CDB8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73BCA-E961-48BC-AF6C-9B34B19D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859-5890-4439-997A-3D171BEB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24DFB-EA6D-48EE-B9C3-FC37DB38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DC76D-5099-49F9-908F-D091456D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6DAED0-CA1E-4262-A12D-EAFFDB92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829C17-5285-47DE-ACD6-42132C5AD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D1B810-40CF-46F1-8801-875E6A0CE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BB8B0-DB81-4FAE-B001-C2940241F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5B295-4719-48DB-8097-46EAC1CD2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E0D780-CECD-4225-A88A-FE2150E6F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F31A7F-F4E3-42A9-81B0-61BE000CC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450FE8-A3C9-4DCC-A284-AA2FCB404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03A5-1EF9-4EE9-95D1-144E7FB1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7B2612-A472-4157-B7C9-27EF46605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1FEFC-7FAC-42DA-8AA4-05A1F1FE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E873EF-C1FF-44EA-84CE-89610D42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48F73E-8AF8-4A4D-9741-111C6D46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520FC-6B20-441C-BA51-68E76CD1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7A86BD-0C79-497F-98FE-8DAA7E5C2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03BED-6985-4510-BB9F-3C6651E53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94C42-3081-4418-8452-5573E1532316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7FE4-A03F-4224-903C-D2D37E20914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6CB5A-06F2-4D10-9F8D-76904D3C625D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094A-41E1-4915-B19B-57486EFCF41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E7B4-6E1A-4B31-BFE7-FC59A48ED91C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8ED9-0D92-46BC-83BC-63289B2FAAF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0196A-1555-4DAE-94C9-A126060A19A7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A507-CB51-4B99-BAA6-D070B561CDA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2BB6E-4667-432C-BC02-60585FCEEDF1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1E63-261A-463A-A60D-19323CE36EC8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61ECA-80B2-4048-9EBD-A3E536305E62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9AC5F-ACDE-44A4-89ED-11ACBD9117CB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1E2B4-5430-4C2B-A553-91F3001C92E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87333-1F83-4AAB-98D7-39F2CB096DA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C320-8884-4459-A2D5-CC300227CB85}" type="datetime">
              <a:rPr b="0" lang="en-US" sz="10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0766-0572-45BD-960C-C2BA1BF8211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Desktop/Newton_s_First_Law_of_Motion.asf" TargetMode="External"/><Relationship Id="rId2" Type="http://schemas.openxmlformats.org/officeDocument/2006/relationships/image" Target="../media/image21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6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" Target="slide21.xml"/><Relationship Id="rId3" Type="http://schemas.openxmlformats.org/officeDocument/2006/relationships/slide" Target="slide21.xml"/><Relationship Id="rId4" Type="http://schemas.openxmlformats.org/officeDocument/2006/relationships/slide" Target="slide21.xml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1.png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19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4.xml"/><Relationship Id="rId4" Type="http://schemas.openxmlformats.org/officeDocument/2006/relationships/slide" Target="slide23.xml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1.png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7.xml"/><Relationship Id="rId4" Type="http://schemas.openxmlformats.org/officeDocument/2006/relationships/slide" Target="slide27.xml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" Target="slide28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" Target="slide25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hyperlink" Target="file:///tmp/home/.config/libreoffice/4/user/gallery/chimes.wav" TargetMode="Externa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tmp/home/.config/libreoffice/4/user/gallery/chimes.wav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motio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we describe motion in 3 way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HOW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DIRECTION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he </a:t>
            </a:r>
            <a:r>
              <a:rPr b="1" lang="en-US" sz="2300" spc="-1" strike="noStrike">
                <a:solidFill>
                  <a:srgbClr val="000000"/>
                </a:solidFill>
                <a:latin typeface="Lucida Sans Unicode"/>
              </a:rPr>
              <a:t>SPEED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it mov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Program Files\Microsoft Office\MEDIA\CAGCAT10\j0212957.wmf"/>
          <p:cNvPicPr/>
          <p:nvPr/>
        </p:nvPicPr>
        <p:blipFill>
          <a:blip r:embed="rId2"/>
          <a:stretch/>
        </p:blipFill>
        <p:spPr>
          <a:xfrm>
            <a:off x="1447920" y="4114800"/>
            <a:ext cx="4039920" cy="1758960"/>
          </a:xfrm>
          <a:prstGeom prst="rect">
            <a:avLst/>
          </a:prstGeom>
          <a:ln w="0">
            <a:noFill/>
          </a:ln>
        </p:spPr>
      </p:pic>
      <p:sp>
        <p:nvSpPr>
          <p:cNvPr id="373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8487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have 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is not moving, it is at res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the puck to move, you have to do something to the puck lik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hit it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  This is the for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out the force, it will stay in the same spot and be at res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atch this to learn more!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/>
              </a:rPr>
              <a:t>..\Desktop\Newton_s_First_Law_of_Motion.as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3" name="Title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4" name="Action Button: Forward or Next 3">
            <a:hlinkClick r:id="" action="ppaction://hlinkshowjump?jump=nextslide"/>
            <a:hlinkClick r:id="rId3"/>
          </p:cNvPr>
          <p:cNvSpPr/>
          <p:nvPr/>
        </p:nvSpPr>
        <p:spPr>
          <a:xfrm>
            <a:off x="777240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29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31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4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31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at rest remains at rest unless acted 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ay at rest or “look still” until you do something to make it move.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oy car stays at the starting lin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hockey puck sits on the ic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t rest)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until you push it with the stick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(apply a force)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18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924680" y="5791320"/>
            <a:ext cx="914400" cy="738000"/>
          </a:xfrm>
          <a:custGeom>
            <a:avLst/>
            <a:gdLst>
              <a:gd name="textAreaLeft" fmla="*/ 47520 w 914400"/>
              <a:gd name="textAreaRight" fmla="*/ 866880 w 91440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6760" h="21600">
                <a:moveTo>
                  <a:pt x="0" y="0"/>
                </a:moveTo>
                <a:lnTo>
                  <a:pt x="26760" y="0"/>
                </a:lnTo>
                <a:lnTo>
                  <a:pt x="26760" y="21600"/>
                </a:lnTo>
                <a:lnTo>
                  <a:pt x="0" y="21600"/>
                </a:lnTo>
                <a:close/>
              </a:path>
              <a:path fill="lightenLess" w="26760" h="21600">
                <a:moveTo>
                  <a:pt x="0" y="0"/>
                </a:moveTo>
                <a:lnTo>
                  <a:pt x="26760" y="0"/>
                </a:lnTo>
                <a:lnTo>
                  <a:pt x="25360" y="1400"/>
                </a:lnTo>
                <a:lnTo>
                  <a:pt x="1400" y="1400"/>
                </a:lnTo>
                <a:close/>
              </a:path>
              <a:path fill="darken" w="26760" h="21600">
                <a:moveTo>
                  <a:pt x="26760" y="0"/>
                </a:moveTo>
                <a:lnTo>
                  <a:pt x="26760" y="21600"/>
                </a:lnTo>
                <a:lnTo>
                  <a:pt x="25360" y="20200"/>
                </a:lnTo>
                <a:lnTo>
                  <a:pt x="25360" y="1400"/>
                </a:lnTo>
                <a:close/>
              </a:path>
              <a:path fill="darkenLess" w="26760" h="21600">
                <a:moveTo>
                  <a:pt x="267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360" y="20200"/>
                </a:lnTo>
                <a:close/>
              </a:path>
              <a:path fill="lighten" w="267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760" h="21600">
                <a:moveTo>
                  <a:pt x="6374" y="3794"/>
                </a:moveTo>
                <a:lnTo>
                  <a:pt x="20387" y="10800"/>
                </a:lnTo>
                <a:lnTo>
                  <a:pt x="637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4000"/>
                            </p:stCondLst>
                            <p:childTnLst>
                              <p:par>
                                <p:cTn id="34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4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6000"/>
                            </p:stCondLst>
                            <p:childTnLst>
                              <p:par>
                                <p:cTn id="3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4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a train-that train drives down a straight track and stays going in a straight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6" descr="oct611es5.gif"/>
          <p:cNvPicPr/>
          <p:nvPr/>
        </p:nvPicPr>
        <p:blipFill>
          <a:blip r:embed="rId2"/>
          <a:stretch/>
        </p:blipFill>
        <p:spPr>
          <a:xfrm>
            <a:off x="2133720" y="3200400"/>
            <a:ext cx="4329000" cy="3057480"/>
          </a:xfrm>
          <a:prstGeom prst="rect">
            <a:avLst/>
          </a:prstGeom>
          <a:ln w="0">
            <a:noFill/>
          </a:ln>
        </p:spPr>
      </p:pic>
      <p:sp>
        <p:nvSpPr>
          <p:cNvPr id="423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486400"/>
            <a:ext cx="1218960" cy="1143000"/>
          </a:xfrm>
          <a:custGeom>
            <a:avLst/>
            <a:gdLst>
              <a:gd name="textAreaLeft" fmla="*/ 73800 w 1218960"/>
              <a:gd name="textAreaRight" fmla="*/ 1145160 w 121896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3035" h="21600">
                <a:moveTo>
                  <a:pt x="0" y="0"/>
                </a:moveTo>
                <a:lnTo>
                  <a:pt x="23035" y="0"/>
                </a:lnTo>
                <a:lnTo>
                  <a:pt x="23035" y="21600"/>
                </a:lnTo>
                <a:lnTo>
                  <a:pt x="0" y="21600"/>
                </a:lnTo>
                <a:close/>
              </a:path>
              <a:path fill="lightenLess" w="23035" h="21600">
                <a:moveTo>
                  <a:pt x="0" y="0"/>
                </a:moveTo>
                <a:lnTo>
                  <a:pt x="23035" y="0"/>
                </a:lnTo>
                <a:lnTo>
                  <a:pt x="21635" y="1400"/>
                </a:lnTo>
                <a:lnTo>
                  <a:pt x="1400" y="1400"/>
                </a:lnTo>
                <a:close/>
              </a:path>
              <a:path fill="darken" w="23035" h="21600">
                <a:moveTo>
                  <a:pt x="23035" y="0"/>
                </a:moveTo>
                <a:lnTo>
                  <a:pt x="23035" y="21600"/>
                </a:lnTo>
                <a:lnTo>
                  <a:pt x="21635" y="20200"/>
                </a:lnTo>
                <a:lnTo>
                  <a:pt x="21635" y="1400"/>
                </a:lnTo>
                <a:close/>
              </a:path>
              <a:path fill="darkenLess" w="23035" h="21600">
                <a:moveTo>
                  <a:pt x="23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35" y="20200"/>
                </a:lnTo>
                <a:close/>
              </a:path>
              <a:path fill="lighten" w="23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35" h="21600">
                <a:moveTo>
                  <a:pt x="4511" y="3794"/>
                </a:moveTo>
                <a:lnTo>
                  <a:pt x="18524" y="10800"/>
                </a:lnTo>
                <a:lnTo>
                  <a:pt x="4511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0" fill="hold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happens when the track curves left or right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train turns and goes left or righ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7" name="Content Placeholder 3" descr="Xmas 2008 065.jpg"/>
          <p:cNvPicPr/>
          <p:nvPr/>
        </p:nvPicPr>
        <p:blipFill>
          <a:blip r:embed="rId2"/>
          <a:stretch/>
        </p:blipFill>
        <p:spPr>
          <a:xfrm>
            <a:off x="1828800" y="2971800"/>
            <a:ext cx="4044960" cy="3352680"/>
          </a:xfrm>
          <a:prstGeom prst="rect">
            <a:avLst/>
          </a:prstGeom>
          <a:ln w="0">
            <a:noFill/>
          </a:ln>
        </p:spPr>
      </p:pic>
      <p:sp>
        <p:nvSpPr>
          <p:cNvPr id="428" name="Action Button: Forward or Next 7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Нижний колонтитул 8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0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An object in motion in a straight line tends to say in motion in a straight line unless acted upon by another force.”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go straight until a force makes it go another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r paper airplane flies straight until gravity pushes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drives straight until the driver makes it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“turn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1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3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4000"/>
                            </p:stCondLst>
                            <p:childTnLst>
                              <p:par>
                                <p:cTn id="4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4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6000"/>
                            </p:stCondLst>
                            <p:childTnLst>
                              <p:par>
                                <p:cTn id="4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4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Let’s see what we’ve learned so far about motion!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ive this quiz a try and test your motion knowledge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4" descr="C:\Program Files\Microsoft Office\MEDIA\CAGCAT10\j0299125.wmf"/>
          <p:cNvPicPr/>
          <p:nvPr/>
        </p:nvPicPr>
        <p:blipFill>
          <a:blip r:embed="rId2"/>
          <a:stretch/>
        </p:blipFill>
        <p:spPr>
          <a:xfrm>
            <a:off x="3352680" y="3429000"/>
            <a:ext cx="1812960" cy="2209680"/>
          </a:xfrm>
          <a:prstGeom prst="rect">
            <a:avLst/>
          </a:prstGeom>
          <a:ln w="0">
            <a:noFill/>
          </a:ln>
        </p:spPr>
      </p:pic>
      <p:sp>
        <p:nvSpPr>
          <p:cNvPr id="437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68580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ny object that flie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ny object that drives on the road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ny object this is sitting sti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0" name="Title 1" descr=""/>
          <p:cNvPicPr/>
          <p:nvPr/>
        </p:nvPicPr>
        <p:blipFill>
          <a:blip r:embed="rId5"/>
          <a:stretch/>
        </p:blipFill>
        <p:spPr>
          <a:xfrm>
            <a:off x="353880" y="268200"/>
            <a:ext cx="8339400" cy="1158840"/>
          </a:xfrm>
          <a:prstGeom prst="rect">
            <a:avLst/>
          </a:prstGeom>
          <a:ln w="0">
            <a:noFill/>
          </a:ln>
        </p:spPr>
      </p:pic>
      <p:sp>
        <p:nvSpPr>
          <p:cNvPr id="44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Motion is described as any object that is moving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44" name="j0214098.wav" descr=""/>
          <p:cNvPicPr/>
          <p:nvPr/>
        </p:nvPicPr>
        <p:blipFill>
          <a:blip r:embed="rId2"/>
          <a:stretch/>
        </p:blipFill>
        <p:spPr>
          <a:xfrm>
            <a:off x="380880" y="5257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5" name="Action Button: Forward or Next 4">
            <a:hlinkClick r:id="rId3" action="ppaction://hlinksldjump"/>
          </p:cNvPr>
          <p:cNvSpPr/>
          <p:nvPr/>
        </p:nvSpPr>
        <p:spPr>
          <a:xfrm>
            <a:off x="411480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4745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ything that is moving is in mo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say motion is any object that is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4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49" name="Action Button: Back or Previous 3">
            <a:hlinkClick r:id="rId2" action="ppaction://hlinksldjump"/>
          </p:cNvPr>
          <p:cNvSpPr/>
          <p:nvPr/>
        </p:nvSpPr>
        <p:spPr>
          <a:xfrm>
            <a:off x="419112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Title 2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717040" cy="13413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Turning the ke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Throwing i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5" action="ppaction://hlinksldjump"/>
              </a:rPr>
              <a:t>A pus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move something,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“force”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as to happe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 is a push or a pul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o get a toy car to move, the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 of pushing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s applied as we push it across the floo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6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4" descr="16M6CAHI18S4CA3BI0J4CAUQTTBNCANJR63ICAV45870CAP41RV2CAHUIXAXCATE6W1DCARDO1D5CA8S200HCA4ATM2FCABGSRLBCAFSFFMDCADCZTS4CA8W8BMGCA0F4LYNCAS1E5GFCAO7M3YJCAE9Z80D.jpg"/>
          <p:cNvPicPr/>
          <p:nvPr/>
        </p:nvPicPr>
        <p:blipFill>
          <a:blip r:embed="rId2"/>
          <a:stretch/>
        </p:blipFill>
        <p:spPr>
          <a:xfrm>
            <a:off x="2590920" y="3505320"/>
            <a:ext cx="3214440" cy="2057400"/>
          </a:xfrm>
          <a:prstGeom prst="rect">
            <a:avLst/>
          </a:prstGeom>
          <a:ln w="0">
            <a:noFill/>
          </a:ln>
        </p:spPr>
      </p:pic>
      <p:sp>
        <p:nvSpPr>
          <p:cNvPr id="378" name="Action Button: Forward or Next 5">
            <a:hlinkClick r:id="" action="ppaction://hlinkshowjump?jump=nextslide"/>
            <a:hlinkClick r:id="rId3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have to “push” the toy car to put it into mo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been paying attention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5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56" name="j0214098.wav" descr=""/>
          <p:cNvPicPr/>
          <p:nvPr/>
        </p:nvPicPr>
        <p:blipFill>
          <a:blip r:embed="rId2"/>
          <a:stretch/>
        </p:blipFill>
        <p:spPr>
          <a:xfrm>
            <a:off x="304920" y="52578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57" name="Action Button: Forward or Next 4">
            <a:hlinkClick r:id="rId3" action="ppaction://hlinksldjump"/>
          </p:cNvPr>
          <p:cNvSpPr/>
          <p:nvPr/>
        </p:nvSpPr>
        <p:spPr>
          <a:xfrm>
            <a:off x="4114800" y="4724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4745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about what we have to do to get that toy car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won’t move by itself, we have to do something to get it to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</a:t>
            </a:r>
            <a:r>
              <a:rPr b="1" lang="en-US" sz="2700" spc="-1" strike="noStrike">
                <a:solidFill>
                  <a:srgbClr val="000000"/>
                </a:solidFill>
                <a:latin typeface="Lucida Sans Unicode"/>
              </a:rPr>
              <a:t>forces are push and pu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which one will make the car move forward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61" name="Action Button: Back or Previous 3">
            <a:hlinkClick r:id="rId2" action="ppaction://hlinksldjump"/>
          </p:cNvPr>
          <p:cNvSpPr/>
          <p:nvPr/>
        </p:nvSpPr>
        <p:spPr>
          <a:xfrm>
            <a:off x="457200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Speed, how fast, and how far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Speed or how fast or slow an object mov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t rest or not at rest and the dire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Speed, direction, and how it i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4" name="Title 2" descr=""/>
          <p:cNvPicPr/>
          <p:nvPr/>
        </p:nvPicPr>
        <p:blipFill>
          <a:blip r:embed="rId5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65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describe an object’s motion by saying how fast or slow it goes, the direction it goes in, and by saying “how” it is moving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ry another questio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7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68" name="j0214098.wav" descr=""/>
          <p:cNvPicPr/>
          <p:nvPr/>
        </p:nvPicPr>
        <p:blipFill>
          <a:blip r:embed="rId2"/>
          <a:stretch/>
        </p:blipFill>
        <p:spPr>
          <a:xfrm>
            <a:off x="38088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469" name="Action Button: Forward or Next 9">
            <a:hlinkClick r:id="rId3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4745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an object is moving, we describe “how” it is moving, how fast or slow it is going, and the direction is it mov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2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73" name="Action Button: Back or Previous 3">
            <a:hlinkClick r:id="rId2" action="ppaction://hlinksldjump"/>
          </p:cNvPr>
          <p:cNvSpPr/>
          <p:nvPr/>
        </p:nvSpPr>
        <p:spPr>
          <a:xfrm>
            <a:off x="4267080" y="46483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1" action="ppaction://hlinksldjump"/>
              </a:rPr>
              <a:t>When 2 objects rub together causing it to slow down or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2" action="ppaction://hlinksldjump"/>
              </a:rPr>
              <a:t>A type of gen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3" action="ppaction://hlinksldjump"/>
              </a:rPr>
              <a:t>A force that makes things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8119"/>
                </a:solidFill>
                <a:uFillTx/>
                <a:latin typeface="Lucida Sans Unicode"/>
                <a:hlinkClick r:id="rId4" action="ppaction://hlinksldjump"/>
              </a:rPr>
              <a:t>A story you would writ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6" name="Title 2" descr=""/>
          <p:cNvPicPr/>
          <p:nvPr/>
        </p:nvPicPr>
        <p:blipFill>
          <a:blip r:embed="rId5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77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when 2 things rub together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Friction is one reason why things stop or slow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ay to go!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9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80" name="j0214098.wav" descr=""/>
          <p:cNvPicPr/>
          <p:nvPr/>
        </p:nvPicPr>
        <p:blipFill>
          <a:blip r:embed="rId2"/>
          <a:stretch/>
        </p:blipFill>
        <p:spPr>
          <a:xfrm>
            <a:off x="1522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81" name="Action Button: Forward or Next 4">
            <a:hlinkClick r:id="rId3" action="ppaction://hlinksldjump"/>
          </p:cNvPr>
          <p:cNvSpPr/>
          <p:nvPr/>
        </p:nvSpPr>
        <p:spPr>
          <a:xfrm>
            <a:off x="4038480" y="54100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0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8" dur="4745" fill="hold"/>
                                        <p:tgtEl>
                                          <p:spTgt spid="4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you slide on your sock feet in the dance studio or slide on i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why the marbles would spin in space, but not on the carpe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is 2 thing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85" name="Action Button: Back or Previous 3">
            <a:hlinkClick r:id="rId2" action="ppaction://hlinksldjump"/>
          </p:cNvPr>
          <p:cNvSpPr/>
          <p:nvPr/>
        </p:nvSpPr>
        <p:spPr>
          <a:xfrm>
            <a:off x="4038480" y="52578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10800"/>
                </a:moveTo>
                <a:lnTo>
                  <a:pt x="17810" y="3794"/>
                </a:lnTo>
                <a:lnTo>
                  <a:pt x="17810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emain at rest until a force acts on it or something makes it mov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rt moving by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ush or pull itself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e out of energ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88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89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re Right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An object at rest will stay that way until a force acts on it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r hockey puck stays still until you hit it with the sti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Let’s do another one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1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92" name="j0214098.wav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93" name="Action Button: Forward or Next 4"/>
          <p:cNvSpPr/>
          <p:nvPr/>
        </p:nvSpPr>
        <p:spPr>
          <a:xfrm>
            <a:off x="44956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0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4" dur="4745" fill="hold"/>
                                        <p:tgtEl>
                                          <p:spTgt spid="4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53352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can get it to move, but now how do we get it to stop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it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loses speed or “momentum.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will stop when a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“force” acts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d stops it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Our toy car stops when it runs into the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at else makes something stop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2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000"/>
                            </p:stCondLst>
                            <p:childTnLst>
                              <p:par>
                                <p:cTn id="10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8000"/>
                            </p:stCondLst>
                            <p:childTnLst>
                              <p:par>
                                <p:cTn id="11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nk of your hockey puck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hen it is sitting on the ice, is it moving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oes it move by itself or do you have to hit it with your stick?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96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97" name="Action Button: Back or Previous 3"/>
          <p:cNvSpPr/>
          <p:nvPr/>
        </p:nvSpPr>
        <p:spPr>
          <a:xfrm>
            <a:off x="4114800" y="4876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45720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win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or desig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0" name="Title 2" descr=""/>
          <p:cNvPicPr/>
          <p:nvPr/>
        </p:nvPicPr>
        <p:blipFill>
          <a:blip r:embed="rId1"/>
          <a:stretch/>
        </p:blipFill>
        <p:spPr>
          <a:xfrm>
            <a:off x="244440" y="122400"/>
            <a:ext cx="8661600" cy="1341360"/>
          </a:xfrm>
          <a:prstGeom prst="rect">
            <a:avLst/>
          </a:prstGeom>
          <a:ln w="0">
            <a:noFill/>
          </a:ln>
        </p:spPr>
      </p:pic>
      <p:sp>
        <p:nvSpPr>
          <p:cNvPr id="501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ES!  The airplane lands because </a:t>
            </a:r>
            <a:r>
              <a:rPr b="0" i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is pushing it down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Keep at it!  You’re doing a great job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3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04" name="j0214098.wav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5" name="Action Button: Forward or Next 4"/>
          <p:cNvSpPr/>
          <p:nvPr/>
        </p:nvSpPr>
        <p:spPr>
          <a:xfrm>
            <a:off x="4191120" y="51814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0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4745" fill="hold"/>
                                        <p:tgtEl>
                                          <p:spTgt spid="5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the force that pulls everything down to Earth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will act on the paper airplane and push it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ry the question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08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9" name="Action Button: Back or Previous 3"/>
          <p:cNvSpPr/>
          <p:nvPr/>
        </p:nvSpPr>
        <p:spPr>
          <a:xfrm>
            <a:off x="4191120" y="5105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fal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t stops mov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244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other force acts on the object and changes the directio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2" name="Title 2" descr=""/>
          <p:cNvPicPr/>
          <p:nvPr/>
        </p:nvPicPr>
        <p:blipFill>
          <a:blip r:embed="rId1"/>
          <a:stretch/>
        </p:blipFill>
        <p:spPr>
          <a:xfrm>
            <a:off x="444600" y="23760"/>
            <a:ext cx="8400960" cy="1433520"/>
          </a:xfrm>
          <a:prstGeom prst="rect">
            <a:avLst/>
          </a:prstGeom>
          <a:ln w="0">
            <a:noFill/>
          </a:ln>
        </p:spPr>
      </p:pic>
      <p:sp>
        <p:nvSpPr>
          <p:cNvPr id="513" name="Нижний колонтитул 3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You’ve really got it!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Thomas stays straight until the driver turns him (force would be pushing) to curve with the track!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5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16" name="j0214098.wav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17" name="Action Button: Forward or Next 4"/>
          <p:cNvSpPr/>
          <p:nvPr/>
        </p:nvSpPr>
        <p:spPr>
          <a:xfrm>
            <a:off x="4191120" y="49528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6" dur="4745" fill="hold"/>
                                        <p:tgtEl>
                                          <p:spTgt spid="5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omas the Train moves down the straight railroad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He doesn’t turn to match the track on his 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applied (the driver turning him) and makes him curve with the track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o back and try it again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0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21" name="Action Button: Back or Previous 3"/>
          <p:cNvSpPr/>
          <p:nvPr/>
        </p:nvSpPr>
        <p:spPr>
          <a:xfrm>
            <a:off x="4114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DID IT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really know your stuff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You made it through with flying colors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 doubt you’ll do great on your paper assessment too!!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24" name="Tit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525" name="MSj04379040000[1].wav" descr=""/>
          <p:cNvPicPr/>
          <p:nvPr/>
        </p:nvPicPr>
        <p:blipFill>
          <a:blip r:embed="rId2"/>
          <a:stretch/>
        </p:blipFill>
        <p:spPr>
          <a:xfrm>
            <a:off x="304920" y="54100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526" name="Action Button: Forward or Next 4">
            <a:hlinkClick r:id="" action="ppaction://hlinkshowjump?jump=nextslide"/>
          </p:cNvPr>
          <p:cNvSpPr/>
          <p:nvPr/>
        </p:nvSpPr>
        <p:spPr>
          <a:xfrm>
            <a:off x="396252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0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2" dur="17270" fill="hold"/>
                                        <p:tgtEl>
                                          <p:spTgt spid="5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We know that friction can help objects stop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Lucida Sans Unicode"/>
              </a:rPr>
              <a:t>Friction is when 2 objects rub together.  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86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4674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elp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tennis shoes on the gym floor so you have grip and won’t fall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untitledwwsk4.bmp"/>
          <p:cNvPicPr/>
          <p:nvPr/>
        </p:nvPicPr>
        <p:blipFill>
          <a:blip r:embed="rId2"/>
          <a:stretch/>
        </p:blipFill>
        <p:spPr>
          <a:xfrm>
            <a:off x="3581280" y="2819520"/>
            <a:ext cx="2286000" cy="2563560"/>
          </a:xfrm>
          <a:prstGeom prst="rect">
            <a:avLst/>
          </a:prstGeom>
          <a:ln w="0">
            <a:noFill/>
          </a:ln>
        </p:spPr>
      </p:pic>
      <p:sp>
        <p:nvSpPr>
          <p:cNvPr id="391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96080" y="548640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3794"/>
                </a:moveTo>
                <a:lnTo>
                  <a:pt x="17810" y="10800"/>
                </a:lnTo>
                <a:lnTo>
                  <a:pt x="3797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riction can </a:t>
            </a:r>
            <a:r>
              <a:rPr b="0" lang="en-US" sz="2700" spc="-1" strike="noStrike" u="sng">
                <a:solidFill>
                  <a:srgbClr val="000000"/>
                </a:solidFill>
                <a:uFillTx/>
                <a:latin typeface="Lucida Sans Unicode"/>
              </a:rPr>
              <a:t>hurt you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sock feet on the dance floor and you slide into a wall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 friction from the carpet and wheels on the toy car help it lose speed, slow down, and sto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3" descr="friction_uses-bear.jpg"/>
          <p:cNvPicPr/>
          <p:nvPr/>
        </p:nvPicPr>
        <p:blipFill>
          <a:blip r:embed="rId2"/>
          <a:stretch/>
        </p:blipFill>
        <p:spPr>
          <a:xfrm>
            <a:off x="2590920" y="2438280"/>
            <a:ext cx="3886200" cy="2194200"/>
          </a:xfrm>
          <a:prstGeom prst="rect">
            <a:avLst/>
          </a:prstGeom>
          <a:ln w="0">
            <a:noFill/>
          </a:ln>
        </p:spPr>
      </p:pic>
      <p:sp>
        <p:nvSpPr>
          <p:cNvPr id="39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562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4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n object is at rest when it is </a:t>
            </a:r>
            <a:r>
              <a:rPr b="0" i="1" lang="en-US" sz="2700" spc="-1" strike="noStrike">
                <a:solidFill>
                  <a:srgbClr val="000000"/>
                </a:solidFill>
                <a:latin typeface="Lucida Sans Unicode"/>
              </a:rPr>
              <a:t>still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 force is still acting on the object to keep it still and keep it in plac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225360" y="122400"/>
            <a:ext cx="8467920" cy="1341360"/>
          </a:xfrm>
          <a:prstGeom prst="rect">
            <a:avLst/>
          </a:prstGeom>
          <a:ln w="0">
            <a:noFill/>
          </a:ln>
        </p:spPr>
      </p:pic>
      <p:sp>
        <p:nvSpPr>
          <p:cNvPr id="400" name="Action Button: Forward or Next 4">
            <a:hlinkClick r:id="" action="ppaction://hlinkshowjump?jump=nextslide"/>
            <a:hlinkClick r:id="rId2"/>
          </p:cNvPr>
          <p:cNvSpPr/>
          <p:nvPr/>
        </p:nvSpPr>
        <p:spPr>
          <a:xfrm>
            <a:off x="7543800" y="54100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3797"/>
                </a:moveTo>
                <a:lnTo>
                  <a:pt x="17806" y="10804"/>
                </a:lnTo>
                <a:lnTo>
                  <a:pt x="3794" y="17810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5" descr="Xmas 2008 001.jpg"/>
          <p:cNvPicPr/>
          <p:nvPr/>
        </p:nvPicPr>
        <p:blipFill>
          <a:blip r:embed="rId3"/>
          <a:stretch/>
        </p:blipFill>
        <p:spPr>
          <a:xfrm>
            <a:off x="2133720" y="3124080"/>
            <a:ext cx="4190760" cy="3143520"/>
          </a:xfrm>
          <a:prstGeom prst="rect">
            <a:avLst/>
          </a:prstGeom>
          <a:ln w="0">
            <a:noFill/>
          </a:ln>
        </p:spPr>
      </p:pic>
      <p:sp>
        <p:nvSpPr>
          <p:cNvPr id="402" name="Нижний колонтитул 6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Lucida Sans Unicode"/>
              </a:rPr>
              <a:t>GRAVITY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pulls objects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Gravity is what keeps you in your seat, brings your ball back down, and you back down after you jump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2" descr="C:\Program Files\Microsoft Office\MEDIA\CAGCAT10\j0301480.wmf"/>
          <p:cNvPicPr/>
          <p:nvPr/>
        </p:nvPicPr>
        <p:blipFill>
          <a:blip r:embed="rId2"/>
          <a:stretch/>
        </p:blipFill>
        <p:spPr>
          <a:xfrm>
            <a:off x="2743200" y="4038480"/>
            <a:ext cx="2819520" cy="1338480"/>
          </a:xfrm>
          <a:prstGeom prst="rect">
            <a:avLst/>
          </a:prstGeom>
          <a:ln w="0">
            <a:noFill/>
          </a:ln>
        </p:spPr>
      </p:pic>
      <p:sp>
        <p:nvSpPr>
          <p:cNvPr id="406" name="Action Button: Forward or Next 4">
            <a:hlinkClick r:id="" action="ppaction://hlinkshowjump?jump=nextslide"/>
            <a:hlinkClick r:id="rId3"/>
          </p:cNvPr>
          <p:cNvSpPr/>
          <p:nvPr/>
        </p:nvSpPr>
        <p:spPr>
          <a:xfrm>
            <a:off x="7620120" y="53341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Нижний колонтитул 5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2000"/>
                            </p:stCondLst>
                            <p:childTnLst>
                              <p:par>
                                <p:cTn id="21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6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how something moves and how something stops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that a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orce is a push or pull 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at makes things move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friction is 2 objects rubbing together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We know </a:t>
            </a:r>
            <a:r>
              <a:rPr b="1" i="1" lang="en-US" sz="2700" spc="-1" strike="noStrike">
                <a:solidFill>
                  <a:srgbClr val="000000"/>
                </a:solidFill>
                <a:latin typeface="Lucida Sans Unicode"/>
              </a:rPr>
              <a:t>gravity pulls/pushes everything back down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ere’s more to motion-Let’s find out…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0" name="Action Button: Forward or Next 3">
            <a:hlinkClick r:id="" action="ppaction://hlinkshowjump?jump=nextslide"/>
            <a:hlinkClick r:id="rId2"/>
          </p:cNvPr>
          <p:cNvSpPr/>
          <p:nvPr/>
        </p:nvSpPr>
        <p:spPr>
          <a:xfrm>
            <a:off x="777240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2da2bf"/>
          </a:solidFill>
          <a:ln w="5508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Нижний колонтитул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9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0" fill="hold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000"/>
                            </p:stCondLst>
                            <p:childTnLst>
                              <p:par>
                                <p:cTn id="25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000"/>
                            </p:stCondLst>
                            <p:childTnLst>
                              <p:par>
                                <p:cTn id="267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4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8000"/>
                            </p:stCondLst>
                            <p:childTnLst>
                              <p:par>
                                <p:cTn id="27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4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4T17:35:21Z</dcterms:created>
  <dc:creator>User</dc:creator>
  <dc:description/>
  <dc:language>en-US</dc:language>
  <cp:lastModifiedBy>Asus</cp:lastModifiedBy>
  <dcterms:modified xsi:type="dcterms:W3CDTF">2018-03-09T16:22:00Z</dcterms:modified>
  <cp:revision>34</cp:revision>
  <dc:subject/>
  <dc:title>MOTION</dc:title>
</cp:coreProperties>
</file>