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D77C-6A1B-4C04-AEA3-07763F733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8D04-30D8-448D-986F-C51D24C7C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7EE8-DDDC-42C8-92C5-9F5D48B64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9F67-1666-4519-B7AC-5B2CCDA30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6666-F766-4AEC-ABDC-AAD890575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A1EF-3E44-4830-85EB-CFF0CCAE5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5C27-DFD2-46D5-8E85-76ADC4F8B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ABF7-C345-4CA0-92DF-5F99CB2A3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5C98-1EE5-4A48-8F7F-EE719B891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F24F-ADCF-4893-ABB2-6818EC243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11FA-1A92-4CD2-8D76-9E3EB620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62EB-54C6-4E34-9693-DB91F5C0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FC457-5D75-49AC-811F-EBF3F07E39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066320" y="3885840"/>
            <a:ext cx="7086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al is in short supply and nuclear energy is both expensive and potentially harmful to the environment. The solution could be in the use of renewable energ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762120" y="1295280"/>
            <a:ext cx="77724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olar Energy</a:t>
            </a:r>
            <a:endParaRPr b="1" i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440" y="182844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costs are l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carbon dioxide emissions to add to the Greenhouse Eff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sulphur dioxide emissions to cause acid r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WordArt 5"/>
          <p:cNvSpPr txBox="1"/>
          <p:nvPr/>
        </p:nvSpPr>
        <p:spPr>
          <a:xfrm>
            <a:off x="762120" y="457200"/>
            <a:ext cx="777240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Advantages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6" name="Picture 8" descr="E:\0011energysol.jpg"/>
          <p:cNvPicPr/>
          <p:nvPr/>
        </p:nvPicPr>
        <p:blipFill>
          <a:blip r:embed="rId1"/>
          <a:stretch/>
        </p:blipFill>
        <p:spPr>
          <a:xfrm>
            <a:off x="4724280" y="2133720"/>
            <a:ext cx="3970440" cy="30636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"/>
          <p:cNvSpPr/>
          <p:nvPr/>
        </p:nvSpPr>
        <p:spPr>
          <a:xfrm>
            <a:off x="4491360" y="5486400"/>
            <a:ext cx="423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lar powered station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647960" y="2133720"/>
            <a:ext cx="4267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ar panels can be quickly set up in remote are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 communities can benefit from small scale use of  solar pow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d  to charge batteries to provide electricity when nee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685800" y="304920"/>
            <a:ext cx="78487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More Advantages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1" name="Picture 9" descr="E:\0003energysol.jpg"/>
          <p:cNvPicPr/>
          <p:nvPr/>
        </p:nvPicPr>
        <p:blipFill>
          <a:blip r:embed="rId2"/>
          <a:stretch/>
        </p:blipFill>
        <p:spPr>
          <a:xfrm>
            <a:off x="304920" y="2666880"/>
            <a:ext cx="4186080" cy="28958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0"/>
          <p:cNvSpPr/>
          <p:nvPr/>
        </p:nvSpPr>
        <p:spPr>
          <a:xfrm>
            <a:off x="602280" y="5791320"/>
            <a:ext cx="371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lar cells used to charge batte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61760" y="1981080"/>
            <a:ext cx="38098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initial cost of solar cells can be  very hig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output is dependent on weather conditions and the time of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y solar panels are needed to produce that of a power s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WordArt 5"/>
          <p:cNvSpPr txBox="1"/>
          <p:nvPr/>
        </p:nvSpPr>
        <p:spPr>
          <a:xfrm>
            <a:off x="685800" y="380880"/>
            <a:ext cx="7848720" cy="13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Disadvantages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6" name="Picture 11" descr="E:\0007energysol.jpg"/>
          <p:cNvPicPr/>
          <p:nvPr/>
        </p:nvPicPr>
        <p:blipFill>
          <a:blip r:embed="rId1"/>
          <a:stretch/>
        </p:blipFill>
        <p:spPr>
          <a:xfrm>
            <a:off x="5257800" y="2133720"/>
            <a:ext cx="2895480" cy="32763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3"/>
          <p:cNvSpPr/>
          <p:nvPr/>
        </p:nvSpPr>
        <p:spPr>
          <a:xfrm>
            <a:off x="4943880" y="5562720"/>
            <a:ext cx="342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lar reflector used for coo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2824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areas of land are required for large scale generation of electri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warm reliable biome would be nee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ar cells have relatively low effici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WordArt 5"/>
          <p:cNvSpPr txBox="1"/>
          <p:nvPr/>
        </p:nvSpPr>
        <p:spPr>
          <a:xfrm>
            <a:off x="533520" y="304920"/>
            <a:ext cx="8153280" cy="14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More disadvantages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1" name="Picture 7" descr="A:\0008energysol.jpg"/>
          <p:cNvPicPr/>
          <p:nvPr/>
        </p:nvPicPr>
        <p:blipFill>
          <a:blip r:embed="rId2"/>
          <a:stretch/>
        </p:blipFill>
        <p:spPr>
          <a:xfrm>
            <a:off x="4114800" y="1981080"/>
            <a:ext cx="4800600" cy="4267440"/>
          </a:xfrm>
          <a:prstGeom prst="rect">
            <a:avLst/>
          </a:prstGeom>
          <a:ln w="0">
            <a:noFill/>
          </a:ln>
        </p:spPr>
      </p:pic>
      <p:sp>
        <p:nvSpPr>
          <p:cNvPr id="6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WordArt 4"/>
          <p:cNvSpPr txBox="1"/>
          <p:nvPr/>
        </p:nvSpPr>
        <p:spPr>
          <a:xfrm>
            <a:off x="457200" y="228600"/>
            <a:ext cx="82296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olar energy</a:t>
            </a:r>
            <a:endParaRPr b="1" i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4" name="Picture 6" descr="E:\0005energysol.jpg"/>
          <p:cNvPicPr/>
          <p:nvPr/>
        </p:nvPicPr>
        <p:blipFill>
          <a:blip r:embed="rId4"/>
          <a:stretch/>
        </p:blipFill>
        <p:spPr>
          <a:xfrm>
            <a:off x="380880" y="3048120"/>
            <a:ext cx="4419720" cy="25146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8"/>
          <p:cNvSpPr/>
          <p:nvPr/>
        </p:nvSpPr>
        <p:spPr>
          <a:xfrm>
            <a:off x="5181480" y="2590920"/>
            <a:ext cx="36576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olar energy in use in a mobile home in Arizon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solar panels convert the solar energy into electrical energ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use of solar cells are also supplemented by the use of wind turb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6840" y="38095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lideshow was produced and compiled by John Hendstock, North Chadderton School.  Images provided by Dr. Overy, and are available on the ASE Image Gallery   at  www.ase.org.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WordArt 3"/>
          <p:cNvSpPr txBox="1"/>
          <p:nvPr/>
        </p:nvSpPr>
        <p:spPr>
          <a:xfrm>
            <a:off x="457200" y="380880"/>
            <a:ext cx="82296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olar energy</a:t>
            </a:r>
            <a:endParaRPr b="1" i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Asus</dc:creator>
  <dc:description/>
  <dc:language>en-US</dc:language>
  <cp:lastModifiedBy>Asus</cp:lastModifiedBy>
  <cp:lastPrinted>2000-07-18T00:40:34Z</cp:lastPrinted>
  <dcterms:modified xsi:type="dcterms:W3CDTF">2018-03-09T16:36:08Z</dcterms:modified>
  <cp:revision>21</cp:revision>
  <dc:subject/>
  <dc:title>No Slide Title</dc:title>
</cp:coreProperties>
</file>