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F426-40FA-4531-9F9E-7EBD6850E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CDDC-7441-448F-AEB3-ED5F423BC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C7BA-E7D7-4631-A853-8A4AE053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D9DB-F96E-4CFF-B1C8-96AB2518E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29B9-8688-408F-AC12-DEB7A148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F89D-9FFF-44AA-9896-48C6ABFA2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A8BF-CBBB-4D69-89E6-226C4FD8B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D6EE-FCED-4AC4-951E-122C738C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ED3D-AABA-439F-AD85-1A955599A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4D78-0816-4235-A6BD-796ADF6E0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5464-6C14-4780-95E6-B28FA9661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66FC-C4E9-4A31-85C7-1F77555B1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8C8B-B60C-4FBF-8F83-34C7FE3A1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75EA-B3E6-4031-A1E7-0687186C6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4328-B459-460E-B7B9-85CF9BAD8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137-3A0E-4BD5-99DA-142CC32A1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7612-8DB7-4301-BA56-CE195167B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5641-1BED-442C-93A2-A769B3ED5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D26D-5861-4C5A-A252-F34E8AF51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EB3C-AB40-4AC9-8940-04CA00F22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0B5C-1595-4AC8-9B63-FB7BA32F9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C2A1-B8E3-41E3-8A6A-04964AEF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68EF-D91C-4FAF-BFCF-1FEACC005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D61E-406A-45C7-92CF-0022B2271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04EC-6DD9-4016-8A37-3B2445E8D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F48F-1414-408B-A84D-F8D0016E3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6312-5E40-4FD1-81B8-3C3F9E814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6647-2D3A-4CF3-94BA-0567543D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2DAD-D503-407F-981C-4361087C2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679C-2173-46A3-839D-78ABEB8E7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9579-4DDA-43E7-99D4-5D7D42E16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A26B-A8CD-48F3-9766-F1095680B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2E07-82BF-4ACF-BC52-650E3C01B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EEDC-B75C-4A28-B9BF-E3EAB7153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3E15-A379-4978-A182-86C9CAC74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959B-15A9-4C88-83FE-AAB9C7B14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3D91-AE8A-4809-9264-3E6E261CA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3FEC-DC86-433B-92DA-1FF7F2FF9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9C59-385A-4883-97C4-A3C68B535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9451-F9F0-4682-A779-099099604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0CE1-DB96-4897-8A03-5BB5E95B9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497-2501-4C46-A72D-1BE373A8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01E-B8E1-467E-A3AC-2496922F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494-F99F-4EE0-BD94-BA52E8A4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7C0-DCD7-45C7-B2C2-443CE133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DFF-A826-411D-A38F-D0A99ABF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871-03CF-4BE1-AA95-6B9A396B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846-D480-4D36-B916-CAC4A4DE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B75-F16C-49E2-9FB0-88D6B02D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512-299B-4834-AAC8-8355B533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6C9-6B40-4FA2-AD07-0FAAD4EA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F17-1A2C-42FF-84AF-4BFAA7D0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28B-0C60-4B5B-82CE-FBAF17B5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3167-FAA9-455C-ADD3-C878633FE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4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4800600"/>
            <a:ext cx="8458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nation: Although loudness varies with amplitude, and pitch varies with frequency, speed is not influenced by amplitude nor frequency. A listener in the back row at a concert would find music confusing if sound of different frequencies reached the ear at different ti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50292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Sound, like any wave, can undergo all of these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7200" y="510552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Hence the low tone of fog horn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The sound may be enhanced, but it is the surface of the guitar that undergoes forced vibration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Resonance, rather than amplitude enhancement, is the better answer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14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14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934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3934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The beat frequency is the difference between the two, 10 Hz (which is more than 8 Hz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396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114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5:04:42Z</dcterms:created>
  <dc:creator>dking</dc:creator>
  <dc:description/>
  <dc:language>en-US</dc:language>
  <cp:lastModifiedBy>Asus</cp:lastModifiedBy>
  <dcterms:modified xsi:type="dcterms:W3CDTF">2018-03-09T16:37:52Z</dcterms:modified>
  <cp:revision>88</cp:revision>
  <dc:subject/>
  <dc:title>Chapter 10</dc:title>
</cp:coreProperties>
</file>