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jpeg" ContentType="image/jpeg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4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54.png" ContentType="image/png"/>
  <Override PartName="/ppt/media/image41.jpeg" ContentType="image/jpeg"/>
  <Override PartName="/ppt/media/image47.png" ContentType="image/png"/>
  <Override PartName="/ppt/media/image50.png" ContentType="image/png"/>
  <Override PartName="/ppt/media/image33.wmf" ContentType="image/x-wmf"/>
  <Override PartName="/ppt/media/image51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7.png" ContentType="image/png"/>
  <Override PartName="/ppt/media/image11.jpeg" ContentType="image/jpeg"/>
  <Override PartName="/ppt/media/image48.png" ContentType="image/png"/>
  <Override PartName="/ppt/media/image9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31.wmf" ContentType="image/x-wmf"/>
  <Override PartName="/ppt/media/image36.png" ContentType="image/png"/>
  <Override PartName="/ppt/media/image6.png" ContentType="image/png"/>
  <Override PartName="/ppt/media/image13.jpeg" ContentType="image/jpeg"/>
  <Override PartName="/ppt/media/image44.png" ContentType="image/png"/>
  <Override PartName="/ppt/media/image40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CE55-4AA9-48CC-A3E8-AFEE1D9CE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F41E-5A93-442D-AFAC-E40DA167E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C23A-7C42-4858-8B9A-BB6790960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BC8D-CB3A-4265-9027-93B07E58D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12F6-9B91-4C69-ADEC-03FEEE5CB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3238-86A2-4E6C-AD5C-DEA3C02FF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F296-5296-4A9B-AD1B-AA8207A4E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1AC0-DE0B-4CFB-B774-694C8EBFC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0486-E7C4-4377-BFA5-B0298761D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EB7D-5954-41B9-A470-D33C0990D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F950-FB36-44CE-A033-A83323489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7789-4C01-4954-9932-E3575EC3F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84AD-A80A-4D9F-BFC7-950E67832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D0EA-7F64-4ECE-99D2-9D60842EA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839B-C8CF-480C-9EEF-1F0FEB99C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1B63-1864-4759-9B9A-1E5DC70F4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1A39-48E4-49D4-89C9-09D88127F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FB25-F406-4177-8900-3F02DACEA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84BB-F58F-4BBF-95C5-3922AB8E2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34D9-E4A6-4DD9-B9A6-2B707F2D9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4C2B-5B0C-41F8-A873-F25DF3DC2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3D66-F08D-4A47-B74F-33DC0D1E9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1617-2E76-47A2-A2F2-F7192A3B2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F5B8-32D5-4A4B-945F-EFB73EF8A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39EB-9C48-4D04-9582-C4AD85F5E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C021-4338-4B18-91A4-B22967955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EB5D-274B-4FE5-8999-704D1446B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6102-8348-4F46-8A67-E723D39DD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211E-7ACB-41EC-9320-0753D9719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A62D-CE32-4B91-B96C-6EEAF26C4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1353-DC6F-4896-A670-D7A76F984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6A5F-72C6-4C3D-A38B-77AD2E3D5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F1CB-AA62-41CB-9351-ECC30CF7F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FC17-DABC-4A71-9B45-D2F779468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0E76-0C49-443A-951F-9C1AEF483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47AA-D514-4DBB-9271-B14679832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3AA4-91C6-4775-B3B4-AAE783123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27E1-9FBE-4DA8-86A7-B7A388650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9C37-041C-4303-B46C-E39A88602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3C51-3615-4655-AEB4-D3C4E4AFA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6CFE-5F10-4FC8-AA38-2B55E6C4A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D783-4566-4B4D-872B-ABE43A0D5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1E7F-0B53-4A2C-A47E-3FDE25056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9C3A-B98D-4909-B3C0-0CE19BB4B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3E1C-8882-447B-AD87-843D00B6B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CA04-02F2-4D87-AEA6-A33DA784F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3453-51A5-4BFE-BEBC-F9DE7E729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771A-C79E-461E-AC2D-46C4CDC99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A97A-6366-4415-B0DB-BC779E128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52A2-8FBC-4267-BD71-95A2C0FCB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939B-49DE-46D7-AA9C-CEED5895A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3AED-4C3F-40B4-A742-B1D7D29AD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D178-DC19-48AD-9BBB-6B75B1BE8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816-B492-454A-9344-67F2EDF3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32F-7393-4325-B17B-E420FB6F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854-8397-4942-8BB9-19CC3CD8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780-0A64-43B0-B1AB-FB393C2F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F19-B34B-4DEF-9E4A-D0297402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A819-93AB-4FC1-9F36-6FF4D061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781-78F8-4A0F-A0FC-25809ECE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231-5ADF-4DF3-89D9-B3105A77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59A-19A2-49FE-ADD0-2D501631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F649-9EA0-44C5-9A29-5BE4D61D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B0FC-B773-457D-8A85-C8274E6A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FD45-CC74-4EEF-B51A-C86C6078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FB56-F800-4455-BC1B-EBFA262F3F0D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F973-DDED-4349-928C-DB2D9D7DBC93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physics.umd.edu/lecdem/services/demos/demosd1/d1-81.mpg" TargetMode="External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coming Cla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hursday, Sept. 13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nd Dance,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d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Read “Motions without Turns”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s and the Art of D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Laws, Pages 36-5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First draft of first oral presentation or writte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uesday, Sept. 18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ce at the Nex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d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Read “The Mechanics of Movement”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New Way Thing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. Macaulay, Pages 8-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motion is governed by Newton’s three laws of mo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of Iner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= Mass x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&amp;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see how these laws apply to 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435720" y="2390760"/>
            <a:ext cx="2530440" cy="26589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7370280" y="5041800"/>
            <a:ext cx="153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r Isaac New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643 – 17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3960" y="393480"/>
            <a:ext cx="7378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ewton’s First Law of Mo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Text Box 62"/>
          <p:cNvSpPr/>
          <p:nvPr/>
        </p:nvSpPr>
        <p:spPr>
          <a:xfrm>
            <a:off x="901800" y="1539720"/>
            <a:ext cx="740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 object moves with constant, uniform motion until acted on by a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3"/>
          <p:cNvSpPr/>
          <p:nvPr/>
        </p:nvSpPr>
        <p:spPr>
          <a:xfrm>
            <a:off x="1143000" y="3429000"/>
            <a:ext cx="571680" cy="5716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4"/>
          <p:cNvSpPr/>
          <p:nvPr/>
        </p:nvSpPr>
        <p:spPr>
          <a:xfrm>
            <a:off x="3213000" y="3441600"/>
            <a:ext cx="57168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5"/>
          <p:cNvSpPr/>
          <p:nvPr/>
        </p:nvSpPr>
        <p:spPr>
          <a:xfrm>
            <a:off x="5270400" y="3441600"/>
            <a:ext cx="57168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7"/>
          <p:cNvSpPr/>
          <p:nvPr/>
        </p:nvSpPr>
        <p:spPr>
          <a:xfrm>
            <a:off x="7302600" y="3441600"/>
            <a:ext cx="57132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6"/>
          <p:cNvSpPr/>
          <p:nvPr/>
        </p:nvSpPr>
        <p:spPr>
          <a:xfrm>
            <a:off x="1434960" y="3720960"/>
            <a:ext cx="6832800" cy="0"/>
          </a:xfrm>
          <a:prstGeom prst="line">
            <a:avLst/>
          </a:prstGeom>
          <a:ln w="25560">
            <a:solidFill>
              <a:srgbClr val="0000ff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8"/>
          <p:cNvSpPr/>
          <p:nvPr/>
        </p:nvSpPr>
        <p:spPr>
          <a:xfrm>
            <a:off x="3213000" y="3695760"/>
            <a:ext cx="571680" cy="571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9"/>
          <p:cNvSpPr/>
          <p:nvPr/>
        </p:nvSpPr>
        <p:spPr>
          <a:xfrm>
            <a:off x="5257800" y="4356000"/>
            <a:ext cx="57168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0"/>
          <p:cNvSpPr/>
          <p:nvPr/>
        </p:nvSpPr>
        <p:spPr>
          <a:xfrm>
            <a:off x="7302600" y="5499000"/>
            <a:ext cx="57132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2"/>
          <p:cNvSpPr/>
          <p:nvPr/>
        </p:nvSpPr>
        <p:spPr>
          <a:xfrm rot="5400000">
            <a:off x="3542760" y="5003640"/>
            <a:ext cx="1727280" cy="609480"/>
          </a:xfrm>
          <a:prstGeom prst="rightArrow">
            <a:avLst>
              <a:gd name="adj1" fmla="val 50000"/>
              <a:gd name="adj2" fmla="val 708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5"/>
          <p:cNvSpPr/>
          <p:nvPr/>
        </p:nvSpPr>
        <p:spPr>
          <a:xfrm>
            <a:off x="1460520" y="3706920"/>
            <a:ext cx="6858000" cy="26431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643120"/>
              <a:gd name="textAreaBottom" fmla="*/ 2643480 h 2643120"/>
            </a:gdLst>
            <a:ahLst/>
            <a:rect l="textAreaLeft" t="textAreaTop" r="textAreaRight" b="textAreaBottom"/>
            <a:pathLst>
              <a:path w="4320" h="1665">
                <a:moveTo>
                  <a:pt x="0" y="9"/>
                </a:moveTo>
                <a:cubicBezTo>
                  <a:pt x="236" y="4"/>
                  <a:pt x="473" y="0"/>
                  <a:pt x="688" y="25"/>
                </a:cubicBezTo>
                <a:cubicBezTo>
                  <a:pt x="903" y="50"/>
                  <a:pt x="1063" y="105"/>
                  <a:pt x="1288" y="161"/>
                </a:cubicBezTo>
                <a:cubicBezTo>
                  <a:pt x="1513" y="217"/>
                  <a:pt x="1823" y="290"/>
                  <a:pt x="2040" y="361"/>
                </a:cubicBezTo>
                <a:cubicBezTo>
                  <a:pt x="2257" y="432"/>
                  <a:pt x="2421" y="512"/>
                  <a:pt x="2592" y="585"/>
                </a:cubicBezTo>
                <a:cubicBezTo>
                  <a:pt x="2763" y="658"/>
                  <a:pt x="2927" y="732"/>
                  <a:pt x="3064" y="801"/>
                </a:cubicBezTo>
                <a:cubicBezTo>
                  <a:pt x="3201" y="870"/>
                  <a:pt x="3279" y="916"/>
                  <a:pt x="3416" y="1001"/>
                </a:cubicBezTo>
                <a:cubicBezTo>
                  <a:pt x="3553" y="1086"/>
                  <a:pt x="3737" y="1202"/>
                  <a:pt x="3888" y="1313"/>
                </a:cubicBezTo>
                <a:cubicBezTo>
                  <a:pt x="4039" y="1424"/>
                  <a:pt x="4179" y="1544"/>
                  <a:pt x="4320" y="1665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6"/>
          <p:cNvSpPr/>
          <p:nvPr/>
        </p:nvSpPr>
        <p:spPr>
          <a:xfrm>
            <a:off x="6099840" y="30052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o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First Law (Full Version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object at rest remains at rest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object in motion rem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uniform motion*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unl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force acts on th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ving in a straight line with constant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792000" y="5867280"/>
            <a:ext cx="73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rst Law is also known a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rinciple of inerti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d2d8a"/>
                </a:solidFill>
                <a:latin typeface="Comic Sans MS"/>
              </a:rPr>
              <a:t>Demo</a:t>
            </a: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: Tablecloth Pul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939960" y="4267080"/>
            <a:ext cx="622296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6934320" y="41148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285520" y="38098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Tablecl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047680" y="22478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7086600" y="35053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ank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013280" y="1981080"/>
            <a:ext cx="355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660240" y="4267080"/>
            <a:ext cx="7061400" cy="355680"/>
          </a:xfrm>
          <a:prstGeom prst="cube">
            <a:avLst>
              <a:gd name="adj" fmla="val 7143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3822840" y="2552760"/>
            <a:ext cx="749160" cy="1866960"/>
          </a:xfrm>
          <a:prstGeom prst="can">
            <a:avLst>
              <a:gd name="adj" fmla="val 12074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3340080" y="2171880"/>
            <a:ext cx="1041480" cy="69840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 rot="2953800">
            <a:off x="3674880" y="1947240"/>
            <a:ext cx="1041480" cy="698400"/>
          </a:xfrm>
          <a:prstGeom prst="sun">
            <a:avLst>
              <a:gd name="adj" fmla="val 25000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"/>
          <p:cNvSpPr/>
          <p:nvPr/>
        </p:nvSpPr>
        <p:spPr>
          <a:xfrm rot="20326200">
            <a:off x="4056120" y="2201400"/>
            <a:ext cx="1041480" cy="6987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596880" y="5587920"/>
            <a:ext cx="810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vase’s inertia it remains at rest since almost no force acts on the vase if one pulls quickly &amp; stra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d2d8a"/>
                </a:solidFill>
                <a:latin typeface="Comic Sans MS"/>
              </a:rPr>
              <a:t>Demo</a:t>
            </a: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: Riding Light Rai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3" name="Picture 3" descr="nycbaby-28691_640x480"/>
          <p:cNvPicPr/>
          <p:nvPr/>
        </p:nvPicPr>
        <p:blipFill>
          <a:blip r:embed="rId1"/>
          <a:srcRect l="0" t="0" r="0" b="-268"/>
          <a:stretch/>
        </p:blipFill>
        <p:spPr>
          <a:xfrm>
            <a:off x="3708360" y="1447920"/>
            <a:ext cx="4508640" cy="4584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530280" y="1471680"/>
            <a:ext cx="298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moving train stops, you continue moving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topped train starts moving again, you remain stationary and are thrown backw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cases, it’s due to your iner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8a"/>
                </a:solidFill>
                <a:latin typeface="Comic Sans MS"/>
              </a:rPr>
              <a:t>Follow-through &amp; Inerti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3430440" y="1917720"/>
            <a:ext cx="5335560" cy="46497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368280" y="1760400"/>
            <a:ext cx="323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through is a good example of the principle of iner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won’t move until a force acts on it so long hair trails behind as head t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then remains in motion even after the head stops tu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t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822840" y="4330800"/>
            <a:ext cx="153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36120" y="5230800"/>
            <a:ext cx="61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tric unit of force (about 1/5 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everal forces act on an object, the forces ad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force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t 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total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863640" y="4648320"/>
            <a:ext cx="260352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082960" y="4013280"/>
            <a:ext cx="118080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1536840" y="416556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1295280" y="44578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06600" y="3781440"/>
            <a:ext cx="14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30120" y="409896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5829480" y="4597560"/>
            <a:ext cx="260316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7048440" y="3962520"/>
            <a:ext cx="118116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5549760" y="4292640"/>
            <a:ext cx="1486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5549760" y="3908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quilibrium Ru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822840" y="4064040"/>
            <a:ext cx="153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object is at rest then the net force must be zero. Similarly if in uniform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863640" y="4381560"/>
            <a:ext cx="260352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523880" y="3746520"/>
            <a:ext cx="1181160" cy="6224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990720" y="402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63520" y="360360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793960" y="364176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5829480" y="4330800"/>
            <a:ext cx="260316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6566040" y="3695760"/>
            <a:ext cx="118080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6095880" y="2968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ero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 Fo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H="1">
            <a:off x="2717640" y="40258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596880" y="5065560"/>
            <a:ext cx="56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is happens we say that forces “balan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pport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surfaces exert a force, called a support force, on objects pressed agains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63640" y="4648320"/>
            <a:ext cx="6591240" cy="3538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082960" y="3632040"/>
            <a:ext cx="2641320" cy="1003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00 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ld 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 flipV="1">
            <a:off x="3384720" y="4680000"/>
            <a:ext cx="0" cy="109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492360" y="50641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 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pport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218200" y="3071880"/>
            <a:ext cx="310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ward force (weight) balanced by upward force (sup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635800" y="5433840"/>
            <a:ext cx="327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much i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force on the bri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iction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369280" cy="87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 of friction is molecular interaction between solid su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04-03Figure_FIG.jpg"/>
          <p:cNvPicPr/>
          <p:nvPr/>
        </p:nvPicPr>
        <p:blipFill>
          <a:blip r:embed="rId1"/>
          <a:stretch/>
        </p:blipFill>
        <p:spPr>
          <a:xfrm>
            <a:off x="4183200" y="2362320"/>
            <a:ext cx="4232160" cy="3301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339840" y="2576520"/>
            <a:ext cx="363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is compli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depends on support force and on properties of the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sic properties of friction first established by Leonardo da Vinc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coming Deadlin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ursday, September 13</a:t>
            </a:r>
            <a:r>
              <a:rPr b="0" lang="en-US" sz="32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draft of your first term paper or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ursday, September 27</a:t>
            </a:r>
            <a:r>
              <a:rPr b="0" lang="en-US" sz="32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et of Oral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erm paper (if not giving 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s on a Danc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’s First Law of Motion states that a stationary object (not moving) remains stationary i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ce on it is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dancer, the three main for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y (Down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the floor (Up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 force of the floor (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8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position of an object’s weight distribution is call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enter of gravity (C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of gravity acts on an object as if pulling straight down at the C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08-25Figure_FIG.jpg"/>
          <p:cNvPicPr/>
          <p:nvPr/>
        </p:nvPicPr>
        <p:blipFill>
          <a:blip r:embed="rId1"/>
          <a:stretch/>
        </p:blipFill>
        <p:spPr>
          <a:xfrm>
            <a:off x="4735440" y="2336760"/>
            <a:ext cx="3851280" cy="3102120"/>
          </a:xfrm>
          <a:prstGeom prst="rect">
            <a:avLst/>
          </a:prstGeom>
          <a:ln w="0">
            <a:noFill/>
          </a:ln>
        </p:spPr>
      </p:pic>
      <p:sp>
        <p:nvSpPr>
          <p:cNvPr id="189" name="Oval 5"/>
          <p:cNvSpPr/>
          <p:nvPr/>
        </p:nvSpPr>
        <p:spPr>
          <a:xfrm>
            <a:off x="6651720" y="3606840"/>
            <a:ext cx="127080" cy="12708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 flipH="1">
            <a:off x="6803640" y="2577960"/>
            <a:ext cx="7873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7367040" y="194472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bility &amp; Bal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is stable if CG is above the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00280" y="5295960"/>
            <a:ext cx="7810200" cy="85068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1359000" y="2959200"/>
            <a:ext cx="1739880" cy="2666880"/>
          </a:xfrm>
          <a:prstGeom prst="parallelogram">
            <a:avLst>
              <a:gd name="adj" fmla="val 25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4017960" y="3002040"/>
            <a:ext cx="3403440" cy="2666880"/>
          </a:xfrm>
          <a:prstGeom prst="parallelogram">
            <a:avLst>
              <a:gd name="adj" fmla="val 7634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7"/>
          <p:cNvSpPr/>
          <p:nvPr/>
        </p:nvSpPr>
        <p:spPr>
          <a:xfrm>
            <a:off x="2165400" y="4229280"/>
            <a:ext cx="127080" cy="12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5656320" y="4272120"/>
            <a:ext cx="127080" cy="12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2222640" y="4381560"/>
            <a:ext cx="0" cy="736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5719680" y="4462560"/>
            <a:ext cx="0" cy="736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11"/>
          <p:cNvSpPr/>
          <p:nvPr/>
        </p:nvSpPr>
        <p:spPr>
          <a:xfrm>
            <a:off x="5194440" y="5270400"/>
            <a:ext cx="520560" cy="520920"/>
          </a:xfrm>
          <a:custGeom>
            <a:avLst/>
            <a:gdLst>
              <a:gd name="textAreaLeft" fmla="*/ 0 w 520560"/>
              <a:gd name="textAreaRight" fmla="*/ 520920 w 5205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865160" y="3884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5628960" y="3940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 rot="16200000">
            <a:off x="1558080" y="459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 rot="16200000">
            <a:off x="5042520" y="46224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1371600" y="5613480"/>
            <a:ext cx="12445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7"/>
          <p:cNvSpPr/>
          <p:nvPr/>
        </p:nvSpPr>
        <p:spPr>
          <a:xfrm>
            <a:off x="2563920" y="5541840"/>
            <a:ext cx="126720" cy="1270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1611720" y="56498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2734200" y="5413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5304240" y="5735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4056120" y="5681520"/>
            <a:ext cx="12445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2"/>
          <p:cNvSpPr/>
          <p:nvPr/>
        </p:nvSpPr>
        <p:spPr>
          <a:xfrm>
            <a:off x="5311800" y="5584680"/>
            <a:ext cx="127080" cy="1270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296240" y="5667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186360" y="28814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6658560" y="42195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 flipV="1">
            <a:off x="2222640" y="4889520"/>
            <a:ext cx="0" cy="736560"/>
          </a:xfrm>
          <a:prstGeom prst="line">
            <a:avLst/>
          </a:prstGeom>
          <a:ln w="38160">
            <a:solidFill>
              <a:srgbClr val="00b05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 flipV="1">
            <a:off x="5283360" y="4902120"/>
            <a:ext cx="0" cy="736560"/>
          </a:xfrm>
          <a:prstGeom prst="line">
            <a:avLst/>
          </a:prstGeom>
          <a:ln w="38160">
            <a:solidFill>
              <a:srgbClr val="00b05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 rot="16200000">
            <a:off x="1956600" y="49608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 rot="16200000">
            <a:off x="4585320" y="50241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ижний колонтитул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Find your Cen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9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G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ly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of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08-31Figure_FIG.jpg"/>
          <p:cNvPicPr/>
          <p:nvPr/>
        </p:nvPicPr>
        <p:blipFill>
          <a:blip r:embed="rId1"/>
          <a:stretch/>
        </p:blipFill>
        <p:spPr>
          <a:xfrm>
            <a:off x="3568680" y="2443320"/>
            <a:ext cx="5102280" cy="29034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354200" y="3414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7000560" y="34574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011840" y="52815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140960" y="5184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Balanced Bi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bird’s center of gra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IMG_6736"/>
          <p:cNvPicPr/>
          <p:nvPr/>
        </p:nvPicPr>
        <p:blipFill>
          <a:blip r:embed="rId1"/>
          <a:stretch/>
        </p:blipFill>
        <p:spPr>
          <a:xfrm>
            <a:off x="677880" y="2604960"/>
            <a:ext cx="3762360" cy="2820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IMG_6740"/>
          <p:cNvPicPr/>
          <p:nvPr/>
        </p:nvPicPr>
        <p:blipFill>
          <a:blip r:embed="rId2"/>
          <a:stretch/>
        </p:blipFill>
        <p:spPr>
          <a:xfrm>
            <a:off x="4653000" y="2563920"/>
            <a:ext cx="3851280" cy="288756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6"/>
          <p:cNvGrpSpPr/>
          <p:nvPr/>
        </p:nvGrpSpPr>
        <p:grpSpPr>
          <a:xfrm>
            <a:off x="746280" y="3640320"/>
            <a:ext cx="7638840" cy="2487240"/>
            <a:chOff x="746280" y="3640320"/>
            <a:chExt cx="7638840" cy="2487240"/>
          </a:xfrm>
        </p:grpSpPr>
        <p:sp>
          <p:nvSpPr>
            <p:cNvPr id="235" name="AutoShape 7"/>
            <p:cNvSpPr/>
            <p:nvPr/>
          </p:nvSpPr>
          <p:spPr>
            <a:xfrm rot="2433600">
              <a:off x="2323800" y="4013280"/>
              <a:ext cx="291960" cy="291960"/>
            </a:xfrm>
            <a:prstGeom prst="plus">
              <a:avLst>
                <a:gd name="adj" fmla="val 40384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8"/>
            <p:cNvSpPr/>
            <p:nvPr/>
          </p:nvSpPr>
          <p:spPr>
            <a:xfrm rot="2433600">
              <a:off x="6811560" y="3700080"/>
              <a:ext cx="292320" cy="291960"/>
            </a:xfrm>
            <a:prstGeom prst="plus">
              <a:avLst>
                <a:gd name="adj" fmla="val 40384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9"/>
            <p:cNvSpPr/>
            <p:nvPr/>
          </p:nvSpPr>
          <p:spPr>
            <a:xfrm>
              <a:off x="746280" y="5484960"/>
              <a:ext cx="763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oint of support is the tip of the beak. Center of gravity must be directly above or below that point. Wings are weighted so CG is below the bea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lance &amp; D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66760" y="3738600"/>
          <a:ext cx="4451400" cy="273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3738600"/>
                    <a:ext cx="445140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Picture 4" descr="biwiles1ms"/>
          <p:cNvPicPr/>
          <p:nvPr/>
        </p:nvPicPr>
        <p:blipFill>
          <a:blip r:embed="rId3"/>
          <a:stretch/>
        </p:blipFill>
        <p:spPr>
          <a:xfrm>
            <a:off x="4753080" y="1697040"/>
            <a:ext cx="3835440" cy="4794120"/>
          </a:xfrm>
          <a:prstGeom prst="rect">
            <a:avLst/>
          </a:prstGeom>
          <a:ln w="0">
            <a:noFill/>
          </a:ln>
        </p:spPr>
      </p:pic>
      <p:sp>
        <p:nvSpPr>
          <p:cNvPr id="243" name="Line 5"/>
          <p:cNvSpPr/>
          <p:nvPr/>
        </p:nvSpPr>
        <p:spPr>
          <a:xfrm flipV="1">
            <a:off x="6286680" y="2552400"/>
            <a:ext cx="0" cy="3670200"/>
          </a:xfrm>
          <a:prstGeom prst="line">
            <a:avLst/>
          </a:prstGeom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438960" y="1827360"/>
            <a:ext cx="19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enter of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cated abov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ancer’s t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78000" y="1344600"/>
            <a:ext cx="420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 of gravity and the support force of the floor can balance only when a dancer’s center of gravity is located above the base of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se of Support with a Partn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8" name="Picture 4" descr="BalletPose"/>
          <p:cNvPicPr/>
          <p:nvPr/>
        </p:nvPicPr>
        <p:blipFill>
          <a:blip r:embed="rId1"/>
          <a:stretch/>
        </p:blipFill>
        <p:spPr>
          <a:xfrm>
            <a:off x="4305240" y="1617840"/>
            <a:ext cx="4172040" cy="3154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BalletBaseSupport"/>
          <p:cNvPicPr/>
          <p:nvPr/>
        </p:nvPicPr>
        <p:blipFill>
          <a:blip r:embed="rId2"/>
          <a:stretch/>
        </p:blipFill>
        <p:spPr>
          <a:xfrm>
            <a:off x="3016080" y="4756320"/>
            <a:ext cx="6127920" cy="2101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8"/>
          <p:cNvSpPr/>
          <p:nvPr/>
        </p:nvSpPr>
        <p:spPr>
          <a:xfrm>
            <a:off x="4519800" y="551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145560" y="2652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4469400" y="36432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5334120" y="2958840"/>
            <a:ext cx="799920" cy="584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2"/>
          <p:cNvSpPr/>
          <p:nvPr/>
        </p:nvSpPr>
        <p:spPr>
          <a:xfrm flipH="1">
            <a:off x="4698720" y="4317840"/>
            <a:ext cx="26676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3200" y="1916280"/>
            <a:ext cx="3448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ancers, together, can form a larger base of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of gravity is roughly located in between the two dancers, as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happens if he shifts his front foot b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if he shifts his back foot forwa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llet Bar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7352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let barre also extends the base of support, with the hand acting as a “third foo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Ballet_Barre"/>
          <p:cNvPicPr/>
          <p:nvPr/>
        </p:nvPicPr>
        <p:blipFill>
          <a:blip r:embed="rId1"/>
          <a:stretch/>
        </p:blipFill>
        <p:spPr>
          <a:xfrm>
            <a:off x="5248440" y="1577880"/>
            <a:ext cx="3646440" cy="47116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8"/>
          <p:cNvSpPr/>
          <p:nvPr/>
        </p:nvSpPr>
        <p:spPr>
          <a:xfrm>
            <a:off x="380880" y="4152960"/>
            <a:ext cx="466092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0"/>
          <p:cNvSpPr/>
          <p:nvPr/>
        </p:nvSpPr>
        <p:spPr>
          <a:xfrm>
            <a:off x="2925720" y="5384880"/>
            <a:ext cx="587520" cy="871560"/>
          </a:xfrm>
          <a:custGeom>
            <a:avLst/>
            <a:gdLst>
              <a:gd name="textAreaLeft" fmla="*/ 0 w 587520"/>
              <a:gd name="textAreaRight" fmla="*/ 587880 w 587520"/>
              <a:gd name="textAreaTop" fmla="*/ 0 h 871560"/>
              <a:gd name="textAreaBottom" fmla="*/ 871920 h 871560"/>
            </a:gdLst>
            <a:ahLst/>
            <a:rect l="textAreaLeft" t="textAreaTop" r="textAreaRight" b="textAreaBottom"/>
            <a:pathLst>
              <a:path w="370" h="549">
                <a:moveTo>
                  <a:pt x="13" y="80"/>
                </a:moveTo>
                <a:cubicBezTo>
                  <a:pt x="23" y="28"/>
                  <a:pt x="13" y="24"/>
                  <a:pt x="61" y="0"/>
                </a:cubicBezTo>
                <a:cubicBezTo>
                  <a:pt x="104" y="3"/>
                  <a:pt x="146" y="4"/>
                  <a:pt x="189" y="8"/>
                </a:cubicBezTo>
                <a:cubicBezTo>
                  <a:pt x="197" y="9"/>
                  <a:pt x="208" y="9"/>
                  <a:pt x="213" y="16"/>
                </a:cubicBezTo>
                <a:cubicBezTo>
                  <a:pt x="230" y="40"/>
                  <a:pt x="237" y="90"/>
                  <a:pt x="245" y="120"/>
                </a:cubicBezTo>
                <a:cubicBezTo>
                  <a:pt x="258" y="167"/>
                  <a:pt x="246" y="121"/>
                  <a:pt x="269" y="168"/>
                </a:cubicBezTo>
                <a:cubicBezTo>
                  <a:pt x="286" y="202"/>
                  <a:pt x="289" y="243"/>
                  <a:pt x="301" y="280"/>
                </a:cubicBezTo>
                <a:cubicBezTo>
                  <a:pt x="313" y="361"/>
                  <a:pt x="370" y="513"/>
                  <a:pt x="277" y="544"/>
                </a:cubicBezTo>
                <a:cubicBezTo>
                  <a:pt x="198" y="538"/>
                  <a:pt x="172" y="549"/>
                  <a:pt x="117" y="512"/>
                </a:cubicBezTo>
                <a:cubicBezTo>
                  <a:pt x="97" y="482"/>
                  <a:pt x="88" y="450"/>
                  <a:pt x="77" y="416"/>
                </a:cubicBezTo>
                <a:cubicBezTo>
                  <a:pt x="69" y="392"/>
                  <a:pt x="47" y="367"/>
                  <a:pt x="37" y="344"/>
                </a:cubicBezTo>
                <a:cubicBezTo>
                  <a:pt x="30" y="329"/>
                  <a:pt x="26" y="312"/>
                  <a:pt x="21" y="296"/>
                </a:cubicBezTo>
                <a:cubicBezTo>
                  <a:pt x="18" y="288"/>
                  <a:pt x="13" y="272"/>
                  <a:pt x="13" y="272"/>
                </a:cubicBezTo>
                <a:cubicBezTo>
                  <a:pt x="4" y="123"/>
                  <a:pt x="0" y="186"/>
                  <a:pt x="13" y="8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1"/>
          <p:cNvSpPr/>
          <p:nvPr/>
        </p:nvSpPr>
        <p:spPr>
          <a:xfrm>
            <a:off x="800280" y="5105520"/>
            <a:ext cx="203040" cy="177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2"/>
          <p:cNvSpPr/>
          <p:nvPr/>
        </p:nvSpPr>
        <p:spPr>
          <a:xfrm rot="21376200">
            <a:off x="3770280" y="4061880"/>
            <a:ext cx="777960" cy="390600"/>
          </a:xfrm>
          <a:custGeom>
            <a:avLst/>
            <a:gdLst>
              <a:gd name="textAreaLeft" fmla="*/ 0 w 777960"/>
              <a:gd name="textAreaRight" fmla="*/ 778320 w 77796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490" h="246">
                <a:moveTo>
                  <a:pt x="33" y="57"/>
                </a:moveTo>
                <a:cubicBezTo>
                  <a:pt x="120" y="35"/>
                  <a:pt x="75" y="43"/>
                  <a:pt x="169" y="33"/>
                </a:cubicBezTo>
                <a:cubicBezTo>
                  <a:pt x="268" y="0"/>
                  <a:pt x="200" y="16"/>
                  <a:pt x="377" y="25"/>
                </a:cubicBezTo>
                <a:cubicBezTo>
                  <a:pt x="438" y="45"/>
                  <a:pt x="408" y="38"/>
                  <a:pt x="465" y="49"/>
                </a:cubicBezTo>
                <a:cubicBezTo>
                  <a:pt x="468" y="57"/>
                  <a:pt x="473" y="65"/>
                  <a:pt x="473" y="73"/>
                </a:cubicBezTo>
                <a:cubicBezTo>
                  <a:pt x="473" y="246"/>
                  <a:pt x="490" y="192"/>
                  <a:pt x="305" y="201"/>
                </a:cubicBezTo>
                <a:cubicBezTo>
                  <a:pt x="254" y="188"/>
                  <a:pt x="282" y="199"/>
                  <a:pt x="225" y="161"/>
                </a:cubicBezTo>
                <a:cubicBezTo>
                  <a:pt x="209" y="156"/>
                  <a:pt x="177" y="145"/>
                  <a:pt x="177" y="145"/>
                </a:cubicBezTo>
                <a:cubicBezTo>
                  <a:pt x="143" y="149"/>
                  <a:pt x="74" y="163"/>
                  <a:pt x="41" y="145"/>
                </a:cubicBezTo>
                <a:cubicBezTo>
                  <a:pt x="24" y="136"/>
                  <a:pt x="20" y="113"/>
                  <a:pt x="9" y="97"/>
                </a:cubicBezTo>
                <a:cubicBezTo>
                  <a:pt x="0" y="84"/>
                  <a:pt x="25" y="70"/>
                  <a:pt x="33" y="5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3"/>
          <p:cNvSpPr/>
          <p:nvPr/>
        </p:nvSpPr>
        <p:spPr>
          <a:xfrm flipV="1">
            <a:off x="838080" y="4177800"/>
            <a:ext cx="2959200" cy="9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812880" y="5257800"/>
            <a:ext cx="2324160" cy="9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5"/>
          <p:cNvSpPr/>
          <p:nvPr/>
        </p:nvSpPr>
        <p:spPr>
          <a:xfrm flipV="1">
            <a:off x="3429000" y="4330800"/>
            <a:ext cx="1079640" cy="18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6"/>
          <p:cNvSpPr/>
          <p:nvPr/>
        </p:nvSpPr>
        <p:spPr>
          <a:xfrm flipH="1">
            <a:off x="1346040" y="5003640"/>
            <a:ext cx="190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7"/>
          <p:cNvSpPr/>
          <p:nvPr/>
        </p:nvSpPr>
        <p:spPr>
          <a:xfrm flipV="1">
            <a:off x="1523880" y="4876920"/>
            <a:ext cx="41940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8"/>
          <p:cNvSpPr/>
          <p:nvPr/>
        </p:nvSpPr>
        <p:spPr>
          <a:xfrm flipV="1">
            <a:off x="1752480" y="4775040"/>
            <a:ext cx="55908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 flipH="1">
            <a:off x="2577960" y="5676840"/>
            <a:ext cx="190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0"/>
          <p:cNvSpPr/>
          <p:nvPr/>
        </p:nvSpPr>
        <p:spPr>
          <a:xfrm flipV="1">
            <a:off x="2273400" y="5232240"/>
            <a:ext cx="4190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1"/>
          <p:cNvSpPr/>
          <p:nvPr/>
        </p:nvSpPr>
        <p:spPr>
          <a:xfrm flipV="1">
            <a:off x="2298600" y="4572000"/>
            <a:ext cx="55908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2831400" y="46465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"/>
          <p:cNvSpPr/>
          <p:nvPr/>
        </p:nvSpPr>
        <p:spPr>
          <a:xfrm flipV="1">
            <a:off x="3517920" y="5118120"/>
            <a:ext cx="4190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 flipH="1">
            <a:off x="3365280" y="4394160"/>
            <a:ext cx="190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H="1">
            <a:off x="3898440" y="4533840"/>
            <a:ext cx="190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2880720" y="567540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518760" y="52941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897000" y="40622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ижний колонтитул 2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3297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Motion &amp; Center of Gravit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82" name="Group 40"/>
          <p:cNvGrpSpPr/>
          <p:nvPr/>
        </p:nvGrpSpPr>
        <p:grpSpPr>
          <a:xfrm>
            <a:off x="8342280" y="3327480"/>
            <a:ext cx="228600" cy="228600"/>
            <a:chOff x="8342280" y="3327480"/>
            <a:chExt cx="228600" cy="228600"/>
          </a:xfrm>
        </p:grpSpPr>
        <p:sp>
          <p:nvSpPr>
            <p:cNvPr id="283" name="Oval 41"/>
            <p:cNvSpPr/>
            <p:nvPr/>
          </p:nvSpPr>
          <p:spPr>
            <a:xfrm>
              <a:off x="8342280" y="33274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42"/>
            <p:cNvSpPr/>
            <p:nvPr/>
          </p:nvSpPr>
          <p:spPr>
            <a:xfrm>
              <a:off x="8431200" y="34164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43"/>
          <p:cNvGrpSpPr/>
          <p:nvPr/>
        </p:nvGrpSpPr>
        <p:grpSpPr>
          <a:xfrm>
            <a:off x="8342280" y="1954080"/>
            <a:ext cx="228600" cy="228600"/>
            <a:chOff x="8342280" y="1954080"/>
            <a:chExt cx="228600" cy="228600"/>
          </a:xfrm>
        </p:grpSpPr>
        <p:sp>
          <p:nvSpPr>
            <p:cNvPr id="286" name="Oval 44"/>
            <p:cNvSpPr/>
            <p:nvPr/>
          </p:nvSpPr>
          <p:spPr>
            <a:xfrm>
              <a:off x="8342280" y="1954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45"/>
            <p:cNvSpPr/>
            <p:nvPr/>
          </p:nvSpPr>
          <p:spPr>
            <a:xfrm>
              <a:off x="8431200" y="2043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46"/>
          <p:cNvSpPr/>
          <p:nvPr/>
        </p:nvSpPr>
        <p:spPr>
          <a:xfrm>
            <a:off x="2454120" y="3122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7"/>
          <p:cNvSpPr/>
          <p:nvPr/>
        </p:nvSpPr>
        <p:spPr>
          <a:xfrm>
            <a:off x="3368520" y="1919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5146560" y="135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130400" y="16002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130400" y="205740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130400" y="342900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130400" y="5943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3"/>
          <p:cNvSpPr/>
          <p:nvPr/>
        </p:nvSpPr>
        <p:spPr>
          <a:xfrm>
            <a:off x="833760" y="45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54"/>
          <p:cNvGrpSpPr/>
          <p:nvPr/>
        </p:nvGrpSpPr>
        <p:grpSpPr>
          <a:xfrm>
            <a:off x="8342280" y="1484280"/>
            <a:ext cx="228600" cy="228600"/>
            <a:chOff x="8342280" y="1484280"/>
            <a:chExt cx="228600" cy="228600"/>
          </a:xfrm>
        </p:grpSpPr>
        <p:sp>
          <p:nvSpPr>
            <p:cNvPr id="297" name="Oval 55"/>
            <p:cNvSpPr/>
            <p:nvPr/>
          </p:nvSpPr>
          <p:spPr>
            <a:xfrm>
              <a:off x="8342280" y="148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56"/>
            <p:cNvSpPr/>
            <p:nvPr/>
          </p:nvSpPr>
          <p:spPr>
            <a:xfrm>
              <a:off x="8431200" y="15732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7"/>
          <p:cNvGrpSpPr/>
          <p:nvPr/>
        </p:nvGrpSpPr>
        <p:grpSpPr>
          <a:xfrm>
            <a:off x="6056280" y="1486080"/>
            <a:ext cx="228600" cy="228600"/>
            <a:chOff x="6056280" y="1486080"/>
            <a:chExt cx="228600" cy="228600"/>
          </a:xfrm>
        </p:grpSpPr>
        <p:sp>
          <p:nvSpPr>
            <p:cNvPr id="300" name="Oval 58"/>
            <p:cNvSpPr/>
            <p:nvPr/>
          </p:nvSpPr>
          <p:spPr>
            <a:xfrm>
              <a:off x="6056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59"/>
            <p:cNvSpPr/>
            <p:nvPr/>
          </p:nvSpPr>
          <p:spPr>
            <a:xfrm>
              <a:off x="6145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0"/>
          <p:cNvGrpSpPr/>
          <p:nvPr/>
        </p:nvGrpSpPr>
        <p:grpSpPr>
          <a:xfrm>
            <a:off x="7199280" y="1486080"/>
            <a:ext cx="228600" cy="228600"/>
            <a:chOff x="7199280" y="1486080"/>
            <a:chExt cx="228600" cy="228600"/>
          </a:xfrm>
        </p:grpSpPr>
        <p:sp>
          <p:nvSpPr>
            <p:cNvPr id="303" name="Oval 61"/>
            <p:cNvSpPr/>
            <p:nvPr/>
          </p:nvSpPr>
          <p:spPr>
            <a:xfrm>
              <a:off x="7199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62"/>
            <p:cNvSpPr/>
            <p:nvPr/>
          </p:nvSpPr>
          <p:spPr>
            <a:xfrm>
              <a:off x="7288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63"/>
          <p:cNvGrpSpPr/>
          <p:nvPr/>
        </p:nvGrpSpPr>
        <p:grpSpPr>
          <a:xfrm>
            <a:off x="1484280" y="1486080"/>
            <a:ext cx="228600" cy="228600"/>
            <a:chOff x="1484280" y="1486080"/>
            <a:chExt cx="228600" cy="228600"/>
          </a:xfrm>
        </p:grpSpPr>
        <p:sp>
          <p:nvSpPr>
            <p:cNvPr id="306" name="Oval 64"/>
            <p:cNvSpPr/>
            <p:nvPr/>
          </p:nvSpPr>
          <p:spPr>
            <a:xfrm>
              <a:off x="1484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65"/>
            <p:cNvSpPr/>
            <p:nvPr/>
          </p:nvSpPr>
          <p:spPr>
            <a:xfrm>
              <a:off x="1573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6"/>
          <p:cNvGrpSpPr/>
          <p:nvPr/>
        </p:nvGrpSpPr>
        <p:grpSpPr>
          <a:xfrm>
            <a:off x="2627280" y="1484280"/>
            <a:ext cx="228600" cy="228600"/>
            <a:chOff x="2627280" y="1484280"/>
            <a:chExt cx="228600" cy="228600"/>
          </a:xfrm>
        </p:grpSpPr>
        <p:sp>
          <p:nvSpPr>
            <p:cNvPr id="309" name="Oval 67"/>
            <p:cNvSpPr/>
            <p:nvPr/>
          </p:nvSpPr>
          <p:spPr>
            <a:xfrm>
              <a:off x="2627280" y="148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68"/>
            <p:cNvSpPr/>
            <p:nvPr/>
          </p:nvSpPr>
          <p:spPr>
            <a:xfrm>
              <a:off x="2716200" y="15732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69"/>
          <p:cNvGrpSpPr/>
          <p:nvPr/>
        </p:nvGrpSpPr>
        <p:grpSpPr>
          <a:xfrm>
            <a:off x="3770280" y="1486080"/>
            <a:ext cx="228600" cy="228600"/>
            <a:chOff x="3770280" y="1486080"/>
            <a:chExt cx="228600" cy="228600"/>
          </a:xfrm>
        </p:grpSpPr>
        <p:sp>
          <p:nvSpPr>
            <p:cNvPr id="312" name="Oval 70"/>
            <p:cNvSpPr/>
            <p:nvPr/>
          </p:nvSpPr>
          <p:spPr>
            <a:xfrm>
              <a:off x="3770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71"/>
            <p:cNvSpPr/>
            <p:nvPr/>
          </p:nvSpPr>
          <p:spPr>
            <a:xfrm>
              <a:off x="3859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72"/>
          <p:cNvSpPr/>
          <p:nvPr/>
        </p:nvSpPr>
        <p:spPr>
          <a:xfrm>
            <a:off x="783000" y="612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3"/>
          <p:cNvSpPr/>
          <p:nvPr/>
        </p:nvSpPr>
        <p:spPr>
          <a:xfrm>
            <a:off x="808560" y="246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4"/>
          <p:cNvSpPr/>
          <p:nvPr/>
        </p:nvSpPr>
        <p:spPr>
          <a:xfrm>
            <a:off x="795600" y="168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5"/>
          <p:cNvSpPr/>
          <p:nvPr/>
        </p:nvSpPr>
        <p:spPr>
          <a:xfrm>
            <a:off x="6416280" y="182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6"/>
          <p:cNvSpPr/>
          <p:nvPr/>
        </p:nvSpPr>
        <p:spPr>
          <a:xfrm>
            <a:off x="1247400" y="5675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7"/>
          <p:cNvSpPr/>
          <p:nvPr/>
        </p:nvSpPr>
        <p:spPr>
          <a:xfrm>
            <a:off x="7356240" y="3122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8"/>
          <p:cNvSpPr/>
          <p:nvPr/>
        </p:nvSpPr>
        <p:spPr>
          <a:xfrm>
            <a:off x="8473680" y="5599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79"/>
          <p:cNvGrpSpPr/>
          <p:nvPr/>
        </p:nvGrpSpPr>
        <p:grpSpPr>
          <a:xfrm>
            <a:off x="1484280" y="1941480"/>
            <a:ext cx="228600" cy="228600"/>
            <a:chOff x="1484280" y="1941480"/>
            <a:chExt cx="228600" cy="228600"/>
          </a:xfrm>
        </p:grpSpPr>
        <p:sp>
          <p:nvSpPr>
            <p:cNvPr id="322" name="Oval 80"/>
            <p:cNvSpPr/>
            <p:nvPr/>
          </p:nvSpPr>
          <p:spPr>
            <a:xfrm>
              <a:off x="1484280" y="19414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81"/>
            <p:cNvSpPr/>
            <p:nvPr/>
          </p:nvSpPr>
          <p:spPr>
            <a:xfrm>
              <a:off x="1573200" y="20304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82"/>
          <p:cNvGrpSpPr/>
          <p:nvPr/>
        </p:nvGrpSpPr>
        <p:grpSpPr>
          <a:xfrm>
            <a:off x="1484280" y="3314880"/>
            <a:ext cx="228600" cy="228600"/>
            <a:chOff x="1484280" y="3314880"/>
            <a:chExt cx="228600" cy="228600"/>
          </a:xfrm>
        </p:grpSpPr>
        <p:sp>
          <p:nvSpPr>
            <p:cNvPr id="325" name="Oval 83"/>
            <p:cNvSpPr/>
            <p:nvPr/>
          </p:nvSpPr>
          <p:spPr>
            <a:xfrm>
              <a:off x="14842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84"/>
            <p:cNvSpPr/>
            <p:nvPr/>
          </p:nvSpPr>
          <p:spPr>
            <a:xfrm>
              <a:off x="15732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85"/>
          <p:cNvSpPr/>
          <p:nvPr/>
        </p:nvSpPr>
        <p:spPr>
          <a:xfrm>
            <a:off x="3375000" y="2967120"/>
            <a:ext cx="351648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inning object turns about its center of gravity as it flies through the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of gravity follows a parabolic trajectory which is the same for all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86"/>
          <p:cNvGrpSpPr/>
          <p:nvPr/>
        </p:nvGrpSpPr>
        <p:grpSpPr>
          <a:xfrm>
            <a:off x="977760" y="5778360"/>
            <a:ext cx="927000" cy="317520"/>
            <a:chOff x="977760" y="5778360"/>
            <a:chExt cx="927000" cy="317520"/>
          </a:xfrm>
        </p:grpSpPr>
        <p:sp>
          <p:nvSpPr>
            <p:cNvPr id="329" name="Rectangle 87"/>
            <p:cNvSpPr/>
            <p:nvPr/>
          </p:nvSpPr>
          <p:spPr>
            <a:xfrm>
              <a:off x="977760" y="5892840"/>
              <a:ext cx="762120" cy="101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88"/>
            <p:cNvSpPr/>
            <p:nvPr/>
          </p:nvSpPr>
          <p:spPr>
            <a:xfrm>
              <a:off x="1574640" y="577836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89"/>
            <p:cNvSpPr/>
            <p:nvPr/>
          </p:nvSpPr>
          <p:spPr>
            <a:xfrm>
              <a:off x="1560600" y="59180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90"/>
          <p:cNvGrpSpPr/>
          <p:nvPr/>
        </p:nvGrpSpPr>
        <p:grpSpPr>
          <a:xfrm>
            <a:off x="2577960" y="2819520"/>
            <a:ext cx="317520" cy="927000"/>
            <a:chOff x="2577960" y="2819520"/>
            <a:chExt cx="317520" cy="927000"/>
          </a:xfrm>
        </p:grpSpPr>
        <p:sp>
          <p:nvSpPr>
            <p:cNvPr id="333" name="Rectangle 91"/>
            <p:cNvSpPr/>
            <p:nvPr/>
          </p:nvSpPr>
          <p:spPr>
            <a:xfrm rot="5400000">
              <a:off x="2349000" y="3149640"/>
              <a:ext cx="762120" cy="101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92"/>
            <p:cNvSpPr/>
            <p:nvPr/>
          </p:nvSpPr>
          <p:spPr>
            <a:xfrm rot="5400000">
              <a:off x="2571480" y="34225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93"/>
            <p:cNvSpPr/>
            <p:nvPr/>
          </p:nvSpPr>
          <p:spPr>
            <a:xfrm rot="5400000">
              <a:off x="2705040" y="340236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94"/>
          <p:cNvGrpSpPr/>
          <p:nvPr/>
        </p:nvGrpSpPr>
        <p:grpSpPr>
          <a:xfrm>
            <a:off x="1471680" y="5829480"/>
            <a:ext cx="228600" cy="228600"/>
            <a:chOff x="1471680" y="5829480"/>
            <a:chExt cx="228600" cy="228600"/>
          </a:xfrm>
        </p:grpSpPr>
        <p:sp>
          <p:nvSpPr>
            <p:cNvPr id="337" name="Oval 95"/>
            <p:cNvSpPr/>
            <p:nvPr/>
          </p:nvSpPr>
          <p:spPr>
            <a:xfrm>
              <a:off x="1471680" y="5829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96"/>
            <p:cNvSpPr/>
            <p:nvPr/>
          </p:nvSpPr>
          <p:spPr>
            <a:xfrm>
              <a:off x="1560600" y="59184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97"/>
          <p:cNvGrpSpPr/>
          <p:nvPr/>
        </p:nvGrpSpPr>
        <p:grpSpPr>
          <a:xfrm>
            <a:off x="3568320" y="1905120"/>
            <a:ext cx="927000" cy="317520"/>
            <a:chOff x="3568320" y="1905120"/>
            <a:chExt cx="927000" cy="317520"/>
          </a:xfrm>
        </p:grpSpPr>
        <p:sp>
          <p:nvSpPr>
            <p:cNvPr id="340" name="Rectangle 98"/>
            <p:cNvSpPr/>
            <p:nvPr/>
          </p:nvSpPr>
          <p:spPr>
            <a:xfrm rot="10800000">
              <a:off x="3733200" y="2006640"/>
              <a:ext cx="762120" cy="101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99"/>
            <p:cNvSpPr/>
            <p:nvPr/>
          </p:nvSpPr>
          <p:spPr>
            <a:xfrm rot="10800000">
              <a:off x="3568320" y="19051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00"/>
            <p:cNvSpPr/>
            <p:nvPr/>
          </p:nvSpPr>
          <p:spPr>
            <a:xfrm rot="10800000">
              <a:off x="3861720" y="203220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01"/>
          <p:cNvGrpSpPr/>
          <p:nvPr/>
        </p:nvGrpSpPr>
        <p:grpSpPr>
          <a:xfrm>
            <a:off x="4851360" y="1282320"/>
            <a:ext cx="317520" cy="927000"/>
            <a:chOff x="4851360" y="1282320"/>
            <a:chExt cx="317520" cy="927000"/>
          </a:xfrm>
        </p:grpSpPr>
        <p:sp>
          <p:nvSpPr>
            <p:cNvPr id="344" name="Rectangle 102"/>
            <p:cNvSpPr/>
            <p:nvPr/>
          </p:nvSpPr>
          <p:spPr>
            <a:xfrm rot="16200000">
              <a:off x="4635360" y="1777320"/>
              <a:ext cx="762120" cy="101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03"/>
            <p:cNvSpPr/>
            <p:nvPr/>
          </p:nvSpPr>
          <p:spPr>
            <a:xfrm rot="16200000">
              <a:off x="4844880" y="128844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104"/>
            <p:cNvSpPr/>
            <p:nvPr/>
          </p:nvSpPr>
          <p:spPr>
            <a:xfrm rot="16200000">
              <a:off x="4991040" y="157572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05"/>
          <p:cNvGrpSpPr/>
          <p:nvPr/>
        </p:nvGrpSpPr>
        <p:grpSpPr>
          <a:xfrm>
            <a:off x="5562720" y="1892160"/>
            <a:ext cx="927000" cy="317520"/>
            <a:chOff x="5562720" y="1892160"/>
            <a:chExt cx="927000" cy="317520"/>
          </a:xfrm>
        </p:grpSpPr>
        <p:sp>
          <p:nvSpPr>
            <p:cNvPr id="348" name="Rectangle 106"/>
            <p:cNvSpPr/>
            <p:nvPr/>
          </p:nvSpPr>
          <p:spPr>
            <a:xfrm>
              <a:off x="5562720" y="2006640"/>
              <a:ext cx="762120" cy="101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07"/>
            <p:cNvSpPr/>
            <p:nvPr/>
          </p:nvSpPr>
          <p:spPr>
            <a:xfrm>
              <a:off x="6159600" y="189216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08"/>
            <p:cNvSpPr/>
            <p:nvPr/>
          </p:nvSpPr>
          <p:spPr>
            <a:xfrm>
              <a:off x="6145560" y="20318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09"/>
          <p:cNvGrpSpPr/>
          <p:nvPr/>
        </p:nvGrpSpPr>
        <p:grpSpPr>
          <a:xfrm>
            <a:off x="7175520" y="2819520"/>
            <a:ext cx="317520" cy="927000"/>
            <a:chOff x="7175520" y="2819520"/>
            <a:chExt cx="317520" cy="927000"/>
          </a:xfrm>
        </p:grpSpPr>
        <p:sp>
          <p:nvSpPr>
            <p:cNvPr id="352" name="Rectangle 110"/>
            <p:cNvSpPr/>
            <p:nvPr/>
          </p:nvSpPr>
          <p:spPr>
            <a:xfrm rot="5400000">
              <a:off x="6946560" y="3149640"/>
              <a:ext cx="762120" cy="101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11"/>
            <p:cNvSpPr/>
            <p:nvPr/>
          </p:nvSpPr>
          <p:spPr>
            <a:xfrm rot="5400000">
              <a:off x="7169040" y="34225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12"/>
            <p:cNvSpPr/>
            <p:nvPr/>
          </p:nvSpPr>
          <p:spPr>
            <a:xfrm rot="5400000">
              <a:off x="7302600" y="340236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13"/>
          <p:cNvGrpSpPr/>
          <p:nvPr/>
        </p:nvGrpSpPr>
        <p:grpSpPr>
          <a:xfrm>
            <a:off x="8140320" y="5791320"/>
            <a:ext cx="927000" cy="317520"/>
            <a:chOff x="8140320" y="5791320"/>
            <a:chExt cx="927000" cy="317520"/>
          </a:xfrm>
        </p:grpSpPr>
        <p:sp>
          <p:nvSpPr>
            <p:cNvPr id="356" name="Rectangle 114"/>
            <p:cNvSpPr/>
            <p:nvPr/>
          </p:nvSpPr>
          <p:spPr>
            <a:xfrm rot="10800000">
              <a:off x="8305200" y="5892840"/>
              <a:ext cx="762120" cy="1015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115"/>
            <p:cNvSpPr/>
            <p:nvPr/>
          </p:nvSpPr>
          <p:spPr>
            <a:xfrm rot="10800000">
              <a:off x="8140320" y="57913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16"/>
            <p:cNvSpPr/>
            <p:nvPr/>
          </p:nvSpPr>
          <p:spPr>
            <a:xfrm rot="10800000">
              <a:off x="8433720" y="591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17"/>
          <p:cNvGrpSpPr/>
          <p:nvPr/>
        </p:nvGrpSpPr>
        <p:grpSpPr>
          <a:xfrm>
            <a:off x="2614680" y="3314880"/>
            <a:ext cx="228600" cy="228600"/>
            <a:chOff x="2614680" y="3314880"/>
            <a:chExt cx="228600" cy="228600"/>
          </a:xfrm>
        </p:grpSpPr>
        <p:sp>
          <p:nvSpPr>
            <p:cNvPr id="360" name="Oval 118"/>
            <p:cNvSpPr/>
            <p:nvPr/>
          </p:nvSpPr>
          <p:spPr>
            <a:xfrm>
              <a:off x="26146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19"/>
            <p:cNvSpPr/>
            <p:nvPr/>
          </p:nvSpPr>
          <p:spPr>
            <a:xfrm>
              <a:off x="27036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20"/>
          <p:cNvGrpSpPr/>
          <p:nvPr/>
        </p:nvGrpSpPr>
        <p:grpSpPr>
          <a:xfrm>
            <a:off x="3770280" y="1943280"/>
            <a:ext cx="228600" cy="228600"/>
            <a:chOff x="3770280" y="1943280"/>
            <a:chExt cx="228600" cy="228600"/>
          </a:xfrm>
        </p:grpSpPr>
        <p:sp>
          <p:nvSpPr>
            <p:cNvPr id="363" name="Oval 121"/>
            <p:cNvSpPr/>
            <p:nvPr/>
          </p:nvSpPr>
          <p:spPr>
            <a:xfrm>
              <a:off x="3770280" y="1943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22"/>
            <p:cNvSpPr/>
            <p:nvPr/>
          </p:nvSpPr>
          <p:spPr>
            <a:xfrm>
              <a:off x="3859200" y="20322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23"/>
          <p:cNvGrpSpPr/>
          <p:nvPr/>
        </p:nvGrpSpPr>
        <p:grpSpPr>
          <a:xfrm>
            <a:off x="4900680" y="1486080"/>
            <a:ext cx="228600" cy="228600"/>
            <a:chOff x="4900680" y="1486080"/>
            <a:chExt cx="228600" cy="228600"/>
          </a:xfrm>
        </p:grpSpPr>
        <p:sp>
          <p:nvSpPr>
            <p:cNvPr id="366" name="Oval 124"/>
            <p:cNvSpPr/>
            <p:nvPr/>
          </p:nvSpPr>
          <p:spPr>
            <a:xfrm>
              <a:off x="49006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25"/>
            <p:cNvSpPr/>
            <p:nvPr/>
          </p:nvSpPr>
          <p:spPr>
            <a:xfrm>
              <a:off x="49896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6"/>
          <p:cNvGrpSpPr/>
          <p:nvPr/>
        </p:nvGrpSpPr>
        <p:grpSpPr>
          <a:xfrm>
            <a:off x="6056280" y="1943280"/>
            <a:ext cx="228600" cy="228600"/>
            <a:chOff x="6056280" y="1943280"/>
            <a:chExt cx="228600" cy="228600"/>
          </a:xfrm>
        </p:grpSpPr>
        <p:sp>
          <p:nvSpPr>
            <p:cNvPr id="369" name="Oval 127"/>
            <p:cNvSpPr/>
            <p:nvPr/>
          </p:nvSpPr>
          <p:spPr>
            <a:xfrm>
              <a:off x="6056280" y="1943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28"/>
            <p:cNvSpPr/>
            <p:nvPr/>
          </p:nvSpPr>
          <p:spPr>
            <a:xfrm>
              <a:off x="6145200" y="20322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29"/>
          <p:cNvGrpSpPr/>
          <p:nvPr/>
        </p:nvGrpSpPr>
        <p:grpSpPr>
          <a:xfrm>
            <a:off x="7211880" y="3314880"/>
            <a:ext cx="228600" cy="228600"/>
            <a:chOff x="7211880" y="3314880"/>
            <a:chExt cx="228600" cy="228600"/>
          </a:xfrm>
        </p:grpSpPr>
        <p:sp>
          <p:nvSpPr>
            <p:cNvPr id="372" name="Oval 130"/>
            <p:cNvSpPr/>
            <p:nvPr/>
          </p:nvSpPr>
          <p:spPr>
            <a:xfrm>
              <a:off x="72118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31"/>
            <p:cNvSpPr/>
            <p:nvPr/>
          </p:nvSpPr>
          <p:spPr>
            <a:xfrm>
              <a:off x="73008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32"/>
          <p:cNvGrpSpPr/>
          <p:nvPr/>
        </p:nvGrpSpPr>
        <p:grpSpPr>
          <a:xfrm>
            <a:off x="8342280" y="5829480"/>
            <a:ext cx="228600" cy="228600"/>
            <a:chOff x="8342280" y="5829480"/>
            <a:chExt cx="228600" cy="228600"/>
          </a:xfrm>
        </p:grpSpPr>
        <p:sp>
          <p:nvSpPr>
            <p:cNvPr id="375" name="Oval 133"/>
            <p:cNvSpPr/>
            <p:nvPr/>
          </p:nvSpPr>
          <p:spPr>
            <a:xfrm>
              <a:off x="8342280" y="5829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34"/>
            <p:cNvSpPr/>
            <p:nvPr/>
          </p:nvSpPr>
          <p:spPr>
            <a:xfrm>
              <a:off x="8431200" y="59184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135"/>
          <p:cNvSpPr/>
          <p:nvPr/>
        </p:nvSpPr>
        <p:spPr>
          <a:xfrm>
            <a:off x="2901960" y="6146640"/>
            <a:ext cx="440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If axe is about 10” long then 4 frames between ke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36"/>
          <p:cNvSpPr/>
          <p:nvPr/>
        </p:nvSpPr>
        <p:spPr>
          <a:xfrm>
            <a:off x="2714760" y="5362560"/>
            <a:ext cx="4681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tumbling motion (e.g., throw a chair) is very complica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7"/>
          <p:cNvSpPr/>
          <p:nvPr/>
        </p:nvSpPr>
        <p:spPr>
          <a:xfrm>
            <a:off x="1562040" y="1409760"/>
            <a:ext cx="1181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8"/>
          <p:cNvSpPr/>
          <p:nvPr/>
        </p:nvSpPr>
        <p:spPr>
          <a:xfrm>
            <a:off x="1688040" y="106848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bit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ижний колонтитул 10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ovie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83" name="grandjete.wmv" descr=""/>
          <p:cNvPicPr/>
          <p:nvPr/>
        </p:nvPicPr>
        <p:blipFill>
          <a:blip r:embed="rId1"/>
          <a:stretch/>
        </p:blipFill>
        <p:spPr>
          <a:xfrm>
            <a:off x="1486080" y="1525680"/>
            <a:ext cx="6146640" cy="4610160"/>
          </a:xfrm>
          <a:prstGeom prst="rect">
            <a:avLst/>
          </a:prstGeom>
          <a:ln w="0">
            <a:noFill/>
          </a:ln>
        </p:spPr>
      </p:pic>
      <p:sp>
        <p:nvSpPr>
          <p:cNvPr id="38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ral Present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persons will give oral presentations on Thursday, September 2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res, A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d, He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n, E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wiatkowski, Da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bedeff, Christ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ton, Christ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one else, your first term paper is due on that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Object 4"/>
          <p:cNvGraphicFramePr/>
          <p:nvPr/>
        </p:nvGraphicFramePr>
        <p:xfrm>
          <a:off x="2046240" y="2833560"/>
          <a:ext cx="6921720" cy="37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2833560"/>
                    <a:ext cx="692172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6"/>
          <p:cNvSpPr/>
          <p:nvPr/>
        </p:nvSpPr>
        <p:spPr>
          <a:xfrm>
            <a:off x="657360" y="1382760"/>
            <a:ext cx="72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 dancer is in the air (not in contact with the floor) the only force on the dancer is gravity and the trajectory of the center of gravity is a parabolic a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314280" y="2830680"/>
            <a:ext cx="225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ing a two foot vertical jump a dancer is in the air for slightly less than ¾ of a 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f the dancer’s horizontal speed is 10 feet per second then the CG travels about 7.1 feet during the ju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351240" y="460836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7148520" y="43164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umps &amp; 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3933720" y="2805120"/>
            <a:ext cx="38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If the dancer jumps a lesser height then the time in the air de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ifting the 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95" name="Object 4"/>
          <p:cNvGraphicFramePr/>
          <p:nvPr/>
        </p:nvGraphicFramePr>
        <p:xfrm>
          <a:off x="1030320" y="2768760"/>
          <a:ext cx="7137360" cy="34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2768760"/>
                    <a:ext cx="713736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Text Box 6"/>
          <p:cNvSpPr/>
          <p:nvPr/>
        </p:nvSpPr>
        <p:spPr>
          <a:xfrm>
            <a:off x="695160" y="1496880"/>
            <a:ext cx="77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raising their arms and legs, dancers can raise the location of their center of gravity (C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2246400" y="39607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5992920" y="39481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2171520" y="46972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6578280" y="38466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loating Il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04" name="Object 4"/>
          <p:cNvGraphicFramePr/>
          <p:nvPr/>
        </p:nvGraphicFramePr>
        <p:xfrm>
          <a:off x="1055520" y="2257560"/>
          <a:ext cx="6891480" cy="42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2257560"/>
                    <a:ext cx="689148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7"/>
          <p:cNvSpPr/>
          <p:nvPr/>
        </p:nvSpPr>
        <p:spPr>
          <a:xfrm>
            <a:off x="682560" y="134460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ing the CG upward, the distance the dancer’s head rises is reduced, giving illusion of floating long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625840" y="5345280"/>
            <a:ext cx="324468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the air is 25% longer than a similar leap where the CG rises only 1.3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Object 4"/>
          <p:cNvGraphicFramePr/>
          <p:nvPr/>
        </p:nvGraphicFramePr>
        <p:xfrm>
          <a:off x="1003320" y="2308320"/>
          <a:ext cx="704844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2308320"/>
                    <a:ext cx="704844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Rectangle 7"/>
          <p:cNvSpPr/>
          <p:nvPr/>
        </p:nvSpPr>
        <p:spPr>
          <a:xfrm>
            <a:off x="609480" y="338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loating Il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517680" y="1370160"/>
            <a:ext cx="79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ion of floating is enhance by the fact that during the peak of the jump the vertical motion is the slo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Second Law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486080"/>
            <a:ext cx="820404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occurs when an object’s velocity changes, such as speeding up or slowing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depends on Force and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is always in the direction of the net Force acting on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1609920" y="4211640"/>
            <a:ext cx="27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Acceleration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4392000" y="383076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Net Fo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4848480" y="4491000"/>
            <a:ext cx="12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M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4444920" y="4508640"/>
            <a:ext cx="19684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Newton’s Second Law (Part 1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eater the force on acting on an object, the greater the acceleration of that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1268280" y="2600280"/>
            <a:ext cx="6504120" cy="3940200"/>
          </a:xfrm>
          <a:prstGeom prst="rect">
            <a:avLst/>
          </a:prstGeom>
          <a:ln w="0">
            <a:noFill/>
          </a:ln>
        </p:spPr>
      </p:pic>
      <p:sp>
        <p:nvSpPr>
          <p:cNvPr id="4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eater the mass of an object, the less it accelerates when acted on by the same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1165320" y="2671920"/>
            <a:ext cx="6610320" cy="36194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06080" y="44424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ewton’s Second Law (Part 2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Spoo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31280" y="1600200"/>
            <a:ext cx="55040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 on string wrapped around a spool. Force is to the right. In what direction does the spool m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609480" y="5829480"/>
            <a:ext cx="7658280" cy="152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5"/>
          <p:cNvGrpSpPr/>
          <p:nvPr/>
        </p:nvGrpSpPr>
        <p:grpSpPr>
          <a:xfrm>
            <a:off x="1574640" y="4559400"/>
            <a:ext cx="1270080" cy="1270080"/>
            <a:chOff x="1574640" y="4559400"/>
            <a:chExt cx="1270080" cy="1270080"/>
          </a:xfrm>
        </p:grpSpPr>
        <p:sp>
          <p:nvSpPr>
            <p:cNvPr id="433" name="Oval 6"/>
            <p:cNvSpPr/>
            <p:nvPr/>
          </p:nvSpPr>
          <p:spPr>
            <a:xfrm>
              <a:off x="1574640" y="4559400"/>
              <a:ext cx="1270080" cy="1270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7"/>
            <p:cNvSpPr/>
            <p:nvPr/>
          </p:nvSpPr>
          <p:spPr>
            <a:xfrm>
              <a:off x="1974960" y="4959360"/>
              <a:ext cx="469800" cy="469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Line 8"/>
          <p:cNvSpPr/>
          <p:nvPr/>
        </p:nvSpPr>
        <p:spPr>
          <a:xfrm>
            <a:off x="2222640" y="49528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9"/>
          <p:cNvGrpSpPr/>
          <p:nvPr/>
        </p:nvGrpSpPr>
        <p:grpSpPr>
          <a:xfrm>
            <a:off x="5262480" y="4564080"/>
            <a:ext cx="1270080" cy="1270080"/>
            <a:chOff x="5262480" y="4564080"/>
            <a:chExt cx="1270080" cy="1270080"/>
          </a:xfrm>
        </p:grpSpPr>
        <p:sp>
          <p:nvSpPr>
            <p:cNvPr id="437" name="Oval 10"/>
            <p:cNvSpPr/>
            <p:nvPr/>
          </p:nvSpPr>
          <p:spPr>
            <a:xfrm>
              <a:off x="5262480" y="4564080"/>
              <a:ext cx="1270080" cy="1270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5662800" y="4964040"/>
              <a:ext cx="469800" cy="469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Line 12"/>
          <p:cNvSpPr/>
          <p:nvPr/>
        </p:nvSpPr>
        <p:spPr>
          <a:xfrm>
            <a:off x="5897520" y="54403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3"/>
          <p:cNvGrpSpPr/>
          <p:nvPr/>
        </p:nvGrpSpPr>
        <p:grpSpPr>
          <a:xfrm>
            <a:off x="1371600" y="3975120"/>
            <a:ext cx="1625400" cy="433440"/>
            <a:chOff x="1371600" y="3975120"/>
            <a:chExt cx="1625400" cy="433440"/>
          </a:xfrm>
        </p:grpSpPr>
        <p:sp>
          <p:nvSpPr>
            <p:cNvPr id="441" name="Line 14"/>
            <p:cNvSpPr/>
            <p:nvPr/>
          </p:nvSpPr>
          <p:spPr>
            <a:xfrm>
              <a:off x="1536840" y="440856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5"/>
            <p:cNvSpPr/>
            <p:nvPr/>
          </p:nvSpPr>
          <p:spPr>
            <a:xfrm>
              <a:off x="1371600" y="397512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Spool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6"/>
          <p:cNvGrpSpPr/>
          <p:nvPr/>
        </p:nvGrpSpPr>
        <p:grpSpPr>
          <a:xfrm>
            <a:off x="5085000" y="3976560"/>
            <a:ext cx="1625400" cy="433440"/>
            <a:chOff x="5085000" y="3976560"/>
            <a:chExt cx="1625400" cy="433440"/>
          </a:xfrm>
        </p:grpSpPr>
        <p:sp>
          <p:nvSpPr>
            <p:cNvPr id="444" name="Line 17"/>
            <p:cNvSpPr/>
            <p:nvPr/>
          </p:nvSpPr>
          <p:spPr>
            <a:xfrm>
              <a:off x="5249880" y="441000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8"/>
            <p:cNvSpPr/>
            <p:nvPr/>
          </p:nvSpPr>
          <p:spPr>
            <a:xfrm>
              <a:off x="5085000" y="397656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Spool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19"/>
          <p:cNvSpPr/>
          <p:nvPr/>
        </p:nvSpPr>
        <p:spPr>
          <a:xfrm>
            <a:off x="3504600" y="50277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0"/>
          <p:cNvSpPr/>
          <p:nvPr/>
        </p:nvSpPr>
        <p:spPr>
          <a:xfrm>
            <a:off x="7192080" y="50198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1" descr="04-03UnFigure_FIG.jpg"/>
          <p:cNvPicPr/>
          <p:nvPr/>
        </p:nvPicPr>
        <p:blipFill>
          <a:blip r:embed="rId1"/>
          <a:stretch/>
        </p:blipFill>
        <p:spPr>
          <a:xfrm>
            <a:off x="5892840" y="1965240"/>
            <a:ext cx="2857320" cy="1400400"/>
          </a:xfrm>
          <a:prstGeom prst="rect">
            <a:avLst/>
          </a:prstGeom>
          <a:ln w="0">
            <a:noFill/>
          </a:ln>
        </p:spPr>
      </p:pic>
      <p:sp>
        <p:nvSpPr>
          <p:cNvPr id="449" name="Нижний колонтитул 2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Tricyc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44240" y="15620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ll on tricycle pedal with a str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direction does the tricycle m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" descr="d1-81a"/>
          <p:cNvPicPr/>
          <p:nvPr/>
        </p:nvPicPr>
        <p:blipFill>
          <a:blip r:embed="rId1"/>
          <a:stretch/>
        </p:blipFill>
        <p:spPr>
          <a:xfrm>
            <a:off x="4732200" y="308628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d1-8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137040"/>
            <a:ext cx="4076640" cy="30574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6"/>
          <p:cNvGrpSpPr/>
          <p:nvPr/>
        </p:nvGrpSpPr>
        <p:grpSpPr>
          <a:xfrm>
            <a:off x="2679120" y="4013280"/>
            <a:ext cx="1486800" cy="433440"/>
            <a:chOff x="2679120" y="4013280"/>
            <a:chExt cx="1486800" cy="433440"/>
          </a:xfrm>
        </p:grpSpPr>
        <p:sp>
          <p:nvSpPr>
            <p:cNvPr id="455" name="Line 7"/>
            <p:cNvSpPr/>
            <p:nvPr/>
          </p:nvSpPr>
          <p:spPr>
            <a:xfrm>
              <a:off x="2845080" y="444672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8"/>
            <p:cNvSpPr/>
            <p:nvPr/>
          </p:nvSpPr>
          <p:spPr>
            <a:xfrm>
              <a:off x="2679120" y="401328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Bike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9"/>
          <p:cNvGrpSpPr/>
          <p:nvPr/>
        </p:nvGrpSpPr>
        <p:grpSpPr>
          <a:xfrm>
            <a:off x="7065360" y="3967200"/>
            <a:ext cx="1486800" cy="433440"/>
            <a:chOff x="7065360" y="3967200"/>
            <a:chExt cx="1486800" cy="433440"/>
          </a:xfrm>
        </p:grpSpPr>
        <p:sp>
          <p:nvSpPr>
            <p:cNvPr id="458" name="Line 10"/>
            <p:cNvSpPr/>
            <p:nvPr/>
          </p:nvSpPr>
          <p:spPr>
            <a:xfrm>
              <a:off x="7231320" y="440064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1"/>
            <p:cNvSpPr/>
            <p:nvPr/>
          </p:nvSpPr>
          <p:spPr>
            <a:xfrm>
              <a:off x="7065360" y="396720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Bike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Text Box 12"/>
          <p:cNvSpPr/>
          <p:nvPr/>
        </p:nvSpPr>
        <p:spPr>
          <a:xfrm>
            <a:off x="659520" y="4964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4830120" y="5261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534240" y="3186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al in top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4780800" y="31273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al in bottom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Third Law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6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ever an object exerts a force on a second object, the second object exerts a force of equal magnitude in the opposite direction on the first ob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" descr="05-04Figure_FIG.jpg"/>
          <p:cNvPicPr/>
          <p:nvPr/>
        </p:nvPicPr>
        <p:blipFill>
          <a:blip r:embed="rId1"/>
          <a:stretch/>
        </p:blipFill>
        <p:spPr>
          <a:xfrm>
            <a:off x="6170760" y="1430280"/>
            <a:ext cx="2725560" cy="29718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5"/>
          <p:cNvSpPr/>
          <p:nvPr/>
        </p:nvSpPr>
        <p:spPr>
          <a:xfrm>
            <a:off x="6305040" y="1792440"/>
            <a:ext cx="145188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am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5988960" y="3124080"/>
            <a:ext cx="178236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cond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N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7" descr="fistwall"/>
          <p:cNvPicPr/>
          <p:nvPr/>
        </p:nvPicPr>
        <p:blipFill>
          <a:blip r:embed="rId2"/>
          <a:stretch/>
        </p:blipFill>
        <p:spPr>
          <a:xfrm>
            <a:off x="6194520" y="4289400"/>
            <a:ext cx="2759040" cy="231768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16" descr=""/>
          <p:cNvPicPr/>
          <p:nvPr/>
        </p:nvPicPr>
        <p:blipFill>
          <a:blip r:embed="rId1"/>
          <a:stretch/>
        </p:blipFill>
        <p:spPr>
          <a:xfrm>
            <a:off x="309600" y="3467160"/>
            <a:ext cx="379260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F Museum of Ar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San Francisco Museum of Modern Art and see Abstract Expressionist paint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 your ticket receipt ($7 for students). Worth one homework assignment; deadline is Oct.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4"/>
          <p:cNvSpPr/>
          <p:nvPr/>
        </p:nvSpPr>
        <p:spPr>
          <a:xfrm>
            <a:off x="5401080" y="6365880"/>
            <a:ext cx="34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uardians of the Secr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Jackson Pollock, 19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4273560" y="3429000"/>
            <a:ext cx="4603680" cy="294624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tion and Rea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expression of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every action there’s an equal and opposit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an “action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orce exerted by one object on second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reaction be “equal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opposit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in magnitude but opposite in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pulls, Mr. B ho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holds, Mr. B pu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&amp; Mr. B both 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m21"/>
          <p:cNvPicPr/>
          <p:nvPr/>
        </p:nvPicPr>
        <p:blipFill>
          <a:blip r:embed="rId1"/>
          <a:stretch/>
        </p:blipFill>
        <p:spPr>
          <a:xfrm>
            <a:off x="1298520" y="3873600"/>
            <a:ext cx="6110280" cy="23907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5"/>
          <p:cNvSpPr/>
          <p:nvPr/>
        </p:nvSpPr>
        <p:spPr>
          <a:xfrm>
            <a:off x="6549480" y="41972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1898280" y="42498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6235560" y="286704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 has more mass than 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ly Mr. A pulls on Mr. B then Mr. B accele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force of equal magnitude so Mr. A also mo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moves faster? Mr. A, Mr. B, or the s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m21"/>
          <p:cNvPicPr/>
          <p:nvPr/>
        </p:nvPicPr>
        <p:blipFill>
          <a:blip r:embed="rId1"/>
          <a:stretch/>
        </p:blipFill>
        <p:spPr>
          <a:xfrm>
            <a:off x="936720" y="3021120"/>
            <a:ext cx="6967440" cy="2725560"/>
          </a:xfrm>
          <a:prstGeom prst="rect">
            <a:avLst/>
          </a:prstGeom>
          <a:ln w="0">
            <a:noFill/>
          </a:ln>
        </p:spPr>
      </p:pic>
      <p:sp>
        <p:nvSpPr>
          <p:cNvPr id="485" name="Line 5"/>
          <p:cNvSpPr/>
          <p:nvPr/>
        </p:nvSpPr>
        <p:spPr>
          <a:xfrm flipH="1">
            <a:off x="4686480" y="38926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6"/>
          <p:cNvSpPr/>
          <p:nvPr/>
        </p:nvSpPr>
        <p:spPr>
          <a:xfrm>
            <a:off x="3259080" y="38876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4743360" y="35082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3330720" y="35164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1780560" y="3495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6911640" y="34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202320" y="5695920"/>
            <a:ext cx="85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r. A goes faster (greater acceleration) since his mass is l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7137360" y="3921120"/>
            <a:ext cx="184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Mr. B has more mass than Mr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m21"/>
          <p:cNvPicPr/>
          <p:nvPr/>
        </p:nvPicPr>
        <p:blipFill>
          <a:blip r:embed="rId1"/>
          <a:stretch/>
        </p:blipFill>
        <p:spPr>
          <a:xfrm>
            <a:off x="936720" y="3021120"/>
            <a:ext cx="6967440" cy="27255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oth guys pull then there are two action forces and two reaction fo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ull with same force, how much greater is the acceleration than when only one pu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 flipH="1">
            <a:off x="4686480" y="38926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3259080" y="38876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4743360" y="3522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3287880" y="34862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1780560" y="3495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6911640" y="34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1031040" y="5665680"/>
            <a:ext cx="73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wice the force so twice the acceleration (by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4557960" y="42642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3"/>
          <p:cNvSpPr/>
          <p:nvPr/>
        </p:nvSpPr>
        <p:spPr>
          <a:xfrm>
            <a:off x="3252960" y="41860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3243240" y="41990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5"/>
          <p:cNvSpPr/>
          <p:nvPr/>
        </p:nvSpPr>
        <p:spPr>
          <a:xfrm flipH="1">
            <a:off x="4711320" y="421812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Repul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demonstration is to have Mr. A and Mr. B push away instead of pull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results; if Mr. A pushes and Mr. B holds then both move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ReactionCart"/>
          <p:cNvPicPr/>
          <p:nvPr/>
        </p:nvPicPr>
        <p:blipFill>
          <a:blip r:embed="rId1"/>
          <a:stretch/>
        </p:blipFill>
        <p:spPr>
          <a:xfrm>
            <a:off x="5342040" y="1752480"/>
            <a:ext cx="3506760" cy="391968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"/>
          <p:cNvSpPr/>
          <p:nvPr/>
        </p:nvSpPr>
        <p:spPr>
          <a:xfrm>
            <a:off x="5819400" y="521820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on skate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6"/>
          <p:cNvSpPr/>
          <p:nvPr/>
        </p:nvSpPr>
        <p:spPr>
          <a:xfrm>
            <a:off x="7313760" y="3152880"/>
            <a:ext cx="885600" cy="0"/>
          </a:xfrm>
          <a:prstGeom prst="line">
            <a:avLst/>
          </a:prstGeom>
          <a:ln w="316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7"/>
          <p:cNvSpPr/>
          <p:nvPr/>
        </p:nvSpPr>
        <p:spPr>
          <a:xfrm flipH="1">
            <a:off x="6133680" y="31622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 flipH="1">
            <a:off x="7238160" y="31640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5828040" y="32097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6062040" y="23335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7795800" y="20811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ORTANT!!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60640" y="2073240"/>
            <a:ext cx="735480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force &amp; reaction force NEVER balance each other because they act on different objec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2151720" y="5416560"/>
            <a:ext cx="503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Repeat this to yourself over and over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alking, Running &amp; Jump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rces accelerate us into motion when we walk, run, or jum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fa_rociera2v"/>
          <p:cNvPicPr/>
          <p:nvPr/>
        </p:nvPicPr>
        <p:blipFill>
          <a:blip r:embed="rId1"/>
          <a:stretch/>
        </p:blipFill>
        <p:spPr>
          <a:xfrm>
            <a:off x="382680" y="2643120"/>
            <a:ext cx="2671560" cy="32734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ance of praise"/>
          <p:cNvPicPr/>
          <p:nvPr/>
        </p:nvPicPr>
        <p:blipFill>
          <a:blip r:embed="rId2"/>
          <a:stretch/>
        </p:blipFill>
        <p:spPr>
          <a:xfrm>
            <a:off x="5562720" y="2698920"/>
            <a:ext cx="3213000" cy="3213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1" descr="boy_runner"/>
          <p:cNvPicPr/>
          <p:nvPr/>
        </p:nvPicPr>
        <p:blipFill>
          <a:blip r:embed="rId3"/>
          <a:stretch/>
        </p:blipFill>
        <p:spPr>
          <a:xfrm>
            <a:off x="3116160" y="2660760"/>
            <a:ext cx="2230560" cy="3327120"/>
          </a:xfrm>
          <a:prstGeom prst="rect">
            <a:avLst/>
          </a:prstGeom>
          <a:ln w="0">
            <a:noFill/>
          </a:ln>
        </p:spPr>
      </p:pic>
      <p:sp>
        <p:nvSpPr>
          <p:cNvPr id="52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s on a Danc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dancer, the three main for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y (Down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the floor (Up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 force of the floor (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se forces can accelerate the dan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ravity is constant but the force exerted by the floor can increase in reaction to the dancer exerting a force on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8B35AB42"/>
          <p:cNvPicPr/>
          <p:nvPr/>
        </p:nvPicPr>
        <p:blipFill>
          <a:blip r:embed="rId1"/>
          <a:stretch/>
        </p:blipFill>
        <p:spPr>
          <a:xfrm>
            <a:off x="436680" y="3195720"/>
            <a:ext cx="4529160" cy="3611520"/>
          </a:xfrm>
          <a:prstGeom prst="rect">
            <a:avLst/>
          </a:prstGeom>
          <a:ln w="0">
            <a:noFill/>
          </a:ln>
        </p:spPr>
      </p:pic>
      <p:sp>
        <p:nvSpPr>
          <p:cNvPr id="534" name="Line 9"/>
          <p:cNvSpPr/>
          <p:nvPr/>
        </p:nvSpPr>
        <p:spPr>
          <a:xfrm>
            <a:off x="2921040" y="6172200"/>
            <a:ext cx="55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3339720" y="61326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2018160" y="6297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alking Forw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ight is on back foot it acts by pushing back on the floor. Reaction is the friction of the floor, which pushes your bod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94832CA0"/>
          <p:cNvPicPr/>
          <p:nvPr/>
        </p:nvPicPr>
        <p:blipFill>
          <a:blip r:embed="rId2"/>
          <a:stretch/>
        </p:blipFill>
        <p:spPr>
          <a:xfrm>
            <a:off x="5216400" y="3121200"/>
            <a:ext cx="3394080" cy="3417840"/>
          </a:xfrm>
          <a:prstGeom prst="rect">
            <a:avLst/>
          </a:prstGeom>
          <a:ln w="0">
            <a:noFill/>
          </a:ln>
        </p:spPr>
      </p:pic>
      <p:sp>
        <p:nvSpPr>
          <p:cNvPr id="540" name="Line 8"/>
          <p:cNvSpPr/>
          <p:nvPr/>
        </p:nvSpPr>
        <p:spPr>
          <a:xfrm flipH="1">
            <a:off x="2298240" y="6273720"/>
            <a:ext cx="5590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6194520" y="5392800"/>
            <a:ext cx="231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re were no friction then dancer would fall straight down and could not walk 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6207480" y="439272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X (C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ump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134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ing is done by pushing downward on the ground (action) so the ground pushes upward on you (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igh you jump depends on the force and on the distance over which you apply that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4" descr="noequip59"/>
          <p:cNvPicPr/>
          <p:nvPr/>
        </p:nvPicPr>
        <p:blipFill>
          <a:blip r:embed="rId1"/>
          <a:stretch/>
        </p:blipFill>
        <p:spPr>
          <a:xfrm>
            <a:off x="5886360" y="192240"/>
            <a:ext cx="2857680" cy="53053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5"/>
          <p:cNvSpPr/>
          <p:nvPr/>
        </p:nvSpPr>
        <p:spPr>
          <a:xfrm>
            <a:off x="5581800" y="5570640"/>
            <a:ext cx="356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only push while in contact with the ground so squatting helps by increasing di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an Jose Balle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2000"/>
            <a:ext cx="82296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 performance of San Jose Ballet in San Jose Center for Performing Arts (Nov.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 your ticket receipt. Worth one homework assignment or three quiz/participation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4"/>
          <p:cNvSpPr/>
          <p:nvPr/>
        </p:nvSpPr>
        <p:spPr>
          <a:xfrm>
            <a:off x="5718240" y="6315120"/>
            <a:ext cx="28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oreno in CARMINA BUR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540320" y="3325680"/>
            <a:ext cx="4209840" cy="296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235080" y="3413160"/>
            <a:ext cx="4197240" cy="279540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winging Arms and Jump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0" name="Line 62"/>
          <p:cNvSpPr/>
          <p:nvPr/>
        </p:nvSpPr>
        <p:spPr>
          <a:xfrm>
            <a:off x="457200" y="6858000"/>
            <a:ext cx="8534520" cy="0"/>
          </a:xfrm>
          <a:prstGeom prst="line">
            <a:avLst/>
          </a:prstGeom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2"/>
          <p:cNvSpPr/>
          <p:nvPr/>
        </p:nvSpPr>
        <p:spPr>
          <a:xfrm>
            <a:off x="415800" y="1317600"/>
            <a:ext cx="844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wing your arms upward as you jump to increase the force pushing down on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"/>
          <p:cNvPicPr/>
          <p:nvPr/>
        </p:nvPicPr>
        <p:blipFill>
          <a:blip r:embed="rId1"/>
          <a:stretch/>
        </p:blipFill>
        <p:spPr>
          <a:xfrm>
            <a:off x="262080" y="2408400"/>
            <a:ext cx="8624880" cy="277308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2"/>
          <p:cNvSpPr/>
          <p:nvPr/>
        </p:nvSpPr>
        <p:spPr>
          <a:xfrm>
            <a:off x="352440" y="5305320"/>
            <a:ext cx="84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jumping and swinging your arms upward after you leave the ground; you won’t jump as hig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ork &amp;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k done on an object is defin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rk done) = (Net Force) x (Di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the work done, the greater the change in the object’s velo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ing Off on a Jum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e orientation of the foot on the ground, which is pushing off on a j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51BB5BAE"/>
          <p:cNvPicPr/>
          <p:nvPr/>
        </p:nvPicPr>
        <p:blipFill>
          <a:blip r:embed="rId1"/>
          <a:stretch/>
        </p:blipFill>
        <p:spPr>
          <a:xfrm>
            <a:off x="4622760" y="2806560"/>
            <a:ext cx="4203720" cy="3687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51BB5BAE"/>
          <p:cNvPicPr/>
          <p:nvPr/>
        </p:nvPicPr>
        <p:blipFill>
          <a:blip r:embed="rId2"/>
          <a:stretch/>
        </p:blipFill>
        <p:spPr>
          <a:xfrm>
            <a:off x="330120" y="2792520"/>
            <a:ext cx="4203720" cy="3700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51BB5BAE"/>
          <p:cNvPicPr/>
          <p:nvPr/>
        </p:nvPicPr>
        <p:blipFill>
          <a:blip r:embed="rId3"/>
          <a:stretch/>
        </p:blipFill>
        <p:spPr>
          <a:xfrm>
            <a:off x="2679840" y="4983120"/>
            <a:ext cx="1701720" cy="168768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pic>
        <p:nvPicPr>
          <p:cNvPr id="563" name="Picture 8" descr="51BB5BAE"/>
          <p:cNvPicPr/>
          <p:nvPr/>
        </p:nvPicPr>
        <p:blipFill>
          <a:blip r:embed="rId4"/>
          <a:stretch/>
        </p:blipFill>
        <p:spPr>
          <a:xfrm>
            <a:off x="4305240" y="4940280"/>
            <a:ext cx="1589040" cy="170676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sp>
        <p:nvSpPr>
          <p:cNvPr id="564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-Off with Turn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7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gle of flex is small so the distance over which the foot exerts a force is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will not be very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8" descr="2A110421"/>
          <p:cNvPicPr/>
          <p:nvPr/>
        </p:nvPicPr>
        <p:blipFill>
          <a:blip r:embed="rId1"/>
          <a:stretch/>
        </p:blipFill>
        <p:spPr>
          <a:xfrm>
            <a:off x="5854680" y="1150920"/>
            <a:ext cx="2882880" cy="5656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" descr="2A110421"/>
          <p:cNvPicPr/>
          <p:nvPr/>
        </p:nvPicPr>
        <p:blipFill>
          <a:blip r:embed="rId2"/>
          <a:stretch/>
        </p:blipFill>
        <p:spPr>
          <a:xfrm>
            <a:off x="2425680" y="5062680"/>
            <a:ext cx="3529080" cy="1706400"/>
          </a:xfrm>
          <a:prstGeom prst="rect">
            <a:avLst/>
          </a:prstGeom>
          <a:ln w="0">
            <a:noFill/>
          </a:ln>
        </p:spPr>
      </p:pic>
      <p:sp>
        <p:nvSpPr>
          <p:cNvPr id="569" name="Line 10"/>
          <p:cNvSpPr/>
          <p:nvPr/>
        </p:nvSpPr>
        <p:spPr>
          <a:xfrm>
            <a:off x="4737240" y="617220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1"/>
          <p:cNvSpPr/>
          <p:nvPr/>
        </p:nvSpPr>
        <p:spPr>
          <a:xfrm flipH="1">
            <a:off x="4965480" y="6197760"/>
            <a:ext cx="393480" cy="355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51BB5BAE"/>
          <p:cNvPicPr/>
          <p:nvPr/>
        </p:nvPicPr>
        <p:blipFill>
          <a:blip r:embed="rId3"/>
          <a:stretch/>
        </p:blipFill>
        <p:spPr>
          <a:xfrm>
            <a:off x="330120" y="4413240"/>
            <a:ext cx="2362320" cy="2079720"/>
          </a:xfrm>
          <a:prstGeom prst="rect">
            <a:avLst/>
          </a:prstGeom>
          <a:ln w="0">
            <a:noFill/>
          </a:ln>
        </p:spPr>
      </p:pic>
      <p:sp>
        <p:nvSpPr>
          <p:cNvPr id="572" name="Line 12"/>
          <p:cNvSpPr/>
          <p:nvPr/>
        </p:nvSpPr>
        <p:spPr>
          <a:xfrm>
            <a:off x="5524560" y="6172200"/>
            <a:ext cx="0" cy="33012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5117400" y="64911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-Off without Turn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7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gle of flex is larger so the distance over which the foot exerts a force is lar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will be hig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7" descr="51BB5BAE"/>
          <p:cNvPicPr/>
          <p:nvPr/>
        </p:nvPicPr>
        <p:blipFill>
          <a:blip r:embed="rId1"/>
          <a:stretch/>
        </p:blipFill>
        <p:spPr>
          <a:xfrm>
            <a:off x="393840" y="4292640"/>
            <a:ext cx="2611440" cy="22906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2A110421"/>
          <p:cNvPicPr/>
          <p:nvPr/>
        </p:nvPicPr>
        <p:blipFill>
          <a:blip r:embed="rId2"/>
          <a:stretch/>
        </p:blipFill>
        <p:spPr>
          <a:xfrm>
            <a:off x="6261120" y="1214280"/>
            <a:ext cx="2679840" cy="5643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2A110421"/>
          <p:cNvPicPr/>
          <p:nvPr/>
        </p:nvPicPr>
        <p:blipFill>
          <a:blip r:embed="rId3"/>
          <a:stretch/>
        </p:blipFill>
        <p:spPr>
          <a:xfrm>
            <a:off x="3187800" y="4681440"/>
            <a:ext cx="3003480" cy="2138400"/>
          </a:xfrm>
          <a:prstGeom prst="rect">
            <a:avLst/>
          </a:prstGeom>
          <a:ln w="0">
            <a:noFill/>
          </a:ln>
        </p:spPr>
      </p:pic>
      <p:sp>
        <p:nvSpPr>
          <p:cNvPr id="580" name="Line 10"/>
          <p:cNvSpPr/>
          <p:nvPr/>
        </p:nvSpPr>
        <p:spPr>
          <a:xfrm>
            <a:off x="4254480" y="615960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"/>
          <p:cNvSpPr/>
          <p:nvPr/>
        </p:nvSpPr>
        <p:spPr>
          <a:xfrm>
            <a:off x="4241880" y="6146640"/>
            <a:ext cx="190440" cy="55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2"/>
          <p:cNvSpPr/>
          <p:nvPr/>
        </p:nvSpPr>
        <p:spPr>
          <a:xfrm>
            <a:off x="3987720" y="6121440"/>
            <a:ext cx="0" cy="50796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2932920" y="6170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85640" y="1577880"/>
            <a:ext cx="8172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Next Lecture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cc00"/>
                </a:solidFill>
                <a:latin typeface="Arial"/>
              </a:rPr>
              <a:t>Motion &amp; Dance (II)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990360" y="388584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ssignment d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irst draft or outline of term paper or oral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Cypress Quarte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JSU Celebrates 150th with Cypress String Quartet Event Fusing Precision Playing with World-Class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JSU Music Concert Hall, 7 p.m. Thur., Sept.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63520" y="4368960"/>
            <a:ext cx="3495600" cy="232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913200" y="3246480"/>
            <a:ext cx="4735440" cy="3408480"/>
          </a:xfrm>
          <a:prstGeom prst="rect">
            <a:avLst/>
          </a:prstGeom>
          <a:ln w="0">
            <a:noFill/>
          </a:ln>
        </p:spPr>
      </p:pic>
      <p:sp>
        <p:nvSpPr>
          <p:cNvPr id="73" name="TextBox 8"/>
          <p:cNvSpPr/>
          <p:nvPr/>
        </p:nvSpPr>
        <p:spPr>
          <a:xfrm>
            <a:off x="304920" y="3162240"/>
            <a:ext cx="36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hand out tickets at the door from 6:30 to 6:50pm; don’t be late to the performance! Worth two quiz/participation extra cred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5867280" y="4876920"/>
            <a:ext cx="58428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 your name on a sheet of paper and answer the following questions from today’s reading assignme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the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Floating” Illu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95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Motion &amp; Dance (I)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44520" y="2387160"/>
            <a:ext cx="2679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lance and Motion without Tur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Flamenca"/>
          <p:cNvPicPr/>
          <p:nvPr/>
        </p:nvPicPr>
        <p:blipFill>
          <a:blip r:embed="rId1"/>
          <a:stretch/>
        </p:blipFill>
        <p:spPr>
          <a:xfrm>
            <a:off x="4273560" y="1968480"/>
            <a:ext cx="3252600" cy="468144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ce is artistic motion of the human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far0-014"/>
          <p:cNvPicPr/>
          <p:nvPr/>
        </p:nvPicPr>
        <p:blipFill>
          <a:blip r:embed="rId1"/>
          <a:stretch/>
        </p:blipFill>
        <p:spPr>
          <a:xfrm>
            <a:off x="571680" y="2362320"/>
            <a:ext cx="3809880" cy="234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irque_soleil3"/>
          <p:cNvPicPr/>
          <p:nvPr/>
        </p:nvPicPr>
        <p:blipFill>
          <a:blip r:embed="rId2"/>
          <a:stretch/>
        </p:blipFill>
        <p:spPr>
          <a:xfrm>
            <a:off x="892080" y="4498920"/>
            <a:ext cx="3221280" cy="2190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breakdancing"/>
          <p:cNvPicPr/>
          <p:nvPr/>
        </p:nvPicPr>
        <p:blipFill>
          <a:blip r:embed="rId3"/>
          <a:stretch/>
        </p:blipFill>
        <p:spPr>
          <a:xfrm>
            <a:off x="4000680" y="3718080"/>
            <a:ext cx="2895480" cy="28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TommieSmith_JohnCarlos-Olympic-1968"/>
          <p:cNvPicPr/>
          <p:nvPr/>
        </p:nvPicPr>
        <p:blipFill>
          <a:blip r:embed="rId4"/>
          <a:stretch/>
        </p:blipFill>
        <p:spPr>
          <a:xfrm>
            <a:off x="6438960" y="2301840"/>
            <a:ext cx="2519280" cy="3629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>
            <a:off x="3148920" y="2398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162000" y="5065560"/>
            <a:ext cx="140328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Acro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(Cirque du Sole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4762440" y="377028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D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7491960" y="23097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Athl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6550200" y="6020280"/>
            <a:ext cx="2644560" cy="520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mie Smith &amp; John Car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xico City 1968 Olymp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1:48:54Z</dcterms:created>
  <dc:creator>Garcia</dc:creator>
  <dc:description/>
  <dc:language>en-US</dc:language>
  <cp:lastModifiedBy>Asus</cp:lastModifiedBy>
  <dcterms:modified xsi:type="dcterms:W3CDTF">2018-03-09T16:45:58Z</dcterms:modified>
  <cp:revision>291</cp:revision>
  <dc:subject/>
  <dc:title>Slide 1</dc:title>
</cp:coreProperties>
</file>