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4205-A319-4AEA-90CF-3239D665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2B8-4426-4720-9317-AEE345A5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2D3B-7ED2-4818-8B59-240F7564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0377-CE97-4B8C-A195-0FCDF4B7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C522-72BD-4EC3-ADBE-C0A31CC6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85D4-947D-4813-AAFB-77A631A8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DD2C-F47F-4B69-99C4-2E3A8C66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8A71-A53B-43B0-9D0E-04CF2A82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E0C3-3AEE-4EAF-BBB2-BCF3517E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7741-FD5B-4A78-B31B-E6993A52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4240-1AE6-4C55-A257-05DB54EC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131A-A980-46D3-8898-CCDADDA2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F647-34D3-4336-82D7-502E85A0B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2280" y="228600"/>
            <a:ext cx="876312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Waves &amp;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Wav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.  The nature of wav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A wave is a rhythmic disturbance that transfers energ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All waves are made by something that vibrat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52280" y="228600"/>
            <a:ext cx="876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Diffraction depends on the size of the obstacle or opening compared to the wavelength of the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77" name="Picture 3" descr="diffraction_objects"/>
          <p:cNvPicPr/>
          <p:nvPr/>
        </p:nvPicPr>
        <p:blipFill>
          <a:blip r:embed="rId1"/>
          <a:stretch/>
        </p:blipFill>
        <p:spPr>
          <a:xfrm>
            <a:off x="1066680" y="2819520"/>
            <a:ext cx="7048800" cy="2662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04920" y="5562720"/>
            <a:ext cx="4038480" cy="703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Less occurs if wavelength is smaller than the object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800600" y="5562720"/>
            <a:ext cx="3886200" cy="703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More occurs if wavelength is larger than the object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radio"/>
          <p:cNvPicPr/>
          <p:nvPr/>
        </p:nvPicPr>
        <p:blipFill>
          <a:blip r:embed="rId1"/>
          <a:stretch/>
        </p:blipFill>
        <p:spPr>
          <a:xfrm>
            <a:off x="2209680" y="228600"/>
            <a:ext cx="4557960" cy="3117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304920" y="3581280"/>
            <a:ext cx="853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AM radio waves are longer and can diffract around large buildings and mountains; FM can’t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52280" y="152280"/>
            <a:ext cx="502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Interference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wo or more waves overlapping to form a new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5" name="Picture 8" descr="wave_interference"/>
          <p:cNvPicPr/>
          <p:nvPr/>
        </p:nvPicPr>
        <p:blipFill>
          <a:blip r:embed="rId1"/>
          <a:stretch/>
        </p:blipFill>
        <p:spPr>
          <a:xfrm>
            <a:off x="5257800" y="762120"/>
            <a:ext cx="3886200" cy="490536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interference_constructive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3676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04920" y="4191120"/>
            <a:ext cx="8534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Constructive (in phas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Sound waves that constructively interfere are loude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304920" y="4191120"/>
            <a:ext cx="8534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Destructive (out of phas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Sound waves that destructively interfere are not as lou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1" name="Picture 4" descr="interference_destructive"/>
          <p:cNvPicPr/>
          <p:nvPr/>
        </p:nvPicPr>
        <p:blipFill>
          <a:blip r:embed="rId1"/>
          <a:stretch/>
        </p:blipFill>
        <p:spPr>
          <a:xfrm>
            <a:off x="609480" y="228600"/>
            <a:ext cx="7981920" cy="3705120"/>
          </a:xfrm>
          <a:prstGeom prst="rect">
            <a:avLst/>
          </a:prstGeom>
          <a:ln w="0">
            <a:noFill/>
          </a:ln>
        </p:spPr>
      </p:pic>
      <p:sp>
        <p:nvSpPr>
          <p:cNvPr id="9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28600" y="228600"/>
            <a:ext cx="8610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e.  </a:t>
            </a: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Standing wave</a:t>
            </a: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 - a wave pattern that occurs when two waves equal in wavelength and frequency meet from opposite directions and continuously interfere with each oth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4" name="Picture 3" descr="wave_standing"/>
          <p:cNvPicPr/>
          <p:nvPr/>
        </p:nvPicPr>
        <p:blipFill>
          <a:blip r:embed="rId1"/>
          <a:stretch/>
        </p:blipFill>
        <p:spPr>
          <a:xfrm>
            <a:off x="2133720" y="4495680"/>
            <a:ext cx="3695760" cy="2210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0" y="48769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nod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" name="Line 5"/>
          <p:cNvSpPr/>
          <p:nvPr/>
        </p:nvSpPr>
        <p:spPr>
          <a:xfrm>
            <a:off x="1523880" y="5257800"/>
            <a:ext cx="25146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Line 6"/>
          <p:cNvSpPr/>
          <p:nvPr/>
        </p:nvSpPr>
        <p:spPr>
          <a:xfrm>
            <a:off x="4038480" y="5257800"/>
            <a:ext cx="0" cy="3808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6705720" y="50292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antinod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Line 8"/>
          <p:cNvSpPr/>
          <p:nvPr/>
        </p:nvSpPr>
        <p:spPr>
          <a:xfrm flipH="1">
            <a:off x="5028840" y="5257800"/>
            <a:ext cx="16002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5029200" y="5257800"/>
            <a:ext cx="0" cy="30492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28600" y="22860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f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sonance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ability of an object to vibrate by absorbing energy at its natural frequenc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03" name="Picture 3" descr="2-tuning-fork-resonator-boxes-sm"/>
          <p:cNvPicPr/>
          <p:nvPr/>
        </p:nvPicPr>
        <p:blipFill>
          <a:blip r:embed="rId1"/>
          <a:stretch/>
        </p:blipFill>
        <p:spPr>
          <a:xfrm>
            <a:off x="2209680" y="2514600"/>
            <a:ext cx="4791240" cy="3517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52280" y="228600"/>
            <a:ext cx="876312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.  Energy is transferred from particle to particle through matt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.  How we hea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Outer ear collect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Middle ear amplifie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Inner ear convert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ar"/>
          <p:cNvPicPr/>
          <p:nvPr/>
        </p:nvPicPr>
        <p:blipFill>
          <a:blip r:embed="rId1"/>
          <a:stretch/>
        </p:blipFill>
        <p:spPr>
          <a:xfrm>
            <a:off x="485640" y="485640"/>
            <a:ext cx="8172720" cy="58867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04920" y="152280"/>
            <a:ext cx="861048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.  Properties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Intensity and loudnes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Intensity depends on the energy in a sound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oudness is human perception of intensit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Loudness is measured on the decibel scal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52280" y="228600"/>
            <a:ext cx="87631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.  Mechanical waves need a matter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medium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to travel through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sound, water, seismic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.  Two basic types of waves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Transvers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52280" y="4343400"/>
            <a:ext cx="8763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Compressional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longitudinal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5" name="Picture 4" descr="wave_transverse"/>
          <p:cNvPicPr/>
          <p:nvPr/>
        </p:nvPicPr>
        <p:blipFill>
          <a:blip r:embed="rId1"/>
          <a:stretch/>
        </p:blipFill>
        <p:spPr>
          <a:xfrm>
            <a:off x="5400720" y="3276720"/>
            <a:ext cx="3743280" cy="1590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wave_compressional"/>
          <p:cNvPicPr/>
          <p:nvPr/>
        </p:nvPicPr>
        <p:blipFill>
          <a:blip r:embed="rId2"/>
          <a:stretch/>
        </p:blipFill>
        <p:spPr>
          <a:xfrm>
            <a:off x="5467320" y="4867200"/>
            <a:ext cx="3676680" cy="1990800"/>
          </a:xfrm>
          <a:prstGeom prst="rect">
            <a:avLst/>
          </a:prstGeom>
          <a:ln w="0">
            <a:noFill/>
          </a:ln>
        </p:spPr>
      </p:pic>
      <p:sp>
        <p:nvSpPr>
          <p:cNvPr id="4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decibel_scale"/>
          <p:cNvPicPr/>
          <p:nvPr/>
        </p:nvPicPr>
        <p:blipFill>
          <a:blip r:embed="rId1"/>
          <a:stretch/>
        </p:blipFill>
        <p:spPr>
          <a:xfrm>
            <a:off x="0" y="0"/>
            <a:ext cx="9144000" cy="4352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0" y="457200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)  Threshold of hearing (0 db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)  Threshold of pain (120 db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0"/>
            <a:ext cx="91440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Frequency and pitch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High frequency means more vibrations hitting the ea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Pitch is how high or how low a sound seems to b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Healthy humans can hear from 20 Hz to 20,000 Hz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We are most sensitive from 440 Hz to 7,000 Hz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9144000" cy="67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)  Ultrasonic sound has a frequency greater than 20,000 Hz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)  Dogs (up to 35,000 Hz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)  Bats (over 100,000 Hz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)  Medical diagnosi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6)  Infrasonic sound has a frequency below 20 Hz; they are felt rather than hear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earthquakes, heavy machinery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0"/>
            <a:ext cx="914400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Speed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332 m/s in air at 0 C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Changes by 0.6 m/s for every Celsius degree from 0 C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Subsonic – slowe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Supersonic – faster than sound (Mach 1 = speed of sound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)  Sonic boom (pressure con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914400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The Doppler effect – the change in pitch due to a moving wave sourc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Objects moving toward you cause a higher pitched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Objects moving away cause sound of lower pitch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Used in radar by police and meteorologists and in astronom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doppler"/>
          <p:cNvPicPr/>
          <p:nvPr/>
        </p:nvPicPr>
        <p:blipFill>
          <a:blip r:embed="rId1"/>
          <a:stretch/>
        </p:blipFill>
        <p:spPr>
          <a:xfrm>
            <a:off x="268200" y="343080"/>
            <a:ext cx="8607600" cy="6172200"/>
          </a:xfrm>
          <a:prstGeom prst="rect">
            <a:avLst/>
          </a:prstGeom>
          <a:ln w="0">
            <a:noFill/>
          </a:ln>
        </p:spPr>
      </p:pic>
      <p:sp>
        <p:nvSpPr>
          <p:cNvPr id="12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0"/>
            <a:ext cx="91440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.  Musical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Noise has no pattern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Music has a pattern and deliberate pitch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Sound quality describes differences of sounds that have the same pitch and loudnes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Every instrument has its own set of overton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e)  Beats are pulsing variations of loudness caused by interference of sounds of slightly different frequenci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28" name="Picture 3" descr="beat"/>
          <p:cNvPicPr/>
          <p:nvPr/>
        </p:nvPicPr>
        <p:blipFill>
          <a:blip r:embed="rId1"/>
          <a:stretch/>
        </p:blipFill>
        <p:spPr>
          <a:xfrm>
            <a:off x="0" y="2446200"/>
            <a:ext cx="9029880" cy="4411800"/>
          </a:xfrm>
          <a:prstGeom prst="rect">
            <a:avLst/>
          </a:prstGeom>
          <a:ln w="0">
            <a:noFill/>
          </a:ln>
        </p:spPr>
      </p:pic>
      <p:sp>
        <p:nvSpPr>
          <p:cNvPr id="12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.  Uses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Acoustics – the study of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0" y="1600200"/>
            <a:ext cx="9144000" cy="1922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Soft materials dampen sound; hard materials reflect it (echoes and reverberations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0" y="358128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SONAR – Sound Navigation and Ranging (echolocation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Ultrasound imaging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Kidney stones &amp; gallston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2280" y="228600"/>
            <a:ext cx="87631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.  Wave properties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Wavelength - distance from a point on a wave to the same corresponding point on the next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Frequency - number of waves that pass a point in one second (expressed in Hz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52280" y="228600"/>
            <a:ext cx="876312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Wavelength has an inverse relationship to wave frequenc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Wave velocity depends on the type of wave and mediu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Sound is faster in more dense media and in higher temp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ight is slower in more dense media, but faster in a vacuu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52280" y="2286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3" name="Picture 3" descr="wave_velocity_equation"/>
          <p:cNvPicPr/>
          <p:nvPr/>
        </p:nvPicPr>
        <p:blipFill>
          <a:blip r:embed="rId1"/>
          <a:stretch/>
        </p:blipFill>
        <p:spPr>
          <a:xfrm>
            <a:off x="2209680" y="152280"/>
            <a:ext cx="3372120" cy="895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228600" y="1143000"/>
            <a:ext cx="868680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e.  Amplitude - size related to the energy carried by the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Transverse - how high above or how low below the nodal lin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Compressional - how dense the medium is at the compressions &amp; rarefaction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2280" y="228600"/>
            <a:ext cx="8763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.  Wave behavior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fle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ouncing back of a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Sound echo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7" name="Picture 3" descr="law_of_reflection"/>
          <p:cNvPicPr/>
          <p:nvPr/>
        </p:nvPicPr>
        <p:blipFill>
          <a:blip r:embed="rId1"/>
          <a:stretch/>
        </p:blipFill>
        <p:spPr>
          <a:xfrm>
            <a:off x="6419880" y="3629160"/>
            <a:ext cx="2724120" cy="32288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28600" y="3718080"/>
            <a:ext cx="60958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ight images in mirror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Law of reflection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0" i="1" lang="en-US" sz="4000" spc="-1" strike="noStrike">
                <a:solidFill>
                  <a:srgbClr val="cc0000"/>
                </a:solidFill>
                <a:latin typeface="Arial Rounded MT Bold"/>
              </a:rPr>
              <a:t>i</a:t>
            </a:r>
            <a:r>
              <a:rPr b="0" lang="en-US" sz="4000" spc="-1" strike="noStrike">
                <a:solidFill>
                  <a:srgbClr val="cc0000"/>
                </a:solidFill>
                <a:latin typeface="Arial Rounded MT Bold"/>
              </a:rPr>
              <a:t>  =  </a:t>
            </a:r>
            <a:r>
              <a:rPr b="0" i="1" lang="en-US" sz="4000" spc="-1" strike="noStrike">
                <a:solidFill>
                  <a:srgbClr val="cc0000"/>
                </a:solidFill>
                <a:latin typeface="Arial Rounded MT Bold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600200" y="228600"/>
            <a:ext cx="731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fra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ending of a wave caused by a change in speed as the wave moves from one medium to anoth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1" name="Picture 3" descr="refraction_pencil"/>
          <p:cNvPicPr/>
          <p:nvPr/>
        </p:nvPicPr>
        <p:blipFill>
          <a:blip r:embed="rId1"/>
          <a:stretch/>
        </p:blipFill>
        <p:spPr>
          <a:xfrm>
            <a:off x="152280" y="533520"/>
            <a:ext cx="1343160" cy="2381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refraction_flashlight"/>
          <p:cNvPicPr/>
          <p:nvPr/>
        </p:nvPicPr>
        <p:blipFill>
          <a:blip r:embed="rId2"/>
          <a:stretch/>
        </p:blipFill>
        <p:spPr>
          <a:xfrm>
            <a:off x="457200" y="3505320"/>
            <a:ext cx="8229600" cy="3101760"/>
          </a:xfrm>
          <a:prstGeom prst="rect">
            <a:avLst/>
          </a:prstGeom>
          <a:ln w="0">
            <a:noFill/>
          </a:ln>
        </p:spPr>
      </p:pic>
      <p:sp>
        <p:nvSpPr>
          <p:cNvPr id="6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refraction_pool"/>
          <p:cNvPicPr/>
          <p:nvPr/>
        </p:nvPicPr>
        <p:blipFill>
          <a:blip r:embed="rId1"/>
          <a:stretch/>
        </p:blipFill>
        <p:spPr>
          <a:xfrm>
            <a:off x="3505320" y="304920"/>
            <a:ext cx="5410080" cy="4267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152280" y="228600"/>
            <a:ext cx="3276720" cy="3750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The girl sees the boy’s foot closer to the surface than it actually i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52280" y="4724280"/>
            <a:ext cx="8763120" cy="1922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If the boy looks down at his feet, will they seem closer to him than they really are?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52280" y="4724280"/>
            <a:ext cx="8763120" cy="1922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No!  He is looking straight down and not at an angle.  There is no refraction for hi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2280" y="152280"/>
            <a:ext cx="556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Diffra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ending of a wave around the edge of an object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70" name="Picture 5" descr="diffraction_islands"/>
          <p:cNvPicPr/>
          <p:nvPr/>
        </p:nvPicPr>
        <p:blipFill>
          <a:blip r:embed="rId1"/>
          <a:stretch/>
        </p:blipFill>
        <p:spPr>
          <a:xfrm>
            <a:off x="5791320" y="152280"/>
            <a:ext cx="3219480" cy="2181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diffraction_water_opening"/>
          <p:cNvPicPr/>
          <p:nvPr/>
        </p:nvPicPr>
        <p:blipFill>
          <a:blip r:embed="rId2"/>
          <a:stretch/>
        </p:blipFill>
        <p:spPr>
          <a:xfrm>
            <a:off x="6095880" y="3429000"/>
            <a:ext cx="2495520" cy="2981160"/>
          </a:xfrm>
          <a:prstGeom prst="rect">
            <a:avLst/>
          </a:prstGeom>
          <a:ln w="0">
            <a:noFill/>
          </a:ln>
        </p:spPr>
      </p:pic>
      <p:sp>
        <p:nvSpPr>
          <p:cNvPr id="72" name="Line 7"/>
          <p:cNvSpPr/>
          <p:nvPr/>
        </p:nvSpPr>
        <p:spPr>
          <a:xfrm>
            <a:off x="7315200" y="2971800"/>
            <a:ext cx="0" cy="91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52280" y="2819520"/>
            <a:ext cx="5410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Water waves bending around island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152280" y="4800600"/>
            <a:ext cx="556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Water waves passing through a slit and spreading ou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20:01:30Z</dcterms:created>
  <dc:creator>Michael Bennett</dc:creator>
  <dc:description/>
  <dc:language>en-US</dc:language>
  <cp:lastModifiedBy>Asus</cp:lastModifiedBy>
  <dcterms:modified xsi:type="dcterms:W3CDTF">2018-03-09T16:46:44Z</dcterms:modified>
  <cp:revision>26</cp:revision>
  <dc:subject/>
  <dc:title>No Slide Title</dc:title>
</cp:coreProperties>
</file>