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whoosh.wav" ContentType="audio/x-wav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0B98-6610-4923-AB86-BD59601117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408-CBA1-4320-BA79-06D05395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0CB-05A6-441C-9F03-2321AD12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284-7A40-40E9-A340-D8EE7B17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CD8-3150-4D0F-817E-EDC8FA02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C69F-04CC-4DA2-BED3-F8128E8F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A424-38F5-412F-89E9-D25BBF33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7FA1-065D-4EFC-84C9-9F2516DF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7C27-7C31-4C00-8B45-A18E274D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ED54-3887-4B78-BE7F-15BB4AB0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651F-5AE7-4BC6-801C-B203A4F1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1139-5115-414A-9884-E3009279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DD6-FF6A-410F-98BB-F0C5E879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22AA-59B3-4870-9AE8-34AA8A72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B9E8-FCE8-47DC-8958-B4D1A292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EA20-C275-4193-9E9C-CBF80E21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BC75-A339-4F7D-9DDA-433B79C7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28AC-709E-48CE-A8E1-ACEA6EEE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C75-6690-4E19-B002-FED2F216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020-CD5B-4BE4-AA0B-2C5B67B0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0A5-4361-4E59-994D-A108482F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F73-4569-4C4D-B564-369BB6A0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D2B-0D24-41CE-8269-AC190252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28F-9D6E-408B-9D3C-39CFA328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F03-1917-4E88-8531-7676C674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0B9F-CB91-4D7B-AD0A-1F51F8DBA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2B38-94AB-43A5-B354-7060A03CAA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Reactions and Equations La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arts A, B, &amp;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pring 200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eth Shadri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CH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emistry 10-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j0254466"/>
          <p:cNvPicPr/>
          <p:nvPr/>
        </p:nvPicPr>
        <p:blipFill>
          <a:blip r:embed="rId1"/>
          <a:stretch/>
        </p:blipFill>
        <p:spPr>
          <a:xfrm>
            <a:off x="685800" y="2630520"/>
            <a:ext cx="380988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Instruc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lete the word equations by predicting the products, use the information you gathered by observation to help in the 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 sure to include the state of the substance for the reactants and produ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ify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equations for the rea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you may go finish Part D of the lab instructions.  You will need the solubility r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AG00567_"/>
          <p:cNvPicPr/>
          <p:nvPr/>
        </p:nvPicPr>
        <p:blipFill>
          <a:blip r:embed="rId3"/>
          <a:stretch/>
        </p:blipFill>
        <p:spPr>
          <a:xfrm>
            <a:off x="4687920" y="1981080"/>
            <a:ext cx="3730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urpos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bserve 7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dentify and write formulas for the reactants and products of thos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alance the equations for th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Mg ribbon is ash-lik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Litmus test indicates a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Solid turns white, steam comes from t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Solid turns blue ag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1 Fe nai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in Cu and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solution ha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ed from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lue color to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ce157"/>
                </a:solidFill>
                <a:latin typeface="Comic Sans MS"/>
              </a:rPr>
              <a:t>greenis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9" descr="MVC-002S"/>
          <p:cNvPicPr/>
          <p:nvPr/>
        </p:nvPicPr>
        <p:blipFill>
          <a:blip r:embed="rId1"/>
          <a:srcRect l="22004" t="0" r="10004" b="0"/>
          <a:stretch/>
        </p:blipFill>
        <p:spPr>
          <a:xfrm>
            <a:off x="5410080" y="1905120"/>
            <a:ext cx="304812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2 Cu meta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with Ag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the soluti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 beginning to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ke on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ightly </a:t>
            </a:r>
            <a:r>
              <a:rPr b="0" lang="en-US" sz="2800" spc="-1" strike="noStrike">
                <a:solidFill>
                  <a:srgbClr val="2663a0"/>
                </a:solidFill>
                <a:latin typeface="Comic Sans MS"/>
              </a:rPr>
              <a:t>blu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MVC-003S"/>
          <p:cNvPicPr/>
          <p:nvPr/>
        </p:nvPicPr>
        <p:blipFill>
          <a:blip r:embed="rId2"/>
          <a:srcRect l="18000" t="0" r="12000" b="9094"/>
          <a:stretch/>
        </p:blipFill>
        <p:spPr>
          <a:xfrm>
            <a:off x="4648320" y="2057400"/>
            <a:ext cx="380988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MVC-006S"/>
          <p:cNvPicPr/>
          <p:nvPr/>
        </p:nvPicPr>
        <p:blipFill>
          <a:blip r:embed="rId1"/>
          <a:srcRect l="39024" t="8906" r="14752" b="0"/>
          <a:stretch/>
        </p:blipFill>
        <p:spPr>
          <a:xfrm>
            <a:off x="5014800" y="1905120"/>
            <a:ext cx="3227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1: Magnesium plus oxygen yield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2: A1 product plus water yields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1: Copper (II) Sulfate Pentahydrate is heated to yield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2 Anhydrous Copper (II) Sulfate plus water yields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C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1  Iron plus Copper (II) Sulf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2  Copper plus Silver Nitr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3  Magnesium plus Hydrochloric Acid yields…  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5:17:32Z</dcterms:created>
  <dc:creator>Graves County High School</dc:creator>
  <dc:description/>
  <dc:language>en-US</dc:language>
  <cp:lastModifiedBy>RomaK</cp:lastModifiedBy>
  <dcterms:modified xsi:type="dcterms:W3CDTF">2015-09-02T06:01:30Z</dcterms:modified>
  <cp:revision>11</cp:revision>
  <dc:subject/>
  <dc:title>Reactions and Equations Spring 2003</dc:title>
</cp:coreProperties>
</file>