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whoosh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C574-2FCB-40CB-A582-B22F3152A1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and Equation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A, B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h Shad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10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d equations by predicting the products, use the information you gathered by observation to help in th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include the state of the substance for the reactants and pro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equations for the re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may go finish Part D of the lab instructions.  You will need the solubility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serve 7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dentify and write formulas for the reactants and products of tho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alance the equations for th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Mg ribbon is ash-like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Litmus test indicate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Solid turns white, steam comes from tes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Solid turns blue ag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 Fe nai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in Cu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from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color 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ish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 Cu metal is n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ted with 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beginning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ly blu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1: Magnesium plus oxygen yield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: A1 product plus water yields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Equations Par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1: Copper (II) Sulfate Pentahydrate is heated to yield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Anhydrous Copper (II) Sulfate plus water yields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 Equations Par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  Iron plus Copper (II) Sulf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2  Copper plus Silver Nitrate yields…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3  Magnesium plus Hydrochloric Acid yields…  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302-79BA-4A48-AFC9-C7F9C254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6B8-1A9C-4676-AF9E-EDF6118E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5BD-FE72-4E31-8C74-9A07FE19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3DA-D8A2-4941-9532-89137BE9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0CEA-9E8F-4242-B99C-CE6B14F7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E1C0-053A-4856-BC02-F18D5CE5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1579-6F6A-4F5B-93FF-37213890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2970-0134-4E5D-B0B6-A2F13C24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AFFD-FE76-4E4C-89AB-5087714C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E0F1-8E97-4BE4-B478-FDD386AC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53B4-3C3B-41E3-A7C0-E030BA11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2C1-89CB-48D1-9758-9B714FE9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E929-D805-4AF9-A10F-9CAD07ED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FEDE-C660-43E8-9B56-5C8A07D0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A523-82D2-4C8E-AE7E-D92A3C49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05DB-7344-419B-A828-C6BAC729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515B-084D-4CC2-A145-E4D75E72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22F-73EF-4D3E-8326-3905D330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818-4B73-4CAB-A222-B11DBAF6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CCE-795A-4DA8-AFB0-B6286852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884-18A2-4039-934C-54113658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B27-7CAF-4577-92C3-CFD348A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80B-FE66-4BF7-94BE-0155E24D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5A8-2081-4E76-8902-F0EB473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8148-57EB-4F82-AC05-D08A1C226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948A-6DAE-407A-A3F8-40D5179BCA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Reactions and Equations La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ts A, B, &amp;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pring 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eth Shadri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CH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mistry 10-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j0254466"/>
          <p:cNvPicPr/>
          <p:nvPr/>
        </p:nvPicPr>
        <p:blipFill>
          <a:blip r:embed="rId1"/>
          <a:stretch/>
        </p:blipFill>
        <p:spPr>
          <a:xfrm>
            <a:off x="685800" y="2630520"/>
            <a:ext cx="380988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nstru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 the word equations by predicting the products, use the information you gathered by observation to help in the pred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to include the state of the substance for the reactants and produ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ify th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equations for th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you may go finish Part D of the lab instructions.  You will need the solubility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AG00567_"/>
          <p:cNvPicPr/>
          <p:nvPr/>
        </p:nvPicPr>
        <p:blipFill>
          <a:blip r:embed="rId3"/>
          <a:stretch/>
        </p:blipFill>
        <p:spPr>
          <a:xfrm>
            <a:off x="4687920" y="1981080"/>
            <a:ext cx="3730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serve 7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dentify and write formulas for the reactants and products of tho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alance the equations for th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Mg ribbon is ash-lik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Litmus test indicates a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t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1 Solid turns white, steam comes from t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2 Solid turns blue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1 Fe nai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in Cu a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solution ha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nged from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ue color to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ce157"/>
                </a:solidFill>
                <a:latin typeface="Comic Sans MS"/>
              </a:rPr>
              <a:t>greenis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9" descr="MVC-002S"/>
          <p:cNvPicPr/>
          <p:nvPr/>
        </p:nvPicPr>
        <p:blipFill>
          <a:blip r:embed="rId1"/>
          <a:srcRect l="22004" t="0" r="10004" b="0"/>
          <a:stretch/>
        </p:blipFill>
        <p:spPr>
          <a:xfrm>
            <a:off x="5410080" y="1905120"/>
            <a:ext cx="30481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2 Cu metal is now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ated with Ag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the soluti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 beginning to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on a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ightly </a:t>
            </a:r>
            <a:r>
              <a:rPr b="0" lang="en-US" sz="2800" spc="-1" strike="noStrike">
                <a:solidFill>
                  <a:srgbClr val="2663a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MVC-003S"/>
          <p:cNvPicPr/>
          <p:nvPr/>
        </p:nvPicPr>
        <p:blipFill>
          <a:blip r:embed="rId2"/>
          <a:srcRect l="18000" t="0" r="12000" b="9094"/>
          <a:stretch/>
        </p:blipFill>
        <p:spPr>
          <a:xfrm>
            <a:off x="4648320" y="2057400"/>
            <a:ext cx="38098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Evidence of Chemical Rea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3  HCl solution begins to vigorously bubble when the Mg ribbon is added.  Gases are evident as they wisp through the air into the collecting tube; gas is flam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MVC-006S"/>
          <p:cNvPicPr/>
          <p:nvPr/>
        </p:nvPicPr>
        <p:blipFill>
          <a:blip r:embed="rId1"/>
          <a:srcRect l="39024" t="8906" r="14752" b="0"/>
          <a:stretch/>
        </p:blipFill>
        <p:spPr>
          <a:xfrm>
            <a:off x="5014800" y="1905120"/>
            <a:ext cx="3227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1: Magnesium plus oxygen yield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2: A1 product plus water yields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1: Copper (II) Sulfate Pentahydrate is heated to yield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2 Anhydrous Copper (II) Sulfate plus water yields 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Word Equations Part C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1  Iron plus Copper (II) Sulf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2  Copper plus Silver Nitrate yields…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3  Magnesium plus Hydrochloric Acid yields…  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5:17:32Z</dcterms:created>
  <dc:creator>Graves County High School</dc:creator>
  <dc:description/>
  <dc:language>en-US</dc:language>
  <cp:lastModifiedBy>RomaK</cp:lastModifiedBy>
  <dcterms:modified xsi:type="dcterms:W3CDTF">2015-09-02T06:01:30Z</dcterms:modified>
  <cp:revision>11</cp:revision>
  <dc:subject/>
  <dc:title>Reactions and Equations Spring 2003</dc:title>
</cp:coreProperties>
</file>