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gif" ContentType="image/gi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64E7-4C74-46CE-8EB2-06ECF14E4F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ox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ox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C in CO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– 4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 +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C in CO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– 4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 +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Mg in MgCl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Mg in MgCl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N in NH3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N in NH3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S in SO42-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– 8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S in SO42-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– 8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S in S2-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S in S2-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N in NH4+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N in NH4+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 Question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Question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 – 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 – de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– 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– de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 Question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Question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idation Numbers and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avoid any confusion when an element can have several oxidation numbers, the oxidation number is usually mentioned in the compound’s name.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names like “elementate(X)”, the number refers to “element” and not the associated oxy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 if we look at some examples , we get the following nam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Mn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 manganate(V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Cl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chlorate(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Cl2F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rus(V) oxydichloroflu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H2P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dihydrogenphosphate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2Cr2O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 dichromate(V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ck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 and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void any confusion when an element can have several oxidation numbers, the oxidation number is usually mentioned in the compound’s name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names like “elementate(X)”, the number refers to “element” and not the associated oxy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f we look at some examples , we get the following nam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MnO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manganate(V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ClO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chlorate(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Cl2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orus(V) oxydichloroflu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H2PO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dihydrogenphosphate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2Cr2O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dichromate(V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any 3 in Question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any 3 in Question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Experi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rning 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per in silver nitrat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ne solution and potassium iodid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oding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d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lanced symbol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Experi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per in silver nitrat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solution and potassium iodid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ding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symbol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g(s) + O2(g)  2MgO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gains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 redox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          Mg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           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loss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– gain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g(s) + O2(g)  2MgO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gains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 redox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          Mg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           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loss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– gain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(s) + 2AgNO3(aq)  Cu(NO3 )2(aq) + 2Ag(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+                     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                 Cu2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the half-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loss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– gain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(s) + 2AgNO3(aq)  Cu(NO3 )2(aq) + 2Ag(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+                     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                 Cu2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the half-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loss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– gain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 Question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Question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 of an atom in an element is zero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g in Mg, O in O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 of an atom in an element is zero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g in Mg, O in O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1BCB-7DE0-4D65-9F75-469E6539C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3A3B-9A90-42AB-BA73-9CFD2CC0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5C86-08FD-4058-8371-0D44D6F85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8F35-121D-49DF-8394-09C104F68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7289-23C0-4577-B8A7-287B76C8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1937-F82B-4BFE-B61C-9E08F815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E372-BFF5-4C54-8AF9-8774616A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4BBA-68CE-4B9F-8D8B-867B1B66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4CD1-E073-4235-98B3-197C253E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F8D2-B09A-468A-BB7B-7F086E8F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ED5D-F06E-473A-89A9-61815DD8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CC22-3B45-45BE-8AD7-120E7472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6903-4E65-49EB-95FB-B07C852D106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Redox Reaction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3203640" y="3789360"/>
            <a:ext cx="5940360" cy="2664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250920" y="2349360"/>
            <a:ext cx="5940360" cy="2664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 compound add up to zero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57"/>
          <p:cNvSpPr/>
          <p:nvPr/>
        </p:nvSpPr>
        <p:spPr>
          <a:xfrm>
            <a:off x="179280" y="3645000"/>
            <a:ext cx="3961080" cy="261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C in CO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 – 4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 = 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8"/>
          <p:cNvSpPr/>
          <p:nvPr/>
        </p:nvSpPr>
        <p:spPr>
          <a:xfrm>
            <a:off x="2124000" y="4292640"/>
            <a:ext cx="3168720" cy="2205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ut the +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 compound add up to zero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3" name="Text Box 21"/>
          <p:cNvSpPr/>
          <p:nvPr/>
        </p:nvSpPr>
        <p:spPr>
          <a:xfrm>
            <a:off x="179280" y="3645000"/>
            <a:ext cx="3961080" cy="1136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Mg in MgCl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3"/>
          <p:cNvSpPr/>
          <p:nvPr/>
        </p:nvSpPr>
        <p:spPr>
          <a:xfrm>
            <a:off x="1187280" y="4869000"/>
            <a:ext cx="2808360" cy="198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 compound add up to zero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21"/>
          <p:cNvSpPr/>
          <p:nvPr/>
        </p:nvSpPr>
        <p:spPr>
          <a:xfrm>
            <a:off x="179280" y="3645000"/>
            <a:ext cx="3961080" cy="1136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N in NH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3"/>
          <p:cNvSpPr/>
          <p:nvPr/>
        </p:nvSpPr>
        <p:spPr>
          <a:xfrm>
            <a:off x="1187280" y="4869000"/>
            <a:ext cx="2808360" cy="198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038480" cy="21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n ion add up to the charge on the ion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3" name="Text Box 21"/>
          <p:cNvSpPr/>
          <p:nvPr/>
        </p:nvSpPr>
        <p:spPr>
          <a:xfrm>
            <a:off x="179280" y="3645000"/>
            <a:ext cx="3961080" cy="261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S in SO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 – 8 = 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 = 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038480" cy="21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n ion add up to the charge on the ion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7" name="Text Box 21"/>
          <p:cNvSpPr/>
          <p:nvPr/>
        </p:nvSpPr>
        <p:spPr>
          <a:xfrm>
            <a:off x="179280" y="3645000"/>
            <a:ext cx="3961080" cy="1068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S in S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2"/>
          <p:cNvSpPr/>
          <p:nvPr/>
        </p:nvSpPr>
        <p:spPr>
          <a:xfrm>
            <a:off x="1187280" y="4869000"/>
            <a:ext cx="2808360" cy="198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038480" cy="21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n ion add up to the charge on the ion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2" name="Text Box 21"/>
          <p:cNvSpPr/>
          <p:nvPr/>
        </p:nvSpPr>
        <p:spPr>
          <a:xfrm>
            <a:off x="179280" y="3645000"/>
            <a:ext cx="3961080" cy="1136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N in NH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2"/>
          <p:cNvSpPr/>
          <p:nvPr/>
        </p:nvSpPr>
        <p:spPr>
          <a:xfrm>
            <a:off x="1187280" y="4869000"/>
            <a:ext cx="2808360" cy="198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ry Question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 + ½ O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j0078721"/>
          <p:cNvPicPr/>
          <p:nvPr/>
        </p:nvPicPr>
        <p:blipFill>
          <a:blip r:embed="rId1"/>
          <a:stretch/>
        </p:blipFill>
        <p:spPr>
          <a:xfrm flipH="1">
            <a:off x="468360" y="1628640"/>
            <a:ext cx="968400" cy="393408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4"/>
          <p:cNvSpPr/>
          <p:nvPr/>
        </p:nvSpPr>
        <p:spPr>
          <a:xfrm>
            <a:off x="5292720" y="141300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5292720" y="357336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 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r O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1403280" y="3068640"/>
            <a:ext cx="449892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GC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50920" y="1484280"/>
            <a:ext cx="41400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Oxida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572000" y="1484280"/>
            <a:ext cx="439272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Reduc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4572000" y="1557360"/>
            <a:ext cx="0" cy="5157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0" y="407664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4105440" y="414972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 + ½ O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j0078721"/>
          <p:cNvPicPr/>
          <p:nvPr/>
        </p:nvPicPr>
        <p:blipFill>
          <a:blip r:embed="rId1"/>
          <a:stretch/>
        </p:blipFill>
        <p:spPr>
          <a:xfrm flipH="1">
            <a:off x="468360" y="1628640"/>
            <a:ext cx="968400" cy="393408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4"/>
          <p:cNvSpPr/>
          <p:nvPr/>
        </p:nvSpPr>
        <p:spPr>
          <a:xfrm>
            <a:off x="5292720" y="141300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5292720" y="357336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 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r O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1403280" y="3068640"/>
            <a:ext cx="449892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5796000" y="141300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476360" y="1432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658800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334800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324000" y="2421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395280" y="1413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GC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50920" y="1484280"/>
            <a:ext cx="41400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Oxida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4572000" y="1484280"/>
            <a:ext cx="439272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Reduc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4572000" y="1557360"/>
            <a:ext cx="0" cy="5157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0" y="407664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4105440" y="414972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 + ½ O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796000" y="141300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1476360" y="1432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58800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334800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324000" y="2421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395280" y="1413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4" descr="j0288976"/>
          <p:cNvPicPr/>
          <p:nvPr/>
        </p:nvPicPr>
        <p:blipFill>
          <a:blip r:embed="rId1"/>
          <a:stretch/>
        </p:blipFill>
        <p:spPr>
          <a:xfrm>
            <a:off x="3247920" y="4313160"/>
            <a:ext cx="2260800" cy="149220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15"/>
          <p:cNvSpPr/>
          <p:nvPr/>
        </p:nvSpPr>
        <p:spPr>
          <a:xfrm>
            <a:off x="755640" y="2997360"/>
            <a:ext cx="2664000" cy="11523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7"/>
          <p:cNvSpPr/>
          <p:nvPr/>
        </p:nvSpPr>
        <p:spPr>
          <a:xfrm>
            <a:off x="-324000" y="3860640"/>
            <a:ext cx="4211640" cy="28101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 –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8"/>
          <p:cNvSpPr/>
          <p:nvPr/>
        </p:nvSpPr>
        <p:spPr>
          <a:xfrm>
            <a:off x="5437080" y="3068640"/>
            <a:ext cx="2664000" cy="11523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9"/>
          <p:cNvSpPr/>
          <p:nvPr/>
        </p:nvSpPr>
        <p:spPr>
          <a:xfrm>
            <a:off x="5329080" y="3716280"/>
            <a:ext cx="4211640" cy="28098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 – de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ry Question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xidation Numbers and n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7640" y="1483920"/>
            <a:ext cx="7777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avoid any confusion when an element can have several oxidation numbers, the oxidation number is usually mentioned in the compound’s name.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names like “elementate(X)”, the number refers to “element” and not the associated oxyg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 if we look at some examples , we get the following names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Mn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tassium manganate(V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Cl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dium chlorate(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Cl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osphorus(V) oxydichloroflu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dium dihydrogenphosphate(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tassium dichromate(V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6948360" y="4005360"/>
            <a:ext cx="2195640" cy="2448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eck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ry any 3 in Question 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4thofjuly-1_e0"/>
          <p:cNvPicPr/>
          <p:nvPr/>
        </p:nvPicPr>
        <p:blipFill>
          <a:blip r:embed="rId1"/>
          <a:stretch/>
        </p:blipFill>
        <p:spPr>
          <a:xfrm>
            <a:off x="755640" y="620640"/>
            <a:ext cx="8064360" cy="6012000"/>
          </a:xfrm>
          <a:prstGeom prst="rect">
            <a:avLst/>
          </a:prstGeom>
          <a:ln w="0">
            <a:noFill/>
          </a:ln>
        </p:spPr>
      </p:pic>
      <p:pic>
        <p:nvPicPr>
          <p:cNvPr id="165" name="Chee1673.wav" descr=""/>
          <p:cNvPicPr/>
          <p:nvPr/>
        </p:nvPicPr>
        <p:blipFill>
          <a:blip r:embed="rId2"/>
          <a:stretch/>
        </p:blipFill>
        <p:spPr>
          <a:xfrm>
            <a:off x="8388360" y="5661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1258920" y="1989000"/>
            <a:ext cx="662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Comic Sans MS"/>
              </a:rPr>
              <a:t>Well don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9" dur="6123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4 Experimen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urning magne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pper in silver nitrat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hlorine solution and potassium iodid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xploding hyd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250920" y="4221000"/>
            <a:ext cx="8893080" cy="259272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ord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alanced symbol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1412640"/>
            <a:ext cx="711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2Mg(s) + O</a:t>
            </a:r>
            <a:r>
              <a:rPr b="1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(g) </a:t>
            </a:r>
            <a:r>
              <a:rPr b="1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2MgO(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j0078709"/>
          <p:cNvPicPr/>
          <p:nvPr/>
        </p:nvPicPr>
        <p:blipFill>
          <a:blip r:embed="rId1">
            <a:grayscl/>
          </a:blip>
          <a:stretch/>
        </p:blipFill>
        <p:spPr>
          <a:xfrm>
            <a:off x="250920" y="1052640"/>
            <a:ext cx="1446120" cy="215244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6"/>
          <p:cNvSpPr/>
          <p:nvPr/>
        </p:nvSpPr>
        <p:spPr>
          <a:xfrm>
            <a:off x="1116000" y="144360"/>
            <a:ext cx="3456000" cy="1197000"/>
          </a:xfrm>
          <a:prstGeom prst="cloudCallout">
            <a:avLst>
              <a:gd name="adj1" fmla="val -52754"/>
              <a:gd name="adj2" fmla="val 340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xidised – gains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354560" y="2565360"/>
            <a:ext cx="309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ust be a redox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1995480" y="3284640"/>
            <a:ext cx="711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Mg         </a:t>
            </a:r>
            <a:r>
              <a:rPr b="1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Mg</a:t>
            </a:r>
            <a:r>
              <a:rPr b="1" lang="en-GB" sz="44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1835280" y="5094360"/>
            <a:ext cx="711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           </a:t>
            </a:r>
            <a:r>
              <a:rPr b="1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GB" sz="4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0"/>
          <p:cNvSpPr/>
          <p:nvPr/>
        </p:nvSpPr>
        <p:spPr>
          <a:xfrm>
            <a:off x="324000" y="3789360"/>
            <a:ext cx="2663640" cy="2808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ut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7885080" y="3571920"/>
            <a:ext cx="10080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+2e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4356000" y="5300640"/>
            <a:ext cx="10080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+2e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8"/>
          <p:cNvSpPr/>
          <p:nvPr/>
        </p:nvSpPr>
        <p:spPr>
          <a:xfrm>
            <a:off x="0" y="3429000"/>
            <a:ext cx="3419640" cy="863640"/>
          </a:xfrm>
          <a:prstGeom prst="rightArrow">
            <a:avLst>
              <a:gd name="adj1" fmla="val 50000"/>
              <a:gd name="adj2" fmla="val 989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xidised – loss of e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9"/>
          <p:cNvSpPr/>
          <p:nvPr/>
        </p:nvSpPr>
        <p:spPr>
          <a:xfrm>
            <a:off x="34920" y="5229360"/>
            <a:ext cx="3419640" cy="863640"/>
          </a:xfrm>
          <a:prstGeom prst="rightArrow">
            <a:avLst>
              <a:gd name="adj1" fmla="val 50000"/>
              <a:gd name="adj2" fmla="val 989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duced – gain of e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u(s) + 2AgNO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(aq) </a:t>
            </a:r>
            <a:r>
              <a:rPr b="1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Cu(NO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(aq) + 2Ag(s)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673200" y="487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g</a:t>
            </a:r>
            <a:r>
              <a:rPr b="1" lang="en-GB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     Ag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914400" y="342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u           </a:t>
            </a:r>
            <a:r>
              <a:rPr b="1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  Cu</a:t>
            </a:r>
            <a:r>
              <a:rPr b="1" lang="en-GB" sz="28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j0288976"/>
          <p:cNvPicPr/>
          <p:nvPr/>
        </p:nvPicPr>
        <p:blipFill>
          <a:blip r:embed="rId1"/>
          <a:stretch/>
        </p:blipFill>
        <p:spPr>
          <a:xfrm>
            <a:off x="5148360" y="1628640"/>
            <a:ext cx="2260440" cy="149256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8"/>
          <p:cNvSpPr/>
          <p:nvPr/>
        </p:nvSpPr>
        <p:spPr>
          <a:xfrm>
            <a:off x="1042920" y="1413000"/>
            <a:ext cx="3529080" cy="1079280"/>
          </a:xfrm>
          <a:prstGeom prst="wedgeRoundRectCallout">
            <a:avLst>
              <a:gd name="adj1" fmla="val 78162"/>
              <a:gd name="adj2" fmla="val 1132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plete the half-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4068720" y="5300640"/>
            <a:ext cx="719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+e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6877080" y="3789360"/>
            <a:ext cx="719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+2e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2"/>
          <p:cNvSpPr/>
          <p:nvPr/>
        </p:nvSpPr>
        <p:spPr>
          <a:xfrm>
            <a:off x="1116000" y="1484280"/>
            <a:ext cx="3529080" cy="1079640"/>
          </a:xfrm>
          <a:prstGeom prst="wedgeRoundRectCallout">
            <a:avLst>
              <a:gd name="adj1" fmla="val 78162"/>
              <a:gd name="adj2" fmla="val 1132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3"/>
          <p:cNvSpPr/>
          <p:nvPr/>
        </p:nvSpPr>
        <p:spPr>
          <a:xfrm>
            <a:off x="179280" y="3645000"/>
            <a:ext cx="3168720" cy="863640"/>
          </a:xfrm>
          <a:prstGeom prst="rightArrow">
            <a:avLst>
              <a:gd name="adj1" fmla="val 50000"/>
              <a:gd name="adj2" fmla="val 917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xidised – loss of e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4"/>
          <p:cNvSpPr/>
          <p:nvPr/>
        </p:nvSpPr>
        <p:spPr>
          <a:xfrm>
            <a:off x="179280" y="5084640"/>
            <a:ext cx="3059280" cy="863640"/>
          </a:xfrm>
          <a:prstGeom prst="rightArrow">
            <a:avLst>
              <a:gd name="adj1" fmla="val 50000"/>
              <a:gd name="adj2" fmla="val 885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duced – gain of e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ry Question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 + ½ O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j0078721"/>
          <p:cNvPicPr/>
          <p:nvPr/>
        </p:nvPicPr>
        <p:blipFill>
          <a:blip r:embed="rId1"/>
          <a:stretch/>
        </p:blipFill>
        <p:spPr>
          <a:xfrm flipH="1">
            <a:off x="468360" y="1628640"/>
            <a:ext cx="968400" cy="393408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6"/>
          <p:cNvSpPr/>
          <p:nvPr/>
        </p:nvSpPr>
        <p:spPr>
          <a:xfrm>
            <a:off x="5292720" y="141300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7"/>
          <p:cNvSpPr/>
          <p:nvPr/>
        </p:nvSpPr>
        <p:spPr>
          <a:xfrm>
            <a:off x="5292720" y="357336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 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r O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8"/>
          <p:cNvSpPr/>
          <p:nvPr/>
        </p:nvSpPr>
        <p:spPr>
          <a:xfrm>
            <a:off x="1403280" y="3068640"/>
            <a:ext cx="449892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GC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250920" y="1484280"/>
            <a:ext cx="41400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Oxida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572000" y="1484280"/>
            <a:ext cx="439272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Reduc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4572000" y="1557360"/>
            <a:ext cx="0" cy="5157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0" y="407664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4105440" y="414972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186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oxidation number of an atom in an element is zero. 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.g. Mg in Mg, O in O</a:t>
            </a:r>
            <a:r>
              <a:rPr b="1" lang="en-GB" sz="3200" spc="-1" strike="noStrike" baseline="-25000">
                <a:solidFill>
                  <a:srgbClr val="ffffff"/>
                </a:solidFill>
                <a:latin typeface="Arial"/>
              </a:rPr>
              <a:t>2.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22:41:51Z</dcterms:created>
  <dc:creator>Administrator</dc:creator>
  <dc:description/>
  <dc:language>en-US</dc:language>
  <cp:lastModifiedBy>RomaK</cp:lastModifiedBy>
  <dcterms:modified xsi:type="dcterms:W3CDTF">2015-09-02T06:01:26Z</dcterms:modified>
  <cp:revision>14</cp:revision>
  <dc:subject/>
  <dc:title>Redox Reactions.</dc:title>
</cp:coreProperties>
</file>