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gif" ContentType="image/gif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18182-D982-4C84-9DD3-BB70C19DF76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dox Rea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xid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ox Rea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xidation numbers of  atoms in a compound add up to zero. 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state of C in CO2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 – 4 =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 = +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t the +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xidation numbers of  atoms in a compound add up to zero. 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state of C in CO2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 – 4 =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 = +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t the +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xidation numbers of  atoms in a compound add up to zero. 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state of Mg in MgCl2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xidation numbers of  atoms in a compound add up to zero. 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state of Mg in MgCl2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xidation numbers of  atoms in a compound add up to zero. 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state of N in NH3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xidation numbers of  atoms in a compound add up to zero. 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state of N in NH3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xidation numbers of  atoms in an ion add up to the charge on the ion. 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state of S in SO42-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 – 8 = 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 = +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xidation numbers of  atoms in an ion add up to the charge on the ion. 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state of S in SO42-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 – 8 = 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 = +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xidation numbers of  atoms in an ion add up to the charge on the ion. 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state of S in S2-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xidation numbers of  atoms in an ion add up to the charge on the ion. 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state of S in S2-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xidation numbers of  atoms in an ion add up to the charge on the ion. 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state of N in NH4+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xidation numbers of  atoms in an ion add up to the charge on the ion. 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state of N in NH4+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ry Question 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y Question 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2(g) + ½ O2(g)  H2O(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valen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H+ or OH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a n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2(g) + ½ O2(g)  H2O(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valen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H+ or OH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a n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C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in of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ss of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uc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ss of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in of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rease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rease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C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in of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ss of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uc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ss of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in of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rease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rease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2(g) + ½ O2(g)  H2O(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ovalen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No H+ or OH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Need a n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defini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+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2(g) + ½ O2(g)  H2O(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ovalen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No H+ or OH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Need a n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defini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+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C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in of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ss of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uc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ss of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in of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rease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rease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C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in of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ss of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uc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ss of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in of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rease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rease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2(g) + ½ O2(g)  H2O(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+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xidis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 – incre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 oxid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u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duc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 – decre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 oxid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u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2(g) + ½ O2(g)  H2O(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is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 – incre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oxid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uc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 – decre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oxid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ry Question 3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y Question 3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xidation Numbers and na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 avoid any confusion when an element can have several oxidation numbers, the oxidation number is usually mentioned in the compound’s name.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 names like “elementate(X)”, the number refers to “element” and not the associated oxyg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 if we look at some examples , we get the following names: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MnO4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otassium manganate(VI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aClO3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dium chlorate(V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OCl2F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osphorus(V) oxydichlorofluor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aH2PO3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dium dihydrogenphosphate(II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2Cr2O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otassium dichromate(V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eck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umb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Numbers and na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void any confusion when an element can have several oxidation numbers, the oxidation number is usually mentioned in the compound’s name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names like “elementate(X)”, the number refers to “element” and not the associated oxyg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if we look at some examples , we get the following names: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MnO4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tassium manganate(VI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ClO3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dium chlorate(V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Cl2F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osphorus(V) oxydichlorofluor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H2PO3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dium dihydrogenphosphate(II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2Cr2O7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tassium dichromate(V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ck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y any 3 in Question 7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y any 3 in Question 7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ell don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ll don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4 Experiment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urning magnes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pper in silver nitrate so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lorine solution and potassium iodide so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xploding hydro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ord eq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alanced symbol eq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Experiment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rning magnes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per in silver nitrate so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lorine solution and potassium iodide so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oding hydro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d eq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lanced symbol eq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g(s) + O2(g)  2MgO(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ised – gains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st be a redox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g          Mg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            O2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t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- 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2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2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ised – loss of 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uced – gain of 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g(s) + O2(g)  2MgO(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ised – gains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st be a redox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g          Mg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            O2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t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- 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2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2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ised – loss of 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uced – gain of 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(s) + 2AgNO3(aq)  Cu(NO3 )2(aq) + 2Ag(s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+                     A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                 Cu2+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the half-equ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2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is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uc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ised – loss of 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uced – gain of 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(s) + 2AgNO3(aq)  Cu(NO3 )2(aq) + 2Ag(s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+                     A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                 Cu2+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the half-equ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2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is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uc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ised – loss of 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uced – gain of 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ry Question 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y Question 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2(g) + ½ O2(g)  H2O(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valen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H+ or OH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a n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2(g) + ½ O2(g)  H2O(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valen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H+ or OH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a n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C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in of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ss of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uc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ss of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in of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rease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rease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C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in of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ss of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uc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ss of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in of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rease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rease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xidation number of an atom in an element is zero.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Mg in Mg, O in O2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xidation number of an atom in an element is zero.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Mg in Mg, O in O2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FE521-E7E0-4483-9800-FE052CD13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187D8-C3D5-4482-8CAC-273C95068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1EA1B-1E04-49B9-A716-A31B4B1AF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A7CD8-8848-4825-8DAE-63A58F2F6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EDC4B-76C3-4F3C-A3FD-92DF08567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B5B4E-A459-4ED8-945B-8E125B743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2BCEE-1D96-4610-A8DE-4633E63B9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AFFB6-85A1-4C31-9D27-2D9D42D10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7E787-B76E-4FCD-B3A8-1072DD842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6B047-2B00-4C9E-92D6-091C5D906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15EAD-1AD7-447C-81D1-D63A94EC8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48B9F-C164-4D5B-8BB4-627C67411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00965-F915-477F-BDEB-E9AB2B6C794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125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ffffff"/>
                </a:solidFill>
                <a:latin typeface="Arial"/>
              </a:rPr>
              <a:t>Redox Reactions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3203640" y="3789360"/>
            <a:ext cx="5940360" cy="266400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00"/>
                </a:solidFill>
                <a:latin typeface="Arial"/>
              </a:rPr>
              <a:t>Oxidat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5"/>
          <p:cNvSpPr/>
          <p:nvPr/>
        </p:nvSpPr>
        <p:spPr>
          <a:xfrm>
            <a:off x="250920" y="2349360"/>
            <a:ext cx="5940360" cy="266400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00"/>
                </a:solidFill>
                <a:latin typeface="Arial"/>
              </a:rPr>
              <a:t>Reduct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>
                <a:alpha val="50000"/>
              </a:srgbClr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Oxidation Numb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The oxidation numbers of  atoms in a compound add up to zero.  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4648320" y="1600200"/>
          <a:ext cx="4038480" cy="4525920"/>
        </p:xfrm>
        <a:graphic>
          <a:graphicData uri="http://schemas.openxmlformats.org/drawingml/2006/table">
            <a:tbl>
              <a:tblPr/>
              <a:tblGrid>
                <a:gridCol w="2019240"/>
                <a:gridCol w="2019240"/>
              </a:tblGrid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98" name="Text Box 57"/>
          <p:cNvSpPr/>
          <p:nvPr/>
        </p:nvSpPr>
        <p:spPr>
          <a:xfrm>
            <a:off x="179280" y="3645000"/>
            <a:ext cx="3961080" cy="26193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Oxidation state of C in CO</a:t>
            </a:r>
            <a:r>
              <a:rPr b="1" lang="en-GB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? – 4 =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? = +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58"/>
          <p:cNvSpPr/>
          <p:nvPr/>
        </p:nvSpPr>
        <p:spPr>
          <a:xfrm>
            <a:off x="2124000" y="4292640"/>
            <a:ext cx="3168720" cy="2205000"/>
          </a:xfrm>
          <a:prstGeom prst="irregularSeal2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ut the +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>
                <a:alpha val="50000"/>
              </a:srgbClr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Oxidation Numb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The oxidation numbers of  atoms in a compound add up to zero.  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4648320" y="1600200"/>
          <a:ext cx="4038480" cy="4525920"/>
        </p:xfrm>
        <a:graphic>
          <a:graphicData uri="http://schemas.openxmlformats.org/drawingml/2006/table">
            <a:tbl>
              <a:tblPr/>
              <a:tblGrid>
                <a:gridCol w="2019240"/>
                <a:gridCol w="2019240"/>
              </a:tblGrid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03" name="Text Box 21"/>
          <p:cNvSpPr/>
          <p:nvPr/>
        </p:nvSpPr>
        <p:spPr>
          <a:xfrm>
            <a:off x="179280" y="3645000"/>
            <a:ext cx="3961080" cy="11361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Oxidation state of Mg in MgCl</a:t>
            </a:r>
            <a:r>
              <a:rPr b="1" lang="en-GB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23"/>
          <p:cNvSpPr/>
          <p:nvPr/>
        </p:nvSpPr>
        <p:spPr>
          <a:xfrm>
            <a:off x="1187280" y="4869000"/>
            <a:ext cx="2808360" cy="1989000"/>
          </a:xfrm>
          <a:prstGeom prst="irregularSeal2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+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>
                <a:alpha val="50000"/>
              </a:srgbClr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Oxidation Numb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The oxidation numbers of  atoms in a compound add up to zero.  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4648320" y="1600200"/>
          <a:ext cx="4038480" cy="4525920"/>
        </p:xfrm>
        <a:graphic>
          <a:graphicData uri="http://schemas.openxmlformats.org/drawingml/2006/table">
            <a:tbl>
              <a:tblPr/>
              <a:tblGrid>
                <a:gridCol w="2019240"/>
                <a:gridCol w="2019240"/>
              </a:tblGrid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08" name="Text Box 21"/>
          <p:cNvSpPr/>
          <p:nvPr/>
        </p:nvSpPr>
        <p:spPr>
          <a:xfrm>
            <a:off x="179280" y="3645000"/>
            <a:ext cx="3961080" cy="11361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Oxidation state of N in NH</a:t>
            </a:r>
            <a:r>
              <a:rPr b="1" lang="en-GB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23"/>
          <p:cNvSpPr/>
          <p:nvPr/>
        </p:nvSpPr>
        <p:spPr>
          <a:xfrm>
            <a:off x="1187280" y="4869000"/>
            <a:ext cx="2808360" cy="1989000"/>
          </a:xfrm>
          <a:prstGeom prst="irregularSeal2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>
                <a:alpha val="50000"/>
              </a:srgbClr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Oxidation Numb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8000" y="1267920"/>
            <a:ext cx="4038480" cy="211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The oxidation numbers of  atoms in an ion add up to the charge on the ion.  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648320" y="1600200"/>
          <a:ext cx="4038480" cy="4525920"/>
        </p:xfrm>
        <a:graphic>
          <a:graphicData uri="http://schemas.openxmlformats.org/drawingml/2006/table">
            <a:tbl>
              <a:tblPr/>
              <a:tblGrid>
                <a:gridCol w="2019240"/>
                <a:gridCol w="2019240"/>
              </a:tblGrid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13" name="Text Box 21"/>
          <p:cNvSpPr/>
          <p:nvPr/>
        </p:nvSpPr>
        <p:spPr>
          <a:xfrm>
            <a:off x="179280" y="3645000"/>
            <a:ext cx="3961080" cy="26193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Oxidation state of S in SO</a:t>
            </a:r>
            <a:r>
              <a:rPr b="1" lang="en-GB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en-GB" sz="32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? – 8 = -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? = +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>
                <a:alpha val="50000"/>
              </a:srgbClr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Oxidation Numb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8000" y="1267920"/>
            <a:ext cx="4038480" cy="211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The oxidation numbers of  atoms in an ion add up to the charge on the ion.  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648320" y="1600200"/>
          <a:ext cx="4038480" cy="4525920"/>
        </p:xfrm>
        <a:graphic>
          <a:graphicData uri="http://schemas.openxmlformats.org/drawingml/2006/table">
            <a:tbl>
              <a:tblPr/>
              <a:tblGrid>
                <a:gridCol w="2019240"/>
                <a:gridCol w="2019240"/>
              </a:tblGrid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17" name="Text Box 21"/>
          <p:cNvSpPr/>
          <p:nvPr/>
        </p:nvSpPr>
        <p:spPr>
          <a:xfrm>
            <a:off x="179280" y="3645000"/>
            <a:ext cx="3961080" cy="10688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Oxidation state of S in S</a:t>
            </a:r>
            <a:r>
              <a:rPr b="1" lang="en-GB" sz="32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22"/>
          <p:cNvSpPr/>
          <p:nvPr/>
        </p:nvSpPr>
        <p:spPr>
          <a:xfrm>
            <a:off x="1187280" y="4869000"/>
            <a:ext cx="2808360" cy="1989000"/>
          </a:xfrm>
          <a:prstGeom prst="irregularSeal2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>
                <a:alpha val="50000"/>
              </a:srgbClr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Oxidation Numb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8000" y="1267920"/>
            <a:ext cx="4038480" cy="211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The oxidation numbers of  atoms in an ion add up to the charge on the ion.  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4648320" y="1600200"/>
          <a:ext cx="4038480" cy="4525920"/>
        </p:xfrm>
        <a:graphic>
          <a:graphicData uri="http://schemas.openxmlformats.org/drawingml/2006/table">
            <a:tbl>
              <a:tblPr/>
              <a:tblGrid>
                <a:gridCol w="2019240"/>
                <a:gridCol w="2019240"/>
              </a:tblGrid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22" name="Text Box 21"/>
          <p:cNvSpPr/>
          <p:nvPr/>
        </p:nvSpPr>
        <p:spPr>
          <a:xfrm>
            <a:off x="179280" y="3645000"/>
            <a:ext cx="3961080" cy="11361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Oxidation state of N in NH</a:t>
            </a:r>
            <a:r>
              <a:rPr b="1" lang="en-GB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en-GB" sz="3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22"/>
          <p:cNvSpPr/>
          <p:nvPr/>
        </p:nvSpPr>
        <p:spPr>
          <a:xfrm>
            <a:off x="1187280" y="4869000"/>
            <a:ext cx="2808360" cy="1989000"/>
          </a:xfrm>
          <a:prstGeom prst="irregularSeal2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Try Question 2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GB" sz="4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(g) + ½ O</a:t>
            </a:r>
            <a:r>
              <a:rPr b="0" lang="en-GB" sz="4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(g)</a:t>
            </a:r>
            <a:r>
              <a:rPr b="0" lang="en-GB" sz="44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4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GB" sz="44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GB" sz="4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O(g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3" descr="j0078721"/>
          <p:cNvPicPr/>
          <p:nvPr/>
        </p:nvPicPr>
        <p:blipFill>
          <a:blip r:embed="rId1"/>
          <a:stretch/>
        </p:blipFill>
        <p:spPr>
          <a:xfrm flipH="1">
            <a:off x="468360" y="1628640"/>
            <a:ext cx="968400" cy="3934080"/>
          </a:xfrm>
          <a:prstGeom prst="rect">
            <a:avLst/>
          </a:prstGeom>
          <a:ln w="0">
            <a:noFill/>
          </a:ln>
        </p:spPr>
      </p:pic>
      <p:sp>
        <p:nvSpPr>
          <p:cNvPr id="127" name="AutoShape 4"/>
          <p:cNvSpPr/>
          <p:nvPr/>
        </p:nvSpPr>
        <p:spPr>
          <a:xfrm>
            <a:off x="5292720" y="1413000"/>
            <a:ext cx="3851280" cy="25923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ovalent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5"/>
          <p:cNvSpPr/>
          <p:nvPr/>
        </p:nvSpPr>
        <p:spPr>
          <a:xfrm>
            <a:off x="5292720" y="3573360"/>
            <a:ext cx="3851280" cy="25923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No H</a:t>
            </a:r>
            <a:r>
              <a:rPr b="1" lang="en-GB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or OH</a:t>
            </a:r>
            <a:r>
              <a:rPr b="1" lang="en-GB" sz="2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6"/>
          <p:cNvSpPr/>
          <p:nvPr/>
        </p:nvSpPr>
        <p:spPr>
          <a:xfrm>
            <a:off x="1403280" y="3068640"/>
            <a:ext cx="4498920" cy="25923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Need a n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defini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ffffff"/>
                </a:solidFill>
                <a:latin typeface="Arial"/>
              </a:rPr>
              <a:t>GCS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3"/>
          <p:cNvSpPr/>
          <p:nvPr/>
        </p:nvSpPr>
        <p:spPr>
          <a:xfrm>
            <a:off x="250920" y="1484280"/>
            <a:ext cx="4140000" cy="26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 u="sng">
                <a:solidFill>
                  <a:srgbClr val="ffffff"/>
                </a:solidFill>
                <a:uFillTx/>
                <a:latin typeface="Arial"/>
              </a:rPr>
              <a:t>Oxidation</a:t>
            </a:r>
            <a:r>
              <a:rPr b="1" lang="en-GB" sz="6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Gain of oxyg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Loss of electr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4"/>
          <p:cNvSpPr/>
          <p:nvPr/>
        </p:nvSpPr>
        <p:spPr>
          <a:xfrm>
            <a:off x="4572000" y="1484280"/>
            <a:ext cx="4392720" cy="26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 u="sng">
                <a:solidFill>
                  <a:srgbClr val="ffffff"/>
                </a:solidFill>
                <a:uFillTx/>
                <a:latin typeface="Arial"/>
              </a:rPr>
              <a:t>Reduction</a:t>
            </a:r>
            <a:r>
              <a:rPr b="1" lang="en-GB" sz="6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Loss of oxyg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Gain of electr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5"/>
          <p:cNvSpPr/>
          <p:nvPr/>
        </p:nvSpPr>
        <p:spPr>
          <a:xfrm>
            <a:off x="4572000" y="1557360"/>
            <a:ext cx="0" cy="5157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6"/>
          <p:cNvSpPr/>
          <p:nvPr/>
        </p:nvSpPr>
        <p:spPr>
          <a:xfrm>
            <a:off x="0" y="4076640"/>
            <a:ext cx="4859280" cy="27813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Increase 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oxid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nu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7"/>
          <p:cNvSpPr/>
          <p:nvPr/>
        </p:nvSpPr>
        <p:spPr>
          <a:xfrm>
            <a:off x="4105440" y="4149720"/>
            <a:ext cx="4859280" cy="27813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Decrease 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oxid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nu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GB" sz="4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(g) + ½ O</a:t>
            </a:r>
            <a:r>
              <a:rPr b="0" lang="en-GB" sz="4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(g)</a:t>
            </a:r>
            <a:r>
              <a:rPr b="0" lang="en-GB" sz="44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4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GB" sz="44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GB" sz="4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O(g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3" descr="j0078721"/>
          <p:cNvPicPr/>
          <p:nvPr/>
        </p:nvPicPr>
        <p:blipFill>
          <a:blip r:embed="rId1"/>
          <a:stretch/>
        </p:blipFill>
        <p:spPr>
          <a:xfrm flipH="1">
            <a:off x="468360" y="1628640"/>
            <a:ext cx="968400" cy="3934080"/>
          </a:xfrm>
          <a:prstGeom prst="rect">
            <a:avLst/>
          </a:prstGeom>
          <a:ln w="0">
            <a:noFill/>
          </a:ln>
        </p:spPr>
      </p:pic>
      <p:sp>
        <p:nvSpPr>
          <p:cNvPr id="138" name="AutoShape 4"/>
          <p:cNvSpPr/>
          <p:nvPr/>
        </p:nvSpPr>
        <p:spPr>
          <a:xfrm>
            <a:off x="5292720" y="1413000"/>
            <a:ext cx="3851280" cy="25923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ovalent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5"/>
          <p:cNvSpPr/>
          <p:nvPr/>
        </p:nvSpPr>
        <p:spPr>
          <a:xfrm>
            <a:off x="5292720" y="3573360"/>
            <a:ext cx="3851280" cy="25923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No H</a:t>
            </a:r>
            <a:r>
              <a:rPr b="1" lang="en-GB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or OH</a:t>
            </a:r>
            <a:r>
              <a:rPr b="1" lang="en-GB" sz="2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6"/>
          <p:cNvSpPr/>
          <p:nvPr/>
        </p:nvSpPr>
        <p:spPr>
          <a:xfrm>
            <a:off x="1403280" y="3068640"/>
            <a:ext cx="4498920" cy="25923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Need a n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defini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7"/>
          <p:cNvSpPr/>
          <p:nvPr/>
        </p:nvSpPr>
        <p:spPr>
          <a:xfrm>
            <a:off x="5796000" y="1413000"/>
            <a:ext cx="115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+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8"/>
          <p:cNvSpPr/>
          <p:nvPr/>
        </p:nvSpPr>
        <p:spPr>
          <a:xfrm>
            <a:off x="1476360" y="1432080"/>
            <a:ext cx="7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9"/>
          <p:cNvSpPr/>
          <p:nvPr/>
        </p:nvSpPr>
        <p:spPr>
          <a:xfrm>
            <a:off x="6588000" y="2440080"/>
            <a:ext cx="7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-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0"/>
          <p:cNvSpPr/>
          <p:nvPr/>
        </p:nvSpPr>
        <p:spPr>
          <a:xfrm>
            <a:off x="3348000" y="2440080"/>
            <a:ext cx="7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1"/>
          <p:cNvSpPr/>
          <p:nvPr/>
        </p:nvSpPr>
        <p:spPr>
          <a:xfrm>
            <a:off x="324000" y="2421000"/>
            <a:ext cx="7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2"/>
          <p:cNvSpPr/>
          <p:nvPr/>
        </p:nvSpPr>
        <p:spPr>
          <a:xfrm>
            <a:off x="395280" y="1413000"/>
            <a:ext cx="7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3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6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9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2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ffffff"/>
                </a:solidFill>
                <a:latin typeface="Arial"/>
              </a:rPr>
              <a:t>GCS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250920" y="1484280"/>
            <a:ext cx="4140000" cy="26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 u="sng">
                <a:solidFill>
                  <a:srgbClr val="ffffff"/>
                </a:solidFill>
                <a:uFillTx/>
                <a:latin typeface="Arial"/>
              </a:rPr>
              <a:t>Oxidation</a:t>
            </a:r>
            <a:r>
              <a:rPr b="1" lang="en-GB" sz="6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Gain of oxyg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Loss of electr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5"/>
          <p:cNvSpPr/>
          <p:nvPr/>
        </p:nvSpPr>
        <p:spPr>
          <a:xfrm>
            <a:off x="4572000" y="1484280"/>
            <a:ext cx="4392720" cy="26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 u="sng">
                <a:solidFill>
                  <a:srgbClr val="ffffff"/>
                </a:solidFill>
                <a:uFillTx/>
                <a:latin typeface="Arial"/>
              </a:rPr>
              <a:t>Reduction</a:t>
            </a:r>
            <a:r>
              <a:rPr b="1" lang="en-GB" sz="6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Loss of oxyg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Gain of electr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6"/>
          <p:cNvSpPr/>
          <p:nvPr/>
        </p:nvSpPr>
        <p:spPr>
          <a:xfrm>
            <a:off x="4572000" y="1557360"/>
            <a:ext cx="0" cy="5157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7"/>
          <p:cNvSpPr/>
          <p:nvPr/>
        </p:nvSpPr>
        <p:spPr>
          <a:xfrm>
            <a:off x="0" y="4076640"/>
            <a:ext cx="4859280" cy="27813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Increase 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oxid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nu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8"/>
          <p:cNvSpPr/>
          <p:nvPr/>
        </p:nvSpPr>
        <p:spPr>
          <a:xfrm>
            <a:off x="4105440" y="4149720"/>
            <a:ext cx="4859280" cy="27813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Decrease 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oxid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nu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GB" sz="4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(g) + ½ O</a:t>
            </a:r>
            <a:r>
              <a:rPr b="0" lang="en-GB" sz="4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(g)</a:t>
            </a:r>
            <a:r>
              <a:rPr b="0" lang="en-GB" sz="44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4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GB" sz="44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GB" sz="4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O(g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7"/>
          <p:cNvSpPr/>
          <p:nvPr/>
        </p:nvSpPr>
        <p:spPr>
          <a:xfrm>
            <a:off x="5796000" y="1413000"/>
            <a:ext cx="115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+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8"/>
          <p:cNvSpPr/>
          <p:nvPr/>
        </p:nvSpPr>
        <p:spPr>
          <a:xfrm>
            <a:off x="1476360" y="1432080"/>
            <a:ext cx="7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9"/>
          <p:cNvSpPr/>
          <p:nvPr/>
        </p:nvSpPr>
        <p:spPr>
          <a:xfrm>
            <a:off x="6588000" y="2440080"/>
            <a:ext cx="7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-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10"/>
          <p:cNvSpPr/>
          <p:nvPr/>
        </p:nvSpPr>
        <p:spPr>
          <a:xfrm>
            <a:off x="3348000" y="2440080"/>
            <a:ext cx="7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11"/>
          <p:cNvSpPr/>
          <p:nvPr/>
        </p:nvSpPr>
        <p:spPr>
          <a:xfrm>
            <a:off x="324000" y="2421000"/>
            <a:ext cx="7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12"/>
          <p:cNvSpPr/>
          <p:nvPr/>
        </p:nvSpPr>
        <p:spPr>
          <a:xfrm>
            <a:off x="395280" y="1413000"/>
            <a:ext cx="7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4" descr="j0288976"/>
          <p:cNvPicPr/>
          <p:nvPr/>
        </p:nvPicPr>
        <p:blipFill>
          <a:blip r:embed="rId1"/>
          <a:stretch/>
        </p:blipFill>
        <p:spPr>
          <a:xfrm>
            <a:off x="3247920" y="4313160"/>
            <a:ext cx="2260800" cy="1492200"/>
          </a:xfrm>
          <a:prstGeom prst="rect">
            <a:avLst/>
          </a:prstGeom>
          <a:ln w="0">
            <a:noFill/>
          </a:ln>
        </p:spPr>
      </p:pic>
      <p:sp>
        <p:nvSpPr>
          <p:cNvPr id="155" name="AutoShape 15"/>
          <p:cNvSpPr/>
          <p:nvPr/>
        </p:nvSpPr>
        <p:spPr>
          <a:xfrm>
            <a:off x="755640" y="2997360"/>
            <a:ext cx="2664000" cy="1152360"/>
          </a:xfrm>
          <a:prstGeom prst="irregularSeal2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Oxidis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utoShape 17"/>
          <p:cNvSpPr/>
          <p:nvPr/>
        </p:nvSpPr>
        <p:spPr>
          <a:xfrm>
            <a:off x="-324000" y="3860640"/>
            <a:ext cx="4211640" cy="28101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H – incre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n oxid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18"/>
          <p:cNvSpPr/>
          <p:nvPr/>
        </p:nvSpPr>
        <p:spPr>
          <a:xfrm>
            <a:off x="5437080" y="3068640"/>
            <a:ext cx="2664000" cy="1152360"/>
          </a:xfrm>
          <a:prstGeom prst="irregularSeal2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duc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AutoShape 19"/>
          <p:cNvSpPr/>
          <p:nvPr/>
        </p:nvSpPr>
        <p:spPr>
          <a:xfrm>
            <a:off x="5329080" y="3716280"/>
            <a:ext cx="4211640" cy="280980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O – decre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n oxid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Try Question 3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  <a:effectLst>
            <a:outerShdw dist="36147" dir="2700000" blurRad="0" rotWithShape="0">
              <a:srgbClr val="000000">
                <a:alpha val="50000"/>
              </a:srgbClr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Oxidation Numbers and nam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7640" y="1483920"/>
            <a:ext cx="777708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o avoid any confusion when an element can have several oxidation numbers, the oxidation number is usually mentioned in the compound’s name. 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n names like “elementate(X)”, the number refers to “element” and not the associated oxyge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o if we look at some examples , we get the following names: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MnO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otassium manganate(VI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aClO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odium chlorate(V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OCl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hosphorus(V) oxydichlorofluor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aH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O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odium dihydrogenphosphate(II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r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Arial"/>
              </a:rPr>
              <a:t>7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otassium dichromate(V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AutoShape 4"/>
          <p:cNvSpPr/>
          <p:nvPr/>
        </p:nvSpPr>
        <p:spPr>
          <a:xfrm>
            <a:off x="6948360" y="4005360"/>
            <a:ext cx="2195640" cy="2448000"/>
          </a:xfrm>
          <a:prstGeom prst="irregularSeal2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heck 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numb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Try any 3 in Question 7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2" descr="4thofjuly-1_e0"/>
          <p:cNvPicPr/>
          <p:nvPr/>
        </p:nvPicPr>
        <p:blipFill>
          <a:blip r:embed="rId1"/>
          <a:stretch/>
        </p:blipFill>
        <p:spPr>
          <a:xfrm>
            <a:off x="755640" y="620640"/>
            <a:ext cx="8064360" cy="6012000"/>
          </a:xfrm>
          <a:prstGeom prst="rect">
            <a:avLst/>
          </a:prstGeom>
          <a:ln w="0">
            <a:noFill/>
          </a:ln>
        </p:spPr>
      </p:pic>
      <p:pic>
        <p:nvPicPr>
          <p:cNvPr id="165" name="Chee1673.wav" descr=""/>
          <p:cNvPicPr/>
          <p:nvPr/>
        </p:nvPicPr>
        <p:blipFill>
          <a:blip r:embed="rId2"/>
          <a:stretch/>
        </p:blipFill>
        <p:spPr>
          <a:xfrm>
            <a:off x="8388360" y="56610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3"/>
          <p:cNvSpPr/>
          <p:nvPr/>
        </p:nvSpPr>
        <p:spPr>
          <a:xfrm>
            <a:off x="1258920" y="1989000"/>
            <a:ext cx="6626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600" spc="-1" strike="noStrike">
                <a:solidFill>
                  <a:srgbClr val="ffffff"/>
                </a:solidFill>
                <a:latin typeface="Comic Sans MS"/>
              </a:rPr>
              <a:t>Well done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9" dur="6123" fill="hold"/>
                                        <p:tgtEl>
                                          <p:spTgt spid="1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4 Experiment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Burning magnesi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Copper in silver nitrate 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Chlorine solution and potassium iodide 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Exploding hydro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4"/>
          <p:cNvSpPr/>
          <p:nvPr/>
        </p:nvSpPr>
        <p:spPr>
          <a:xfrm>
            <a:off x="250920" y="4221000"/>
            <a:ext cx="8893080" cy="259272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Word equ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Balanced symbol equ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19280" y="1412640"/>
            <a:ext cx="711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2Mg(s) + O</a:t>
            </a:r>
            <a:r>
              <a:rPr b="1" lang="en-GB" sz="4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(g) </a:t>
            </a:r>
            <a:r>
              <a:rPr b="1" lang="en-GB" sz="4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 2MgO(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j0078709"/>
          <p:cNvPicPr/>
          <p:nvPr/>
        </p:nvPicPr>
        <p:blipFill>
          <a:blip r:embed="rId1">
            <a:grayscl/>
          </a:blip>
          <a:stretch/>
        </p:blipFill>
        <p:spPr>
          <a:xfrm>
            <a:off x="250920" y="1052640"/>
            <a:ext cx="1446120" cy="2152440"/>
          </a:xfrm>
          <a:prstGeom prst="rect">
            <a:avLst/>
          </a:prstGeom>
          <a:ln w="0">
            <a:noFill/>
          </a:ln>
        </p:spPr>
      </p:pic>
      <p:sp>
        <p:nvSpPr>
          <p:cNvPr id="62" name="AutoShape 6"/>
          <p:cNvSpPr/>
          <p:nvPr/>
        </p:nvSpPr>
        <p:spPr>
          <a:xfrm>
            <a:off x="1116000" y="144360"/>
            <a:ext cx="3456000" cy="1197000"/>
          </a:xfrm>
          <a:prstGeom prst="cloudCallout">
            <a:avLst>
              <a:gd name="adj1" fmla="val -52754"/>
              <a:gd name="adj2" fmla="val 3408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Oxidised – gains oxy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7"/>
          <p:cNvSpPr/>
          <p:nvPr/>
        </p:nvSpPr>
        <p:spPr>
          <a:xfrm>
            <a:off x="4354560" y="2565360"/>
            <a:ext cx="30970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ust be a redox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8"/>
          <p:cNvSpPr/>
          <p:nvPr/>
        </p:nvSpPr>
        <p:spPr>
          <a:xfrm>
            <a:off x="1995480" y="3284640"/>
            <a:ext cx="7113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Mg         </a:t>
            </a:r>
            <a:r>
              <a:rPr b="1" lang="en-GB" sz="4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 Mg</a:t>
            </a:r>
            <a:r>
              <a:rPr b="1" lang="en-GB" sz="4400" spc="-1" strike="noStrike" baseline="30000">
                <a:solidFill>
                  <a:srgbClr val="ffffff"/>
                </a:solidFill>
                <a:latin typeface="Arial"/>
              </a:rPr>
              <a:t>2+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9"/>
          <p:cNvSpPr/>
          <p:nvPr/>
        </p:nvSpPr>
        <p:spPr>
          <a:xfrm>
            <a:off x="1835280" y="5094360"/>
            <a:ext cx="7113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O           </a:t>
            </a:r>
            <a:r>
              <a:rPr b="1" lang="en-GB" sz="4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 O</a:t>
            </a:r>
            <a:r>
              <a:rPr b="1" lang="en-GB" sz="4400" spc="-1" strike="noStrike" baseline="30000">
                <a:solidFill>
                  <a:srgbClr val="ffffff"/>
                </a:solidFill>
                <a:latin typeface="Arial"/>
              </a:rPr>
              <a:t>2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10"/>
          <p:cNvSpPr/>
          <p:nvPr/>
        </p:nvSpPr>
        <p:spPr>
          <a:xfrm>
            <a:off x="324000" y="3789360"/>
            <a:ext cx="2663640" cy="28083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Put t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en-GB" sz="2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11"/>
          <p:cNvSpPr/>
          <p:nvPr/>
        </p:nvSpPr>
        <p:spPr>
          <a:xfrm>
            <a:off x="7885080" y="3571920"/>
            <a:ext cx="100800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+2e</a:t>
            </a:r>
            <a:r>
              <a:rPr b="0" lang="en-GB" sz="4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12"/>
          <p:cNvSpPr/>
          <p:nvPr/>
        </p:nvSpPr>
        <p:spPr>
          <a:xfrm>
            <a:off x="4356000" y="5300640"/>
            <a:ext cx="100800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+2e</a:t>
            </a:r>
            <a:r>
              <a:rPr b="0" lang="en-GB" sz="4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18"/>
          <p:cNvSpPr/>
          <p:nvPr/>
        </p:nvSpPr>
        <p:spPr>
          <a:xfrm>
            <a:off x="0" y="3429000"/>
            <a:ext cx="3419640" cy="863640"/>
          </a:xfrm>
          <a:prstGeom prst="rightArrow">
            <a:avLst>
              <a:gd name="adj1" fmla="val 50000"/>
              <a:gd name="adj2" fmla="val 9898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Oxidised – loss of e</a:t>
            </a:r>
            <a:r>
              <a:rPr b="1" lang="en-GB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19"/>
          <p:cNvSpPr/>
          <p:nvPr/>
        </p:nvSpPr>
        <p:spPr>
          <a:xfrm>
            <a:off x="34920" y="5229360"/>
            <a:ext cx="3419640" cy="863640"/>
          </a:xfrm>
          <a:prstGeom prst="rightArrow">
            <a:avLst>
              <a:gd name="adj1" fmla="val 50000"/>
              <a:gd name="adj2" fmla="val 9898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duced – gain of e</a:t>
            </a:r>
            <a:r>
              <a:rPr b="1" lang="en-GB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8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Cu(s) + 2AgNO</a:t>
            </a:r>
            <a:r>
              <a:rPr b="1" lang="en-GB" sz="2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(aq) </a:t>
            </a:r>
            <a:r>
              <a:rPr b="1" lang="en-GB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 Cu(NO</a:t>
            </a:r>
            <a:r>
              <a:rPr b="1" lang="en-GB" sz="2800" spc="-1" strike="noStrike" baseline="-25000">
                <a:solidFill>
                  <a:srgbClr val="ffffff"/>
                </a:solidFill>
                <a:latin typeface="Arial"/>
              </a:rPr>
              <a:t>3 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en-GB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(aq) + 2Ag(s)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4"/>
          <p:cNvSpPr/>
          <p:nvPr/>
        </p:nvSpPr>
        <p:spPr>
          <a:xfrm>
            <a:off x="673200" y="4878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Ag</a:t>
            </a:r>
            <a:r>
              <a:rPr b="1" lang="en-GB" sz="28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1" lang="en-GB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         Ag</a:t>
            </a: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5"/>
          <p:cNvSpPr/>
          <p:nvPr/>
        </p:nvSpPr>
        <p:spPr>
          <a:xfrm>
            <a:off x="914400" y="3429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Cu           </a:t>
            </a:r>
            <a:r>
              <a:rPr b="1" lang="en-GB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      Cu</a:t>
            </a:r>
            <a:r>
              <a:rPr b="1" lang="en-GB" sz="2800" spc="-1" strike="noStrike" baseline="30000">
                <a:solidFill>
                  <a:srgbClr val="ffffff"/>
                </a:solidFill>
                <a:latin typeface="Arial"/>
              </a:rPr>
              <a:t>2+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6" descr="j0288976"/>
          <p:cNvPicPr/>
          <p:nvPr/>
        </p:nvPicPr>
        <p:blipFill>
          <a:blip r:embed="rId1"/>
          <a:stretch/>
        </p:blipFill>
        <p:spPr>
          <a:xfrm>
            <a:off x="5148360" y="1628640"/>
            <a:ext cx="2260440" cy="1492560"/>
          </a:xfrm>
          <a:prstGeom prst="rect">
            <a:avLst/>
          </a:prstGeom>
          <a:ln w="0">
            <a:noFill/>
          </a:ln>
        </p:spPr>
      </p:pic>
      <p:sp>
        <p:nvSpPr>
          <p:cNvPr id="75" name="AutoShape 8"/>
          <p:cNvSpPr/>
          <p:nvPr/>
        </p:nvSpPr>
        <p:spPr>
          <a:xfrm>
            <a:off x="1042920" y="1413000"/>
            <a:ext cx="3529080" cy="1079280"/>
          </a:xfrm>
          <a:prstGeom prst="wedgeRoundRectCallout">
            <a:avLst>
              <a:gd name="adj1" fmla="val 78162"/>
              <a:gd name="adj2" fmla="val 11324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omplete the half-equ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10"/>
          <p:cNvSpPr/>
          <p:nvPr/>
        </p:nvSpPr>
        <p:spPr>
          <a:xfrm>
            <a:off x="4068720" y="5300640"/>
            <a:ext cx="71928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+e</a:t>
            </a:r>
            <a:r>
              <a:rPr b="1" lang="en-GB" sz="2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11"/>
          <p:cNvSpPr/>
          <p:nvPr/>
        </p:nvSpPr>
        <p:spPr>
          <a:xfrm>
            <a:off x="6877080" y="3789360"/>
            <a:ext cx="71928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+2e</a:t>
            </a:r>
            <a:r>
              <a:rPr b="1" lang="en-GB" sz="2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12"/>
          <p:cNvSpPr/>
          <p:nvPr/>
        </p:nvSpPr>
        <p:spPr>
          <a:xfrm>
            <a:off x="1116000" y="1484280"/>
            <a:ext cx="3529080" cy="1079640"/>
          </a:xfrm>
          <a:prstGeom prst="wedgeRoundRectCallout">
            <a:avLst>
              <a:gd name="adj1" fmla="val 78162"/>
              <a:gd name="adj2" fmla="val 11324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Oxidis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Reduc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13"/>
          <p:cNvSpPr/>
          <p:nvPr/>
        </p:nvSpPr>
        <p:spPr>
          <a:xfrm>
            <a:off x="179280" y="3645000"/>
            <a:ext cx="3168720" cy="863640"/>
          </a:xfrm>
          <a:prstGeom prst="rightArrow">
            <a:avLst>
              <a:gd name="adj1" fmla="val 50000"/>
              <a:gd name="adj2" fmla="val 9172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Oxidised – loss of e</a:t>
            </a:r>
            <a:r>
              <a:rPr b="1" lang="en-GB" sz="20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14"/>
          <p:cNvSpPr/>
          <p:nvPr/>
        </p:nvSpPr>
        <p:spPr>
          <a:xfrm>
            <a:off x="179280" y="5084640"/>
            <a:ext cx="3059280" cy="863640"/>
          </a:xfrm>
          <a:prstGeom prst="rightArrow">
            <a:avLst>
              <a:gd name="adj1" fmla="val 50000"/>
              <a:gd name="adj2" fmla="val 8855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Reduced – gain of e</a:t>
            </a:r>
            <a:r>
              <a:rPr b="1" lang="en-GB" sz="20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3" dur="2000" fill="hold"/>
                                        <p:tgtEl>
                                          <p:spTgt spid="7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9" dur="2000" fill="hold"/>
                                        <p:tgtEl>
                                          <p:spTgt spid="7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Try Question 1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GB" sz="4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(g) + ½ O</a:t>
            </a:r>
            <a:r>
              <a:rPr b="0" lang="en-GB" sz="4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(g)</a:t>
            </a:r>
            <a:r>
              <a:rPr b="0" lang="en-GB" sz="44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4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GB" sz="44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GB" sz="4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O(g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j0078721"/>
          <p:cNvPicPr/>
          <p:nvPr/>
        </p:nvPicPr>
        <p:blipFill>
          <a:blip r:embed="rId1"/>
          <a:stretch/>
        </p:blipFill>
        <p:spPr>
          <a:xfrm flipH="1">
            <a:off x="468360" y="1628640"/>
            <a:ext cx="968400" cy="3934080"/>
          </a:xfrm>
          <a:prstGeom prst="rect">
            <a:avLst/>
          </a:prstGeom>
          <a:ln w="0">
            <a:noFill/>
          </a:ln>
        </p:spPr>
      </p:pic>
      <p:sp>
        <p:nvSpPr>
          <p:cNvPr id="84" name="AutoShape 6"/>
          <p:cNvSpPr/>
          <p:nvPr/>
        </p:nvSpPr>
        <p:spPr>
          <a:xfrm>
            <a:off x="5292720" y="1413000"/>
            <a:ext cx="3851280" cy="25923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ovalent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7"/>
          <p:cNvSpPr/>
          <p:nvPr/>
        </p:nvSpPr>
        <p:spPr>
          <a:xfrm>
            <a:off x="5292720" y="3573360"/>
            <a:ext cx="3851280" cy="25923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No H</a:t>
            </a:r>
            <a:r>
              <a:rPr b="1" lang="en-GB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or OH</a:t>
            </a:r>
            <a:r>
              <a:rPr b="1" lang="en-GB" sz="2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8"/>
          <p:cNvSpPr/>
          <p:nvPr/>
        </p:nvSpPr>
        <p:spPr>
          <a:xfrm>
            <a:off x="1403280" y="3068640"/>
            <a:ext cx="4498920" cy="25923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Need a n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defini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ffffff"/>
                </a:solidFill>
                <a:latin typeface="Arial"/>
              </a:rPr>
              <a:t>GCS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3"/>
          <p:cNvSpPr/>
          <p:nvPr/>
        </p:nvSpPr>
        <p:spPr>
          <a:xfrm>
            <a:off x="250920" y="1484280"/>
            <a:ext cx="4140000" cy="26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 u="sng">
                <a:solidFill>
                  <a:srgbClr val="ffffff"/>
                </a:solidFill>
                <a:uFillTx/>
                <a:latin typeface="Arial"/>
              </a:rPr>
              <a:t>Oxidation</a:t>
            </a:r>
            <a:r>
              <a:rPr b="1" lang="en-GB" sz="6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Gain of oxyg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Loss of electr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4"/>
          <p:cNvSpPr/>
          <p:nvPr/>
        </p:nvSpPr>
        <p:spPr>
          <a:xfrm>
            <a:off x="4572000" y="1484280"/>
            <a:ext cx="4392720" cy="26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 u="sng">
                <a:solidFill>
                  <a:srgbClr val="ffffff"/>
                </a:solidFill>
                <a:uFillTx/>
                <a:latin typeface="Arial"/>
              </a:rPr>
              <a:t>Reduction</a:t>
            </a:r>
            <a:r>
              <a:rPr b="1" lang="en-GB" sz="6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Loss of oxyg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Gain of electr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5"/>
          <p:cNvSpPr/>
          <p:nvPr/>
        </p:nvSpPr>
        <p:spPr>
          <a:xfrm>
            <a:off x="4572000" y="1557360"/>
            <a:ext cx="0" cy="5157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6"/>
          <p:cNvSpPr/>
          <p:nvPr/>
        </p:nvSpPr>
        <p:spPr>
          <a:xfrm>
            <a:off x="0" y="4076640"/>
            <a:ext cx="4859280" cy="27813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Increase 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oxid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nu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7"/>
          <p:cNvSpPr/>
          <p:nvPr/>
        </p:nvSpPr>
        <p:spPr>
          <a:xfrm>
            <a:off x="4105440" y="4149720"/>
            <a:ext cx="4859280" cy="27813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Decrease 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oxid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nu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>
                <a:alpha val="50000"/>
              </a:srgbClr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Oxidation Numb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2421000"/>
            <a:ext cx="8229600" cy="186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The oxidation number of an atom in an element is zero.  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E.g. Mg in Mg, O in O</a:t>
            </a:r>
            <a:r>
              <a:rPr b="1" lang="en-GB" sz="3200" spc="-1" strike="noStrike" baseline="-25000">
                <a:solidFill>
                  <a:srgbClr val="ffffff"/>
                </a:solidFill>
                <a:latin typeface="Arial"/>
              </a:rPr>
              <a:t>2.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05T22:41:51Z</dcterms:created>
  <dc:creator>Administrator</dc:creator>
  <dc:description/>
  <dc:language>en-US</dc:language>
  <cp:lastModifiedBy>RomaK</cp:lastModifiedBy>
  <dcterms:modified xsi:type="dcterms:W3CDTF">2015-09-02T06:01:26Z</dcterms:modified>
  <cp:revision>14</cp:revision>
  <dc:subject/>
  <dc:title>Redox Reactions.</dc:title>
</cp:coreProperties>
</file>