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D6E5-1C2B-476E-9262-8F5BF6148A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Rock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Rock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re are 3 types of rocks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gneous, metamorphic and sedimentary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ome rocks have air bubbles because of the way they are formed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Rocks such as Millstone Grit have these properties and are otherwise known as Sedimentary Rock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Other rocks don’t have air bubbles, these tend to have cryst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rystals have a more jagged form (meaning they fit together more easily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is means there’s less air bubbles therefore its a denser rock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etamorphic and Igneous rocks have these properties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3 types of roc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gneous, metamorphic and sediment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ocks have air bubbles because of the way they are 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such as Millstone Grit have these properties and are otherwise known as Sedimentary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rocks don’t have air bubbles, these tend to have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s have a more jagged form (meaning they fit together more easi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ere’s less air bubbles therefore its a denser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morphic and Igneous rocks have these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etamorphic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etamorphism means "changed form".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Changes occur because of: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eat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essure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morp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morphism means "changed form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ges occur because of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ow metamorphic rocks chang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ay a sedimentary rock is pushed down towards the earth’s mantl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magma heats it up and changes its structur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lso the pressure can take part in this process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pressure comes from rocks above and they get pushed down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o the texture, mineral structure and physical properties all chang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owever, they have the same because they have the same chemical compounds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etamorphic rocks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 a sedimentary rock is pushed down towards the earth’s man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gma heats it up and changes its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the pressure can take part in this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sure comes from rocks above and they get pushed d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e texture, mineral structure and physical properties all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y have the same because they have the same chemical comp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dimentary Rock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For thousands, even millions of years, little pieces of our earth have been erode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roken down and worn away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y wind and water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se little bits of our earth are washed downstream where they settle to the bottom of the rivers, lakes, and oceans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ayer after layer of eroded earth is deposited on top of each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dimentary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ousands, even millions of years, little pieces of our earth have been ero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down and worn awa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wind and wa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little bits of our earth are washed downstream where they settle to the bottom of the rivers, lakes, and oce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 after layer of eroded earth is deposited on top of ea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ontinued ..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se layers are pressed down more and more through time, until the bottom layers slowly turn into rock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weight of all the layers squeezes out most of the water from the sedimen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emicals in the water cement the bits of sand and mud togethe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 new sedimentary rock has formed !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d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layers are pressed down more and more through time, until the bottom layers slowly turn into ro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ight of all the layers squeezes out most of the water from the sed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 in the water cement the bits of sand and mud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w sedimentary rock has formed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gneous Rock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gneous rocks are formed ..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en molten rock (magma) is pushed up from beneath the earth’s crus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t cools to form solid rock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y contain crystals and they are har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re are two types of igneous rock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trusive and extrusiv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gneous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gneous rocks are formed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olten rock (magma) is pushed up from beneath the earth’s c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ols to form solid ro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ntain crystals and they are h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types of igneous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usive and extrus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ontinued..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trusive igneous rocks have cooled slowly in the earth’s crus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y have large cryst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xtrusive igneous rocks cool quickl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y have small cryst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d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usive igneous rocks have cooled slowly in the earth’s c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large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usive igneous rocks cool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small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esented by: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ntoinette an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Kaily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oinette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ily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54C0-8594-48EA-BD54-5624332AA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5788-D5AB-4FAE-B428-795D91C6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51A1-230A-4A24-B799-1219F38F6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CFB8-F81D-47BB-BB51-80B1E48EB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1544-26D8-415C-926B-60142F7D8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F5C8-E6C4-4C5A-8B75-D7587B95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DDFF-C672-4EDC-9E7F-CFF9237F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BB37-5E6F-492E-B931-A2D463C8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3130-3361-4FA4-852A-7C4A101A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0F40-60EE-4236-B0DC-6D703475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E313-AB42-4EE2-A19A-2015E7E7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C4E6-91BE-41F3-86AA-45514FCB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11DD-8B25-4896-BBFC-B2AC7210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3D37-F721-45FE-BAFE-08618D44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FB27-C7DB-4435-8F08-BA899986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DD70-3F27-4052-9C7C-555A5DC54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A4AF-4B9C-4223-89D0-DC072C4A7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73EB-3ECA-4B88-BE81-F7957AC4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984C-B941-4D5A-8CC8-D59D9936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42CC-1402-4935-84BB-05E39F1B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8560-428E-4E9F-B36E-FC581071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5B59-274D-4B8B-BB43-DA4F84AE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1525-D3AC-47A7-85BC-78169533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2B8B-3B56-40AF-86B7-D07BD906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Oval 8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Oval 9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Oval 10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Oval 11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Oval 15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Oval 16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Oval 18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Oval 21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Oval 22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Oval 23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5F85-0177-4BA8-A009-2DB2F3C5FFF8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5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6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7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8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1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2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4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7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8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19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F1CF-80A0-4D67-AC27-26D84490900C}" type="slidenum"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Rock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Kristen ITC"/>
              </a:rPr>
              <a:t>Roc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There are </a:t>
            </a:r>
            <a:r>
              <a:rPr b="1" lang="en-GB" sz="2000" spc="-1" strike="noStrike">
                <a:solidFill>
                  <a:srgbClr val="eaeaea"/>
                </a:solidFill>
                <a:latin typeface="Kristen ITC"/>
              </a:rPr>
              <a:t>3 types</a:t>
            </a: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 of rock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Igneous, metamorphic and sedimentary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Some rocks have air bubbles because of the way they are formed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 </a:t>
            </a: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Rocks such as Millstone Grit have these properties and are otherwise known as Sedimentary Rock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Other rocks don’t have air bubbles, these tend to have crystal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Crystals have a more jagged form (meaning they fit together more easily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This means there’s less air bubbles therefore its a denser rock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Metamorphic and Igneous rocks have these propertie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Kristen ITC"/>
              </a:rPr>
              <a:t>Metamorphi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Metamorphism means "changed form"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The Changes occur because of: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Heat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Pressur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8" name="Picture 1034" descr="meta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Kristen ITC"/>
              </a:rPr>
              <a:t>How metamorphic rocks cha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Say a sedimentary rock is pushed down towards the earth’s mant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The magma heats it up and changes its structu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Also the pressure can take part in this proces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The pressure comes from rocks above and they get pushed dow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So the texture, mineral structure and physical properties all chan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However, they have the same because they have the same chemical compound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Kristen ITC"/>
              </a:rPr>
              <a:t>Sedimentary Roc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266720" y="1599840"/>
            <a:ext cx="4419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Kristen ITC"/>
                <a:ea typeface="Arial"/>
              </a:rPr>
              <a:t>For thousands, even millions of years, little pieces of our earth have been erode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Kristen ITC"/>
                <a:ea typeface="Arial"/>
              </a:rPr>
              <a:t>broken down and worn away</a:t>
            </a:r>
            <a:br>
              <a:rPr sz="2000"/>
            </a:br>
            <a:r>
              <a:rPr b="1" lang="en-GB" sz="2000" spc="-1" strike="noStrike">
                <a:solidFill>
                  <a:srgbClr val="eaeaea"/>
                </a:solidFill>
                <a:latin typeface="Kristen ITC"/>
                <a:ea typeface="Arial"/>
              </a:rPr>
              <a:t>by wind and wate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Kristen ITC"/>
                <a:ea typeface="Arial"/>
              </a:rPr>
              <a:t>These little bits of our earth are washed downstream where they settle to the bottom of the rivers, lakes, and oceans</a:t>
            </a:r>
            <a:r>
              <a:rPr b="1" lang="en-GB" sz="20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Kristen ITC"/>
                <a:ea typeface="Arial"/>
              </a:rPr>
              <a:t>Layer after layer of eroded earth is deposited on top of each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25704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25704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5" name="Picture 9" descr="SEDIANIM.GIF (205851 bytes)"/>
          <p:cNvPicPr/>
          <p:nvPr/>
        </p:nvPicPr>
        <p:blipFill>
          <a:blip r:embed="rId1"/>
          <a:stretch/>
        </p:blipFill>
        <p:spPr>
          <a:xfrm>
            <a:off x="901800" y="1981080"/>
            <a:ext cx="3378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Continued 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  <a:ea typeface="Arial"/>
              </a:rPr>
              <a:t>These layers are pressed down more and more through time, until the bottom layers slowly turn into rock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  <a:ea typeface="Arial"/>
              </a:rPr>
              <a:t>The weight of all the layers squeezes out most of the water from the sedi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  <a:ea typeface="Arial"/>
              </a:rPr>
              <a:t>Chemicals in the water cement the bits of sand and mud togeth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Kristen ITC"/>
                <a:ea typeface="Arial"/>
              </a:rPr>
              <a:t>A new sedimentary rock has formed 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Kristen ITC"/>
              </a:rPr>
              <a:t>Igneous Roc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Igneous rocks are formed .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When molten rock (magma) is pushed up from beneath the earth’s cru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It cools to form solid rock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eaeaea"/>
                </a:solidFill>
                <a:uFillTx/>
                <a:latin typeface="Kristen ITC"/>
              </a:rPr>
              <a:t>Propert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They contain crystals and they are har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There are two types of igneous ro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eaeaea"/>
                </a:solidFill>
                <a:latin typeface="Kristen ITC"/>
              </a:rPr>
              <a:t>Intrusive and extrusiv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Kristen ITC"/>
              </a:rPr>
              <a:t>Continued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Intrusive igneous rocks have </a:t>
            </a:r>
            <a:r>
              <a:rPr b="0" i="1" lang="en-GB" sz="2400" spc="-1" strike="noStrike">
                <a:solidFill>
                  <a:srgbClr val="eaeaea"/>
                </a:solidFill>
                <a:latin typeface="Kristen ITC"/>
              </a:rPr>
              <a:t>cooled slowly</a:t>
            </a: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 in the earth’s cru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They have </a:t>
            </a:r>
            <a:r>
              <a:rPr b="0" i="1" lang="en-GB" sz="2400" spc="-1" strike="noStrike">
                <a:solidFill>
                  <a:srgbClr val="eaeaea"/>
                </a:solidFill>
                <a:latin typeface="Kristen ITC"/>
              </a:rPr>
              <a:t>large</a:t>
            </a: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 crysta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Extrusive igneous rocks </a:t>
            </a:r>
            <a:r>
              <a:rPr b="0" i="1" lang="en-GB" sz="2400" spc="-1" strike="noStrike">
                <a:solidFill>
                  <a:srgbClr val="eaeaea"/>
                </a:solidFill>
                <a:latin typeface="Kristen ITC"/>
              </a:rPr>
              <a:t>cool quickl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They have </a:t>
            </a:r>
            <a:r>
              <a:rPr b="0" i="1" lang="en-GB" sz="2400" spc="-1" strike="noStrike">
                <a:solidFill>
                  <a:srgbClr val="eaeaea"/>
                </a:solidFill>
                <a:latin typeface="Kristen ITC"/>
              </a:rPr>
              <a:t>small</a:t>
            </a: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 crysta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3" name="Picture 8" descr="granite1"/>
          <p:cNvPicPr/>
          <p:nvPr/>
        </p:nvPicPr>
        <p:blipFill>
          <a:blip r:embed="rId1"/>
          <a:stretch/>
        </p:blipFill>
        <p:spPr>
          <a:xfrm>
            <a:off x="4648320" y="2787480"/>
            <a:ext cx="380988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Presented by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Kristen ITC"/>
              </a:rPr>
              <a:t>Antoinette an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Kristen ITC"/>
              </a:rPr>
              <a:t>Kaily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08:56:49Z</dcterms:created>
  <dc:creator>A User</dc:creator>
  <dc:description/>
  <dc:language>en-US</dc:language>
  <cp:lastModifiedBy>RomaK</cp:lastModifiedBy>
  <dcterms:modified xsi:type="dcterms:W3CDTF">2015-09-02T06:02:30Z</dcterms:modified>
  <cp:revision>12</cp:revision>
  <dc:subject/>
  <dc:title>Rocks</dc:title>
</cp:coreProperties>
</file>