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061C2-8DDF-444C-813B-639D799923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3 types of 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, metamorphic and sediment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ocks have air bubbles because of the way they are for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such as Millstone Grit have these properties and are otherwise known as 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ocks don’t have air bubbles, these tend to hav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have a more jagged form (meaning they fit together more easil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re’s less air bubbles therefore its a denser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 and Igneous rocks have these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morphism means "changed form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s occur because of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etamorphic rocks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y a sedimentary rock is pushed down towards the earth’s mant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ma heats it up and changes its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the pressure can take part in this pro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comes from rocks above and they get pushed d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texture, mineral structure and physical properties al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they have the same because they have the same chemical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dimentary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ousands, even millions of years, little pieces of our earth have been ero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down and worn awa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wind and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ittle bits of our earth are washed downstream where they settle to the bottom of the rivers, lakes, and oce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yer after layer of eroded earth is deposited on top of ea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layers are pressed down more and more through time, until the bottom layers slowly turn into ro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ight of all the layers squeezes out most of the water from the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in the water cement the bits of sand and mud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sedimentary rock has formed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eous rocks are formed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olten rock (magma) is pushed up from beneath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cools to form solid ro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ntain crystals and they are h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wo types of igneous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and extrus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usive igneous rocks have cooled slowly in the earth’s cr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large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usive igneous rocks cool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ve small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oinette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il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F9B9-8D4B-4530-81F5-5D47EE42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52C5-258D-45C9-8D52-A5D57F1F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4073-0EC4-412F-884F-D09F979AB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1EF-AB22-4881-86E7-3CE91128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58F-00AC-43DA-8266-B65CC12F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DC97-A0D5-4A24-BC14-F20F074F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7600-624D-4492-9F38-6D2259C88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A520-FAA9-44EC-907E-71050A3F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4C65-67F1-4B9C-8DF3-A7F1E14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932A-1B37-4030-BB1F-1E32A907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5087-327A-45FB-ABF3-E50330E8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54FE-6387-4BDE-8A62-277A70B4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EFF9-292A-4626-9C53-0EA22389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6456-5D88-482B-B903-42B1D917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2946-C65D-44DA-99AB-9C63A016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7EF9-4B2D-4354-AB21-F276CCE4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984-9056-4F40-BA8B-AF0A6DC3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9C69-DFAD-4A66-B3A6-5D7A2C1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A945-D561-47EF-8BD5-98C2889A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6DFC-2DB5-44A3-BBB0-D0F3EADF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0020-E66C-4289-8374-C047E5EC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2E7-2670-47A1-B386-09AA28F3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266-7E43-4BC4-9D6F-4C50385D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6F26-E0B3-4105-97BE-EE3D2F44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44C5-B5E1-4185-9EAB-817A0AC75F28}" type="slidenum"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6E20-A5F2-4D6D-A3F1-3E59310B02DF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ere are </a:t>
            </a:r>
            <a:r>
              <a:rPr b="1" lang="en-GB" sz="2000" spc="-1" strike="noStrike">
                <a:solidFill>
                  <a:srgbClr val="eaeaea"/>
                </a:solidFill>
                <a:latin typeface="Kristen ITC"/>
              </a:rPr>
              <a:t>3 types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of rock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Igneous, metamorphic and sedimentary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Some rocks have air bubbles because of the way they are formed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 </a:t>
            </a: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Rocks such as Millstone Grit have these properties and are otherwise known as Sedimentary Roc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Other rocks don’t have air bubbles, these tend to have cryst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Crystals have a more jagged form (meaning they fit together more easily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This means there’s less air bubbles therefore its a denser roc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Kristen ITC"/>
              </a:rPr>
              <a:t>Metamorphic and Igneous rocks have these properti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Metamorphi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Metamorphism means "changed form"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 Changes occur because of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Heat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Pressur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1034" descr="meta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How metamorphic rocks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ay a sedimentary rock is pushed down towards the earth’s mant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magma heats it up and changes its struc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Also the pressure can take part in this proces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 pressure comes from rocks above and they get pushed dow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So the texture, mineral structure and physical properties all ch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However, they have the same because they have the same chemical compoun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Sedimentary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266720" y="1599840"/>
            <a:ext cx="4419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For thousands, even millions of years, little pieces of our earth have been erode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roken down and worn away</a:t>
            </a:r>
            <a:br>
              <a:rPr sz="2000"/>
            </a:b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by wind and wate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These little bits of our earth are washed downstream where they settle to the bottom of the rivers, lakes, and oceans</a:t>
            </a:r>
            <a:r>
              <a:rPr b="1" lang="en-GB" sz="20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Kristen ITC"/>
                <a:ea typeface="Arial"/>
              </a:rPr>
              <a:t>Layer after layer of eroded earth is deposited on top of each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57040" y="19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5" name="Picture 9" descr="SEDIANIM.GIF (205851 bytes)"/>
          <p:cNvPicPr/>
          <p:nvPr/>
        </p:nvPicPr>
        <p:blipFill>
          <a:blip r:embed="rId1"/>
          <a:stretch/>
        </p:blipFill>
        <p:spPr>
          <a:xfrm>
            <a:off x="901800" y="1981080"/>
            <a:ext cx="3378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Continued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se layers are pressed down more and more through time, until the bottom layers slowly turn into rock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The weight of all the layers squeezes out most of the water from the sedi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Chemicals in the water cement the bits of sand and mud togeth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Kristen ITC"/>
                <a:ea typeface="Arial"/>
              </a:rPr>
              <a:t>A new sedimentary rock has formed !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Kristen ITC"/>
              </a:rPr>
              <a:t>Igneous Roc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gneous rocks are formed 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When molten rock (magma) is pushed up from beneath the earth’s crus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It cools to form solid rock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eaeaea"/>
                </a:solidFill>
                <a:uFillTx/>
                <a:latin typeface="Kristen ITC"/>
              </a:rPr>
              <a:t>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y contain crystals and they are h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Kristen ITC"/>
              </a:rPr>
              <a:t>There are two types of igneous ro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eaeaea"/>
                </a:solidFill>
                <a:latin typeface="Kristen ITC"/>
              </a:rPr>
              <a:t>Intrusive and extrusiv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Kristen ITC"/>
              </a:rPr>
              <a:t>Continued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Intrusive igneous rocks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ed slowly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in the earth’s cr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large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Extrusive igneous rocks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cool quickl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SzPct val="110000"/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They have </a:t>
            </a:r>
            <a:r>
              <a:rPr b="0" i="1" lang="en-GB" sz="2400" spc="-1" strike="noStrike">
                <a:solidFill>
                  <a:srgbClr val="eaeaea"/>
                </a:solidFill>
                <a:latin typeface="Kristen ITC"/>
              </a:rPr>
              <a:t>small</a:t>
            </a:r>
            <a:r>
              <a:rPr b="0" lang="en-GB" sz="2400" spc="-1" strike="noStrike">
                <a:solidFill>
                  <a:srgbClr val="eaeaea"/>
                </a:solidFill>
                <a:latin typeface="Kristen ITC"/>
              </a:rPr>
              <a:t> cryst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8" descr="granite1"/>
          <p:cNvPicPr/>
          <p:nvPr/>
        </p:nvPicPr>
        <p:blipFill>
          <a:blip r:embed="rId1"/>
          <a:stretch/>
        </p:blipFill>
        <p:spPr>
          <a:xfrm>
            <a:off x="4648320" y="2787480"/>
            <a:ext cx="380988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Times New Roman"/>
              </a:rPr>
              <a:t>Presented by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Antoinette an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Kristen ITC"/>
              </a:rPr>
              <a:t>Kaily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8:56:49Z</dcterms:created>
  <dc:creator>A User</dc:creator>
  <dc:description/>
  <dc:language>en-US</dc:language>
  <cp:lastModifiedBy>RomaK</cp:lastModifiedBy>
  <dcterms:modified xsi:type="dcterms:W3CDTF">2015-09-02T06:02:30Z</dcterms:modified>
  <cp:revision>12</cp:revision>
  <dc:subject/>
  <dc:title>Rocks</dc:title>
</cp:coreProperties>
</file>