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rrow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RESOURCE 9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ALI. BLL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BC14-D126-418A-98E2-08625A183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LUTIONS &amp;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UTION OF SODIUM CHLORID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AT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 a homogeneous mixture containing particles the size of a typical ion or covalent molecule. (0.1–2.0 nm in dia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id: a homogeneous mixture containing particles with diameters in the range 2–50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 are mixtures with even larger particles, but they are not considered true solutions because they separate upon sta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: the dissolved substance in a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: the major component in a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lution is saturated when no additional solute can be dissolved at a particular temp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persaturated solution can form when more than the equilibrium amount of solute is dissolved at an elevated temperature, and then the supersaturated solution is slowly coo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saturated solution is formed when more of the solute can dissolve in it at a particular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S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solute per unit solvent required to form a saturated solution is called the solute's Solu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liquids are completely soluble in each other they are said to be Misc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is effected by Temperature. With increase in temperature solubility of most of the substances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gases become less soluble in water as the temperatur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GRAPH OF GASE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has little effect on the solubility of liquids and solids. The solubility of gases is strongly influenced by pressure. Gases dissolve more at high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OF COMMON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420-30AE-4DA7-9BAE-3CD686EC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B6FE-682C-42F6-A32E-603685A9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C4A8-AB15-4E84-8B0F-8E791099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043B-DA5D-4A9E-B061-0F895711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1B8F8-AFEF-46A4-BDD9-73987EEB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8B686-4EC0-45D0-BADB-AD14A9E5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F0C16-ED05-47D2-86A0-0D21C7F7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66661-F71A-4AF6-B45A-FDE0C588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41251-3E32-4189-ABC2-3B723FD9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2BB69-B7E6-446F-B10F-0EC87B0E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EDC83-FFF7-4B94-B717-63F7B74F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B488-3C5A-4EDD-B979-59F5764E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AC777-52F2-4B10-A601-F9318363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051AD-EDE8-4A49-B4E4-BF3FC9FD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DE1CA-D28E-4303-BE11-93C248C9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A7721-59CD-4DA0-B011-69CF837F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C9461-214D-436E-93D7-F381D314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017E-C6B7-477C-96B5-8522C794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9EBE-1B9F-4DB6-AE24-0E0AE52A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F228-D7BF-43B5-9BD2-B369D024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39E1-1B14-4B18-BE7F-A6913A1A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AED2-49DD-4D7D-9156-9DC225B8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40B4-125E-4C23-B28F-8CD4D96F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2D62-1691-43A8-9078-6DE6B695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63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a3d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1605-1DD9-4E83-9CEC-799EC78C47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EB87-FB4E-4B61-8D5F-DE773ACA0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63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a3d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EAF9-04D6-4D89-B774-982DC6D148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A661-C17D-4E95-97ED-1554C033166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SOLUTIONS &amp; SOLUBILITIES</a:t>
            </a:r>
            <a:endParaRPr b="0" lang="en-US" sz="40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00200" y="611892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E820-830C-4265-9187-DE963A55B2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-1-5-"/>
          <p:cNvPicPr/>
          <p:nvPr/>
        </p:nvPicPr>
        <p:blipFill>
          <a:blip r:embed="rId1"/>
          <a:srcRect l="0" t="9828" r="0" b="0"/>
          <a:stretch/>
        </p:blipFill>
        <p:spPr>
          <a:xfrm>
            <a:off x="1600200" y="1143000"/>
            <a:ext cx="6161040" cy="5040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DISSOLUTION OF SODIUM CHLORIDE IN WATER</a:t>
            </a:r>
            <a:endParaRPr b="0" lang="en-US" sz="2800" spc="-1" strike="noStrike">
              <a:solidFill>
                <a:srgbClr val="c5d1d7"/>
              </a:solidFill>
              <a:latin typeface="Tahoma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FD69-956E-4B62-B606-9E33C6B63A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DONATED 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UHAMMAD A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To www.worldofteaching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98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9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0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204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0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210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1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216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219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0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4800"/>
                            </p:stCondLst>
                            <p:childTnLst>
                              <p:par>
                                <p:cTn id="222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3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C5F2-0E63-40BE-A7EB-1D241D487B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TERMS 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olution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a homogeneous mixture containing particles the size of a typical ion or covalent molecule. (0.1–2.0 nm in diamet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Colloid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a homogeneous mixture containing particles with diameters in the range 2–500 n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uspensions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are mixtures with even larger particles, but they are not considered true solutions because they separate upon stand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olute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the dissolved substance in a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olvent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the major component in a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323D-9A3B-4502-BF61-86DF3CAE96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60" y="9903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A solution is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saturated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 when no additional solute can be dissolved at a particular temperatu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Supersaturated 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olution can form when more than the equilibrium amount of solute is dissolved at an elevated temperature, and then the supersaturated solution is slowly coo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An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Unsaturated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 solution is formed when more of the solute can dissolve in it at a particular tempera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d"/>
    <p:sndAc>
      <p:stSnd>
        <p:snd r:embed="rId1" name="arrow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ECA4-0DC0-49C9-B96A-61429F6A82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KINDS OF SOLUTIONS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02" name="Picture 4" descr="table11_1"/>
          <p:cNvPicPr/>
          <p:nvPr/>
        </p:nvPicPr>
        <p:blipFill>
          <a:blip r:embed="rId1"/>
          <a:srcRect l="0" t="12549" r="0" b="0"/>
          <a:stretch/>
        </p:blipFill>
        <p:spPr>
          <a:xfrm>
            <a:off x="228600" y="1447920"/>
            <a:ext cx="8915400" cy="4724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6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68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E0BE-DF2A-4B91-A387-7418895841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380880" y="304920"/>
          <a:ext cx="845820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4582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275A-1C18-4873-AA83-7CC854C42D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SOLUBILITY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The amount of solute per unit solvent required to form a saturated solution is called the solute's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Solu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When two liquids are completely soluble in each other they are said to be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Miscible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olubility is effected by Temperature. With increase in temperature solubility of most of the substances incre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Most gases become less soluble in water as the temperature incre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824C-71C6-4C8D-B61A-C04CF7BA4D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OLUBILITY GRAPH OF SALTS IN WATER</a:t>
            </a:r>
            <a:endParaRPr b="0" lang="en-US" sz="32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15" name="Picture 4" descr="aabjvkya"/>
          <p:cNvPicPr/>
          <p:nvPr/>
        </p:nvPicPr>
        <p:blipFill>
          <a:blip r:embed="rId1"/>
          <a:stretch/>
        </p:blipFill>
        <p:spPr>
          <a:xfrm>
            <a:off x="914400" y="1143000"/>
            <a:ext cx="7450200" cy="507996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B8C8-F003-44CC-938F-49635597F8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OLUBILITY GRAPH OF GASES IN WATER</a:t>
            </a:r>
            <a:endParaRPr b="0" lang="en-US" sz="32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19" name="Picture 4" descr="aabjvkza"/>
          <p:cNvPicPr/>
          <p:nvPr/>
        </p:nvPicPr>
        <p:blipFill>
          <a:blip r:embed="rId1"/>
          <a:stretch/>
        </p:blipFill>
        <p:spPr>
          <a:xfrm>
            <a:off x="1295280" y="1066680"/>
            <a:ext cx="6789960" cy="4525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304920" y="5562720"/>
            <a:ext cx="883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ressure has little effect on the solubility of liquids and solids. The solubility of gases is strongly influenced by pressure. Gases dissolve more at high pressur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ABDE-D808-46C6-94EF-A28E6DC60C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SOLUBILITY OF COMMON IONS IN WATER</a:t>
            </a:r>
            <a:endParaRPr b="0" lang="en-US" sz="28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0" t="4317" r="0" b="0"/>
          <a:stretch/>
        </p:blipFill>
        <p:spPr>
          <a:xfrm>
            <a:off x="457200" y="1295280"/>
            <a:ext cx="8305920" cy="4572000"/>
          </a:xfrm>
          <a:prstGeom prst="rect">
            <a:avLst/>
          </a:prstGeom>
          <a:ln w="38160">
            <a:solidFill>
              <a:srgbClr val="ff00ff"/>
            </a:solidFill>
            <a:prstDash val="lgDashDot"/>
            <a:miter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9:07:06Z</dcterms:created>
  <dc:creator>MOHAMMAD ALI</dc:creator>
  <dc:description/>
  <dc:language>en-US</dc:language>
  <cp:lastModifiedBy>RomaK</cp:lastModifiedBy>
  <dcterms:modified xsi:type="dcterms:W3CDTF">2015-09-02T06:02:49Z</dcterms:modified>
  <cp:revision>34</cp:revision>
  <dc:subject/>
  <dc:title>SOLUTIONS &amp; SOLUBILITIES</dc:title>
</cp:coreProperties>
</file>