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103A-4284-4FD1-90DB-EB2786737C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: 1.50 mol of KClO3 decomposes. How many grams of O2 will be produced? [k = 39, Cl = 35.5, O = 1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teps…Get Your Correct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the answer in moles and t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. [Simple Arithmeti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given a mass in the problem, you will need to convert this to moles first. O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5 mol x 32.0 g/mol = 72.0 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ant to produce 2.75 mol of KCl. How many grams of KClO3 would be requi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O3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7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ss: 2.75mol X 122.55 g/m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 grams zooo zimp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mass-mass problem to the penultimat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Volum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mole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of moles =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remember a similar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ar volume is the volume occupied by one mole of ideal gas at STP. Its value is: 22.4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lculate the volume of carbon dioxide formed at STP in ‘dm3' by the complete thermal decomposition of 3.125 g of pure calcium carbonate (Relative atomic mass of Ca=40, C=12, O=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lutio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the mass to mo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ar mass of CaCO3 = 40 + 12 + (16 x 3) = 100gmol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e = mass/mola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125/100 = 0.031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toichiomet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is the quantitative study of reactants and products in a chemical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er the equ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3125mo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03125mol  o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 to volume [slide 1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(0.03125 x 22.4)d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0.7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Should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: Amount of reac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much of products can be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A + 2B           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0.0 grams of A and sufficient B, how many grams of C can be pro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ratio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mass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and interpreting equations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between grams and m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is type of problem is often called "mass-mas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volved in Solving Mass-Mass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 chemical equation corre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given substance, convert the mass given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molar proportion (two molar ratios set equal to each oth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unknown substance, convert the moles just calculated to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 ratio converts moles of one compound in a balanced chemical equation into moles of another comp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between magnesium and oxygen to form magnesium oxide. ( firewor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g(s) + O2(g)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MgO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N2 + 3 H2 ---&gt; 2 NH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mole ratios for N2 to H2 and NH3 to H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 can of butane lighter fluid contains 1.20 moles of butane (C4H10). Calculate the number of moles of carbon dioxide given off when this butane is bur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ol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 practice question 2) abo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4H10  +  13O2                8CO2    +    10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4H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4      [ bas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         :                  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[ probl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cross-multiplication, X = 4.8 mols of CO2 given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C5F-5FDA-41E8-8E6F-A48179FA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C4F-D699-41EE-AEB5-B7B27391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347-F07C-478B-AE39-6FDEC02B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ADA-4464-4CF3-B120-8B0C4CA1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5B25-ACC1-4D1A-8C96-65D3BD61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AE2E-7C31-4C42-8C0E-312AB794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58D3-FEEF-4C14-985F-8FD7678E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7BDE-0C56-4F34-9F1D-49373EEC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673A-1E4B-4548-8EE9-24639916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0A7E-65DF-444D-B6FA-F8A2C38D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442B-EE62-494E-8632-BD30C8B6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99E-386D-4706-AC8A-4153D712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5660-B5B9-4E42-91B7-4D2DE9CB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45CF-8F27-42DC-BD68-60AE8DEC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C5F4-48F7-4EE5-AEE6-8AE29651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594B-B78E-41EF-BF22-04E9FED9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DB09-8B0A-4316-A06E-A4D2DF03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E0C-CDA7-419D-9D2C-AB72CFB7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C61-E29F-4879-ABD8-958BD908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8B9-59FA-49D1-993D-95860E61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378-DD36-4297-AF50-B8C067B6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374-B259-4678-9E9F-8DE12C57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ACF-AB57-44FE-BDEC-EB9A2C4F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4F1-560F-4ABF-AE54-9913EF4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8AD0-0EAF-4DDF-BFCA-02840E316DE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8693-C6A3-400F-884E-36A4371C4E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250560" y="1120680"/>
            <a:ext cx="10178640" cy="210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STOICHIOMETRY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ass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Problem 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 1.50 mol of KCl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decomposes. How many grams of 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will be produced? [k = 39, Cl = 35.5, O = 16]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2 KCl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2 KCl + 3 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533760" y="6248520"/>
            <a:ext cx="60948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4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Three steps…Get Your Correct Answer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Use mole rati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Get the answer in moles and th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Convert to Mass. [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Simple Arithmetic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Hello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If you are given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a mass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 in the problem, you will need to convert this to moles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first. Ok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66"/>
                </a:solidFill>
                <a:latin typeface="Arial"/>
              </a:rPr>
              <a:t>Let’s go!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 KCl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2 KCl + 3 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 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1.50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X = 2.25mo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33"/>
                </a:solidFill>
                <a:uFillTx/>
                <a:latin typeface="Comic Sans MS"/>
              </a:rPr>
              <a:t>Convert to m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2.25 mol x 32.0 g/mol = 72.0 gra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Cool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3581280" y="2819520"/>
            <a:ext cx="60984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Try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We want to produce 2.75 mol of KCl. How many grams of KCl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would be requir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l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3    :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    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7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= 2.75m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In mass: 2.75mol X 122.55 g/mo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337 grams 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zooo zimple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8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Mass-Mass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Problem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moles of the substance just solved for into gra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Just follow mass-mass problem to the penultimate level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9440" y="905760"/>
            <a:ext cx="778932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Mass-Volume</a:t>
            </a:r>
            <a:r>
              <a:rPr b="1" lang="en-US" sz="24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Problem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 Black"/>
              </a:rPr>
              <a:t>Like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Convert moles of the substance just solved for into Volu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0440" y="11386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nversion of mole to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volum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No of moles =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Molar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Can you remember a similar equati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5867280" y="4267080"/>
            <a:ext cx="2362320" cy="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Arial Black"/>
              </a:rPr>
              <a:t>Molar</a:t>
            </a:r>
            <a:r>
              <a:rPr b="0" lang="en-US" sz="66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003366"/>
                </a:solidFill>
                <a:latin typeface="Arial Black"/>
              </a:rPr>
              <a:t>volume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The molar volume is the volume occupied by one mole of ideal gas at STP. Its value is: </a:t>
            </a:r>
            <a:r>
              <a:rPr b="1" lang="en-US" sz="4800" spc="-1" strike="noStrike">
                <a:solidFill>
                  <a:srgbClr val="ff5050"/>
                </a:solidFill>
                <a:latin typeface="Comic Sans MS"/>
              </a:rPr>
              <a:t>22.4dm</a:t>
            </a:r>
            <a:r>
              <a:rPr b="1" lang="en-US" sz="48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80520" y="2576160"/>
            <a:ext cx="7344360" cy="399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alculate the volume of carbon dioxide formed at STP in ‘d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' by the complete thermal decomposition of 3.125 g of pure calcium carbonate (Relative atomic mass of Ca=40, C=12, O=16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lutio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vert the mass to mo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olar mass of Ca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40 + 12 + (16 x 3) = 100gmo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Mole = mass/molar m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.125/100 = 0.03125m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hat is stoichiometry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toichiometry is the quantitative study of reactants and products in a chemical reaction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s per the equati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ole ratio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  :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roblem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0.03125mol 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X = 0.03125mol  of C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Convert mole to volume [slide 17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Volume = (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Comic Sans MS"/>
              </a:rPr>
              <a:t>0.03125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x 22.4)d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0.7dm</a:t>
            </a:r>
            <a:r>
              <a:rPr b="1" lang="en-US" sz="32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666880" y="3057480"/>
            <a:ext cx="4043520" cy="447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You Should Exp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iven :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mount of react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ow much of products can be form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xample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 A + 2B           3C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iven 20.0 grams of A and sufficient B, how many grams of C can be produc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800600" y="4572000"/>
            <a:ext cx="838080" cy="0"/>
          </a:xfrm>
          <a:prstGeom prst="line">
            <a:avLst/>
          </a:prstGeom>
          <a:ln cap="sq"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you nee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ou will need to u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ratio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mass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alancing and interpreting equations,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onversions between grams and mo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ote: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is type of problem is often called "mass-mass."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48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s Involved in Solving Mass-Mass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ichiometry Probl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lance the chemical equation correc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given substance, convert the mass given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 a molar proportion (two molar ratios set equal to each other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unknown substance, convert the moles just calculated to m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Mole Ratios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 mole ratio converts moles of one compound in a balanced chemical equation into moles of another compound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ction between magnesium and oxygen to form magnesium oxide. ( firework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Mg(s) + O2(g)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2 MgO(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le Rati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548160" y="4267080"/>
            <a:ext cx="990360" cy="0"/>
          </a:xfrm>
          <a:prstGeom prst="line">
            <a:avLst/>
          </a:prstGeom>
          <a:ln cap="sq"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)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+ 3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---&gt; 2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Write the mole ratios for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and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) A can of butane lighter fluid contains 1.20 moles of butane (C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). Calculate the number of moles of carbon dioxide given off when this butane is burn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ol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9067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ing the  practice question 2) abov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ation of re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13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  10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le rat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4      [ base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2          :                  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[ problem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 cross-multiplication, X =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4.8 mol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f 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n 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2886120" y="3429000"/>
            <a:ext cx="79056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09:52:20Z</dcterms:created>
  <dc:creator>Science Dept</dc:creator>
  <dc:description/>
  <dc:language>en-US</dc:language>
  <cp:lastModifiedBy>RomaK</cp:lastModifiedBy>
  <dcterms:modified xsi:type="dcterms:W3CDTF">2015-09-02T06:02:56Z</dcterms:modified>
  <cp:revision>52</cp:revision>
  <dc:subject/>
  <dc:title>STOICHIOMETRY</dc:title>
</cp:coreProperties>
</file>