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76D5-96B0-4F43-9D7D-B6755EF0C2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-Mass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: 1.50 mol of KClO3 decomposes. How many grams of O2 will be produced? [k = 39, Cl = 35.5, O = 16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KClO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KCl + 3 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teps…Get Your Correct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mole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the answer in moles and t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Mass. [Simple Arithmeti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l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given a mass in the problem, you will need to convert this to moles first. O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g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KClO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KCl + 3 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2.2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5 mol x 32.0 g/mol = 72.0 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ant to produce 2.75 mol of KCl. How many grams of KClO3 would be requi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ClO3 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2.7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ss: 2.75mol X 122.55 g/m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 grams zooo zimp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-Mass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steps involved in solving thes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are working with a properly balanced eq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grams of the substance given in the problem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s of the substance just solved for into 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follow mass-mass problem to the penultimat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-Volum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steps involved in solving thes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are working with a properly balanced eq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grams of the substance given in the problem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s of the substance just solved for into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 of mole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of moles =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remember a similar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ar volume is the volume occupied by one mole of ideal gas at STP. Its value is: 22.4d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lculate the volume of carbon dioxide formed at STP in ‘dm3' by the complete thermal decomposition of 3.125 g of pure calcium carbonate (Relative atomic mass of Ca=40, C=12, O=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lutio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rt the mass to mo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lar mass of CaCO3 = 40 + 12 + (16 x 3) = 100gmol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le = mass/molar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125/100 = 0.0312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toichiomet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ichiometry is the quantitative study of reactants and products in a chemical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per the equa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3125mol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03125mol  o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 to volume [slide 17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(0.03125 x 22.4)d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0.7d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Should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: Amount of react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much of products can be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A + 2B           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0.0 grams of A and sufficient B, how many grams of C can be pro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ratio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mass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ing and interpreting equations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between grams and m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is type of problem is often called "mass-mas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volved in Solving Mass-Mass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ichiometry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 chemical equation correc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molar mass of the given substance, convert the mass given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molar proportion (two molar ratios set equal to each oth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molar mass of the unknown substance, convert the moles just calculated to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 ratio converts moles of one compound in a balanced chemical equation into moles of another comp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between magnesium and oxygen to form magnesium oxide. ( firewor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g(s) + O2(g)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MgO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N2 + 3 H2 ---&gt; 2 NH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mole ratios for N2 to H2 and NH3 to H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 can of butane lighter fluid contains 1.20 moles of butane (C4H10). Calculate the number of moles of carbon dioxide given off when this butane is bur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-Mol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 practice question 2) abo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C4H10  +  13O2                8CO2    +    10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4H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4      [ bas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         :                  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[ proble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cross-multiplication, X = 4.8 mols of CO2 given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651-56BB-4954-9EA7-8E466BE2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450-BE18-49EB-8CDB-D173CB31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741-D39B-4DAE-A4E6-1F5493D8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3BC-A2D1-468A-89C3-B535D93E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712D-61F2-42F6-B4C2-2E1E91AE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ED7F-EC8D-4342-A0AE-CED17A47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FB4B-1B43-4EED-A160-ECE362EF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DDE6-5F10-43AF-9FDE-82DDE92C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1E3B-2C1E-475A-A8AC-390EF501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04B9-8470-4AC6-B14A-0093BA72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018D-8369-41EA-B2B7-C33B8985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9A36-FCF6-49A4-9073-F536008F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15CC-24C2-4108-8747-AB3A1D96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D98A-0CBA-4A8C-A6FB-90188276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69A4-BC63-40D1-B913-3379FAE0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07A0-E793-4AFF-8517-8201A68A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667B-A6EA-4B48-BA4B-E5B18EB3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6E0-343D-43DD-BF0C-43EA241F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AF6-79F7-4AC1-A599-B3D807BA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C3C-E386-485A-B02B-3969AC01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AA2-2F3D-432B-9CB6-98FD3E87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F4E-FE14-4A0C-AEFD-781BFEEA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9B86-2CA2-4E44-A831-66422D9E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307-C78D-4C64-9F0D-268F667E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C757-0045-4622-9F6C-4428AEDC2B6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89FB-9C56-4646-98C1-B253122001A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250560" y="1120680"/>
            <a:ext cx="10178640" cy="210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STOICHIOMETRY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Mole-Mass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Problem 1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 1.50 mol of KCl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decomposes. How many grams of 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will be produced? [k = 39, Cl = 35.5, O = 16]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2 KClO</a:t>
            </a:r>
            <a:r>
              <a:rPr b="1" lang="en-US" sz="4400" spc="-1" strike="noStrike" baseline="-25000">
                <a:solidFill>
                  <a:srgbClr val="171cf7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 2 KCl + 3 O</a:t>
            </a:r>
            <a:r>
              <a:rPr b="1" lang="en-US" sz="4400" spc="-1" strike="noStrike" baseline="-25000">
                <a:solidFill>
                  <a:srgbClr val="171cf7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533760" y="6248520"/>
            <a:ext cx="609480" cy="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4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48520" y="848880"/>
            <a:ext cx="7751160" cy="119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Three steps…Get Your Correct Answer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Use mole rati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Get the answer in moles and th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Convert to Mass. [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Simple Arithmetic</a:t>
            </a: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Hello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If you are given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a mass</a:t>
            </a: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 in the problem, you will need to convert this to moles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first. Ok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66"/>
                </a:solidFill>
                <a:latin typeface="Arial"/>
              </a:rPr>
              <a:t>Let’s go!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2 KClO</a:t>
            </a:r>
            <a:r>
              <a:rPr b="1" lang="en-US" sz="4000" spc="-1" strike="noStrike" baseline="-25000">
                <a:solidFill>
                  <a:srgbClr val="171cf7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2 KCl + 3 O</a:t>
            </a:r>
            <a:r>
              <a:rPr b="1" lang="en-US" sz="4000" spc="-1" strike="noStrike" baseline="-25000">
                <a:solidFill>
                  <a:srgbClr val="171cf7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  3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1.50 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 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X = 2.25mo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6633"/>
                </a:solidFill>
                <a:uFillTx/>
                <a:latin typeface="Comic Sans MS"/>
              </a:rPr>
              <a:t>Convert to m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2.25 mol x 32.0 g/mol = 72.0 gram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Cool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3581280" y="2819520"/>
            <a:ext cx="609840" cy="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Try Thi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We want to produce 2.75 mol of KCl. How many grams of KCl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would be requir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l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KCl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3    :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KC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:     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: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.7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X = 2.75m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In mass: 2.75mol X 122.55 g/mo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337 grams 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zooo zimple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8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Mass-Mass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Problem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ere are four steps involved in solving these probl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ke sure you are working with a properly balanced eq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grams of the substance given in the problem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moles of the substance just solved for into gra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Just follow mass-mass problem to the penultimate level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9440" y="905760"/>
            <a:ext cx="778932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Mass-Volume</a:t>
            </a:r>
            <a:r>
              <a:rPr b="1" lang="en-US" sz="24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Problem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 Black"/>
              </a:rPr>
              <a:t>Like thi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ere are four steps involved in solving these probl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ke sure you are working with a properly balanced eq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grams of the substance given in the problem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Convert moles of the substance just solved for into Volu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10440" y="11386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nversion of mole to 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volum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229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No of moles = Volum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Molar volum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Can you remember a similar equation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5867280" y="4267080"/>
            <a:ext cx="2362320" cy="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Arial Black"/>
              </a:rPr>
              <a:t>Molar</a:t>
            </a:r>
            <a:r>
              <a:rPr b="0" lang="en-US" sz="66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003366"/>
                </a:solidFill>
                <a:latin typeface="Arial Black"/>
              </a:rPr>
              <a:t>volume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The molar volume is the volume occupied by one mole of ideal gas at STP. Its value is: </a:t>
            </a:r>
            <a:r>
              <a:rPr b="1" lang="en-US" sz="4800" spc="-1" strike="noStrike">
                <a:solidFill>
                  <a:srgbClr val="ff5050"/>
                </a:solidFill>
                <a:latin typeface="Comic Sans MS"/>
              </a:rPr>
              <a:t>22.4dm</a:t>
            </a:r>
            <a:r>
              <a:rPr b="1" lang="en-US" sz="4800" spc="-1" strike="noStrike" baseline="30000">
                <a:solidFill>
                  <a:srgbClr val="ff505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80520" y="2576160"/>
            <a:ext cx="7344360" cy="399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alculate the volume of carbon dioxide formed at STP in ‘dm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' by the complete thermal decomposition of 3.125 g of pure calcium carbonate (Relative atomic mass of Ca=40, C=12, O=16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olution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vert the mass to mo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olar mass of Ca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3 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40 + 12 + (16 x 3) = 100gmol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-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Mole = mass/molar ma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3.125/100 = 0.03125mo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8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hat is stoichiometry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Stoichiometry is the quantitative study of reactants and products in a chemical reaction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s per the equati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ole ratio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   :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 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roblem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0.03125mol 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X = 0.03125mol  of CO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Convert mole to volume [slide 17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Volume = (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Comic Sans MS"/>
              </a:rPr>
              <a:t>0.03125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x 22.4)dm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0.7dm</a:t>
            </a:r>
            <a:r>
              <a:rPr b="1" lang="en-US" sz="3200" spc="-1" strike="noStrike" baseline="30000">
                <a:solidFill>
                  <a:srgbClr val="ff505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666880" y="3057480"/>
            <a:ext cx="4043520" cy="447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You Should Expe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iven :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mount of reacta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s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how much of products can be form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xample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 A + 2B           3C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iven 20.0 grams of A and sufficient B, how many grams of C can be produc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4800600" y="4572000"/>
            <a:ext cx="838080" cy="0"/>
          </a:xfrm>
          <a:prstGeom prst="line">
            <a:avLst/>
          </a:prstGeom>
          <a:ln cap="sq" w="28440">
            <a:solidFill>
              <a:srgbClr val="00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you nee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ou will need to u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olar ratio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olar masse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alancing and interpreting equations, 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onversions between grams and mo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ote: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is type of problem is often called "mass-mass."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480" y="83412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eps Involved in Solving Mass-Mass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oichiometry Probl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lance the chemical equation correct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ing the molar mass of the given substance, convert the mass given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truct a molar proportion (two molar ratios set equal to each other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ing the molar mass of the unknown substance, convert the moles just calculated to m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Mole Ratios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A mole ratio converts moles of one compound in a balanced chemical equation into moles of another compound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236196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ction between magnesium and oxygen to form magnesium oxide. ( firework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Mg(s) + O2(g)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2 MgO(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le Rati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548160" y="4267080"/>
            <a:ext cx="990360" cy="0"/>
          </a:xfrm>
          <a:prstGeom prst="line">
            <a:avLst/>
          </a:prstGeom>
          <a:ln cap="sq"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) N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+ 3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---&gt; 2 N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Write the mole ratios for N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to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and N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to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2) A can of butane lighter fluid contains 1.20 moles of butane (C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). Calculate the number of moles of carbon dioxide given off when this butane is burn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Mole-Mole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9067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ing the  practice question 2) abov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quation of re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0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  13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    10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le rat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4      [ bases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2          :                  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[ problem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 cross-multiplication, X =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4.8 mol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f 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ven of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2886120" y="3429000"/>
            <a:ext cx="790560" cy="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09:52:20Z</dcterms:created>
  <dc:creator>Science Dept</dc:creator>
  <dc:description/>
  <dc:language>en-US</dc:language>
  <cp:lastModifiedBy>RomaK</cp:lastModifiedBy>
  <dcterms:modified xsi:type="dcterms:W3CDTF">2015-09-02T06:02:56Z</dcterms:modified>
  <cp:revision>52</cp:revision>
  <dc:subject/>
  <dc:title>STOICHIOMETRY</dc:title>
</cp:coreProperties>
</file>