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B1CA-90B2-41EC-9623-86954129BC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-Mass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1: 1.50 mol of KClO3 decomposes. How many grams of O2 will be produced? [k = 39, Cl = 35.5, O = 16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KClO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KCl + 3 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teps…Get Your Correct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mole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the answer in moles and t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to Mass. [Simple Arithmeti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l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given a mass in the problem, you will need to convert this to moles first. O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g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KClO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KCl + 3 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2.2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to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25 mol x 32.0 g/mol = 72.0 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ant to produce 2.75 mol of KCl. How many grams of KClO3 would be requir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ClO3 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2.7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ass: 2.75mol X 122.55 g/m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37 grams zooo zimp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-Mass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steps involved in solving thes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you are working with a properly balanced eq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grams of the substance given in the problem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s of the substance just solved for into 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follow mass-mass problem to the penultimat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-Volum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steps involved in solving thes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you are working with a properly balanced eq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grams of the substance given in the problem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s of the substance just solved for into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 of mole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of moles =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remember a similar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ar volume is the volume occupied by one mole of ideal gas at STP. Its value is: 22.4d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lculate the volume of carbon dioxide formed at STP in ‘dm3' by the complete thermal decomposition of 3.125 g of pure calcium carbonate (Relative atomic mass of Ca=40, C=12, O=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lutio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vert the mass to mo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lar mass of CaCO3 = 40 + 12 + (16 x 3) = 100gmol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le = mass/molar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125/100 = 0.0312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toichiomet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ichiometry is the quantitative study of reactants and products in a chemical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per the equa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3125mol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.03125mol  of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 to volume [slide 17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(0.03125 x 22.4)d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0.7d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Should Exp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: Amount of reacta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how much of products can be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A + 2B           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0.0 grams of A and sufficient B, how many grams of C can be pro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ratio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mass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ing and interpreting equations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between grams and mo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is type of problem is often called "mass-mas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Involved in Solving Mass-Mass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ichiometry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 chemical equation correc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molar mass of the given substance, convert the mass given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a molar proportion (two molar ratios set equal to each oth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molar mass of the unknown substance, convert the moles just calculated to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le ratio converts moles of one compound in a balanced chemical equation into moles of another comp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between magnesium and oxygen to form magnesium oxide. ( firework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g(s) + O2(g)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MgO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N2 + 3 H2 ---&gt; 2 NH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mole ratios for N2 to H2 and NH3 to H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 can of butane lighter fluid contains 1.20 moles of butane (C4H10). Calculate the number of moles of carbon dioxide given off when this butane is bur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-Mol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 practice question 2) abo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of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C4H10  +  13O2                8CO2    +    10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4H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4      [ bas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          :                  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[ proble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cross-multiplication, X = 4.8 mols of CO2 given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C48-7F8C-4D13-9C1A-52C328EB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2E01-1094-4192-A0A9-5BD26159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F937-8060-4E4D-8E92-B4E6163E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E77-A0E1-4F2F-AF79-9448D766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B073-1CD5-4A94-9E8B-680F867A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CF79-712C-449A-8870-F5DBA97A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B556-4990-4F32-955A-FDA1FD2D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0D08-86C4-4C3F-AD28-A4171C6E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8FD9-7E00-4386-A252-E9CD7763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6C76-AC8D-4D4E-A34E-AFADC17B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61D8-5E24-4AD2-B8C5-1D9FE3E6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A00-D926-4FB8-88CF-316177EF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7437-2DDC-4573-9C2A-7B53C352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50A2-DF9C-4031-913D-4320EBD4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8F83-C9B9-48C8-92D4-2B174D2D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8534-60F7-4FDD-94CA-50BF47CD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344E-A90E-43DC-BD7C-89746B6D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944-30B3-4C7D-93A5-6C6D95AA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9DF-432D-4536-99D4-078D854C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41B-E1E4-4CE6-89B4-5AE20079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B8C-BF38-4399-B901-4582951B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F69A-361F-47A1-9C24-3B71A26D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E4BD-B401-410E-8D66-825C1F7A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8745-6AED-4995-BAC6-A6838095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0E01-8E14-4434-983A-0DEC2426B61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895F-6F21-49BE-A4BE-D1F940099C5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250560" y="1120680"/>
            <a:ext cx="10178640" cy="210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STOICHIOMETRY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Mole-Mass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Problem 1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: 1.50 mol of KClO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decomposes. How many grams of O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will be produced? [k = 39, Cl = 35.5, O = 16]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2 KClO</a:t>
            </a:r>
            <a:r>
              <a:rPr b="1" lang="en-US" sz="4400" spc="-1" strike="noStrike" baseline="-25000">
                <a:solidFill>
                  <a:srgbClr val="171cf7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 2 KCl + 3 O</a:t>
            </a:r>
            <a:r>
              <a:rPr b="1" lang="en-US" sz="4400" spc="-1" strike="noStrike" baseline="-25000">
                <a:solidFill>
                  <a:srgbClr val="171cf7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533760" y="6248520"/>
            <a:ext cx="609480" cy="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4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48520" y="848880"/>
            <a:ext cx="7751160" cy="119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Three steps…Get Your Correct Answer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Use mole rati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Get the answer in moles and th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Convert to Mass. [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Simple Arithmetic</a:t>
            </a: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Hello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If you are given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a mass</a:t>
            </a: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 in the problem, you will need to convert this to moles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first. Ok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66"/>
                </a:solidFill>
                <a:latin typeface="Arial"/>
              </a:rPr>
              <a:t>Let’s go!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2 KClO</a:t>
            </a:r>
            <a:r>
              <a:rPr b="1" lang="en-US" sz="4000" spc="-1" strike="noStrike" baseline="-25000">
                <a:solidFill>
                  <a:srgbClr val="171cf7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2 KCl + 3 O</a:t>
            </a:r>
            <a:r>
              <a:rPr b="1" lang="en-US" sz="4000" spc="-1" strike="noStrike" baseline="-25000">
                <a:solidFill>
                  <a:srgbClr val="171cf7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: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  3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1.50 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: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 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X = 2.25mo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6633"/>
                </a:solidFill>
                <a:uFillTx/>
                <a:latin typeface="Comic Sans MS"/>
              </a:rPr>
              <a:t>Convert to m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2.25 mol x 32.0 g/mol = 72.0 gram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Cool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3581280" y="2819520"/>
            <a:ext cx="609840" cy="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Try Thi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We want to produce 2.75 mol of KCl. How many grams of KCl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would be requir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l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KCl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3    :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KC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:     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: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.7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X = 2.75m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In mass: 2.75mol X 122.55 g/mo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337 grams 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zooo zimple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8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Mass-Mass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Problem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ere are four steps involved in solving these probl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ake sure you are working with a properly balanced equ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grams of the substance given in the problem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moles of the substance just solved for into gra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Just follow mass-mass problem to the penultimate level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9440" y="905760"/>
            <a:ext cx="7789320" cy="9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Mass-Volume</a:t>
            </a:r>
            <a:r>
              <a:rPr b="1" lang="en-US" sz="24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Problem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 Black"/>
              </a:rPr>
              <a:t>Like thi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ere are four steps involved in solving these probl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ake sure you are working with a properly balanced equ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grams of the substance given in the problem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Convert moles of the substance just solved for into Volu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10440" y="11386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nversion of mole to 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volum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229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No of moles = Volum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Molar volum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Can you remember a similar equation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5867280" y="4267080"/>
            <a:ext cx="2362320" cy="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Arial Black"/>
              </a:rPr>
              <a:t>Molar</a:t>
            </a:r>
            <a:r>
              <a:rPr b="0" lang="en-US" sz="66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003366"/>
                </a:solidFill>
                <a:latin typeface="Arial Black"/>
              </a:rPr>
              <a:t>volume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The molar volume is the volume occupied by one mole of ideal gas at STP. Its value is: </a:t>
            </a:r>
            <a:r>
              <a:rPr b="1" lang="en-US" sz="4800" spc="-1" strike="noStrike">
                <a:solidFill>
                  <a:srgbClr val="ff5050"/>
                </a:solidFill>
                <a:latin typeface="Comic Sans MS"/>
              </a:rPr>
              <a:t>22.4dm</a:t>
            </a:r>
            <a:r>
              <a:rPr b="1" lang="en-US" sz="4800" spc="-1" strike="noStrike" baseline="30000">
                <a:solidFill>
                  <a:srgbClr val="ff505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80520" y="2576160"/>
            <a:ext cx="7344360" cy="399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alculate the volume of carbon dioxide formed at STP in ‘dm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' by the complete thermal decomposition of 3.125 g of pure calcium carbonate (Relative atomic mass of Ca=40, C=12, O=16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olution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vert the mass to mo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olar mass of Ca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3 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40 + 12 + (16 x 3) = 100gmol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-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Mole = mass/molar ma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3.125/100 = 0.03125mo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8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What is stoichiometry?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Stoichiometry is the quantitative study of reactants and products in a chemical reaction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s per the equati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ole ratio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    :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  1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roblem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0.03125mol 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X = 0.03125mol  of CO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Convert mole to volume [slide 17]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Volume = (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Comic Sans MS"/>
              </a:rPr>
              <a:t>0.03125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x 22.4)dm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0.7dm</a:t>
            </a:r>
            <a:r>
              <a:rPr b="1" lang="en-US" sz="3200" spc="-1" strike="noStrike" baseline="30000">
                <a:solidFill>
                  <a:srgbClr val="ff505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666880" y="3057480"/>
            <a:ext cx="4043520" cy="447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You Should Expe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iven :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Amount of reacta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s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how much of products can be form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xample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 A + 2B           3C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iven 20.0 grams of A and sufficient B, how many grams of C can be produc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4800600" y="4572000"/>
            <a:ext cx="838080" cy="0"/>
          </a:xfrm>
          <a:prstGeom prst="line">
            <a:avLst/>
          </a:prstGeom>
          <a:ln cap="sq" w="28440">
            <a:solidFill>
              <a:srgbClr val="00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you nee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You will need to u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olar ratio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olar masse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alancing and interpreting equations, 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conversions between grams and mo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ote: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is type of problem is often called "mass-mass."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480" y="834120"/>
            <a:ext cx="8999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eps Involved in Solving Mass-Mass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oichiometry Probl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lance the chemical equation correct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ing the molar mass of the given substance, convert the mass given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struct a molar proportion (two molar ratios set equal to each other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ing the molar mass of the unknown substance, convert the moles just calculated to m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Mole Ratios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A mole ratio converts moles of one compound in a balanced chemical equation into moles of another compound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236196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ction between magnesium and oxygen to form magnesium oxide. ( firework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Mg(s) + O2(g)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2 MgO(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ole Rati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3548160" y="4267080"/>
            <a:ext cx="990360" cy="0"/>
          </a:xfrm>
          <a:prstGeom prst="line">
            <a:avLst/>
          </a:prstGeom>
          <a:ln cap="sq"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) N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+ 3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---&gt; 2 N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Write the mole ratios for N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to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and N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to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2) A can of butane lighter fluid contains 1.20 moles of butane (C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). Calculate the number of moles of carbon dioxide given off when this butane is burn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Mole-Mole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9067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ing the  practice question 2) abov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quation of re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0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  13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    10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le rat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4      [ bases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2          :                  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[ problem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 cross-multiplication, X =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4.8 mol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f 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iven of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2886120" y="3429000"/>
            <a:ext cx="790560" cy="0"/>
          </a:xfrm>
          <a:prstGeom prst="line">
            <a:avLst/>
          </a:prstGeom>
          <a:ln cap="sq"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5T09:52:20Z</dcterms:created>
  <dc:creator>Science Dept</dc:creator>
  <dc:description/>
  <dc:language>en-US</dc:language>
  <cp:lastModifiedBy>RomaK</cp:lastModifiedBy>
  <dcterms:modified xsi:type="dcterms:W3CDTF">2015-09-02T06:02:56Z</dcterms:modified>
  <cp:revision>52</cp:revision>
  <dc:subject/>
  <dc:title>STOICHIOMETRY</dc:title>
</cp:coreProperties>
</file>