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CA9-D092-4B6D-86AE-A922EF1C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ED3-A88E-4127-8D79-1CD84F46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67C-97B1-457E-A479-73D6AC0C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4EF-D5D9-4FDD-9B64-E55F643D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D0E-28F3-4BA6-A4AE-5D9983D8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1F3-F0CE-420C-A896-9D76FE24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8D4-1FFE-42E3-B706-721D0676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425-6EA5-4BBB-98FE-D11A5E1E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CED-0E6F-4B5A-A882-25D6F28D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988-D3BC-41CB-885F-53E47A0B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F66-65C0-483D-8E98-12F666FA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776-3443-442B-9471-7D7155BF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LecturePLUS  Timberl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9725-ACBF-455D-BE00-D362454B100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9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2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RomaK</cp:lastModifiedBy>
  <dcterms:modified xsi:type="dcterms:W3CDTF">2015-09-02T06:03:23Z</dcterms:modified>
  <cp:revision>11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