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F5D-1ABD-4250-8329-B38F652EF3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 block consists of three horizontal series in periods 4, 5 &amp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elements in each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is “different” from oth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lectronic configurations impor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within a group in the d block are less sharp than in s &amp; p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ies across a period are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s [TM’s] have characteristic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loured compounds, variable oxidation 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due to presence of an inner incomplete 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rom both inner d sub-shell and outer s sub-shell can be involved in compoun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d block elements have incomplete d sub-sh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Zn has e.c. of  [Ar]3d104s2, the Zn2+ ion ([Ar] 3d10) is not a typical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ly Sc forms Sc3+ which has the stable e.c of Ar. Sc3+ has no 3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transition met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is reason, a transition metal is defined as being an element which forms at least one ion with a partially filled sub-shell of d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riod 4 only Ti-Cu are TM’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when d block elements form ions the s electrons are lost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re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imilar to each other but different from s block metals eg Na and 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of TM’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me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m and 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 to be hard and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high tensile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good mechan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M’s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derive from strong metall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release e- into the pool of mobile electrons from both outer and inner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metallic bonds formed between the mobile pool and the +ve metal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s widespread use of T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ys very important: inhibits slip in crystal lattice usually results in increased hardness and reduced mall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of Alloying on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Chem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chemical properties of the TM’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mpounds in a variety of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 of the elements and thei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tendency to form comple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coloured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CI 1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Oxid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show a great variety of oxidation states cf s block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ompare successive ionisation enthalpies (Hi) for Ca and V as fo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+(g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4+(g) + e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Hi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for Ca and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a &amp; V always lose the 4s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(1) &amp; Hi(2) relatively low as corresponds to removing outer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ncrease in Hi(3) &amp; Hi(4) cf Hi(2) due to difficulty in removing 3p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 increase from Hi(1) to Hi(4) as removing 4s then 3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ross the 1st row of the d block (Sc to Zn) each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1 more electron and 1 more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“additional” electron enters the 3d sub-s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configuration for all the period 4 transition elements is that of 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2s22p63s2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OS’s in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1 only important for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s sum of Hi(1) + Hi(2) low enough for 2e- to be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2, where 4s e- lost shown by all except for Sc and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 = +3, shown by all except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f OS’s shown by an element increases from Sc to 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of these elements highest OS is equal to no. of 3d and 4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n decrease in no. of OS’s shown by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st OS shown becomes lower and less 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increasing nuclear charge binds 3d e- more strongly, hence harder to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States of TM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OS’s found in simple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mpounds containing Cr3+, Mn2+, Fe3+, Cu2+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in higher OS’s usually covalently bound to electronegative element such as O or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VO3-, vanadate(V) ion; MnO4-, manganate(VII) 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ions with high OS’s such as V5+ &amp; Mn7+ are no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from one OS to another is a 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different OS’s can be predicted by looking at Standard Electrode Potenti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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OS’s become less stable relative to lower ones on moving from left to right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containing TM’s in high OS’s tend to be oxidising agents e.g MnO4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TM’s in low OS’s are often reducing agents e.g V2+ &amp; Fe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of OS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rends (continu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stability of +2 state with respect to +3 state increases across th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ompounds early in the series, +2 state highly redu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V2+(aq) &amp; Cr2+(aq) strong reducing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in series +2 stable, +3 state highly oxid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Co3+ is a strong oxidising agent, Ni3+ &amp; Cu3+ do not exist in aqu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and their compounds effective and important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ly and biologicall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people in the know” beli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s provide reaction pathway with lower EA than uncatalysed reaction (see CI 10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ility of 3d and 4s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change 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factors which make TM’s such good cataly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different phase from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solid TM catalyst with reactants in liquid or gas 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’s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3d and 4s e- of atoms on metal surface to from weak bonds to the reacta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reaction has occurred on TM surface, these bonds can break to release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example is hydrogenation of alkenes using Ni or Pt cataly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in same phase as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means reaction takes place in aqueous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st aqueous TM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inv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ion forming intermediate compound with ome or more of the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 then breaks down to form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 Cat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reaction is that used in Activity SS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3-dihydroxybutanoate ion with hydrogen pe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atalysed by Co2+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Mecha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2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2CCH(OH)CH(OH)C0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3+ (gr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, methanoate, H2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+ (p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 4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and Cu don’t fit the pattern of building up the 3d sub-shell,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round state electrons are always arranged to give lowest tot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total energy is obtained with e- singly in orbitals rather than if they are paired in an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ies of 3d and 4s orbitals very close together in Period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 and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energies such that putting one e- into each 3d and 4s orbital gives lower energy than having 2 e- in the 4s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2 e- into the 4s orbital would give a higher energy than filling the  3d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5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2  2s2 2p6 3s2 3p6 3d10 4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B26-E073-4BC2-A84A-3B9DDBC0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B6B-1809-4C35-957B-1458E04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551-57B6-49CC-9FB2-31CB60D2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587-C41E-4313-BA0B-24A3D2F3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1B2-6F89-4F90-AA0E-2EABABA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DA2-937D-460E-A236-27E4C4B7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386-E9CE-4FF5-A11D-5691D4D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402-87B7-4AE4-9603-2C3E87B9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96C-4AAF-47F7-A92D-134FADF5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EE02-A0B4-42E1-B924-E07D9F4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81E-04D3-4219-A94E-EEA8501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69B-0A79-428F-9C5C-386A8F0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S CI 11.5 The d b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2129-0267-4DDB-93AF-8983DCA6C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FEA0-6884-4B69-8580-EA87E8F16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he d block: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he d block consists of three horizontal series in periods 4, 5 &amp; 6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10 elements in each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hemistry is “different” from other eleme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pecial electronic configurations importa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fferences within a group in the d block are less sharp than in s &amp; p block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097280" indent="-21924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ilarities across a period are great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C774-6701-4048-99DB-622CA9AFC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ransition metals [TM’s] have characteristic properties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loured compounds, variable oxidation stat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se are due to presence of an inner incomplete 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 from both inner d sub-shell and outer s sub-shell can be involved in compound format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6B95-A02A-4ACE-A182-719667BFAE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Not all d block elements have incomplete d sub-shel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.g. Zn has e.c. of  [Ar]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, the Zn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on ([Ar] 3d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) is not a typical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imilarly Sc forms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hich has the stable e.c of Ar. Sc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has no 3d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AC6-6834-48FE-98CF-38C5FEFC1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is a transition metal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For this reason, </a:t>
            </a:r>
            <a:r>
              <a:rPr b="1" i="1" lang="en-GB" sz="3200" spc="-1" strike="noStrike">
                <a:solidFill>
                  <a:srgbClr val="ffff00"/>
                </a:solidFill>
                <a:latin typeface="Comic Sans MS"/>
              </a:rPr>
              <a:t>a transition metal is defined as being an element which forms at least one ion with a partially filled sub-shell of d electrons.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period 4 only Ti-Cu are TM’s!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te that when d block elements form ions the s electrons are lost firs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4FE-66A9-4016-9F77-DFF7E79DF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re me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y are similar to each other but different from s block metals eg Na and M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of TM’s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ense metal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and T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b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end to be hard and durable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high tensile strength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ave good mechanical propert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B528-8829-42DB-9D7E-985F7BDD3B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What are TM’s like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roperties derive from stro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metallic bonding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releas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pool of mobile electrons from both outer and inner shel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trong metallic bonds formed between the mobile pool and the +ve metal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ables widespread use of TMs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lloys very important: inhibits slip in crystal lattice usually results in increased hardness and reduced malleabilit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BAF1-8F54-4199-A5AD-E448F5302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ffect of Alloying on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1558800" y="1828800"/>
            <a:ext cx="6024600" cy="4043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69AB-E747-402B-A6D9-1844C085F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TM Chemical Propert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ypical chemical properties of the TM’s ar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mpounds in a variety of oxidation stat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tic activity of the elements and their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Strong tendency to form comple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mation of coloured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 CI 11.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470-6FD7-4AF9-A86F-0E9FE1F86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Variable Oxidation Stat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TM’s show a great variety of oxidation states cf s block metal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f compare successive ionisation enthalpies (</a:t>
            </a:r>
            <a:r>
              <a:rPr b="1" lang="en-GB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32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) for Ca and V as follow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3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4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g) +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4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69CC-E92F-4B4B-A84E-D1F046DF52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735120" y="1981080"/>
          <a:ext cx="7672320" cy="4116600"/>
        </p:xfrm>
        <a:graphic>
          <a:graphicData uri="http://schemas.openxmlformats.org/drawingml/2006/table">
            <a:tbl>
              <a:tblPr/>
              <a:tblGrid>
                <a:gridCol w="2388960"/>
                <a:gridCol w="1320840"/>
                <a:gridCol w="1319400"/>
                <a:gridCol w="1295280"/>
                <a:gridCol w="1347840"/>
              </a:tblGrid>
              <a:tr h="10339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Ionisation Enthal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kJ mol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-1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H</a:t>
                      </a:r>
                      <a:r>
                        <a:rPr b="1" lang="en-GB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a [Ar]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1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9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 [Ar]3d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s</a:t>
                      </a:r>
                      <a:r>
                        <a:rPr b="1" lang="en-GB" sz="2800" spc="-1" strike="noStrike" baseline="30000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8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059F-31F7-4A80-9252-6DC99D0086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1" lang="en-GB" sz="4400" spc="-1" strike="noStrike" baseline="-25000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 for Ca and V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Both Ca &amp; V always lose the 4s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Ca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relatively low as corresponds to removing outer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p increase in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3) &amp;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c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2) due to difficulty in removing 3p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For Sc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Gradual increase from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1) to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(4) as removing 4s then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743-F4AD-4350-AFEF-54B1E6D7D4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Electronic Configuration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cross the 1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st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row of the d block (Sc to Zn) each element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as 1 more electron and 1 more prot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ach “additional” electron enters the 3d sub-shel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core configuration for all the period 4 transition elements is that of 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CCA-1A55-497C-8916-72ED6308F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the following table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Most important OS’s in box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1 only important for Cu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 all others sum of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1) +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(2) low enough for 2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to be remov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2, where 4s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lost shown by all except for Sc and Ti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S = +3, shown by all except Z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47AA-7370-4127-BA32-F24A2D6DD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85800" y="1981080"/>
          <a:ext cx="7954920" cy="4394160"/>
        </p:xfrm>
        <a:graphic>
          <a:graphicData uri="http://schemas.openxmlformats.org/drawingml/2006/table">
            <a:tbl>
              <a:tblPr/>
              <a:tblGrid>
                <a:gridCol w="603360"/>
                <a:gridCol w="218880"/>
                <a:gridCol w="584640"/>
                <a:gridCol w="218880"/>
                <a:gridCol w="586080"/>
                <a:gridCol w="218880"/>
                <a:gridCol w="586440"/>
                <a:gridCol w="218880"/>
                <a:gridCol w="673560"/>
                <a:gridCol w="218880"/>
                <a:gridCol w="589680"/>
                <a:gridCol w="218880"/>
                <a:gridCol w="584640"/>
                <a:gridCol w="218880"/>
                <a:gridCol w="586080"/>
                <a:gridCol w="218880"/>
                <a:gridCol w="586080"/>
                <a:gridCol w="218880"/>
                <a:gridCol w="60444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+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798E-4C2F-4479-94E2-E3FABBF5E9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o of OS’s shown by an element increases from Sc to M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each of these elements highest OS is equal to no.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fter Mn decrease in no. of OS’s shown by an eleme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ighest OS shown becomes lower and less stabl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ems increasing nuclear charge binds 3d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more strongly, hence harder to remove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B56F-0712-4BAB-830C-CF9561B59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Oxidation States of TM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 general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ower OS’s found in simple ionic compound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. compounds containing C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F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Cu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in higher OS’s usually covalently bound to electronegative element such as O or F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.g V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vanadate(V) ion; Mn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anganate(VII) ion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imple ions with high OS’s such as V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5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&amp; Mn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7+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2400" spc="-1" strike="noStrike" u="sng">
                <a:solidFill>
                  <a:srgbClr val="ffff00"/>
                </a:solidFill>
                <a:uFillTx/>
                <a:latin typeface="Comic Sans MS"/>
              </a:rPr>
              <a:t>are not formed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1933-AD7A-45CF-8909-A9879B64A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hange from one OS to another is a redox reac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Relative stability of different OS’s can be predicted by looking at Standard Electrode Potentials 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valu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0D3-01FD-4A56-9948-E713130272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0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40940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General trend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igher OS’s become less stable relative to lower ones on moving from left to right across the ser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containing TM’s in high OS’s tend to be oxidising agents e.g MnO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ounds with TM’s in low OS’s are often reducing agents e.g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&amp; F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E822-FBF0-448F-9912-64C5E96E5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tability of OS’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General trends (continued)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Relative stability of +2 state with respect to +3 state increases across the serie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For compounds early in the series, +2 state highly reducing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V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&amp; Cr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(aq) strong reducing agents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ter in series +2 stable, +3 state highly oxidising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E.g. Co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is a strong oxidising agent, Ni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&amp; Cu</a:t>
            </a:r>
            <a:r>
              <a:rPr b="1" lang="en-GB" sz="2000" spc="-1" strike="noStrike" baseline="30000">
                <a:solidFill>
                  <a:srgbClr val="ffff00"/>
                </a:solidFill>
                <a:latin typeface="Comic Sans MS"/>
              </a:rPr>
              <a:t>3+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 do not exist in aqueous solution.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4CF-7C6E-4491-963E-46D564D1C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atalytic Activity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and their compounds effective and important catalys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dustrially and biologically!!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“people in the know” belie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atalysts provide reaction pathway with lower E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than uncatalysed reaction (see CI 10.5)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nce again,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vailability of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bility to change O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ong factors which make TM’s such good catalys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EA3-67F1-4458-B48D-4467F77084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in different phase from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ually means solid TM catalyst with reactants in liquid or gas phases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’s can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use the 3d and 4s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of atoms on metal surface to from weak bonds to the reactants. 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nce reaction has occurred on TM surface, these bonds can break to release products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mportant example is hydrogenation of alkenes using Ni or Pt catalyst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2835-2C7D-4000-8466-316B0B3B9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eter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2630520" cy="1385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2630520" cy="1557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3"/>
          <a:stretch/>
        </p:blipFill>
        <p:spPr>
          <a:xfrm>
            <a:off x="838080" y="4800600"/>
            <a:ext cx="2587680" cy="15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4"/>
          <a:stretch/>
        </p:blipFill>
        <p:spPr>
          <a:xfrm>
            <a:off x="6019920" y="1208160"/>
            <a:ext cx="2601720" cy="1687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"/>
          <p:cNvPicPr/>
          <p:nvPr/>
        </p:nvPicPr>
        <p:blipFill>
          <a:blip r:embed="rId5"/>
          <a:stretch/>
        </p:blipFill>
        <p:spPr>
          <a:xfrm>
            <a:off x="5943600" y="3200400"/>
            <a:ext cx="2630520" cy="204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007-6304-4E7C-B98A-08A776966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3352680" y="4838760"/>
            <a:ext cx="5257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40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F368-69CA-42AC-9D64-B2CB37326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atalyst in same phase as reactant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Usually means reaction takes place in aqueous phas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atalyst aqueous TM 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Usually involve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M ion forming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intermediate compound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with ome or more of the reactan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termediate then breaks down to form product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4D5A-38A5-40E7-8549-B4AA9D597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Homogeneous Catalysi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bove reaction is that used in Activity SS5.2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2,3-dihydroxybutanoate ion with hydrogen peroxid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action catalysed by Co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49" name="Group 15"/>
          <p:cNvGrpSpPr/>
          <p:nvPr/>
        </p:nvGrpSpPr>
        <p:grpSpPr>
          <a:xfrm>
            <a:off x="236520" y="1428840"/>
            <a:ext cx="8670960" cy="2060640"/>
            <a:chOff x="236520" y="1428840"/>
            <a:chExt cx="8670960" cy="2060640"/>
          </a:xfrm>
        </p:grpSpPr>
        <p:graphicFrame>
          <p:nvGraphicFramePr>
            <p:cNvPr id="350" name="Object 7"/>
            <p:cNvGraphicFramePr/>
            <p:nvPr/>
          </p:nvGraphicFramePr>
          <p:xfrm>
            <a:off x="236520" y="1428840"/>
            <a:ext cx="8670960" cy="206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6520" y="1428840"/>
                      <a:ext cx="8670960" cy="20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" name="AutoShape 8"/>
            <p:cNvSpPr/>
            <p:nvPr/>
          </p:nvSpPr>
          <p:spPr>
            <a:xfrm>
              <a:off x="2732040" y="2057400"/>
              <a:ext cx="74520" cy="533520"/>
            </a:xfrm>
            <a:custGeom>
              <a:avLst/>
              <a:gdLst>
                <a:gd name="textAreaLeft" fmla="*/ 21960 w 74520"/>
                <a:gd name="textAreaRight" fmla="*/ 74880 w 745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9"/>
            <p:cNvSpPr/>
            <p:nvPr/>
          </p:nvSpPr>
          <p:spPr>
            <a:xfrm>
              <a:off x="3759120" y="2022480"/>
              <a:ext cx="76320" cy="5335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10"/>
            <p:cNvSpPr/>
            <p:nvPr/>
          </p:nvSpPr>
          <p:spPr>
            <a:xfrm>
              <a:off x="5130720" y="1946160"/>
              <a:ext cx="76320" cy="83844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34920 h 838440"/>
                <a:gd name="textAreaBottom" fmla="*/ 8035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11"/>
            <p:cNvSpPr/>
            <p:nvPr/>
          </p:nvSpPr>
          <p:spPr>
            <a:xfrm>
              <a:off x="6172200" y="1959120"/>
              <a:ext cx="76320" cy="79992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3120 h 799920"/>
                <a:gd name="textAreaBottom" fmla="*/ 76680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12"/>
            <p:cNvSpPr/>
            <p:nvPr/>
          </p:nvSpPr>
          <p:spPr>
            <a:xfrm>
              <a:off x="6883560" y="194616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13"/>
            <p:cNvSpPr/>
            <p:nvPr/>
          </p:nvSpPr>
          <p:spPr>
            <a:xfrm>
              <a:off x="7696080" y="194616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3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Місце для номера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2CF-E094-4A58-B387-675E9F550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Suggested Mechanism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1752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280" y="1752480"/>
            <a:ext cx="3886200" cy="2229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CH(OH)CH(OH)C0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19920" y="1752480"/>
            <a:ext cx="2895480" cy="157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00cc99"/>
                </a:solidFill>
                <a:latin typeface="Comic Sans MS"/>
              </a:rPr>
              <a:t>3+</a:t>
            </a:r>
            <a:r>
              <a:rPr b="1" lang="en-GB" sz="2400" spc="-1" strike="noStrike">
                <a:solidFill>
                  <a:srgbClr val="00cc99"/>
                </a:solidFill>
                <a:latin typeface="Comic Sans MS"/>
              </a:rPr>
              <a:t> (gr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22"/>
          <p:cNvGrpSpPr/>
          <p:nvPr/>
        </p:nvGrpSpPr>
        <p:grpSpPr>
          <a:xfrm>
            <a:off x="4038480" y="2286000"/>
            <a:ext cx="1981440" cy="1659960"/>
            <a:chOff x="4038480" y="2286000"/>
            <a:chExt cx="1981440" cy="1659960"/>
          </a:xfrm>
        </p:grpSpPr>
        <p:sp>
          <p:nvSpPr>
            <p:cNvPr id="364" name="Line 5"/>
            <p:cNvSpPr/>
            <p:nvPr/>
          </p:nvSpPr>
          <p:spPr>
            <a:xfrm>
              <a:off x="4038480" y="2819520"/>
              <a:ext cx="19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6"/>
            <p:cNvSpPr/>
            <p:nvPr/>
          </p:nvSpPr>
          <p:spPr>
            <a:xfrm>
              <a:off x="411480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redu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4114800" y="2895480"/>
              <a:ext cx="182880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H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r>
                <a:rPr b="1" lang="en-GB" sz="2000" spc="-1" strike="noStrike" baseline="-25000">
                  <a:solidFill>
                    <a:srgbClr val="ffff00"/>
                  </a:solidFill>
                  <a:latin typeface="Comic Sans MS"/>
                </a:rPr>
                <a:t>2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&amp; gets oxidised to </a:t>
              </a: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 Box 9"/>
          <p:cNvSpPr/>
          <p:nvPr/>
        </p:nvSpPr>
        <p:spPr>
          <a:xfrm>
            <a:off x="2514600" y="4495680"/>
            <a:ext cx="4114800" cy="162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Comic Sans MS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, methanoate, H</a:t>
            </a:r>
            <a:r>
              <a:rPr b="1" lang="en-GB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GB" sz="2400" spc="-1" strike="noStrike" baseline="-25000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Co</a:t>
            </a:r>
            <a:r>
              <a:rPr b="1" lang="en-GB" sz="2400" spc="-1" strike="noStrike" baseline="30000">
                <a:solidFill>
                  <a:srgbClr val="ff3399"/>
                </a:solidFill>
                <a:latin typeface="Comic Sans MS"/>
              </a:rPr>
              <a:t>2+</a:t>
            </a:r>
            <a:r>
              <a:rPr b="1" lang="en-GB" sz="2400" spc="-1" strike="noStrike">
                <a:solidFill>
                  <a:srgbClr val="ff3399"/>
                </a:solidFill>
                <a:latin typeface="Comic Sans MS"/>
              </a:rPr>
              <a:t>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20"/>
          <p:cNvGrpSpPr/>
          <p:nvPr/>
        </p:nvGrpSpPr>
        <p:grpSpPr>
          <a:xfrm>
            <a:off x="6629400" y="3314880"/>
            <a:ext cx="2286000" cy="2494800"/>
            <a:chOff x="6629400" y="3314880"/>
            <a:chExt cx="2286000" cy="2494800"/>
          </a:xfrm>
        </p:grpSpPr>
        <p:sp>
          <p:nvSpPr>
            <p:cNvPr id="369" name="Text Box 10"/>
            <p:cNvSpPr/>
            <p:nvPr/>
          </p:nvSpPr>
          <p:spPr>
            <a:xfrm>
              <a:off x="7162920" y="3581280"/>
              <a:ext cx="17524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cc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00cc99"/>
                  </a:solidFill>
                  <a:latin typeface="Comic Sans MS"/>
                </a:rPr>
                <a:t>3+</a:t>
              </a: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 oxidises 2,3-hydroxy- butanoate &amp; gets reduced to</a:t>
              </a:r>
              <a:r>
                <a:rPr b="1" lang="en-GB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1" lang="en-GB" sz="2000" spc="-1" strike="noStrike">
                  <a:solidFill>
                    <a:srgbClr val="ff3399"/>
                  </a:solidFill>
                  <a:latin typeface="Comic Sans MS"/>
                </a:rPr>
                <a:t>Co</a:t>
              </a:r>
              <a:r>
                <a:rPr b="1" lang="en-GB" sz="2000" spc="-1" strike="noStrike" baseline="30000">
                  <a:solidFill>
                    <a:srgbClr val="ff3399"/>
                  </a:solidFill>
                  <a:latin typeface="Comic Sans MS"/>
                </a:rPr>
                <a:t>2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7086600" y="3314880"/>
              <a:ext cx="0" cy="20574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3"/>
            <p:cNvSpPr/>
            <p:nvPr/>
          </p:nvSpPr>
          <p:spPr>
            <a:xfrm flipH="1">
              <a:off x="6629400" y="5372280"/>
              <a:ext cx="457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533160" y="3886200"/>
            <a:ext cx="1981080" cy="1447920"/>
            <a:chOff x="533160" y="3886200"/>
            <a:chExt cx="1981080" cy="1447920"/>
          </a:xfrm>
        </p:grpSpPr>
        <p:sp>
          <p:nvSpPr>
            <p:cNvPr id="373" name="Line 14"/>
            <p:cNvSpPr/>
            <p:nvPr/>
          </p:nvSpPr>
          <p:spPr>
            <a:xfrm flipH="1">
              <a:off x="533160" y="5334120"/>
              <a:ext cx="1981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5"/>
            <p:cNvSpPr/>
            <p:nvPr/>
          </p:nvSpPr>
          <p:spPr>
            <a:xfrm flipV="1">
              <a:off x="533520" y="3886200"/>
              <a:ext cx="0" cy="1447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6"/>
            <p:cNvSpPr/>
            <p:nvPr/>
          </p:nvSpPr>
          <p:spPr>
            <a:xfrm>
              <a:off x="545040" y="4572000"/>
              <a:ext cx="182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Regen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Comic Sans MS"/>
                </a:rPr>
                <a:t>Cataly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ABA2-8FEC-4762-B808-4B5B774D53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352680" y="4952880"/>
            <a:ext cx="6096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 flipV="1">
            <a:off x="-913680" y="4038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1"/>
          <p:cNvSpPr/>
          <p:nvPr/>
        </p:nvSpPr>
        <p:spPr>
          <a:xfrm>
            <a:off x="-609480" y="3200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182880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3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5520-EFEB-47C3-A966-FB55D10431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609480"/>
          <a:ext cx="8305920" cy="5727960"/>
        </p:xfrm>
        <a:graphic>
          <a:graphicData uri="http://schemas.openxmlformats.org/drawingml/2006/table">
            <a:tbl>
              <a:tblPr/>
              <a:tblGrid>
                <a:gridCol w="1338480"/>
                <a:gridCol w="598320"/>
                <a:gridCol w="843120"/>
                <a:gridCol w="836640"/>
                <a:gridCol w="838080"/>
                <a:gridCol w="838080"/>
                <a:gridCol w="836640"/>
                <a:gridCol w="839880"/>
                <a:gridCol w="574560"/>
                <a:gridCol w="7621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ctronic Arrang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S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[Ar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808080"/>
                          </a:solidFill>
                          <a:latin typeface="Wingdings"/>
                          <a:ea typeface="Wingdings"/>
                        </a:rPr>
                        <a:t>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464-B419-41C7-842C-2E7ECD2F3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r and Cu don’t fit the pattern of building up the 3d sub-shell, why?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In the ground state electrons are always arranged to give lowest total energ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ons are negatively charged and repel each other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ower total energy is obtained with e</a:t>
            </a:r>
            <a:r>
              <a:rPr b="1" lang="en-GB" sz="24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singly in orbitals rather than if they are paired in an orbital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ies of 3d and 4s orbitals very close together in Period 4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CCE-74B7-42AB-806F-A43A24398E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Chromium and Copper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r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Orbital energies such that putting one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each 3d and 4s orbital gives lower energy than hav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 the 4s orbita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At Cu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utting 2 e</a:t>
            </a:r>
            <a:r>
              <a:rPr b="1" lang="en-GB" sz="2800" spc="-1" strike="noStrike" baseline="30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into the 4s orbital would give a higher energy than filling the  3d orbita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85C3-9D58-4C67-9750-0785BD1BC9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3352680" y="4965840"/>
            <a:ext cx="5486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5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1"/>
          <p:cNvSpPr/>
          <p:nvPr/>
        </p:nvSpPr>
        <p:spPr>
          <a:xfrm>
            <a:off x="-609480" y="312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2B0-ABB6-414B-B0FE-8DDB3FF1D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1371600" y="5791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419112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352680" y="39625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371600" y="1523880"/>
            <a:ext cx="8380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371600" y="32767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371600" y="4648320"/>
            <a:ext cx="83808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3059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4674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62940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791320" y="1066680"/>
            <a:ext cx="83808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5029200" y="39625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952880" y="1066680"/>
            <a:ext cx="83844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7"/>
          <p:cNvSpPr/>
          <p:nvPr/>
        </p:nvSpPr>
        <p:spPr>
          <a:xfrm flipV="1">
            <a:off x="533520" y="761760"/>
            <a:ext cx="0" cy="5715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54100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9"/>
          <p:cNvSpPr/>
          <p:nvPr/>
        </p:nvSpPr>
        <p:spPr>
          <a:xfrm flipV="1">
            <a:off x="43441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94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6858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68580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580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2590920" y="2438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6"/>
          <p:cNvSpPr/>
          <p:nvPr/>
        </p:nvSpPr>
        <p:spPr>
          <a:xfrm>
            <a:off x="42670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7"/>
          <p:cNvSpPr/>
          <p:nvPr/>
        </p:nvSpPr>
        <p:spPr>
          <a:xfrm>
            <a:off x="396252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8"/>
          <p:cNvSpPr/>
          <p:nvPr/>
        </p:nvSpPr>
        <p:spPr>
          <a:xfrm>
            <a:off x="3124080" y="0"/>
            <a:ext cx="83844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9"/>
          <p:cNvSpPr/>
          <p:nvPr/>
        </p:nvSpPr>
        <p:spPr>
          <a:xfrm>
            <a:off x="4800600" y="0"/>
            <a:ext cx="838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0" y="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3352680" y="4965840"/>
            <a:ext cx="5791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1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2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p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6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3d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0 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4s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32"/>
          <p:cNvSpPr/>
          <p:nvPr/>
        </p:nvSpPr>
        <p:spPr>
          <a:xfrm flipV="1">
            <a:off x="16009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1905120" y="5943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34"/>
          <p:cNvSpPr/>
          <p:nvPr/>
        </p:nvSpPr>
        <p:spPr>
          <a:xfrm flipV="1">
            <a:off x="16009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5"/>
          <p:cNvSpPr/>
          <p:nvPr/>
        </p:nvSpPr>
        <p:spPr>
          <a:xfrm>
            <a:off x="1905120" y="4800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6"/>
          <p:cNvSpPr/>
          <p:nvPr/>
        </p:nvSpPr>
        <p:spPr>
          <a:xfrm flipH="1" flipV="1">
            <a:off x="3581640" y="411480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7"/>
          <p:cNvSpPr/>
          <p:nvPr/>
        </p:nvSpPr>
        <p:spPr>
          <a:xfrm flipV="1">
            <a:off x="525852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8"/>
          <p:cNvSpPr/>
          <p:nvPr/>
        </p:nvSpPr>
        <p:spPr>
          <a:xfrm>
            <a:off x="380988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9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0"/>
          <p:cNvSpPr/>
          <p:nvPr/>
        </p:nvSpPr>
        <p:spPr>
          <a:xfrm>
            <a:off x="5486400" y="411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1"/>
          <p:cNvSpPr/>
          <p:nvPr/>
        </p:nvSpPr>
        <p:spPr>
          <a:xfrm flipV="1">
            <a:off x="16009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2"/>
          <p:cNvSpPr/>
          <p:nvPr/>
        </p:nvSpPr>
        <p:spPr>
          <a:xfrm>
            <a:off x="190512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3"/>
          <p:cNvSpPr/>
          <p:nvPr/>
        </p:nvSpPr>
        <p:spPr>
          <a:xfrm flipH="1" flipV="1">
            <a:off x="35816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4"/>
          <p:cNvSpPr/>
          <p:nvPr/>
        </p:nvSpPr>
        <p:spPr>
          <a:xfrm flipV="1">
            <a:off x="60206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5"/>
          <p:cNvSpPr/>
          <p:nvPr/>
        </p:nvSpPr>
        <p:spPr>
          <a:xfrm flipV="1">
            <a:off x="434412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6"/>
          <p:cNvSpPr/>
          <p:nvPr/>
        </p:nvSpPr>
        <p:spPr>
          <a:xfrm flipH="1" flipV="1">
            <a:off x="5181840" y="25909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590920" y="152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4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8"/>
          <p:cNvSpPr/>
          <p:nvPr/>
        </p:nvSpPr>
        <p:spPr>
          <a:xfrm>
            <a:off x="380988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49"/>
          <p:cNvSpPr/>
          <p:nvPr/>
        </p:nvSpPr>
        <p:spPr>
          <a:xfrm>
            <a:off x="4572000" y="2590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50"/>
          <p:cNvSpPr/>
          <p:nvPr/>
        </p:nvSpPr>
        <p:spPr>
          <a:xfrm flipV="1">
            <a:off x="1600920" y="1752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1"/>
          <p:cNvSpPr/>
          <p:nvPr/>
        </p:nvSpPr>
        <p:spPr>
          <a:xfrm>
            <a:off x="62485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2"/>
          <p:cNvSpPr/>
          <p:nvPr/>
        </p:nvSpPr>
        <p:spPr>
          <a:xfrm flipV="1">
            <a:off x="5106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53"/>
          <p:cNvSpPr/>
          <p:nvPr/>
        </p:nvSpPr>
        <p:spPr>
          <a:xfrm flipH="1" flipV="1">
            <a:off x="67820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4"/>
          <p:cNvSpPr/>
          <p:nvPr/>
        </p:nvSpPr>
        <p:spPr>
          <a:xfrm flipH="1" flipV="1">
            <a:off x="7696440" y="1219320"/>
            <a:ext cx="3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853524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56"/>
          <p:cNvSpPr/>
          <p:nvPr/>
        </p:nvSpPr>
        <p:spPr>
          <a:xfrm>
            <a:off x="5334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7"/>
          <p:cNvSpPr/>
          <p:nvPr/>
        </p:nvSpPr>
        <p:spPr>
          <a:xfrm>
            <a:off x="-6858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8"/>
          <p:cNvSpPr/>
          <p:nvPr/>
        </p:nvSpPr>
        <p:spPr>
          <a:xfrm>
            <a:off x="70102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79246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8763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8T21:54:40Z</dcterms:created>
  <dc:creator>Andrew Harris</dc:creator>
  <dc:description/>
  <dc:language>en-US</dc:language>
  <cp:lastModifiedBy>RomaK</cp:lastModifiedBy>
  <dcterms:modified xsi:type="dcterms:W3CDTF">2015-09-02T06:04:00Z</dcterms:modified>
  <cp:revision>48</cp:revision>
  <dc:subject/>
  <dc:title>The d block: </dc:title>
</cp:coreProperties>
</file>