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EE06-CEE8-4399-91A8-54C2E01F89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y Tom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ri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Brom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romine is one of the main ingredients in camera films (as silver bromide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Bro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ne is one of the main ingredients in camera films (as silver bromid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Iod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en dissolved in water, iodine can be used as a strong antiseptic or as a test for starch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issolved in water, iodine can be used as a strong antiseptic or as a test for star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Thank you for watching !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watching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halogens are a group of non- metals in the periodic tab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y all have seven electrons in their outer shell this makes them all really reactive; they only have to gain one more electron to fill their outer shell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like Group One the elements get less reactive as you go down the group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s are a group of non- metals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 have seven electrons in their outer shell this makes them all really reactive; they only have to gain one more electron to fill their outer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Group One the elements get less reactive as you go down the gro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luorine  (F)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 2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Fluor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F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9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18.998404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-219.62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-188.14 °C 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9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10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Greenish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ne  (F)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2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Flu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18.9984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-219.62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-188.14 °C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1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Green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lorine (Cl)                               2,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-100.98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-34.6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17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1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green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(Cl)                               2,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-100.98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-34.6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gre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romine (Br)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2,8,1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-7.2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58.78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3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45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Red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ne (Br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2,8,1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-7.2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58.78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odine (I)                            2,8,18,1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Iod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I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53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126.90447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113.5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184.0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53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74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blackish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 (I)                            2,8,18,1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Iod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I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5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126.9044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113.5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184.0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5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7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black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statine (At)                 2,8,18,32,1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302.0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337.0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8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12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Unknown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atine (At)                 2,8,18,32,1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302.0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337.0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12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Unkn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Fluor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main use of fluorine is toothpaste even though it isn’t as fluorine itself but instead as fluoride, a compound of fluorine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use of fluorine is toothpaste even though it isn’t as fluorine itself but instead as fluoride, a compound of fluor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Chlor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lorine is used mostly to kill bacteria or as a bleach. Chlorine bleaches  a piece of universal indicator paper white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used mostly to kill bacteria or as a bleach. Chlorine bleaches  a piece of universal indicator paper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A86-E058-4283-B43B-56734690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3338-1CB3-4A47-A9E9-24390F0A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B892-2B7C-4390-8FF1-FFEE92C6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F343-B68C-4F18-8F13-49D015CC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F8F6-E303-4A32-A59C-C5398C92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3410-B13A-4498-8D20-ED57AEB9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E8A9-8040-4989-B04E-5E73166C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E844-1134-41C3-90DF-780F8E6C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EEAA-9BE5-4BD5-9316-2FF1A173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B4AC-9352-43E2-B6BB-615B3466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E0E1-F7AE-488D-BE78-2D8ADC60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2ACC-BEB0-4AD6-8626-8812E089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924E-7ED8-4F0A-B492-E9E78EBD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D193-D481-4B69-B5B6-B1FADAB2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3C2D-B43B-42F5-BAF3-2BC2AF38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DDCE-8FB6-4A66-A7D6-8ACFBA26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75D0-DE2C-48C7-97BF-383139C7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2331-AC69-40D3-9A11-6E16E9BA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DDB8-7D68-454B-AC32-571F04CD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1603-C924-402C-BD41-8C56CF5C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BC31-F306-48FC-94C8-FD37A73E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5077-082D-4177-B0C0-9B4248F8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BCE8-51A8-48BF-BA04-A26FDA87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9662-5A9F-44C2-AF94-1D7D8D21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E2AE-6733-472A-BAEF-BA91CCC4E59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CE4C-89EB-47A1-A5D1-5A716802E8F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The Haloge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By To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Chr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5" descr="j0076135"/>
          <p:cNvPicPr/>
          <p:nvPr/>
        </p:nvPicPr>
        <p:blipFill>
          <a:blip r:embed="rId1"/>
          <a:stretch/>
        </p:blipFill>
        <p:spPr>
          <a:xfrm>
            <a:off x="609480" y="5006880"/>
            <a:ext cx="2549520" cy="1851120"/>
          </a:xfrm>
          <a:prstGeom prst="rect">
            <a:avLst/>
          </a:prstGeom>
          <a:ln w="0">
            <a:noFill/>
          </a:ln>
        </p:spPr>
      </p:pic>
    </p:spTree>
  </p:cSld>
  <p:transition advTm="4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Brom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Picture 3" descr="images"/>
          <p:cNvPicPr/>
          <p:nvPr/>
        </p:nvPicPr>
        <p:blipFill>
          <a:blip r:embed="rId1"/>
          <a:stretch/>
        </p:blipFill>
        <p:spPr>
          <a:xfrm>
            <a:off x="990720" y="2590920"/>
            <a:ext cx="2895480" cy="2560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4114800" y="25909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Bromine is one of the main ingredients in camera films (as silver bromide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Iod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3" descr="pg%2050%20safecross%20antiseptic"/>
          <p:cNvPicPr/>
          <p:nvPr/>
        </p:nvPicPr>
        <p:blipFill>
          <a:blip r:embed="rId1"/>
          <a:stretch/>
        </p:blipFill>
        <p:spPr>
          <a:xfrm>
            <a:off x="838080" y="2438280"/>
            <a:ext cx="2394000" cy="2605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3352680" y="25146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When dissolved in water, iodine can be used as a strong antiseptic or as a test for starch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ank you for watching 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Haloge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14400" y="2362320"/>
            <a:ext cx="49528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 halogens are a group of non- metals in the periodic ta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y all have seven electrons in their outer shell this makes them all really reactive; they only have to gain one more electron to fill their outer shell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Unlike Group One the elements get less reactive as you go down the group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luorine  (F)  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     2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90720" y="2438280"/>
            <a:ext cx="556236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Fluor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F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9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8.998404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219.62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188.14 °C 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9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0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Greenish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5000" y="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9" name="Picture 6" descr="b0009"/>
          <p:cNvPicPr/>
          <p:nvPr/>
        </p:nvPicPr>
        <p:blipFill>
          <a:blip r:embed="rId1"/>
          <a:stretch/>
        </p:blipFill>
        <p:spPr>
          <a:xfrm>
            <a:off x="5562720" y="3360600"/>
            <a:ext cx="3273480" cy="3241800"/>
          </a:xfrm>
          <a:prstGeom prst="rect">
            <a:avLst/>
          </a:prstGeom>
          <a:ln w="0">
            <a:noFill/>
          </a:ln>
        </p:spPr>
      </p:pic>
    </p:spTree>
  </p:cSld>
  <p:transition advTm="13000">
    <p:checke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lorine (Cl)                               2,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746280" y="2395440"/>
            <a:ext cx="47401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Chlor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Cl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7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5.4527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100.98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34.6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7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8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green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638680" y="35812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3" name="Picture 5" descr="b0009"/>
          <p:cNvPicPr/>
          <p:nvPr/>
        </p:nvPicPr>
        <p:blipFill>
          <a:blip r:embed="rId1"/>
          <a:stretch/>
        </p:blipFill>
        <p:spPr>
          <a:xfrm>
            <a:off x="5638680" y="3381480"/>
            <a:ext cx="3505320" cy="34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romine (Br)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    2,8,1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38080" y="2362320"/>
            <a:ext cx="47246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Brom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Br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79.904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7.2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58.78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45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Red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6" name="Picture 4" descr="b0009"/>
          <p:cNvPicPr/>
          <p:nvPr/>
        </p:nvPicPr>
        <p:blipFill>
          <a:blip r:embed="rId1"/>
          <a:stretch/>
        </p:blipFill>
        <p:spPr>
          <a:xfrm>
            <a:off x="5029200" y="2771640"/>
            <a:ext cx="4114800" cy="40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odine (I)                            2,8,18,1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38080" y="2438280"/>
            <a:ext cx="480060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Iod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I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53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26.90447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13.5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84.0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53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74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blackish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Picture 4" descr="b0009"/>
          <p:cNvPicPr/>
          <p:nvPr/>
        </p:nvPicPr>
        <p:blipFill>
          <a:blip r:embed="rId1"/>
          <a:stretch/>
        </p:blipFill>
        <p:spPr>
          <a:xfrm>
            <a:off x="5029200" y="2971800"/>
            <a:ext cx="39132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tatine (At)                 2,8,18,32,1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90720" y="2438280"/>
            <a:ext cx="4343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Astat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At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8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(210.0)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02.0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37.0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8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2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Unknown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2" name="Picture 4" descr="b0009"/>
          <p:cNvPicPr/>
          <p:nvPr/>
        </p:nvPicPr>
        <p:blipFill>
          <a:blip r:embed="rId1"/>
          <a:stretch/>
        </p:blipFill>
        <p:spPr>
          <a:xfrm>
            <a:off x="5086440" y="2822400"/>
            <a:ext cx="4057560" cy="403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Fluor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Picture 3" descr="45"/>
          <p:cNvPicPr/>
          <p:nvPr/>
        </p:nvPicPr>
        <p:blipFill>
          <a:blip r:embed="rId1"/>
          <a:stretch/>
        </p:blipFill>
        <p:spPr>
          <a:xfrm>
            <a:off x="838080" y="2438280"/>
            <a:ext cx="3581640" cy="2686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46483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 main use of fluorine is toothpaste even though it isn’t as fluorine itself but instead as </a:t>
            </a:r>
            <a:r>
              <a:rPr b="1" lang="en-GB" sz="2400" spc="-1" strike="noStrike">
                <a:solidFill>
                  <a:srgbClr val="003366"/>
                </a:solidFill>
                <a:latin typeface="Times New Roman"/>
              </a:rPr>
              <a:t>fluoride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, a compound of fluorin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Chlor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Picture 3" descr="76"/>
          <p:cNvPicPr/>
          <p:nvPr/>
        </p:nvPicPr>
        <p:blipFill>
          <a:blip r:embed="rId1"/>
          <a:stretch/>
        </p:blipFill>
        <p:spPr>
          <a:xfrm>
            <a:off x="838080" y="2438280"/>
            <a:ext cx="3759480" cy="28195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4800600" y="243828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Chlorine is used mostly to kill bacteria or as a bleach. Chlorine bleaches  a piece of universal indicator paper whit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8:55:28Z</dcterms:created>
  <dc:creator>A User</dc:creator>
  <dc:description/>
  <dc:language>en-US</dc:language>
  <cp:lastModifiedBy>RomaK</cp:lastModifiedBy>
  <dcterms:modified xsi:type="dcterms:W3CDTF">2015-09-02T06:04:18Z</dcterms:modified>
  <cp:revision>9</cp:revision>
  <dc:subject/>
  <dc:title>The Halogens</dc:title>
</cp:coreProperties>
</file>